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B87-BC9D-4802-8D1B-BB460409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6FF-413D-4B25-8BA0-EC66990A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4EF-1894-4F3D-8386-0C3EA29F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485-4E71-4E52-9CB2-E1506E37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C41-6828-4CF8-9862-FBB71240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91F-C46D-4CE7-8C0E-A3128CCB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32B-7D25-41F9-BA1C-07287FE9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0C9-3C0C-4938-83FF-F0CE2854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59B-0392-4316-A516-8960EBC4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FCF-6F4D-425C-AD5C-FD9161D0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2B7-6DFF-4AE0-90F1-015F7316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FAE-D692-4B1D-AD55-C618CB7C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E253-8BD2-461F-8E5D-1C86A8147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8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8.png"/><Relationship Id="rId2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8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8.png"/><Relationship Id="rId2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391160" cy="4038480"/>
          </a:xfrm>
          <a:custGeom>
            <a:avLst/>
            <a:gdLst>
              <a:gd name="textAreaLeft" fmla="*/ 923760 w 7391160"/>
              <a:gd name="textAreaRight" fmla="*/ 6467400 w 7391160"/>
              <a:gd name="textAreaTop" fmla="*/ 892800 h 4038480"/>
              <a:gd name="textAreaBottom" fmla="*/ 403884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194" stAng="16200000" swAng="5400000"/>
                <a:lnTo>
                  <a:pt x="5400" y="4776"/>
                </a:lnTo>
                <a:lnTo>
                  <a:pt x="16200" y="4776"/>
                </a:lnTo>
                <a:lnTo>
                  <a:pt x="16200" y="1194"/>
                </a:lnTo>
                <a:arcTo wR="675" hR="1194" stAng="10800000" swAng="5400000"/>
                <a:lnTo>
                  <a:pt x="21600" y="0"/>
                </a:lnTo>
                <a:lnTo>
                  <a:pt x="18900" y="8412"/>
                </a:lnTo>
                <a:lnTo>
                  <a:pt x="21600" y="16824"/>
                </a:lnTo>
                <a:lnTo>
                  <a:pt x="18900" y="16824"/>
                </a:lnTo>
                <a:lnTo>
                  <a:pt x="18900" y="20406"/>
                </a:lnTo>
                <a:arcTo wR="675" hR="1194" stAng="0" swAng="5400000"/>
                <a:lnTo>
                  <a:pt x="3375" y="21600"/>
                </a:lnTo>
                <a:arcTo wR="675" hR="1194" stAng="5400000" swAng="5400000"/>
                <a:lnTo>
                  <a:pt x="2700" y="16824"/>
                </a:lnTo>
                <a:lnTo>
                  <a:pt x="0" y="16824"/>
                </a:lnTo>
                <a:lnTo>
                  <a:pt x="2700" y="8412"/>
                </a:lnTo>
                <a:close/>
              </a:path>
              <a:path fill="none" w="21600" h="21600">
                <a:moveTo>
                  <a:pt x="5400" y="1194"/>
                </a:moveTo>
                <a:arcTo wR="675" hR="1194" stAng="0" swAng="5400000"/>
                <a:lnTo>
                  <a:pt x="3375" y="2388"/>
                </a:lnTo>
                <a:arcTo wR="675" hR="1194" stAng="16200000" swAng="-5400000"/>
                <a:arcTo wR="675" hR="1194" stAng="10800000" swAng="-5400000"/>
                <a:lnTo>
                  <a:pt x="5400" y="4776"/>
                </a:lnTo>
              </a:path>
              <a:path fill="none" w="21600" h="21600">
                <a:moveTo>
                  <a:pt x="16200" y="1194"/>
                </a:moveTo>
                <a:arcTo wR="675" hR="1194" stAng="10800000" swAng="-5400000"/>
                <a:lnTo>
                  <a:pt x="18225" y="2388"/>
                </a:lnTo>
                <a:arcTo wR="675" hR="1194" stAng="16200000" swAng="5400000"/>
                <a:arcTo wR="675" hR="1194" stAng="0" swAng="5400000"/>
                <a:lnTo>
                  <a:pt x="16200" y="4776"/>
                </a:lnTo>
              </a:path>
              <a:path fill="none" w="21600" h="21600">
                <a:moveTo>
                  <a:pt x="2700" y="3582"/>
                </a:moveTo>
                <a:lnTo>
                  <a:pt x="2700" y="16824"/>
                </a:lnTo>
              </a:path>
              <a:path fill="none" w="21600" h="21600">
                <a:moveTo>
                  <a:pt x="18900" y="3582"/>
                </a:moveTo>
                <a:lnTo>
                  <a:pt x="18900" y="16824"/>
                </a:ln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d9d9f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2819520"/>
            <a:ext cx="4114800" cy="3124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81185" dir="19278031" blurRad="0" rotWithShape="0">
                    <a:srgbClr val="ffffff"/>
                  </a:outerShdw>
                </a:effectLst>
                <a:latin typeface="Arial"/>
              </a:rPr>
              <a:t>עקרונות במחשבים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81185" dir="19278031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66880" y="472428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81185" dir="19278031" blurRad="0" rotWithShape="0">
                    <a:srgbClr val="ffffff"/>
                  </a:outerShdw>
                </a:effectLst>
                <a:latin typeface="Arial"/>
              </a:rPr>
              <a:t>במקורות היהדו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81185" dir="19278031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714640" y="456840"/>
            <a:ext cx="28954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9935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663300"/>
                </a:solidFill>
                <a:latin typeface="Times New Roman"/>
              </a:rPr>
              <a:t>הותר אמצע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rot="20001600">
            <a:off x="1143360" y="91404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66"/>
                </a:solidFill>
                <a:latin typeface="Times New Roman"/>
              </a:rPr>
              <a:t>הימנו ולמטה - מות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6858000" y="1676520"/>
            <a:ext cx="1974960" cy="2422440"/>
            <a:chOff x="6858000" y="1676520"/>
            <a:chExt cx="1974960" cy="2422440"/>
          </a:xfrm>
        </p:grpSpPr>
        <p:grpSp>
          <p:nvGrpSpPr>
            <p:cNvPr id="1674" name=""/>
            <p:cNvGrpSpPr/>
            <p:nvPr/>
          </p:nvGrpSpPr>
          <p:grpSpPr>
            <a:xfrm>
              <a:off x="6858000" y="1676520"/>
              <a:ext cx="1974960" cy="2422440"/>
              <a:chOff x="6858000" y="1676520"/>
              <a:chExt cx="1974960" cy="2422440"/>
            </a:xfrm>
          </p:grpSpPr>
          <p:grpSp>
            <p:nvGrpSpPr>
              <p:cNvPr id="1675" name=""/>
              <p:cNvGrpSpPr/>
              <p:nvPr/>
            </p:nvGrpSpPr>
            <p:grpSpPr>
              <a:xfrm>
                <a:off x="6858000" y="1801800"/>
                <a:ext cx="923760" cy="2297160"/>
                <a:chOff x="6858000" y="1801800"/>
                <a:chExt cx="923760" cy="2297160"/>
              </a:xfrm>
            </p:grpSpPr>
            <p:sp>
              <p:nvSpPr>
                <p:cNvPr id="1676" name=""/>
                <p:cNvSpPr/>
                <p:nvPr/>
              </p:nvSpPr>
              <p:spPr>
                <a:xfrm flipH="1">
                  <a:off x="7018200" y="1917720"/>
                  <a:ext cx="533520" cy="51768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H="1">
                  <a:off x="7208280" y="2465640"/>
                  <a:ext cx="368280" cy="76176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flipH="1">
                  <a:off x="6875280" y="2489400"/>
                  <a:ext cx="409680" cy="68400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flipH="1">
                  <a:off x="7103520" y="3065760"/>
                  <a:ext cx="446040" cy="103320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flipH="1">
                  <a:off x="7400520" y="3092400"/>
                  <a:ext cx="368280" cy="86364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flipH="1">
                  <a:off x="6857640" y="1819440"/>
                  <a:ext cx="425160" cy="50652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H="1">
                  <a:off x="7254720" y="1801800"/>
                  <a:ext cx="527040" cy="79056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3" name=""/>
              <p:cNvSpPr/>
              <p:nvPr/>
            </p:nvSpPr>
            <p:spPr>
              <a:xfrm>
                <a:off x="7461360" y="1676520"/>
                <a:ext cx="1371600" cy="533520"/>
              </a:xfrm>
              <a:prstGeom prst="wedgeEllipseCallout">
                <a:avLst>
                  <a:gd name="adj1" fmla="val -49652"/>
                  <a:gd name="adj2" fmla="val 35712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</a:rPr>
                  <a:t>הריני נזי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4" name=""/>
            <p:cNvSpPr/>
            <p:nvPr/>
          </p:nvSpPr>
          <p:spPr>
            <a:xfrm>
              <a:off x="7315200" y="266688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5943600" y="2895480"/>
            <a:ext cx="1371240" cy="2209320"/>
            <a:chOff x="5943600" y="2895480"/>
            <a:chExt cx="1371240" cy="2209320"/>
          </a:xfrm>
        </p:grpSpPr>
        <p:grpSp>
          <p:nvGrpSpPr>
            <p:cNvPr id="1686" name=""/>
            <p:cNvGrpSpPr/>
            <p:nvPr/>
          </p:nvGrpSpPr>
          <p:grpSpPr>
            <a:xfrm>
              <a:off x="5943600" y="3009960"/>
              <a:ext cx="830880" cy="2094840"/>
              <a:chOff x="5943600" y="3009960"/>
              <a:chExt cx="830880" cy="2094840"/>
            </a:xfrm>
          </p:grpSpPr>
          <p:sp>
            <p:nvSpPr>
              <p:cNvPr id="1687" name=""/>
              <p:cNvSpPr/>
              <p:nvPr/>
            </p:nvSpPr>
            <p:spPr>
              <a:xfrm flipH="1">
                <a:off x="6087240" y="3115440"/>
                <a:ext cx="479880" cy="47196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6258960" y="3615120"/>
                <a:ext cx="331200" cy="69444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5959080" y="3637080"/>
                <a:ext cx="368640" cy="62352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6165000" y="4162680"/>
                <a:ext cx="401040" cy="94212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6432120" y="4186800"/>
                <a:ext cx="331200" cy="78768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5943600" y="3025800"/>
                <a:ext cx="382320" cy="46188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6300000" y="3009960"/>
                <a:ext cx="474120" cy="72072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6486480" y="2895480"/>
              <a:ext cx="828360" cy="48636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00f8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355080" y="3799080"/>
              <a:ext cx="205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4952880" y="2666880"/>
            <a:ext cx="1218960" cy="1980720"/>
            <a:chOff x="4952880" y="2666880"/>
            <a:chExt cx="1218960" cy="1980720"/>
          </a:xfrm>
        </p:grpSpPr>
        <p:grpSp>
          <p:nvGrpSpPr>
            <p:cNvPr id="1697" name=""/>
            <p:cNvGrpSpPr/>
            <p:nvPr/>
          </p:nvGrpSpPr>
          <p:grpSpPr>
            <a:xfrm>
              <a:off x="4952880" y="2769480"/>
              <a:ext cx="738720" cy="1878120"/>
              <a:chOff x="4952880" y="2769480"/>
              <a:chExt cx="738720" cy="1878120"/>
            </a:xfrm>
          </p:grpSpPr>
          <p:sp>
            <p:nvSpPr>
              <p:cNvPr id="1698" name=""/>
              <p:cNvSpPr/>
              <p:nvPr/>
            </p:nvSpPr>
            <p:spPr>
              <a:xfrm flipH="1">
                <a:off x="5080680" y="2864160"/>
                <a:ext cx="426600" cy="4230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5233320" y="3312000"/>
                <a:ext cx="294480" cy="62280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4966560" y="3331440"/>
                <a:ext cx="327600" cy="55908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5149080" y="3803040"/>
                <a:ext cx="356760" cy="84456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5387040" y="3824640"/>
                <a:ext cx="294480" cy="70596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4952880" y="2783880"/>
                <a:ext cx="339840" cy="41400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5269680" y="2769480"/>
                <a:ext cx="421560" cy="64620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>
              <a:off x="5435280" y="2666880"/>
              <a:ext cx="736560" cy="4352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a3ff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223600" y="3486600"/>
              <a:ext cx="27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3886200" y="1600200"/>
            <a:ext cx="1385280" cy="3250440"/>
            <a:chOff x="3886200" y="1600200"/>
            <a:chExt cx="1385280" cy="3250440"/>
          </a:xfrm>
        </p:grpSpPr>
        <p:sp>
          <p:nvSpPr>
            <p:cNvPr id="1708" name=""/>
            <p:cNvSpPr/>
            <p:nvPr/>
          </p:nvSpPr>
          <p:spPr>
            <a:xfrm>
              <a:off x="4231080" y="1764000"/>
              <a:ext cx="800280" cy="7326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93280" y="2539440"/>
              <a:ext cx="552240" cy="107784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31400" y="2573280"/>
              <a:ext cx="614520" cy="96768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233960" y="3388680"/>
              <a:ext cx="668880" cy="146196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04920" y="3426480"/>
              <a:ext cx="552240" cy="12222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633920" y="1625040"/>
              <a:ext cx="637560" cy="71676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86200" y="1600200"/>
              <a:ext cx="790560" cy="111852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5" name=""/>
          <p:cNvSpPr/>
          <p:nvPr/>
        </p:nvSpPr>
        <p:spPr>
          <a:xfrm>
            <a:off x="4267080" y="2590920"/>
            <a:ext cx="304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3353040" y="3062160"/>
            <a:ext cx="647640" cy="1661760"/>
            <a:chOff x="3353040" y="3062160"/>
            <a:chExt cx="647640" cy="1661760"/>
          </a:xfrm>
        </p:grpSpPr>
        <p:sp>
          <p:nvSpPr>
            <p:cNvPr id="1717" name=""/>
            <p:cNvSpPr/>
            <p:nvPr/>
          </p:nvSpPr>
          <p:spPr>
            <a:xfrm flipH="1">
              <a:off x="3465000" y="3145680"/>
              <a:ext cx="374040" cy="3744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3598560" y="3542400"/>
              <a:ext cx="258120" cy="5511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3364920" y="3559680"/>
              <a:ext cx="287280" cy="49464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3525120" y="3976560"/>
              <a:ext cx="312840" cy="74736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3733560" y="3996000"/>
              <a:ext cx="258120" cy="624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3353040" y="3074760"/>
              <a:ext cx="298080" cy="36648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3630600" y="3062160"/>
              <a:ext cx="369720" cy="57204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3774960" y="2971800"/>
            <a:ext cx="644760" cy="38592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589200" y="3697200"/>
            <a:ext cx="23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2895480" y="2673360"/>
            <a:ext cx="553680" cy="1517400"/>
            <a:chOff x="2895480" y="2673360"/>
            <a:chExt cx="553680" cy="1517400"/>
          </a:xfrm>
        </p:grpSpPr>
        <p:sp>
          <p:nvSpPr>
            <p:cNvPr id="1727" name=""/>
            <p:cNvSpPr/>
            <p:nvPr/>
          </p:nvSpPr>
          <p:spPr>
            <a:xfrm flipH="1">
              <a:off x="2990880" y="2749680"/>
              <a:ext cx="320040" cy="3420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3105360" y="3111840"/>
              <a:ext cx="220680" cy="50328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2905920" y="3127680"/>
              <a:ext cx="245520" cy="4518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3042360" y="3508200"/>
              <a:ext cx="267480" cy="68256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3220920" y="3525840"/>
              <a:ext cx="220680" cy="570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2895480" y="2684880"/>
              <a:ext cx="254880" cy="33444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3133080" y="2673360"/>
              <a:ext cx="316080" cy="52236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4" name=""/>
          <p:cNvSpPr/>
          <p:nvPr/>
        </p:nvSpPr>
        <p:spPr>
          <a:xfrm>
            <a:off x="3257640" y="2590920"/>
            <a:ext cx="552240" cy="35244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098880" y="3252960"/>
            <a:ext cx="20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6" name=""/>
          <p:cNvGrpSpPr/>
          <p:nvPr/>
        </p:nvGrpSpPr>
        <p:grpSpPr>
          <a:xfrm>
            <a:off x="2286000" y="2433600"/>
            <a:ext cx="369360" cy="1299960"/>
            <a:chOff x="2286000" y="2433600"/>
            <a:chExt cx="369360" cy="1299960"/>
          </a:xfrm>
        </p:grpSpPr>
        <p:sp>
          <p:nvSpPr>
            <p:cNvPr id="1737" name=""/>
            <p:cNvSpPr/>
            <p:nvPr/>
          </p:nvSpPr>
          <p:spPr>
            <a:xfrm flipH="1">
              <a:off x="2349720" y="2499120"/>
              <a:ext cx="213480" cy="29304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2426040" y="2809080"/>
              <a:ext cx="147240" cy="43092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2292480" y="2822760"/>
              <a:ext cx="163800" cy="3870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2384280" y="3148920"/>
              <a:ext cx="178560" cy="58464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2502720" y="3164040"/>
              <a:ext cx="147240" cy="48888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2286000" y="2443320"/>
              <a:ext cx="169920" cy="28656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2444400" y="2433600"/>
              <a:ext cx="210960" cy="44748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4" name=""/>
          <p:cNvSpPr/>
          <p:nvPr/>
        </p:nvSpPr>
        <p:spPr>
          <a:xfrm>
            <a:off x="2527200" y="236232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421000" y="2928960"/>
            <a:ext cx="13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6" name=""/>
          <p:cNvGrpSpPr/>
          <p:nvPr/>
        </p:nvGrpSpPr>
        <p:grpSpPr>
          <a:xfrm>
            <a:off x="1752480" y="2205000"/>
            <a:ext cx="370080" cy="1299960"/>
            <a:chOff x="1752480" y="2205000"/>
            <a:chExt cx="370080" cy="1299960"/>
          </a:xfrm>
        </p:grpSpPr>
        <p:sp>
          <p:nvSpPr>
            <p:cNvPr id="1747" name=""/>
            <p:cNvSpPr/>
            <p:nvPr/>
          </p:nvSpPr>
          <p:spPr>
            <a:xfrm flipH="1">
              <a:off x="1816560" y="2270520"/>
              <a:ext cx="213840" cy="29304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1892880" y="2580480"/>
              <a:ext cx="147600" cy="43092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1759320" y="2594160"/>
              <a:ext cx="164160" cy="3870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1851120" y="2920320"/>
              <a:ext cx="178560" cy="58464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1969920" y="2935440"/>
              <a:ext cx="147600" cy="48888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1752120" y="2214720"/>
              <a:ext cx="170280" cy="28656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1911600" y="2205000"/>
              <a:ext cx="210960" cy="44748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4" name=""/>
          <p:cNvSpPr/>
          <p:nvPr/>
        </p:nvSpPr>
        <p:spPr>
          <a:xfrm>
            <a:off x="1994040" y="213372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887480" y="2700360"/>
            <a:ext cx="13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1142640" y="2509920"/>
            <a:ext cx="228600" cy="919080"/>
            <a:chOff x="1142640" y="2509920"/>
            <a:chExt cx="228600" cy="919080"/>
          </a:xfrm>
        </p:grpSpPr>
        <p:sp>
          <p:nvSpPr>
            <p:cNvPr id="1757" name=""/>
            <p:cNvSpPr/>
            <p:nvPr/>
          </p:nvSpPr>
          <p:spPr>
            <a:xfrm flipH="1">
              <a:off x="1181880" y="2556000"/>
              <a:ext cx="132120" cy="2070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1229400" y="2775240"/>
              <a:ext cx="91080" cy="3045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1146960" y="2784960"/>
              <a:ext cx="101160" cy="2736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1203840" y="3015720"/>
              <a:ext cx="110160" cy="41328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1276920" y="3026160"/>
              <a:ext cx="91080" cy="345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1142640" y="2516760"/>
              <a:ext cx="105120" cy="20268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1240920" y="2509920"/>
              <a:ext cx="130320" cy="31608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1384200" y="243828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837720" y="2814480"/>
            <a:ext cx="228600" cy="919080"/>
            <a:chOff x="837720" y="2814480"/>
            <a:chExt cx="228600" cy="919080"/>
          </a:xfrm>
        </p:grpSpPr>
        <p:sp>
          <p:nvSpPr>
            <p:cNvPr id="1766" name=""/>
            <p:cNvSpPr/>
            <p:nvPr/>
          </p:nvSpPr>
          <p:spPr>
            <a:xfrm flipH="1">
              <a:off x="876960" y="2860560"/>
              <a:ext cx="132120" cy="2070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924480" y="3080160"/>
              <a:ext cx="91080" cy="30492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842040" y="3089520"/>
              <a:ext cx="101160" cy="2736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898920" y="3320280"/>
              <a:ext cx="110160" cy="41328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972000" y="3331080"/>
              <a:ext cx="91080" cy="345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837720" y="2821320"/>
              <a:ext cx="105120" cy="20268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936000" y="2814480"/>
              <a:ext cx="130320" cy="31644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1079640" y="274320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457200" y="2639880"/>
            <a:ext cx="171360" cy="636480"/>
            <a:chOff x="457200" y="2639880"/>
            <a:chExt cx="171360" cy="636480"/>
          </a:xfrm>
        </p:grpSpPr>
        <p:sp>
          <p:nvSpPr>
            <p:cNvPr id="1775" name=""/>
            <p:cNvSpPr/>
            <p:nvPr/>
          </p:nvSpPr>
          <p:spPr>
            <a:xfrm flipH="1">
              <a:off x="486720" y="2671920"/>
              <a:ext cx="99000" cy="14328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522360" y="2823840"/>
              <a:ext cx="68400" cy="2109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460080" y="2830320"/>
              <a:ext cx="75960" cy="18936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502920" y="2990160"/>
              <a:ext cx="82800" cy="28620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558000" y="2997720"/>
              <a:ext cx="68400" cy="2394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456840" y="2644560"/>
              <a:ext cx="78840" cy="14040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530640" y="2639880"/>
              <a:ext cx="97920" cy="21924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2" name=""/>
          <p:cNvSpPr/>
          <p:nvPr/>
        </p:nvSpPr>
        <p:spPr>
          <a:xfrm>
            <a:off x="638280" y="2590920"/>
            <a:ext cx="276120" cy="20952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800600" y="1371600"/>
            <a:ext cx="1066680" cy="838080"/>
          </a:xfrm>
          <a:prstGeom prst="wedgeRoundRectCallout">
            <a:avLst>
              <a:gd name="adj1" fmla="val -43518"/>
              <a:gd name="adj2" fmla="val 75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ני ל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נזי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4" name=""/>
          <p:cNvGrpSpPr/>
          <p:nvPr/>
        </p:nvGrpSpPr>
        <p:grpSpPr>
          <a:xfrm>
            <a:off x="457200" y="6019920"/>
            <a:ext cx="5257800" cy="380880"/>
            <a:chOff x="457200" y="6019920"/>
            <a:chExt cx="5257800" cy="380880"/>
          </a:xfrm>
        </p:grpSpPr>
        <p:grpSp>
          <p:nvGrpSpPr>
            <p:cNvPr id="1785" name=""/>
            <p:cNvGrpSpPr/>
            <p:nvPr/>
          </p:nvGrpSpPr>
          <p:grpSpPr>
            <a:xfrm>
              <a:off x="4800240" y="6019920"/>
              <a:ext cx="914760" cy="380880"/>
              <a:chOff x="4800240" y="6019920"/>
              <a:chExt cx="914760" cy="38088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4800240" y="6019920"/>
                <a:ext cx="914760" cy="380880"/>
                <a:chOff x="4800240" y="6019920"/>
                <a:chExt cx="914760" cy="38088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5105520" y="6019920"/>
                  <a:ext cx="609480" cy="380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257800" y="6019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flipH="1">
                  <a:off x="4800240" y="62485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0" name=""/>
              <p:cNvSpPr/>
              <p:nvPr/>
            </p:nvSpPr>
            <p:spPr>
              <a:xfrm>
                <a:off x="5334120" y="6019920"/>
                <a:ext cx="228600" cy="366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1" name=""/>
            <p:cNvGrpSpPr/>
            <p:nvPr/>
          </p:nvGrpSpPr>
          <p:grpSpPr>
            <a:xfrm>
              <a:off x="3885840" y="6019920"/>
              <a:ext cx="914760" cy="380880"/>
              <a:chOff x="3885840" y="6019920"/>
              <a:chExt cx="914760" cy="380880"/>
            </a:xfrm>
          </p:grpSpPr>
          <p:grpSp>
            <p:nvGrpSpPr>
              <p:cNvPr id="1792" name=""/>
              <p:cNvGrpSpPr/>
              <p:nvPr/>
            </p:nvGrpSpPr>
            <p:grpSpPr>
              <a:xfrm>
                <a:off x="3885840" y="6019920"/>
                <a:ext cx="914760" cy="380880"/>
                <a:chOff x="3885840" y="6019920"/>
                <a:chExt cx="914760" cy="38088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4191120" y="6019920"/>
                  <a:ext cx="609480" cy="380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4343400" y="6019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H="1">
                  <a:off x="3885840" y="62485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6" name=""/>
              <p:cNvSpPr/>
              <p:nvPr/>
            </p:nvSpPr>
            <p:spPr>
              <a:xfrm>
                <a:off x="4419720" y="6019920"/>
                <a:ext cx="228600" cy="366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7" name=""/>
            <p:cNvGrpSpPr/>
            <p:nvPr/>
          </p:nvGrpSpPr>
          <p:grpSpPr>
            <a:xfrm>
              <a:off x="2895120" y="6019920"/>
              <a:ext cx="914760" cy="380880"/>
              <a:chOff x="2895120" y="6019920"/>
              <a:chExt cx="914760" cy="380880"/>
            </a:xfrm>
          </p:grpSpPr>
          <p:grpSp>
            <p:nvGrpSpPr>
              <p:cNvPr id="1798" name=""/>
              <p:cNvGrpSpPr/>
              <p:nvPr/>
            </p:nvGrpSpPr>
            <p:grpSpPr>
              <a:xfrm>
                <a:off x="2895120" y="6019920"/>
                <a:ext cx="914760" cy="380880"/>
                <a:chOff x="2895120" y="6019920"/>
                <a:chExt cx="914760" cy="38088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3200400" y="6019920"/>
                  <a:ext cx="609480" cy="380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3352680" y="6019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H="1">
                  <a:off x="2895120" y="62485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2" name=""/>
              <p:cNvSpPr/>
              <p:nvPr/>
            </p:nvSpPr>
            <p:spPr>
              <a:xfrm>
                <a:off x="3428640" y="6019920"/>
                <a:ext cx="228600" cy="366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1980720" y="6019920"/>
              <a:ext cx="914760" cy="380880"/>
              <a:chOff x="1980720" y="6019920"/>
              <a:chExt cx="914760" cy="380880"/>
            </a:xfrm>
          </p:grpSpPr>
          <p:grpSp>
            <p:nvGrpSpPr>
              <p:cNvPr id="1804" name=""/>
              <p:cNvGrpSpPr/>
              <p:nvPr/>
            </p:nvGrpSpPr>
            <p:grpSpPr>
              <a:xfrm>
                <a:off x="1980720" y="6019920"/>
                <a:ext cx="914760" cy="380880"/>
                <a:chOff x="1980720" y="6019920"/>
                <a:chExt cx="914760" cy="380880"/>
              </a:xfrm>
            </p:grpSpPr>
            <p:sp>
              <p:nvSpPr>
                <p:cNvPr id="1805" name=""/>
                <p:cNvSpPr/>
                <p:nvPr/>
              </p:nvSpPr>
              <p:spPr>
                <a:xfrm>
                  <a:off x="2286000" y="6019920"/>
                  <a:ext cx="609480" cy="380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2438280" y="6019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flipH="1">
                  <a:off x="1980720" y="62485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8" name=""/>
              <p:cNvSpPr/>
              <p:nvPr/>
            </p:nvSpPr>
            <p:spPr>
              <a:xfrm>
                <a:off x="2514240" y="6019920"/>
                <a:ext cx="228600" cy="366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ז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1066320" y="6019920"/>
              <a:ext cx="914760" cy="380880"/>
              <a:chOff x="1066320" y="6019920"/>
              <a:chExt cx="914760" cy="380880"/>
            </a:xfrm>
          </p:grpSpPr>
          <p:grpSp>
            <p:nvGrpSpPr>
              <p:cNvPr id="1810" name=""/>
              <p:cNvGrpSpPr/>
              <p:nvPr/>
            </p:nvGrpSpPr>
            <p:grpSpPr>
              <a:xfrm>
                <a:off x="1066320" y="6019920"/>
                <a:ext cx="914760" cy="380880"/>
                <a:chOff x="1066320" y="6019920"/>
                <a:chExt cx="914760" cy="38088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1371600" y="6019920"/>
                  <a:ext cx="609480" cy="380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1523880" y="6019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H="1">
                  <a:off x="1066320" y="62485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4" name=""/>
              <p:cNvSpPr/>
              <p:nvPr/>
            </p:nvSpPr>
            <p:spPr>
              <a:xfrm>
                <a:off x="1599840" y="6019920"/>
                <a:ext cx="228600" cy="366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5" name=""/>
            <p:cNvSpPr/>
            <p:nvPr/>
          </p:nvSpPr>
          <p:spPr>
            <a:xfrm>
              <a:off x="457200" y="6019920"/>
              <a:ext cx="60948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09480" y="6019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85800" y="6019920"/>
              <a:ext cx="22860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5605920" y="3338280"/>
            <a:ext cx="3393720" cy="2452680"/>
            <a:chOff x="5605920" y="3338280"/>
            <a:chExt cx="3393720" cy="2452680"/>
          </a:xfrm>
        </p:grpSpPr>
        <p:grpSp>
          <p:nvGrpSpPr>
            <p:cNvPr id="1819" name=""/>
            <p:cNvGrpSpPr/>
            <p:nvPr/>
          </p:nvGrpSpPr>
          <p:grpSpPr>
            <a:xfrm>
              <a:off x="6324480" y="5410080"/>
              <a:ext cx="2438280" cy="380880"/>
              <a:chOff x="6324480" y="5410080"/>
              <a:chExt cx="2438280" cy="38088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7848000" y="5410080"/>
                <a:ext cx="914760" cy="380880"/>
                <a:chOff x="7848000" y="5410080"/>
                <a:chExt cx="914760" cy="380880"/>
              </a:xfrm>
            </p:grpSpPr>
            <p:grpSp>
              <p:nvGrpSpPr>
                <p:cNvPr id="1821" name=""/>
                <p:cNvGrpSpPr/>
                <p:nvPr/>
              </p:nvGrpSpPr>
              <p:grpSpPr>
                <a:xfrm>
                  <a:off x="7848000" y="5410080"/>
                  <a:ext cx="914760" cy="380880"/>
                  <a:chOff x="7848000" y="5410080"/>
                  <a:chExt cx="914760" cy="380880"/>
                </a:xfrm>
              </p:grpSpPr>
              <p:sp>
                <p:nvSpPr>
                  <p:cNvPr id="1822" name=""/>
                  <p:cNvSpPr/>
                  <p:nvPr/>
                </p:nvSpPr>
                <p:spPr>
                  <a:xfrm>
                    <a:off x="8153280" y="5410080"/>
                    <a:ext cx="609480" cy="380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8305560" y="541008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 flipH="1">
                    <a:off x="7848000" y="5638680"/>
                    <a:ext cx="273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5" name=""/>
                <p:cNvSpPr/>
                <p:nvPr/>
              </p:nvSpPr>
              <p:spPr>
                <a:xfrm>
                  <a:off x="8381880" y="5410080"/>
                  <a:ext cx="228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 rtl="1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400" spc="-1" strike="noStrike">
                      <a:solidFill>
                        <a:srgbClr val="ff0066"/>
                      </a:solidFill>
                      <a:latin typeface="Times New Roman"/>
                    </a:rPr>
                    <a:t>א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6" name=""/>
              <p:cNvGrpSpPr/>
              <p:nvPr/>
            </p:nvGrpSpPr>
            <p:grpSpPr>
              <a:xfrm>
                <a:off x="6933600" y="5410080"/>
                <a:ext cx="914760" cy="380880"/>
                <a:chOff x="6933600" y="5410080"/>
                <a:chExt cx="914760" cy="380880"/>
              </a:xfrm>
            </p:grpSpPr>
            <p:grpSp>
              <p:nvGrpSpPr>
                <p:cNvPr id="1827" name=""/>
                <p:cNvGrpSpPr/>
                <p:nvPr/>
              </p:nvGrpSpPr>
              <p:grpSpPr>
                <a:xfrm>
                  <a:off x="6933600" y="5410080"/>
                  <a:ext cx="914760" cy="380880"/>
                  <a:chOff x="6933600" y="5410080"/>
                  <a:chExt cx="914760" cy="380880"/>
                </a:xfrm>
              </p:grpSpPr>
              <p:sp>
                <p:nvSpPr>
                  <p:cNvPr id="1828" name=""/>
                  <p:cNvSpPr/>
                  <p:nvPr/>
                </p:nvSpPr>
                <p:spPr>
                  <a:xfrm>
                    <a:off x="7238880" y="5410080"/>
                    <a:ext cx="609480" cy="380880"/>
                  </a:xfrm>
                  <a:prstGeom prst="rect">
                    <a:avLst/>
                  </a:prstGeom>
                  <a:solidFill>
                    <a:srgbClr val="00f8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7391160" y="541008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 flipH="1">
                    <a:off x="6933600" y="5638680"/>
                    <a:ext cx="273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1" name=""/>
                <p:cNvSpPr/>
                <p:nvPr/>
              </p:nvSpPr>
              <p:spPr>
                <a:xfrm>
                  <a:off x="7467480" y="5410080"/>
                  <a:ext cx="228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 rtl="1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400" spc="-1" strike="noStrike">
                      <a:solidFill>
                        <a:srgbClr val="ff0066"/>
                      </a:solidFill>
                      <a:latin typeface="Times New Roman"/>
                    </a:rPr>
                    <a:t>ב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2" name=""/>
              <p:cNvGrpSpPr/>
              <p:nvPr/>
            </p:nvGrpSpPr>
            <p:grpSpPr>
              <a:xfrm>
                <a:off x="6324480" y="5410080"/>
                <a:ext cx="609480" cy="380880"/>
                <a:chOff x="6324480" y="5410080"/>
                <a:chExt cx="609480" cy="38088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6324480" y="5410080"/>
                  <a:ext cx="609480" cy="380880"/>
                </a:xfrm>
                <a:prstGeom prst="rect">
                  <a:avLst/>
                </a:prstGeom>
                <a:solidFill>
                  <a:srgbClr val="57ff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6476760" y="5410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6553080" y="5410080"/>
                  <a:ext cx="228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r" rtl="1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400" spc="-1" strike="noStrike">
                      <a:solidFill>
                        <a:srgbClr val="ff0066"/>
                      </a:solidFill>
                      <a:latin typeface="Times New Roman"/>
                    </a:rPr>
                    <a:t>ג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6" name=""/>
            <p:cNvSpPr/>
            <p:nvPr/>
          </p:nvSpPr>
          <p:spPr>
            <a:xfrm rot="20001600">
              <a:off x="5672160" y="4012200"/>
              <a:ext cx="3260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3200" spc="-1" strike="noStrike">
                  <a:solidFill>
                    <a:srgbClr val="ff0066"/>
                  </a:solidFill>
                  <a:latin typeface="Times New Roman"/>
                </a:rPr>
                <a:t>הימנו ולמעלה - אסו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6095520" y="5638680"/>
              <a:ext cx="27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5943600" y="5410080"/>
              <a:ext cx="152280" cy="380880"/>
              <a:chOff x="5943600" y="5410080"/>
              <a:chExt cx="152280" cy="380880"/>
            </a:xfrm>
          </p:grpSpPr>
          <p:sp>
            <p:nvSpPr>
              <p:cNvPr id="1839" name=""/>
              <p:cNvSpPr/>
              <p:nvPr/>
            </p:nvSpPr>
            <p:spPr>
              <a:xfrm>
                <a:off x="6095880" y="54100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019560" y="5486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943600" y="5519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2" name=""/>
          <p:cNvGrpSpPr/>
          <p:nvPr/>
        </p:nvGrpSpPr>
        <p:grpSpPr>
          <a:xfrm>
            <a:off x="380880" y="4343400"/>
            <a:ext cx="2057400" cy="985320"/>
            <a:chOff x="380880" y="4343400"/>
            <a:chExt cx="2057400" cy="985320"/>
          </a:xfrm>
        </p:grpSpPr>
        <p:sp>
          <p:nvSpPr>
            <p:cNvPr id="1843" name=""/>
            <p:cNvSpPr/>
            <p:nvPr/>
          </p:nvSpPr>
          <p:spPr>
            <a:xfrm>
              <a:off x="380880" y="4495680"/>
              <a:ext cx="2057400" cy="8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50000"/>
                </a:lnSpc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מסכת נזי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פרק ד’ משנה א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7200" y="4343400"/>
              <a:ext cx="190512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b38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 txBox="1"/>
          <p:nvPr/>
        </p:nvSpPr>
        <p:spPr>
          <a:xfrm rot="19973400">
            <a:off x="1828800" y="1980720"/>
            <a:ext cx="563868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רקורסיה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5257800" y="609480"/>
            <a:ext cx="3181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99192" dir="18581945" blurRad="0" rotWithShape="0">
                    <a:srgbClr val="000099"/>
                  </a:outerShdw>
                </a:effectLst>
                <a:latin typeface="Arial"/>
              </a:rPr>
              <a:t>מיהו יהודי ??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99192" dir="18581945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47" name="" descr=""/>
          <p:cNvPicPr/>
          <p:nvPr/>
        </p:nvPicPr>
        <p:blipFill>
          <a:blip r:embed="rId2"/>
          <a:stretch/>
        </p:blipFill>
        <p:spPr>
          <a:xfrm>
            <a:off x="4114800" y="304920"/>
            <a:ext cx="1122480" cy="1596960"/>
          </a:xfrm>
          <a:prstGeom prst="rect">
            <a:avLst/>
          </a:prstGeom>
          <a:ln w="0">
            <a:noFill/>
          </a:ln>
        </p:spPr>
      </p:pic>
      <p:pic>
        <p:nvPicPr>
          <p:cNvPr id="1848" name="" descr=""/>
          <p:cNvPicPr/>
          <p:nvPr/>
        </p:nvPicPr>
        <p:blipFill>
          <a:blip r:embed="rId3"/>
          <a:stretch/>
        </p:blipFill>
        <p:spPr>
          <a:xfrm>
            <a:off x="609480" y="5029200"/>
            <a:ext cx="689040" cy="1481040"/>
          </a:xfrm>
          <a:prstGeom prst="rect">
            <a:avLst/>
          </a:prstGeom>
          <a:ln w="0">
            <a:noFill/>
          </a:ln>
        </p:spPr>
      </p:pic>
      <p:grpSp>
        <p:nvGrpSpPr>
          <p:cNvPr id="1849" name=""/>
          <p:cNvGrpSpPr/>
          <p:nvPr/>
        </p:nvGrpSpPr>
        <p:grpSpPr>
          <a:xfrm>
            <a:off x="1219320" y="3505320"/>
            <a:ext cx="2523960" cy="2285640"/>
            <a:chOff x="1219320" y="3505320"/>
            <a:chExt cx="2523960" cy="2285640"/>
          </a:xfrm>
        </p:grpSpPr>
        <p:grpSp>
          <p:nvGrpSpPr>
            <p:cNvPr id="1850" name=""/>
            <p:cNvGrpSpPr/>
            <p:nvPr/>
          </p:nvGrpSpPr>
          <p:grpSpPr>
            <a:xfrm>
              <a:off x="1279800" y="3505320"/>
              <a:ext cx="2463480" cy="1850760"/>
              <a:chOff x="1279800" y="3505320"/>
              <a:chExt cx="2463480" cy="1850760"/>
            </a:xfrm>
          </p:grpSpPr>
          <p:pic>
            <p:nvPicPr>
              <p:cNvPr id="18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3505320"/>
                <a:ext cx="2371680" cy="185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2" name=""/>
              <p:cNvSpPr/>
              <p:nvPr/>
            </p:nvSpPr>
            <p:spPr>
              <a:xfrm rot="18506400">
                <a:off x="1274040" y="4221000"/>
                <a:ext cx="914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800" spc="-1" strike="noStrike">
                    <a:solidFill>
                      <a:srgbClr val="000000"/>
                    </a:solidFill>
                    <a:latin typeface="Times New Roman"/>
                  </a:rPr>
                  <a:t>יהודיה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3" name=""/>
            <p:cNvSpPr/>
            <p:nvPr/>
          </p:nvSpPr>
          <p:spPr>
            <a:xfrm flipV="1">
              <a:off x="1219320" y="5028840"/>
              <a:ext cx="76176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3479760" y="3094560"/>
            <a:ext cx="1777320" cy="1116360"/>
            <a:chOff x="3479760" y="3094560"/>
            <a:chExt cx="1777320" cy="1116360"/>
          </a:xfrm>
        </p:grpSpPr>
        <p:grpSp>
          <p:nvGrpSpPr>
            <p:cNvPr id="1855" name=""/>
            <p:cNvGrpSpPr/>
            <p:nvPr/>
          </p:nvGrpSpPr>
          <p:grpSpPr>
            <a:xfrm>
              <a:off x="3581280" y="3124080"/>
              <a:ext cx="1675800" cy="1086840"/>
              <a:chOff x="3581280" y="3124080"/>
              <a:chExt cx="1675800" cy="1086840"/>
            </a:xfrm>
          </p:grpSpPr>
          <p:grpSp>
            <p:nvGrpSpPr>
              <p:cNvPr id="1856" name=""/>
              <p:cNvGrpSpPr/>
              <p:nvPr/>
            </p:nvGrpSpPr>
            <p:grpSpPr>
              <a:xfrm>
                <a:off x="4449240" y="3254040"/>
                <a:ext cx="807840" cy="902160"/>
                <a:chOff x="4449240" y="3254040"/>
                <a:chExt cx="807840" cy="90216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4688280" y="3254040"/>
                  <a:ext cx="264600" cy="207000"/>
                </a:xfrm>
                <a:custGeom>
                  <a:avLst/>
                  <a:gdLst/>
                  <a:ahLst/>
                  <a:rect l="l" t="t" r="r" b="b"/>
                  <a:pathLst>
                    <a:path w="393" h="302">
                      <a:moveTo>
                        <a:pt x="144" y="142"/>
                      </a:moveTo>
                      <a:lnTo>
                        <a:pt x="150" y="98"/>
                      </a:lnTo>
                      <a:lnTo>
                        <a:pt x="170" y="59"/>
                      </a:lnTo>
                      <a:lnTo>
                        <a:pt x="195" y="34"/>
                      </a:lnTo>
                      <a:lnTo>
                        <a:pt x="224" y="11"/>
                      </a:lnTo>
                      <a:lnTo>
                        <a:pt x="257" y="0"/>
                      </a:lnTo>
                      <a:lnTo>
                        <a:pt x="297" y="3"/>
                      </a:lnTo>
                      <a:lnTo>
                        <a:pt x="334" y="9"/>
                      </a:lnTo>
                      <a:lnTo>
                        <a:pt x="363" y="28"/>
                      </a:lnTo>
                      <a:lnTo>
                        <a:pt x="381" y="52"/>
                      </a:lnTo>
                      <a:lnTo>
                        <a:pt x="389" y="82"/>
                      </a:lnTo>
                      <a:lnTo>
                        <a:pt x="393" y="118"/>
                      </a:lnTo>
                      <a:lnTo>
                        <a:pt x="393" y="159"/>
                      </a:lnTo>
                      <a:lnTo>
                        <a:pt x="381" y="190"/>
                      </a:lnTo>
                      <a:lnTo>
                        <a:pt x="373" y="219"/>
                      </a:lnTo>
                      <a:lnTo>
                        <a:pt x="354" y="249"/>
                      </a:lnTo>
                      <a:lnTo>
                        <a:pt x="329" y="273"/>
                      </a:lnTo>
                      <a:lnTo>
                        <a:pt x="301" y="293"/>
                      </a:lnTo>
                      <a:lnTo>
                        <a:pt x="269" y="300"/>
                      </a:lnTo>
                      <a:lnTo>
                        <a:pt x="232" y="302"/>
                      </a:lnTo>
                      <a:lnTo>
                        <a:pt x="204" y="293"/>
                      </a:lnTo>
                      <a:lnTo>
                        <a:pt x="179" y="276"/>
                      </a:lnTo>
                      <a:lnTo>
                        <a:pt x="164" y="253"/>
                      </a:lnTo>
                      <a:lnTo>
                        <a:pt x="147" y="229"/>
                      </a:lnTo>
                      <a:lnTo>
                        <a:pt x="139" y="201"/>
                      </a:lnTo>
                      <a:lnTo>
                        <a:pt x="100" y="216"/>
                      </a:lnTo>
                      <a:lnTo>
                        <a:pt x="68" y="241"/>
                      </a:lnTo>
                      <a:lnTo>
                        <a:pt x="45" y="258"/>
                      </a:lnTo>
                      <a:lnTo>
                        <a:pt x="17" y="261"/>
                      </a:lnTo>
                      <a:lnTo>
                        <a:pt x="0" y="247"/>
                      </a:lnTo>
                      <a:lnTo>
                        <a:pt x="0" y="229"/>
                      </a:lnTo>
                      <a:lnTo>
                        <a:pt x="10" y="205"/>
                      </a:lnTo>
                      <a:lnTo>
                        <a:pt x="42" y="195"/>
                      </a:lnTo>
                      <a:lnTo>
                        <a:pt x="80" y="181"/>
                      </a:lnTo>
                      <a:lnTo>
                        <a:pt x="112" y="163"/>
                      </a:lnTo>
                      <a:lnTo>
                        <a:pt x="127" y="154"/>
                      </a:lnTo>
                      <a:lnTo>
                        <a:pt x="144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4848480" y="3470760"/>
                  <a:ext cx="408600" cy="208080"/>
                </a:xfrm>
                <a:custGeom>
                  <a:avLst/>
                  <a:gdLst/>
                  <a:ahLst/>
                  <a:rect l="l" t="t" r="r" b="b"/>
                  <a:pathLst>
                    <a:path w="608" h="302">
                      <a:moveTo>
                        <a:pt x="52" y="42"/>
                      </a:moveTo>
                      <a:lnTo>
                        <a:pt x="29" y="40"/>
                      </a:lnTo>
                      <a:lnTo>
                        <a:pt x="9" y="55"/>
                      </a:lnTo>
                      <a:lnTo>
                        <a:pt x="0" y="76"/>
                      </a:lnTo>
                      <a:lnTo>
                        <a:pt x="2" y="111"/>
                      </a:lnTo>
                      <a:lnTo>
                        <a:pt x="22" y="132"/>
                      </a:lnTo>
                      <a:lnTo>
                        <a:pt x="62" y="131"/>
                      </a:lnTo>
                      <a:lnTo>
                        <a:pt x="92" y="126"/>
                      </a:lnTo>
                      <a:lnTo>
                        <a:pt x="131" y="129"/>
                      </a:lnTo>
                      <a:lnTo>
                        <a:pt x="174" y="143"/>
                      </a:lnTo>
                      <a:lnTo>
                        <a:pt x="217" y="164"/>
                      </a:lnTo>
                      <a:lnTo>
                        <a:pt x="256" y="201"/>
                      </a:lnTo>
                      <a:lnTo>
                        <a:pt x="279" y="236"/>
                      </a:lnTo>
                      <a:lnTo>
                        <a:pt x="291" y="271"/>
                      </a:lnTo>
                      <a:lnTo>
                        <a:pt x="296" y="287"/>
                      </a:lnTo>
                      <a:lnTo>
                        <a:pt x="313" y="302"/>
                      </a:lnTo>
                      <a:lnTo>
                        <a:pt x="328" y="302"/>
                      </a:lnTo>
                      <a:lnTo>
                        <a:pt x="344" y="295"/>
                      </a:lnTo>
                      <a:lnTo>
                        <a:pt x="356" y="287"/>
                      </a:lnTo>
                      <a:lnTo>
                        <a:pt x="381" y="275"/>
                      </a:lnTo>
                      <a:lnTo>
                        <a:pt x="415" y="245"/>
                      </a:lnTo>
                      <a:lnTo>
                        <a:pt x="448" y="214"/>
                      </a:lnTo>
                      <a:lnTo>
                        <a:pt x="475" y="179"/>
                      </a:lnTo>
                      <a:lnTo>
                        <a:pt x="493" y="156"/>
                      </a:lnTo>
                      <a:lnTo>
                        <a:pt x="513" y="122"/>
                      </a:lnTo>
                      <a:lnTo>
                        <a:pt x="518" y="104"/>
                      </a:lnTo>
                      <a:lnTo>
                        <a:pt x="530" y="93"/>
                      </a:lnTo>
                      <a:lnTo>
                        <a:pt x="550" y="92"/>
                      </a:lnTo>
                      <a:lnTo>
                        <a:pt x="568" y="101"/>
                      </a:lnTo>
                      <a:lnTo>
                        <a:pt x="588" y="107"/>
                      </a:lnTo>
                      <a:lnTo>
                        <a:pt x="605" y="101"/>
                      </a:lnTo>
                      <a:lnTo>
                        <a:pt x="608" y="86"/>
                      </a:lnTo>
                      <a:lnTo>
                        <a:pt x="597" y="75"/>
                      </a:lnTo>
                      <a:lnTo>
                        <a:pt x="577" y="70"/>
                      </a:lnTo>
                      <a:lnTo>
                        <a:pt x="557" y="69"/>
                      </a:lnTo>
                      <a:lnTo>
                        <a:pt x="548" y="66"/>
                      </a:lnTo>
                      <a:lnTo>
                        <a:pt x="550" y="58"/>
                      </a:lnTo>
                      <a:lnTo>
                        <a:pt x="570" y="46"/>
                      </a:lnTo>
                      <a:lnTo>
                        <a:pt x="587" y="39"/>
                      </a:lnTo>
                      <a:lnTo>
                        <a:pt x="595" y="22"/>
                      </a:lnTo>
                      <a:lnTo>
                        <a:pt x="600" y="12"/>
                      </a:lnTo>
                      <a:lnTo>
                        <a:pt x="590" y="0"/>
                      </a:lnTo>
                      <a:lnTo>
                        <a:pt x="573" y="0"/>
                      </a:lnTo>
                      <a:lnTo>
                        <a:pt x="557" y="18"/>
                      </a:lnTo>
                      <a:lnTo>
                        <a:pt x="542" y="40"/>
                      </a:lnTo>
                      <a:lnTo>
                        <a:pt x="528" y="51"/>
                      </a:lnTo>
                      <a:lnTo>
                        <a:pt x="513" y="48"/>
                      </a:lnTo>
                      <a:lnTo>
                        <a:pt x="495" y="27"/>
                      </a:lnTo>
                      <a:lnTo>
                        <a:pt x="483" y="15"/>
                      </a:lnTo>
                      <a:lnTo>
                        <a:pt x="463" y="19"/>
                      </a:lnTo>
                      <a:lnTo>
                        <a:pt x="451" y="36"/>
                      </a:lnTo>
                      <a:lnTo>
                        <a:pt x="456" y="49"/>
                      </a:lnTo>
                      <a:lnTo>
                        <a:pt x="473" y="60"/>
                      </a:lnTo>
                      <a:lnTo>
                        <a:pt x="491" y="70"/>
                      </a:lnTo>
                      <a:lnTo>
                        <a:pt x="501" y="81"/>
                      </a:lnTo>
                      <a:lnTo>
                        <a:pt x="495" y="101"/>
                      </a:lnTo>
                      <a:lnTo>
                        <a:pt x="470" y="134"/>
                      </a:lnTo>
                      <a:lnTo>
                        <a:pt x="441" y="162"/>
                      </a:lnTo>
                      <a:lnTo>
                        <a:pt x="405" y="189"/>
                      </a:lnTo>
                      <a:lnTo>
                        <a:pt x="373" y="208"/>
                      </a:lnTo>
                      <a:lnTo>
                        <a:pt x="349" y="217"/>
                      </a:lnTo>
                      <a:lnTo>
                        <a:pt x="331" y="209"/>
                      </a:lnTo>
                      <a:lnTo>
                        <a:pt x="306" y="170"/>
                      </a:lnTo>
                      <a:lnTo>
                        <a:pt x="274" y="137"/>
                      </a:lnTo>
                      <a:lnTo>
                        <a:pt x="236" y="107"/>
                      </a:lnTo>
                      <a:lnTo>
                        <a:pt x="191" y="84"/>
                      </a:lnTo>
                      <a:lnTo>
                        <a:pt x="146" y="63"/>
                      </a:lnTo>
                      <a:lnTo>
                        <a:pt x="100" y="46"/>
                      </a:lnTo>
                      <a:lnTo>
                        <a:pt x="69" y="43"/>
                      </a:lnTo>
                      <a:lnTo>
                        <a:pt x="5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735800" y="3480120"/>
                  <a:ext cx="175680" cy="334440"/>
                </a:xfrm>
                <a:custGeom>
                  <a:avLst/>
                  <a:gdLst/>
                  <a:ahLst/>
                  <a:rect l="l" t="t" r="r" b="b"/>
                  <a:pathLst>
                    <a:path w="263" h="488">
                      <a:moveTo>
                        <a:pt x="52" y="14"/>
                      </a:moveTo>
                      <a:lnTo>
                        <a:pt x="86" y="0"/>
                      </a:lnTo>
                      <a:lnTo>
                        <a:pt x="129" y="3"/>
                      </a:lnTo>
                      <a:lnTo>
                        <a:pt x="173" y="21"/>
                      </a:lnTo>
                      <a:lnTo>
                        <a:pt x="203" y="44"/>
                      </a:lnTo>
                      <a:lnTo>
                        <a:pt x="224" y="74"/>
                      </a:lnTo>
                      <a:lnTo>
                        <a:pt x="239" y="109"/>
                      </a:lnTo>
                      <a:lnTo>
                        <a:pt x="251" y="146"/>
                      </a:lnTo>
                      <a:lnTo>
                        <a:pt x="259" y="193"/>
                      </a:lnTo>
                      <a:lnTo>
                        <a:pt x="263" y="243"/>
                      </a:lnTo>
                      <a:lnTo>
                        <a:pt x="263" y="280"/>
                      </a:lnTo>
                      <a:lnTo>
                        <a:pt x="259" y="333"/>
                      </a:lnTo>
                      <a:lnTo>
                        <a:pt x="253" y="374"/>
                      </a:lnTo>
                      <a:lnTo>
                        <a:pt x="239" y="408"/>
                      </a:lnTo>
                      <a:lnTo>
                        <a:pt x="218" y="437"/>
                      </a:lnTo>
                      <a:lnTo>
                        <a:pt x="194" y="461"/>
                      </a:lnTo>
                      <a:lnTo>
                        <a:pt x="164" y="479"/>
                      </a:lnTo>
                      <a:lnTo>
                        <a:pt x="131" y="488"/>
                      </a:lnTo>
                      <a:lnTo>
                        <a:pt x="94" y="488"/>
                      </a:lnTo>
                      <a:lnTo>
                        <a:pt x="62" y="479"/>
                      </a:lnTo>
                      <a:lnTo>
                        <a:pt x="41" y="467"/>
                      </a:lnTo>
                      <a:lnTo>
                        <a:pt x="19" y="451"/>
                      </a:lnTo>
                      <a:lnTo>
                        <a:pt x="4" y="425"/>
                      </a:lnTo>
                      <a:lnTo>
                        <a:pt x="0" y="395"/>
                      </a:lnTo>
                      <a:lnTo>
                        <a:pt x="2" y="366"/>
                      </a:lnTo>
                      <a:lnTo>
                        <a:pt x="9" y="336"/>
                      </a:lnTo>
                      <a:lnTo>
                        <a:pt x="17" y="310"/>
                      </a:lnTo>
                      <a:lnTo>
                        <a:pt x="31" y="289"/>
                      </a:lnTo>
                      <a:lnTo>
                        <a:pt x="37" y="270"/>
                      </a:lnTo>
                      <a:lnTo>
                        <a:pt x="41" y="244"/>
                      </a:lnTo>
                      <a:lnTo>
                        <a:pt x="39" y="226"/>
                      </a:lnTo>
                      <a:lnTo>
                        <a:pt x="34" y="202"/>
                      </a:lnTo>
                      <a:lnTo>
                        <a:pt x="29" y="178"/>
                      </a:lnTo>
                      <a:lnTo>
                        <a:pt x="17" y="145"/>
                      </a:lnTo>
                      <a:lnTo>
                        <a:pt x="10" y="116"/>
                      </a:lnTo>
                      <a:lnTo>
                        <a:pt x="5" y="85"/>
                      </a:lnTo>
                      <a:lnTo>
                        <a:pt x="12" y="60"/>
                      </a:lnTo>
                      <a:lnTo>
                        <a:pt x="24" y="39"/>
                      </a:lnTo>
                      <a:lnTo>
                        <a:pt x="34" y="27"/>
                      </a:lnTo>
                      <a:lnTo>
                        <a:pt x="5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4449240" y="3503520"/>
                  <a:ext cx="352440" cy="250920"/>
                </a:xfrm>
                <a:custGeom>
                  <a:avLst/>
                  <a:gdLst/>
                  <a:ahLst/>
                  <a:rect l="l" t="t" r="r" b="b"/>
                  <a:pathLst>
                    <a:path w="525" h="366">
                      <a:moveTo>
                        <a:pt x="381" y="92"/>
                      </a:moveTo>
                      <a:lnTo>
                        <a:pt x="411" y="61"/>
                      </a:lnTo>
                      <a:lnTo>
                        <a:pt x="445" y="20"/>
                      </a:lnTo>
                      <a:lnTo>
                        <a:pt x="468" y="0"/>
                      </a:lnTo>
                      <a:lnTo>
                        <a:pt x="475" y="2"/>
                      </a:lnTo>
                      <a:lnTo>
                        <a:pt x="498" y="2"/>
                      </a:lnTo>
                      <a:lnTo>
                        <a:pt x="525" y="29"/>
                      </a:lnTo>
                      <a:lnTo>
                        <a:pt x="512" y="77"/>
                      </a:lnTo>
                      <a:lnTo>
                        <a:pt x="485" y="124"/>
                      </a:lnTo>
                      <a:lnTo>
                        <a:pt x="386" y="169"/>
                      </a:lnTo>
                      <a:lnTo>
                        <a:pt x="296" y="202"/>
                      </a:lnTo>
                      <a:lnTo>
                        <a:pt x="288" y="204"/>
                      </a:lnTo>
                      <a:lnTo>
                        <a:pt x="216" y="243"/>
                      </a:lnTo>
                      <a:lnTo>
                        <a:pt x="146" y="290"/>
                      </a:lnTo>
                      <a:lnTo>
                        <a:pt x="81" y="339"/>
                      </a:lnTo>
                      <a:lnTo>
                        <a:pt x="52" y="360"/>
                      </a:lnTo>
                      <a:lnTo>
                        <a:pt x="29" y="363"/>
                      </a:lnTo>
                      <a:lnTo>
                        <a:pt x="22" y="366"/>
                      </a:lnTo>
                      <a:lnTo>
                        <a:pt x="5" y="348"/>
                      </a:lnTo>
                      <a:lnTo>
                        <a:pt x="0" y="318"/>
                      </a:lnTo>
                      <a:lnTo>
                        <a:pt x="25" y="290"/>
                      </a:lnTo>
                      <a:lnTo>
                        <a:pt x="51" y="268"/>
                      </a:lnTo>
                      <a:lnTo>
                        <a:pt x="86" y="271"/>
                      </a:lnTo>
                      <a:lnTo>
                        <a:pt x="142" y="253"/>
                      </a:lnTo>
                      <a:lnTo>
                        <a:pt x="223" y="204"/>
                      </a:lnTo>
                      <a:lnTo>
                        <a:pt x="301" y="155"/>
                      </a:lnTo>
                      <a:lnTo>
                        <a:pt x="350" y="121"/>
                      </a:lnTo>
                      <a:lnTo>
                        <a:pt x="38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4644360" y="3746160"/>
                  <a:ext cx="154440" cy="401760"/>
                </a:xfrm>
                <a:custGeom>
                  <a:avLst/>
                  <a:gdLst/>
                  <a:ahLst/>
                  <a:rect l="l" t="t" r="r" b="b"/>
                  <a:pathLst>
                    <a:path w="231" h="586">
                      <a:moveTo>
                        <a:pt x="130" y="126"/>
                      </a:moveTo>
                      <a:lnTo>
                        <a:pt x="137" y="49"/>
                      </a:lnTo>
                      <a:lnTo>
                        <a:pt x="159" y="0"/>
                      </a:lnTo>
                      <a:lnTo>
                        <a:pt x="204" y="3"/>
                      </a:lnTo>
                      <a:lnTo>
                        <a:pt x="229" y="36"/>
                      </a:lnTo>
                      <a:lnTo>
                        <a:pt x="229" y="42"/>
                      </a:lnTo>
                      <a:lnTo>
                        <a:pt x="231" y="81"/>
                      </a:lnTo>
                      <a:lnTo>
                        <a:pt x="197" y="156"/>
                      </a:lnTo>
                      <a:lnTo>
                        <a:pt x="177" y="227"/>
                      </a:lnTo>
                      <a:lnTo>
                        <a:pt x="172" y="281"/>
                      </a:lnTo>
                      <a:lnTo>
                        <a:pt x="184" y="318"/>
                      </a:lnTo>
                      <a:lnTo>
                        <a:pt x="184" y="367"/>
                      </a:lnTo>
                      <a:lnTo>
                        <a:pt x="182" y="373"/>
                      </a:lnTo>
                      <a:lnTo>
                        <a:pt x="172" y="411"/>
                      </a:lnTo>
                      <a:lnTo>
                        <a:pt x="171" y="450"/>
                      </a:lnTo>
                      <a:lnTo>
                        <a:pt x="179" y="476"/>
                      </a:lnTo>
                      <a:lnTo>
                        <a:pt x="179" y="494"/>
                      </a:lnTo>
                      <a:lnTo>
                        <a:pt x="156" y="515"/>
                      </a:lnTo>
                      <a:lnTo>
                        <a:pt x="129" y="524"/>
                      </a:lnTo>
                      <a:lnTo>
                        <a:pt x="97" y="539"/>
                      </a:lnTo>
                      <a:lnTo>
                        <a:pt x="65" y="563"/>
                      </a:lnTo>
                      <a:lnTo>
                        <a:pt x="45" y="578"/>
                      </a:lnTo>
                      <a:lnTo>
                        <a:pt x="44" y="586"/>
                      </a:lnTo>
                      <a:lnTo>
                        <a:pt x="30" y="586"/>
                      </a:lnTo>
                      <a:lnTo>
                        <a:pt x="7" y="571"/>
                      </a:lnTo>
                      <a:lnTo>
                        <a:pt x="0" y="534"/>
                      </a:lnTo>
                      <a:lnTo>
                        <a:pt x="7" y="512"/>
                      </a:lnTo>
                      <a:lnTo>
                        <a:pt x="32" y="500"/>
                      </a:lnTo>
                      <a:lnTo>
                        <a:pt x="70" y="486"/>
                      </a:lnTo>
                      <a:lnTo>
                        <a:pt x="119" y="462"/>
                      </a:lnTo>
                      <a:lnTo>
                        <a:pt x="132" y="446"/>
                      </a:lnTo>
                      <a:lnTo>
                        <a:pt x="139" y="403"/>
                      </a:lnTo>
                      <a:lnTo>
                        <a:pt x="137" y="343"/>
                      </a:lnTo>
                      <a:lnTo>
                        <a:pt x="129" y="293"/>
                      </a:lnTo>
                      <a:lnTo>
                        <a:pt x="122" y="256"/>
                      </a:lnTo>
                      <a:lnTo>
                        <a:pt x="124" y="214"/>
                      </a:lnTo>
                      <a:lnTo>
                        <a:pt x="125" y="171"/>
                      </a:lnTo>
                      <a:lnTo>
                        <a:pt x="125" y="149"/>
                      </a:lnTo>
                      <a:lnTo>
                        <a:pt x="13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4812120" y="3754440"/>
                  <a:ext cx="101880" cy="401760"/>
                </a:xfrm>
                <a:custGeom>
                  <a:avLst/>
                  <a:gdLst/>
                  <a:ahLst/>
                  <a:rect l="l" t="t" r="r" b="b"/>
                  <a:pathLst>
                    <a:path w="154" h="586">
                      <a:moveTo>
                        <a:pt x="3" y="73"/>
                      </a:moveTo>
                      <a:lnTo>
                        <a:pt x="0" y="41"/>
                      </a:lnTo>
                      <a:lnTo>
                        <a:pt x="7" y="18"/>
                      </a:lnTo>
                      <a:lnTo>
                        <a:pt x="33" y="2"/>
                      </a:lnTo>
                      <a:lnTo>
                        <a:pt x="60" y="0"/>
                      </a:lnTo>
                      <a:lnTo>
                        <a:pt x="80" y="14"/>
                      </a:lnTo>
                      <a:lnTo>
                        <a:pt x="92" y="32"/>
                      </a:lnTo>
                      <a:lnTo>
                        <a:pt x="105" y="106"/>
                      </a:lnTo>
                      <a:lnTo>
                        <a:pt x="117" y="193"/>
                      </a:lnTo>
                      <a:lnTo>
                        <a:pt x="125" y="252"/>
                      </a:lnTo>
                      <a:lnTo>
                        <a:pt x="120" y="306"/>
                      </a:lnTo>
                      <a:lnTo>
                        <a:pt x="110" y="360"/>
                      </a:lnTo>
                      <a:lnTo>
                        <a:pt x="99" y="424"/>
                      </a:lnTo>
                      <a:lnTo>
                        <a:pt x="92" y="463"/>
                      </a:lnTo>
                      <a:lnTo>
                        <a:pt x="99" y="484"/>
                      </a:lnTo>
                      <a:lnTo>
                        <a:pt x="120" y="509"/>
                      </a:lnTo>
                      <a:lnTo>
                        <a:pt x="152" y="541"/>
                      </a:lnTo>
                      <a:lnTo>
                        <a:pt x="154" y="556"/>
                      </a:lnTo>
                      <a:lnTo>
                        <a:pt x="144" y="570"/>
                      </a:lnTo>
                      <a:lnTo>
                        <a:pt x="117" y="577"/>
                      </a:lnTo>
                      <a:lnTo>
                        <a:pt x="84" y="586"/>
                      </a:lnTo>
                      <a:lnTo>
                        <a:pt x="60" y="576"/>
                      </a:lnTo>
                      <a:lnTo>
                        <a:pt x="57" y="552"/>
                      </a:lnTo>
                      <a:lnTo>
                        <a:pt x="60" y="518"/>
                      </a:lnTo>
                      <a:lnTo>
                        <a:pt x="60" y="493"/>
                      </a:lnTo>
                      <a:lnTo>
                        <a:pt x="45" y="475"/>
                      </a:lnTo>
                      <a:lnTo>
                        <a:pt x="45" y="458"/>
                      </a:lnTo>
                      <a:lnTo>
                        <a:pt x="59" y="431"/>
                      </a:lnTo>
                      <a:lnTo>
                        <a:pt x="60" y="410"/>
                      </a:lnTo>
                      <a:lnTo>
                        <a:pt x="64" y="330"/>
                      </a:lnTo>
                      <a:lnTo>
                        <a:pt x="65" y="271"/>
                      </a:lnTo>
                      <a:lnTo>
                        <a:pt x="57" y="225"/>
                      </a:lnTo>
                      <a:lnTo>
                        <a:pt x="45" y="177"/>
                      </a:lnTo>
                      <a:lnTo>
                        <a:pt x="17" y="115"/>
                      </a:lnTo>
                      <a:lnTo>
                        <a:pt x="3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3" name=""/>
              <p:cNvGrpSpPr/>
              <p:nvPr/>
            </p:nvGrpSpPr>
            <p:grpSpPr>
              <a:xfrm>
                <a:off x="3581280" y="3142080"/>
                <a:ext cx="695880" cy="922320"/>
                <a:chOff x="3581280" y="3142080"/>
                <a:chExt cx="695880" cy="922320"/>
              </a:xfrm>
            </p:grpSpPr>
            <p:sp>
              <p:nvSpPr>
                <p:cNvPr id="1864" name=""/>
                <p:cNvSpPr/>
                <p:nvPr/>
              </p:nvSpPr>
              <p:spPr>
                <a:xfrm>
                  <a:off x="3590640" y="3198240"/>
                  <a:ext cx="599040" cy="856800"/>
                </a:xfrm>
                <a:custGeom>
                  <a:avLst/>
                  <a:gdLst/>
                  <a:ahLst/>
                  <a:rect l="l" t="t" r="r" b="b"/>
                  <a:pathLst>
                    <a:path w="893" h="1250">
                      <a:moveTo>
                        <a:pt x="769" y="0"/>
                      </a:moveTo>
                      <a:lnTo>
                        <a:pt x="789" y="63"/>
                      </a:lnTo>
                      <a:lnTo>
                        <a:pt x="806" y="85"/>
                      </a:lnTo>
                      <a:lnTo>
                        <a:pt x="809" y="146"/>
                      </a:lnTo>
                      <a:lnTo>
                        <a:pt x="809" y="225"/>
                      </a:lnTo>
                      <a:lnTo>
                        <a:pt x="851" y="287"/>
                      </a:lnTo>
                      <a:lnTo>
                        <a:pt x="877" y="317"/>
                      </a:lnTo>
                      <a:lnTo>
                        <a:pt x="893" y="391"/>
                      </a:lnTo>
                      <a:lnTo>
                        <a:pt x="826" y="469"/>
                      </a:lnTo>
                      <a:lnTo>
                        <a:pt x="794" y="560"/>
                      </a:lnTo>
                      <a:lnTo>
                        <a:pt x="789" y="597"/>
                      </a:lnTo>
                      <a:lnTo>
                        <a:pt x="782" y="667"/>
                      </a:lnTo>
                      <a:lnTo>
                        <a:pt x="761" y="757"/>
                      </a:lnTo>
                      <a:lnTo>
                        <a:pt x="749" y="807"/>
                      </a:lnTo>
                      <a:lnTo>
                        <a:pt x="735" y="844"/>
                      </a:lnTo>
                      <a:lnTo>
                        <a:pt x="724" y="936"/>
                      </a:lnTo>
                      <a:lnTo>
                        <a:pt x="715" y="983"/>
                      </a:lnTo>
                      <a:lnTo>
                        <a:pt x="704" y="1024"/>
                      </a:lnTo>
                      <a:lnTo>
                        <a:pt x="689" y="1094"/>
                      </a:lnTo>
                      <a:lnTo>
                        <a:pt x="669" y="1147"/>
                      </a:lnTo>
                      <a:lnTo>
                        <a:pt x="617" y="1227"/>
                      </a:lnTo>
                      <a:lnTo>
                        <a:pt x="580" y="1212"/>
                      </a:lnTo>
                      <a:lnTo>
                        <a:pt x="548" y="1207"/>
                      </a:lnTo>
                      <a:lnTo>
                        <a:pt x="520" y="1225"/>
                      </a:lnTo>
                      <a:lnTo>
                        <a:pt x="487" y="1250"/>
                      </a:lnTo>
                      <a:lnTo>
                        <a:pt x="450" y="1250"/>
                      </a:lnTo>
                      <a:lnTo>
                        <a:pt x="390" y="1213"/>
                      </a:lnTo>
                      <a:lnTo>
                        <a:pt x="340" y="1206"/>
                      </a:lnTo>
                      <a:lnTo>
                        <a:pt x="293" y="1183"/>
                      </a:lnTo>
                      <a:lnTo>
                        <a:pt x="266" y="1141"/>
                      </a:lnTo>
                      <a:lnTo>
                        <a:pt x="239" y="1131"/>
                      </a:lnTo>
                      <a:lnTo>
                        <a:pt x="199" y="1126"/>
                      </a:lnTo>
                      <a:lnTo>
                        <a:pt x="189" y="1076"/>
                      </a:lnTo>
                      <a:lnTo>
                        <a:pt x="174" y="1055"/>
                      </a:lnTo>
                      <a:lnTo>
                        <a:pt x="134" y="1049"/>
                      </a:lnTo>
                      <a:lnTo>
                        <a:pt x="97" y="1063"/>
                      </a:lnTo>
                      <a:lnTo>
                        <a:pt x="40" y="1102"/>
                      </a:lnTo>
                      <a:lnTo>
                        <a:pt x="7" y="1107"/>
                      </a:lnTo>
                      <a:lnTo>
                        <a:pt x="0" y="1084"/>
                      </a:lnTo>
                      <a:lnTo>
                        <a:pt x="10" y="1060"/>
                      </a:lnTo>
                      <a:lnTo>
                        <a:pt x="64" y="1010"/>
                      </a:lnTo>
                      <a:lnTo>
                        <a:pt x="117" y="977"/>
                      </a:lnTo>
                      <a:lnTo>
                        <a:pt x="176" y="945"/>
                      </a:lnTo>
                      <a:lnTo>
                        <a:pt x="208" y="924"/>
                      </a:lnTo>
                      <a:lnTo>
                        <a:pt x="241" y="861"/>
                      </a:lnTo>
                      <a:lnTo>
                        <a:pt x="279" y="792"/>
                      </a:lnTo>
                      <a:lnTo>
                        <a:pt x="326" y="760"/>
                      </a:lnTo>
                      <a:lnTo>
                        <a:pt x="383" y="686"/>
                      </a:lnTo>
                      <a:lnTo>
                        <a:pt x="443" y="614"/>
                      </a:lnTo>
                      <a:lnTo>
                        <a:pt x="487" y="545"/>
                      </a:lnTo>
                      <a:lnTo>
                        <a:pt x="502" y="480"/>
                      </a:lnTo>
                      <a:lnTo>
                        <a:pt x="520" y="396"/>
                      </a:lnTo>
                      <a:lnTo>
                        <a:pt x="542" y="338"/>
                      </a:lnTo>
                      <a:lnTo>
                        <a:pt x="597" y="268"/>
                      </a:lnTo>
                      <a:lnTo>
                        <a:pt x="655" y="179"/>
                      </a:lnTo>
                      <a:lnTo>
                        <a:pt x="694" y="114"/>
                      </a:lnTo>
                      <a:lnTo>
                        <a:pt x="730" y="58"/>
                      </a:lnTo>
                      <a:lnTo>
                        <a:pt x="747" y="24"/>
                      </a:lnTo>
                      <a:lnTo>
                        <a:pt x="76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4113360" y="3152880"/>
                  <a:ext cx="153000" cy="97200"/>
                </a:xfrm>
                <a:custGeom>
                  <a:avLst/>
                  <a:gdLst/>
                  <a:ahLst/>
                  <a:rect l="l" t="t" r="r" b="b"/>
                  <a:pathLst>
                    <a:path w="227" h="143">
                      <a:moveTo>
                        <a:pt x="32" y="142"/>
                      </a:moveTo>
                      <a:lnTo>
                        <a:pt x="7" y="115"/>
                      </a:lnTo>
                      <a:lnTo>
                        <a:pt x="0" y="77"/>
                      </a:lnTo>
                      <a:lnTo>
                        <a:pt x="13" y="38"/>
                      </a:lnTo>
                      <a:lnTo>
                        <a:pt x="38" y="9"/>
                      </a:lnTo>
                      <a:lnTo>
                        <a:pt x="75" y="43"/>
                      </a:lnTo>
                      <a:lnTo>
                        <a:pt x="102" y="26"/>
                      </a:lnTo>
                      <a:lnTo>
                        <a:pt x="120" y="0"/>
                      </a:lnTo>
                      <a:lnTo>
                        <a:pt x="147" y="14"/>
                      </a:lnTo>
                      <a:lnTo>
                        <a:pt x="154" y="15"/>
                      </a:lnTo>
                      <a:lnTo>
                        <a:pt x="162" y="44"/>
                      </a:lnTo>
                      <a:lnTo>
                        <a:pt x="185" y="52"/>
                      </a:lnTo>
                      <a:lnTo>
                        <a:pt x="227" y="46"/>
                      </a:lnTo>
                      <a:lnTo>
                        <a:pt x="220" y="89"/>
                      </a:lnTo>
                      <a:lnTo>
                        <a:pt x="187" y="119"/>
                      </a:lnTo>
                      <a:lnTo>
                        <a:pt x="144" y="143"/>
                      </a:lnTo>
                      <a:lnTo>
                        <a:pt x="129" y="130"/>
                      </a:lnTo>
                      <a:lnTo>
                        <a:pt x="108" y="124"/>
                      </a:lnTo>
                      <a:lnTo>
                        <a:pt x="98" y="140"/>
                      </a:lnTo>
                      <a:lnTo>
                        <a:pt x="82" y="142"/>
                      </a:lnTo>
                      <a:lnTo>
                        <a:pt x="68" y="134"/>
                      </a:lnTo>
                      <a:lnTo>
                        <a:pt x="52" y="142"/>
                      </a:lnTo>
                      <a:lnTo>
                        <a:pt x="32" y="1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3581280" y="3177360"/>
                  <a:ext cx="569520" cy="887040"/>
                </a:xfrm>
                <a:custGeom>
                  <a:avLst/>
                  <a:gdLst/>
                  <a:ahLst/>
                  <a:rect l="l" t="t" r="r" b="b"/>
                  <a:pathLst>
                    <a:path w="847" h="1294">
                      <a:moveTo>
                        <a:pt x="742" y="61"/>
                      </a:moveTo>
                      <a:lnTo>
                        <a:pt x="789" y="0"/>
                      </a:lnTo>
                      <a:lnTo>
                        <a:pt x="792" y="37"/>
                      </a:lnTo>
                      <a:lnTo>
                        <a:pt x="784" y="55"/>
                      </a:lnTo>
                      <a:lnTo>
                        <a:pt x="727" y="132"/>
                      </a:lnTo>
                      <a:lnTo>
                        <a:pt x="690" y="204"/>
                      </a:lnTo>
                      <a:lnTo>
                        <a:pt x="645" y="266"/>
                      </a:lnTo>
                      <a:lnTo>
                        <a:pt x="606" y="327"/>
                      </a:lnTo>
                      <a:lnTo>
                        <a:pt x="563" y="389"/>
                      </a:lnTo>
                      <a:lnTo>
                        <a:pt x="563" y="395"/>
                      </a:lnTo>
                      <a:lnTo>
                        <a:pt x="538" y="455"/>
                      </a:lnTo>
                      <a:lnTo>
                        <a:pt x="528" y="508"/>
                      </a:lnTo>
                      <a:lnTo>
                        <a:pt x="516" y="565"/>
                      </a:lnTo>
                      <a:lnTo>
                        <a:pt x="495" y="612"/>
                      </a:lnTo>
                      <a:lnTo>
                        <a:pt x="466" y="654"/>
                      </a:lnTo>
                      <a:lnTo>
                        <a:pt x="429" y="702"/>
                      </a:lnTo>
                      <a:lnTo>
                        <a:pt x="386" y="749"/>
                      </a:lnTo>
                      <a:lnTo>
                        <a:pt x="351" y="800"/>
                      </a:lnTo>
                      <a:lnTo>
                        <a:pt x="351" y="806"/>
                      </a:lnTo>
                      <a:lnTo>
                        <a:pt x="312" y="829"/>
                      </a:lnTo>
                      <a:lnTo>
                        <a:pt x="286" y="859"/>
                      </a:lnTo>
                      <a:lnTo>
                        <a:pt x="267" y="906"/>
                      </a:lnTo>
                      <a:lnTo>
                        <a:pt x="264" y="912"/>
                      </a:lnTo>
                      <a:lnTo>
                        <a:pt x="241" y="954"/>
                      </a:lnTo>
                      <a:lnTo>
                        <a:pt x="229" y="970"/>
                      </a:lnTo>
                      <a:lnTo>
                        <a:pt x="199" y="985"/>
                      </a:lnTo>
                      <a:lnTo>
                        <a:pt x="157" y="1003"/>
                      </a:lnTo>
                      <a:lnTo>
                        <a:pt x="110" y="1029"/>
                      </a:lnTo>
                      <a:lnTo>
                        <a:pt x="79" y="1055"/>
                      </a:lnTo>
                      <a:lnTo>
                        <a:pt x="74" y="1061"/>
                      </a:lnTo>
                      <a:lnTo>
                        <a:pt x="47" y="1083"/>
                      </a:lnTo>
                      <a:lnTo>
                        <a:pt x="32" y="1106"/>
                      </a:lnTo>
                      <a:lnTo>
                        <a:pt x="33" y="1115"/>
                      </a:lnTo>
                      <a:lnTo>
                        <a:pt x="55" y="1119"/>
                      </a:lnTo>
                      <a:lnTo>
                        <a:pt x="79" y="1106"/>
                      </a:lnTo>
                      <a:lnTo>
                        <a:pt x="120" y="1079"/>
                      </a:lnTo>
                      <a:lnTo>
                        <a:pt x="165" y="1067"/>
                      </a:lnTo>
                      <a:lnTo>
                        <a:pt x="195" y="1070"/>
                      </a:lnTo>
                      <a:lnTo>
                        <a:pt x="216" y="1085"/>
                      </a:lnTo>
                      <a:lnTo>
                        <a:pt x="224" y="1112"/>
                      </a:lnTo>
                      <a:lnTo>
                        <a:pt x="224" y="1134"/>
                      </a:lnTo>
                      <a:lnTo>
                        <a:pt x="236" y="1148"/>
                      </a:lnTo>
                      <a:lnTo>
                        <a:pt x="267" y="1153"/>
                      </a:lnTo>
                      <a:lnTo>
                        <a:pt x="294" y="1162"/>
                      </a:lnTo>
                      <a:lnTo>
                        <a:pt x="307" y="1178"/>
                      </a:lnTo>
                      <a:lnTo>
                        <a:pt x="316" y="1199"/>
                      </a:lnTo>
                      <a:lnTo>
                        <a:pt x="329" y="1213"/>
                      </a:lnTo>
                      <a:lnTo>
                        <a:pt x="359" y="1225"/>
                      </a:lnTo>
                      <a:lnTo>
                        <a:pt x="386" y="1229"/>
                      </a:lnTo>
                      <a:lnTo>
                        <a:pt x="413" y="1235"/>
                      </a:lnTo>
                      <a:lnTo>
                        <a:pt x="438" y="1247"/>
                      </a:lnTo>
                      <a:lnTo>
                        <a:pt x="451" y="1258"/>
                      </a:lnTo>
                      <a:lnTo>
                        <a:pt x="481" y="1270"/>
                      </a:lnTo>
                      <a:lnTo>
                        <a:pt x="510" y="1264"/>
                      </a:lnTo>
                      <a:lnTo>
                        <a:pt x="528" y="1250"/>
                      </a:lnTo>
                      <a:lnTo>
                        <a:pt x="546" y="1229"/>
                      </a:lnTo>
                      <a:lnTo>
                        <a:pt x="563" y="1223"/>
                      </a:lnTo>
                      <a:lnTo>
                        <a:pt x="596" y="1220"/>
                      </a:lnTo>
                      <a:lnTo>
                        <a:pt x="615" y="1231"/>
                      </a:lnTo>
                      <a:lnTo>
                        <a:pt x="628" y="1237"/>
                      </a:lnTo>
                      <a:lnTo>
                        <a:pt x="648" y="1213"/>
                      </a:lnTo>
                      <a:lnTo>
                        <a:pt x="673" y="1165"/>
                      </a:lnTo>
                      <a:lnTo>
                        <a:pt x="690" y="1125"/>
                      </a:lnTo>
                      <a:lnTo>
                        <a:pt x="698" y="1088"/>
                      </a:lnTo>
                      <a:lnTo>
                        <a:pt x="705" y="1049"/>
                      </a:lnTo>
                      <a:lnTo>
                        <a:pt x="713" y="1017"/>
                      </a:lnTo>
                      <a:lnTo>
                        <a:pt x="725" y="982"/>
                      </a:lnTo>
                      <a:lnTo>
                        <a:pt x="730" y="927"/>
                      </a:lnTo>
                      <a:lnTo>
                        <a:pt x="745" y="853"/>
                      </a:lnTo>
                      <a:lnTo>
                        <a:pt x="764" y="806"/>
                      </a:lnTo>
                      <a:lnTo>
                        <a:pt x="770" y="772"/>
                      </a:lnTo>
                      <a:lnTo>
                        <a:pt x="779" y="723"/>
                      </a:lnTo>
                      <a:lnTo>
                        <a:pt x="790" y="662"/>
                      </a:lnTo>
                      <a:lnTo>
                        <a:pt x="792" y="615"/>
                      </a:lnTo>
                      <a:lnTo>
                        <a:pt x="804" y="568"/>
                      </a:lnTo>
                      <a:lnTo>
                        <a:pt x="814" y="541"/>
                      </a:lnTo>
                      <a:lnTo>
                        <a:pt x="824" y="500"/>
                      </a:lnTo>
                      <a:lnTo>
                        <a:pt x="847" y="470"/>
                      </a:lnTo>
                      <a:lnTo>
                        <a:pt x="844" y="514"/>
                      </a:lnTo>
                      <a:lnTo>
                        <a:pt x="817" y="612"/>
                      </a:lnTo>
                      <a:lnTo>
                        <a:pt x="809" y="674"/>
                      </a:lnTo>
                      <a:lnTo>
                        <a:pt x="792" y="750"/>
                      </a:lnTo>
                      <a:lnTo>
                        <a:pt x="777" y="824"/>
                      </a:lnTo>
                      <a:lnTo>
                        <a:pt x="758" y="868"/>
                      </a:lnTo>
                      <a:lnTo>
                        <a:pt x="755" y="930"/>
                      </a:lnTo>
                      <a:lnTo>
                        <a:pt x="748" y="976"/>
                      </a:lnTo>
                      <a:lnTo>
                        <a:pt x="743" y="1006"/>
                      </a:lnTo>
                      <a:lnTo>
                        <a:pt x="732" y="1038"/>
                      </a:lnTo>
                      <a:lnTo>
                        <a:pt x="727" y="1073"/>
                      </a:lnTo>
                      <a:lnTo>
                        <a:pt x="717" y="1125"/>
                      </a:lnTo>
                      <a:lnTo>
                        <a:pt x="700" y="1171"/>
                      </a:lnTo>
                      <a:lnTo>
                        <a:pt x="687" y="1202"/>
                      </a:lnTo>
                      <a:lnTo>
                        <a:pt x="665" y="1238"/>
                      </a:lnTo>
                      <a:lnTo>
                        <a:pt x="645" y="1272"/>
                      </a:lnTo>
                      <a:lnTo>
                        <a:pt x="621" y="1273"/>
                      </a:lnTo>
                      <a:lnTo>
                        <a:pt x="600" y="1261"/>
                      </a:lnTo>
                      <a:lnTo>
                        <a:pt x="573" y="1249"/>
                      </a:lnTo>
                      <a:lnTo>
                        <a:pt x="553" y="1259"/>
                      </a:lnTo>
                      <a:lnTo>
                        <a:pt x="525" y="1284"/>
                      </a:lnTo>
                      <a:lnTo>
                        <a:pt x="498" y="1294"/>
                      </a:lnTo>
                      <a:lnTo>
                        <a:pt x="466" y="1294"/>
                      </a:lnTo>
                      <a:lnTo>
                        <a:pt x="444" y="1282"/>
                      </a:lnTo>
                      <a:lnTo>
                        <a:pt x="423" y="1267"/>
                      </a:lnTo>
                      <a:lnTo>
                        <a:pt x="393" y="1255"/>
                      </a:lnTo>
                      <a:lnTo>
                        <a:pt x="368" y="1253"/>
                      </a:lnTo>
                      <a:lnTo>
                        <a:pt x="361" y="1253"/>
                      </a:lnTo>
                      <a:lnTo>
                        <a:pt x="336" y="1243"/>
                      </a:lnTo>
                      <a:lnTo>
                        <a:pt x="314" y="1232"/>
                      </a:lnTo>
                      <a:lnTo>
                        <a:pt x="296" y="1219"/>
                      </a:lnTo>
                      <a:lnTo>
                        <a:pt x="281" y="1196"/>
                      </a:lnTo>
                      <a:lnTo>
                        <a:pt x="271" y="1180"/>
                      </a:lnTo>
                      <a:lnTo>
                        <a:pt x="254" y="1172"/>
                      </a:lnTo>
                      <a:lnTo>
                        <a:pt x="224" y="1172"/>
                      </a:lnTo>
                      <a:lnTo>
                        <a:pt x="204" y="1165"/>
                      </a:lnTo>
                      <a:lnTo>
                        <a:pt x="197" y="1147"/>
                      </a:lnTo>
                      <a:lnTo>
                        <a:pt x="192" y="1119"/>
                      </a:lnTo>
                      <a:lnTo>
                        <a:pt x="189" y="1103"/>
                      </a:lnTo>
                      <a:lnTo>
                        <a:pt x="175" y="1095"/>
                      </a:lnTo>
                      <a:lnTo>
                        <a:pt x="145" y="1094"/>
                      </a:lnTo>
                      <a:lnTo>
                        <a:pt x="105" y="1112"/>
                      </a:lnTo>
                      <a:lnTo>
                        <a:pt x="65" y="1141"/>
                      </a:lnTo>
                      <a:lnTo>
                        <a:pt x="33" y="1150"/>
                      </a:lnTo>
                      <a:lnTo>
                        <a:pt x="25" y="1153"/>
                      </a:lnTo>
                      <a:lnTo>
                        <a:pt x="7" y="1142"/>
                      </a:lnTo>
                      <a:lnTo>
                        <a:pt x="0" y="1124"/>
                      </a:lnTo>
                      <a:lnTo>
                        <a:pt x="3" y="1095"/>
                      </a:lnTo>
                      <a:lnTo>
                        <a:pt x="20" y="1076"/>
                      </a:lnTo>
                      <a:lnTo>
                        <a:pt x="55" y="1044"/>
                      </a:lnTo>
                      <a:lnTo>
                        <a:pt x="97" y="1017"/>
                      </a:lnTo>
                      <a:lnTo>
                        <a:pt x="139" y="988"/>
                      </a:lnTo>
                      <a:lnTo>
                        <a:pt x="189" y="964"/>
                      </a:lnTo>
                      <a:lnTo>
                        <a:pt x="209" y="946"/>
                      </a:lnTo>
                      <a:lnTo>
                        <a:pt x="234" y="912"/>
                      </a:lnTo>
                      <a:lnTo>
                        <a:pt x="256" y="868"/>
                      </a:lnTo>
                      <a:lnTo>
                        <a:pt x="271" y="836"/>
                      </a:lnTo>
                      <a:lnTo>
                        <a:pt x="282" y="818"/>
                      </a:lnTo>
                      <a:lnTo>
                        <a:pt x="312" y="794"/>
                      </a:lnTo>
                      <a:lnTo>
                        <a:pt x="334" y="779"/>
                      </a:lnTo>
                      <a:lnTo>
                        <a:pt x="364" y="738"/>
                      </a:lnTo>
                      <a:lnTo>
                        <a:pt x="391" y="707"/>
                      </a:lnTo>
                      <a:lnTo>
                        <a:pt x="429" y="660"/>
                      </a:lnTo>
                      <a:lnTo>
                        <a:pt x="456" y="624"/>
                      </a:lnTo>
                      <a:lnTo>
                        <a:pt x="484" y="573"/>
                      </a:lnTo>
                      <a:lnTo>
                        <a:pt x="503" y="526"/>
                      </a:lnTo>
                      <a:lnTo>
                        <a:pt x="515" y="460"/>
                      </a:lnTo>
                      <a:lnTo>
                        <a:pt x="525" y="424"/>
                      </a:lnTo>
                      <a:lnTo>
                        <a:pt x="550" y="359"/>
                      </a:lnTo>
                      <a:lnTo>
                        <a:pt x="588" y="303"/>
                      </a:lnTo>
                      <a:lnTo>
                        <a:pt x="638" y="232"/>
                      </a:lnTo>
                      <a:lnTo>
                        <a:pt x="678" y="174"/>
                      </a:lnTo>
                      <a:lnTo>
                        <a:pt x="707" y="118"/>
                      </a:lnTo>
                      <a:lnTo>
                        <a:pt x="738" y="73"/>
                      </a:lnTo>
                      <a:lnTo>
                        <a:pt x="742" y="6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4104000" y="3142080"/>
                  <a:ext cx="173160" cy="118800"/>
                </a:xfrm>
                <a:custGeom>
                  <a:avLst/>
                  <a:gdLst/>
                  <a:ahLst/>
                  <a:rect l="l" t="t" r="r" b="b"/>
                  <a:pathLst>
                    <a:path w="257" h="173">
                      <a:moveTo>
                        <a:pt x="197" y="155"/>
                      </a:moveTo>
                      <a:lnTo>
                        <a:pt x="228" y="133"/>
                      </a:lnTo>
                      <a:lnTo>
                        <a:pt x="250" y="106"/>
                      </a:lnTo>
                      <a:lnTo>
                        <a:pt x="257" y="76"/>
                      </a:lnTo>
                      <a:lnTo>
                        <a:pt x="253" y="51"/>
                      </a:lnTo>
                      <a:lnTo>
                        <a:pt x="237" y="36"/>
                      </a:lnTo>
                      <a:lnTo>
                        <a:pt x="217" y="41"/>
                      </a:lnTo>
                      <a:lnTo>
                        <a:pt x="197" y="53"/>
                      </a:lnTo>
                      <a:lnTo>
                        <a:pt x="182" y="41"/>
                      </a:lnTo>
                      <a:lnTo>
                        <a:pt x="177" y="17"/>
                      </a:lnTo>
                      <a:lnTo>
                        <a:pt x="157" y="8"/>
                      </a:lnTo>
                      <a:lnTo>
                        <a:pt x="130" y="0"/>
                      </a:lnTo>
                      <a:lnTo>
                        <a:pt x="115" y="9"/>
                      </a:lnTo>
                      <a:lnTo>
                        <a:pt x="110" y="17"/>
                      </a:lnTo>
                      <a:lnTo>
                        <a:pt x="108" y="32"/>
                      </a:lnTo>
                      <a:lnTo>
                        <a:pt x="91" y="38"/>
                      </a:lnTo>
                      <a:lnTo>
                        <a:pt x="76" y="24"/>
                      </a:lnTo>
                      <a:lnTo>
                        <a:pt x="60" y="9"/>
                      </a:lnTo>
                      <a:lnTo>
                        <a:pt x="53" y="8"/>
                      </a:lnTo>
                      <a:lnTo>
                        <a:pt x="36" y="17"/>
                      </a:lnTo>
                      <a:lnTo>
                        <a:pt x="30" y="18"/>
                      </a:lnTo>
                      <a:lnTo>
                        <a:pt x="16" y="30"/>
                      </a:lnTo>
                      <a:lnTo>
                        <a:pt x="5" y="44"/>
                      </a:lnTo>
                      <a:lnTo>
                        <a:pt x="3" y="67"/>
                      </a:lnTo>
                      <a:lnTo>
                        <a:pt x="0" y="73"/>
                      </a:lnTo>
                      <a:lnTo>
                        <a:pt x="0" y="88"/>
                      </a:lnTo>
                      <a:lnTo>
                        <a:pt x="0" y="94"/>
                      </a:lnTo>
                      <a:lnTo>
                        <a:pt x="5" y="121"/>
                      </a:lnTo>
                      <a:lnTo>
                        <a:pt x="11" y="145"/>
                      </a:lnTo>
                      <a:lnTo>
                        <a:pt x="25" y="163"/>
                      </a:lnTo>
                      <a:lnTo>
                        <a:pt x="43" y="173"/>
                      </a:lnTo>
                      <a:lnTo>
                        <a:pt x="58" y="161"/>
                      </a:lnTo>
                      <a:lnTo>
                        <a:pt x="50" y="142"/>
                      </a:lnTo>
                      <a:lnTo>
                        <a:pt x="43" y="145"/>
                      </a:lnTo>
                      <a:lnTo>
                        <a:pt x="36" y="124"/>
                      </a:lnTo>
                      <a:lnTo>
                        <a:pt x="25" y="95"/>
                      </a:lnTo>
                      <a:lnTo>
                        <a:pt x="26" y="65"/>
                      </a:lnTo>
                      <a:lnTo>
                        <a:pt x="38" y="47"/>
                      </a:lnTo>
                      <a:lnTo>
                        <a:pt x="53" y="51"/>
                      </a:lnTo>
                      <a:lnTo>
                        <a:pt x="73" y="71"/>
                      </a:lnTo>
                      <a:lnTo>
                        <a:pt x="93" y="70"/>
                      </a:lnTo>
                      <a:lnTo>
                        <a:pt x="118" y="61"/>
                      </a:lnTo>
                      <a:lnTo>
                        <a:pt x="128" y="51"/>
                      </a:lnTo>
                      <a:lnTo>
                        <a:pt x="137" y="35"/>
                      </a:lnTo>
                      <a:lnTo>
                        <a:pt x="157" y="42"/>
                      </a:lnTo>
                      <a:lnTo>
                        <a:pt x="162" y="65"/>
                      </a:lnTo>
                      <a:lnTo>
                        <a:pt x="172" y="73"/>
                      </a:lnTo>
                      <a:lnTo>
                        <a:pt x="197" y="76"/>
                      </a:lnTo>
                      <a:lnTo>
                        <a:pt x="210" y="73"/>
                      </a:lnTo>
                      <a:lnTo>
                        <a:pt x="223" y="76"/>
                      </a:lnTo>
                      <a:lnTo>
                        <a:pt x="223" y="82"/>
                      </a:lnTo>
                      <a:lnTo>
                        <a:pt x="222" y="98"/>
                      </a:lnTo>
                      <a:lnTo>
                        <a:pt x="202" y="118"/>
                      </a:lnTo>
                      <a:lnTo>
                        <a:pt x="172" y="133"/>
                      </a:lnTo>
                      <a:lnTo>
                        <a:pt x="152" y="145"/>
                      </a:lnTo>
                      <a:lnTo>
                        <a:pt x="145" y="146"/>
                      </a:lnTo>
                      <a:lnTo>
                        <a:pt x="145" y="158"/>
                      </a:lnTo>
                      <a:lnTo>
                        <a:pt x="157" y="169"/>
                      </a:lnTo>
                      <a:lnTo>
                        <a:pt x="182" y="163"/>
                      </a:lnTo>
                      <a:lnTo>
                        <a:pt x="197" y="155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3731760" y="3553200"/>
                  <a:ext cx="238680" cy="342360"/>
                </a:xfrm>
                <a:custGeom>
                  <a:avLst/>
                  <a:gdLst/>
                  <a:ahLst/>
                  <a:rect l="l" t="t" r="r" b="b"/>
                  <a:pathLst>
                    <a:path w="356" h="500">
                      <a:moveTo>
                        <a:pt x="0" y="486"/>
                      </a:moveTo>
                      <a:lnTo>
                        <a:pt x="60" y="448"/>
                      </a:lnTo>
                      <a:lnTo>
                        <a:pt x="93" y="415"/>
                      </a:lnTo>
                      <a:lnTo>
                        <a:pt x="115" y="369"/>
                      </a:lnTo>
                      <a:lnTo>
                        <a:pt x="135" y="337"/>
                      </a:lnTo>
                      <a:lnTo>
                        <a:pt x="160" y="295"/>
                      </a:lnTo>
                      <a:lnTo>
                        <a:pt x="190" y="263"/>
                      </a:lnTo>
                      <a:lnTo>
                        <a:pt x="220" y="233"/>
                      </a:lnTo>
                      <a:lnTo>
                        <a:pt x="257" y="180"/>
                      </a:lnTo>
                      <a:lnTo>
                        <a:pt x="297" y="131"/>
                      </a:lnTo>
                      <a:lnTo>
                        <a:pt x="322" y="86"/>
                      </a:lnTo>
                      <a:lnTo>
                        <a:pt x="337" y="57"/>
                      </a:lnTo>
                      <a:lnTo>
                        <a:pt x="356" y="0"/>
                      </a:lnTo>
                      <a:lnTo>
                        <a:pt x="349" y="61"/>
                      </a:lnTo>
                      <a:lnTo>
                        <a:pt x="316" y="132"/>
                      </a:lnTo>
                      <a:lnTo>
                        <a:pt x="282" y="174"/>
                      </a:lnTo>
                      <a:lnTo>
                        <a:pt x="244" y="232"/>
                      </a:lnTo>
                      <a:lnTo>
                        <a:pt x="219" y="257"/>
                      </a:lnTo>
                      <a:lnTo>
                        <a:pt x="185" y="292"/>
                      </a:lnTo>
                      <a:lnTo>
                        <a:pt x="180" y="298"/>
                      </a:lnTo>
                      <a:lnTo>
                        <a:pt x="155" y="332"/>
                      </a:lnTo>
                      <a:lnTo>
                        <a:pt x="152" y="339"/>
                      </a:lnTo>
                      <a:lnTo>
                        <a:pt x="125" y="394"/>
                      </a:lnTo>
                      <a:lnTo>
                        <a:pt x="100" y="433"/>
                      </a:lnTo>
                      <a:lnTo>
                        <a:pt x="75" y="461"/>
                      </a:lnTo>
                      <a:lnTo>
                        <a:pt x="13" y="500"/>
                      </a:lnTo>
                      <a:lnTo>
                        <a:pt x="0" y="48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3902400" y="3616560"/>
                  <a:ext cx="141120" cy="352080"/>
                </a:xfrm>
                <a:custGeom>
                  <a:avLst/>
                  <a:gdLst/>
                  <a:ahLst/>
                  <a:rect l="l" t="t" r="r" b="b"/>
                  <a:pathLst>
                    <a:path w="210" h="513">
                      <a:moveTo>
                        <a:pt x="115" y="237"/>
                      </a:moveTo>
                      <a:lnTo>
                        <a:pt x="137" y="183"/>
                      </a:lnTo>
                      <a:lnTo>
                        <a:pt x="177" y="108"/>
                      </a:lnTo>
                      <a:lnTo>
                        <a:pt x="184" y="61"/>
                      </a:lnTo>
                      <a:lnTo>
                        <a:pt x="210" y="0"/>
                      </a:lnTo>
                      <a:lnTo>
                        <a:pt x="195" y="69"/>
                      </a:lnTo>
                      <a:lnTo>
                        <a:pt x="190" y="125"/>
                      </a:lnTo>
                      <a:lnTo>
                        <a:pt x="150" y="198"/>
                      </a:lnTo>
                      <a:lnTo>
                        <a:pt x="128" y="256"/>
                      </a:lnTo>
                      <a:lnTo>
                        <a:pt x="112" y="307"/>
                      </a:lnTo>
                      <a:lnTo>
                        <a:pt x="95" y="355"/>
                      </a:lnTo>
                      <a:lnTo>
                        <a:pt x="93" y="361"/>
                      </a:lnTo>
                      <a:lnTo>
                        <a:pt x="68" y="399"/>
                      </a:lnTo>
                      <a:lnTo>
                        <a:pt x="45" y="448"/>
                      </a:lnTo>
                      <a:lnTo>
                        <a:pt x="27" y="492"/>
                      </a:lnTo>
                      <a:lnTo>
                        <a:pt x="18" y="513"/>
                      </a:lnTo>
                      <a:lnTo>
                        <a:pt x="0" y="513"/>
                      </a:lnTo>
                      <a:lnTo>
                        <a:pt x="3" y="497"/>
                      </a:lnTo>
                      <a:lnTo>
                        <a:pt x="20" y="451"/>
                      </a:lnTo>
                      <a:lnTo>
                        <a:pt x="45" y="397"/>
                      </a:lnTo>
                      <a:lnTo>
                        <a:pt x="63" y="361"/>
                      </a:lnTo>
                      <a:lnTo>
                        <a:pt x="80" y="343"/>
                      </a:lnTo>
                      <a:lnTo>
                        <a:pt x="95" y="292"/>
                      </a:lnTo>
                      <a:lnTo>
                        <a:pt x="108" y="254"/>
                      </a:lnTo>
                      <a:lnTo>
                        <a:pt x="115" y="23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0" name=""/>
              <p:cNvGrpSpPr/>
              <p:nvPr/>
            </p:nvGrpSpPr>
            <p:grpSpPr>
              <a:xfrm>
                <a:off x="4087800" y="3232440"/>
                <a:ext cx="431280" cy="978480"/>
                <a:chOff x="4087800" y="3232440"/>
                <a:chExt cx="431280" cy="978480"/>
              </a:xfrm>
            </p:grpSpPr>
            <p:sp>
              <p:nvSpPr>
                <p:cNvPr id="1871" name=""/>
                <p:cNvSpPr/>
                <p:nvPr/>
              </p:nvSpPr>
              <p:spPr>
                <a:xfrm>
                  <a:off x="4141440" y="3454200"/>
                  <a:ext cx="164880" cy="357840"/>
                </a:xfrm>
                <a:custGeom>
                  <a:avLst/>
                  <a:gdLst/>
                  <a:ahLst/>
                  <a:rect l="l" t="t" r="r" b="b"/>
                  <a:pathLst>
                    <a:path w="245" h="521">
                      <a:moveTo>
                        <a:pt x="53" y="10"/>
                      </a:moveTo>
                      <a:lnTo>
                        <a:pt x="60" y="7"/>
                      </a:lnTo>
                      <a:lnTo>
                        <a:pt x="98" y="0"/>
                      </a:lnTo>
                      <a:lnTo>
                        <a:pt x="125" y="7"/>
                      </a:lnTo>
                      <a:lnTo>
                        <a:pt x="132" y="7"/>
                      </a:lnTo>
                      <a:lnTo>
                        <a:pt x="162" y="21"/>
                      </a:lnTo>
                      <a:lnTo>
                        <a:pt x="187" y="51"/>
                      </a:lnTo>
                      <a:lnTo>
                        <a:pt x="210" y="90"/>
                      </a:lnTo>
                      <a:lnTo>
                        <a:pt x="222" y="132"/>
                      </a:lnTo>
                      <a:lnTo>
                        <a:pt x="234" y="177"/>
                      </a:lnTo>
                      <a:lnTo>
                        <a:pt x="240" y="221"/>
                      </a:lnTo>
                      <a:lnTo>
                        <a:pt x="245" y="265"/>
                      </a:lnTo>
                      <a:lnTo>
                        <a:pt x="245" y="302"/>
                      </a:lnTo>
                      <a:lnTo>
                        <a:pt x="245" y="346"/>
                      </a:lnTo>
                      <a:lnTo>
                        <a:pt x="240" y="390"/>
                      </a:lnTo>
                      <a:lnTo>
                        <a:pt x="229" y="433"/>
                      </a:lnTo>
                      <a:lnTo>
                        <a:pt x="215" y="457"/>
                      </a:lnTo>
                      <a:lnTo>
                        <a:pt x="197" y="488"/>
                      </a:lnTo>
                      <a:lnTo>
                        <a:pt x="180" y="504"/>
                      </a:lnTo>
                      <a:lnTo>
                        <a:pt x="150" y="513"/>
                      </a:lnTo>
                      <a:lnTo>
                        <a:pt x="112" y="521"/>
                      </a:lnTo>
                      <a:lnTo>
                        <a:pt x="73" y="516"/>
                      </a:lnTo>
                      <a:lnTo>
                        <a:pt x="45" y="506"/>
                      </a:lnTo>
                      <a:lnTo>
                        <a:pt x="20" y="480"/>
                      </a:lnTo>
                      <a:lnTo>
                        <a:pt x="13" y="445"/>
                      </a:lnTo>
                      <a:lnTo>
                        <a:pt x="13" y="414"/>
                      </a:lnTo>
                      <a:lnTo>
                        <a:pt x="20" y="370"/>
                      </a:lnTo>
                      <a:lnTo>
                        <a:pt x="35" y="335"/>
                      </a:lnTo>
                      <a:lnTo>
                        <a:pt x="48" y="308"/>
                      </a:lnTo>
                      <a:lnTo>
                        <a:pt x="51" y="287"/>
                      </a:lnTo>
                      <a:lnTo>
                        <a:pt x="53" y="265"/>
                      </a:lnTo>
                      <a:lnTo>
                        <a:pt x="48" y="241"/>
                      </a:lnTo>
                      <a:lnTo>
                        <a:pt x="33" y="207"/>
                      </a:lnTo>
                      <a:lnTo>
                        <a:pt x="25" y="177"/>
                      </a:lnTo>
                      <a:lnTo>
                        <a:pt x="15" y="150"/>
                      </a:lnTo>
                      <a:lnTo>
                        <a:pt x="6" y="116"/>
                      </a:lnTo>
                      <a:lnTo>
                        <a:pt x="0" y="90"/>
                      </a:lnTo>
                      <a:lnTo>
                        <a:pt x="1" y="60"/>
                      </a:lnTo>
                      <a:lnTo>
                        <a:pt x="8" y="39"/>
                      </a:lnTo>
                      <a:lnTo>
                        <a:pt x="28" y="25"/>
                      </a:lnTo>
                      <a:lnTo>
                        <a:pt x="45" y="15"/>
                      </a:lnTo>
                      <a:lnTo>
                        <a:pt x="5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4197960" y="3470760"/>
                  <a:ext cx="321120" cy="282240"/>
                </a:xfrm>
                <a:custGeom>
                  <a:avLst/>
                  <a:gdLst/>
                  <a:ahLst/>
                  <a:rect l="l" t="t" r="r" b="b"/>
                  <a:pathLst>
                    <a:path w="478" h="411">
                      <a:moveTo>
                        <a:pt x="33" y="0"/>
                      </a:moveTo>
                      <a:lnTo>
                        <a:pt x="77" y="18"/>
                      </a:lnTo>
                      <a:lnTo>
                        <a:pt x="105" y="48"/>
                      </a:lnTo>
                      <a:lnTo>
                        <a:pt x="140" y="89"/>
                      </a:lnTo>
                      <a:lnTo>
                        <a:pt x="185" y="135"/>
                      </a:lnTo>
                      <a:lnTo>
                        <a:pt x="254" y="198"/>
                      </a:lnTo>
                      <a:lnTo>
                        <a:pt x="317" y="257"/>
                      </a:lnTo>
                      <a:lnTo>
                        <a:pt x="366" y="289"/>
                      </a:lnTo>
                      <a:lnTo>
                        <a:pt x="414" y="319"/>
                      </a:lnTo>
                      <a:lnTo>
                        <a:pt x="441" y="331"/>
                      </a:lnTo>
                      <a:lnTo>
                        <a:pt x="471" y="346"/>
                      </a:lnTo>
                      <a:lnTo>
                        <a:pt x="478" y="367"/>
                      </a:lnTo>
                      <a:lnTo>
                        <a:pt x="476" y="375"/>
                      </a:lnTo>
                      <a:lnTo>
                        <a:pt x="471" y="393"/>
                      </a:lnTo>
                      <a:lnTo>
                        <a:pt x="464" y="405"/>
                      </a:lnTo>
                      <a:lnTo>
                        <a:pt x="458" y="406"/>
                      </a:lnTo>
                      <a:lnTo>
                        <a:pt x="441" y="411"/>
                      </a:lnTo>
                      <a:lnTo>
                        <a:pt x="411" y="405"/>
                      </a:lnTo>
                      <a:lnTo>
                        <a:pt x="387" y="381"/>
                      </a:lnTo>
                      <a:lnTo>
                        <a:pt x="359" y="328"/>
                      </a:lnTo>
                      <a:lnTo>
                        <a:pt x="311" y="284"/>
                      </a:lnTo>
                      <a:lnTo>
                        <a:pt x="247" y="235"/>
                      </a:lnTo>
                      <a:lnTo>
                        <a:pt x="189" y="188"/>
                      </a:lnTo>
                      <a:lnTo>
                        <a:pt x="134" y="149"/>
                      </a:lnTo>
                      <a:lnTo>
                        <a:pt x="60" y="108"/>
                      </a:lnTo>
                      <a:lnTo>
                        <a:pt x="30" y="84"/>
                      </a:lnTo>
                      <a:lnTo>
                        <a:pt x="12" y="55"/>
                      </a:lnTo>
                      <a:lnTo>
                        <a:pt x="0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4153320" y="3509280"/>
                  <a:ext cx="358920" cy="236880"/>
                </a:xfrm>
                <a:custGeom>
                  <a:avLst/>
                  <a:gdLst/>
                  <a:ahLst/>
                  <a:rect l="l" t="t" r="r" b="b"/>
                  <a:pathLst>
                    <a:path w="535" h="347">
                      <a:moveTo>
                        <a:pt x="80" y="31"/>
                      </a:moveTo>
                      <a:lnTo>
                        <a:pt x="47" y="0"/>
                      </a:lnTo>
                      <a:lnTo>
                        <a:pt x="0" y="15"/>
                      </a:lnTo>
                      <a:lnTo>
                        <a:pt x="5" y="21"/>
                      </a:lnTo>
                      <a:lnTo>
                        <a:pt x="15" y="68"/>
                      </a:lnTo>
                      <a:lnTo>
                        <a:pt x="43" y="122"/>
                      </a:lnTo>
                      <a:lnTo>
                        <a:pt x="142" y="192"/>
                      </a:lnTo>
                      <a:lnTo>
                        <a:pt x="196" y="223"/>
                      </a:lnTo>
                      <a:lnTo>
                        <a:pt x="272" y="253"/>
                      </a:lnTo>
                      <a:lnTo>
                        <a:pt x="334" y="285"/>
                      </a:lnTo>
                      <a:lnTo>
                        <a:pt x="383" y="309"/>
                      </a:lnTo>
                      <a:lnTo>
                        <a:pt x="431" y="329"/>
                      </a:lnTo>
                      <a:lnTo>
                        <a:pt x="470" y="345"/>
                      </a:lnTo>
                      <a:lnTo>
                        <a:pt x="498" y="347"/>
                      </a:lnTo>
                      <a:lnTo>
                        <a:pt x="521" y="344"/>
                      </a:lnTo>
                      <a:lnTo>
                        <a:pt x="535" y="315"/>
                      </a:lnTo>
                      <a:lnTo>
                        <a:pt x="526" y="299"/>
                      </a:lnTo>
                      <a:lnTo>
                        <a:pt x="501" y="285"/>
                      </a:lnTo>
                      <a:lnTo>
                        <a:pt x="468" y="278"/>
                      </a:lnTo>
                      <a:lnTo>
                        <a:pt x="441" y="276"/>
                      </a:lnTo>
                      <a:lnTo>
                        <a:pt x="398" y="268"/>
                      </a:lnTo>
                      <a:lnTo>
                        <a:pt x="341" y="253"/>
                      </a:lnTo>
                      <a:lnTo>
                        <a:pt x="282" y="228"/>
                      </a:lnTo>
                      <a:lnTo>
                        <a:pt x="229" y="193"/>
                      </a:lnTo>
                      <a:lnTo>
                        <a:pt x="182" y="148"/>
                      </a:lnTo>
                      <a:lnTo>
                        <a:pt x="137" y="100"/>
                      </a:lnTo>
                      <a:lnTo>
                        <a:pt x="97" y="52"/>
                      </a:lnTo>
                      <a:lnTo>
                        <a:pt x="8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4103640" y="3232440"/>
                  <a:ext cx="240480" cy="193320"/>
                </a:xfrm>
                <a:custGeom>
                  <a:avLst/>
                  <a:gdLst/>
                  <a:ahLst/>
                  <a:rect l="l" t="t" r="r" b="b"/>
                  <a:pathLst>
                    <a:path w="357" h="283">
                      <a:moveTo>
                        <a:pt x="225" y="112"/>
                      </a:moveTo>
                      <a:lnTo>
                        <a:pt x="212" y="76"/>
                      </a:lnTo>
                      <a:lnTo>
                        <a:pt x="197" y="39"/>
                      </a:lnTo>
                      <a:lnTo>
                        <a:pt x="172" y="17"/>
                      </a:lnTo>
                      <a:lnTo>
                        <a:pt x="145" y="5"/>
                      </a:lnTo>
                      <a:lnTo>
                        <a:pt x="106" y="0"/>
                      </a:lnTo>
                      <a:lnTo>
                        <a:pt x="70" y="8"/>
                      </a:lnTo>
                      <a:lnTo>
                        <a:pt x="40" y="23"/>
                      </a:lnTo>
                      <a:lnTo>
                        <a:pt x="20" y="52"/>
                      </a:lnTo>
                      <a:lnTo>
                        <a:pt x="6" y="88"/>
                      </a:lnTo>
                      <a:lnTo>
                        <a:pt x="1" y="124"/>
                      </a:lnTo>
                      <a:lnTo>
                        <a:pt x="0" y="158"/>
                      </a:lnTo>
                      <a:lnTo>
                        <a:pt x="0" y="164"/>
                      </a:lnTo>
                      <a:lnTo>
                        <a:pt x="11" y="199"/>
                      </a:lnTo>
                      <a:lnTo>
                        <a:pt x="30" y="232"/>
                      </a:lnTo>
                      <a:lnTo>
                        <a:pt x="55" y="264"/>
                      </a:lnTo>
                      <a:lnTo>
                        <a:pt x="88" y="282"/>
                      </a:lnTo>
                      <a:lnTo>
                        <a:pt x="120" y="283"/>
                      </a:lnTo>
                      <a:lnTo>
                        <a:pt x="153" y="283"/>
                      </a:lnTo>
                      <a:lnTo>
                        <a:pt x="180" y="279"/>
                      </a:lnTo>
                      <a:lnTo>
                        <a:pt x="198" y="264"/>
                      </a:lnTo>
                      <a:lnTo>
                        <a:pt x="215" y="243"/>
                      </a:lnTo>
                      <a:lnTo>
                        <a:pt x="230" y="223"/>
                      </a:lnTo>
                      <a:lnTo>
                        <a:pt x="235" y="199"/>
                      </a:lnTo>
                      <a:lnTo>
                        <a:pt x="237" y="178"/>
                      </a:lnTo>
                      <a:lnTo>
                        <a:pt x="240" y="146"/>
                      </a:lnTo>
                      <a:lnTo>
                        <a:pt x="280" y="155"/>
                      </a:lnTo>
                      <a:lnTo>
                        <a:pt x="324" y="161"/>
                      </a:lnTo>
                      <a:lnTo>
                        <a:pt x="349" y="160"/>
                      </a:lnTo>
                      <a:lnTo>
                        <a:pt x="357" y="148"/>
                      </a:lnTo>
                      <a:lnTo>
                        <a:pt x="352" y="130"/>
                      </a:lnTo>
                      <a:lnTo>
                        <a:pt x="344" y="116"/>
                      </a:lnTo>
                      <a:lnTo>
                        <a:pt x="317" y="110"/>
                      </a:lnTo>
                      <a:lnTo>
                        <a:pt x="285" y="110"/>
                      </a:lnTo>
                      <a:lnTo>
                        <a:pt x="253" y="107"/>
                      </a:lnTo>
                      <a:lnTo>
                        <a:pt x="225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4219200" y="3754800"/>
                  <a:ext cx="198720" cy="426240"/>
                </a:xfrm>
                <a:custGeom>
                  <a:avLst/>
                  <a:gdLst/>
                  <a:ahLst/>
                  <a:rect l="l" t="t" r="r" b="b"/>
                  <a:pathLst>
                    <a:path w="295" h="622">
                      <a:moveTo>
                        <a:pt x="18" y="0"/>
                      </a:moveTo>
                      <a:lnTo>
                        <a:pt x="53" y="2"/>
                      </a:lnTo>
                      <a:lnTo>
                        <a:pt x="60" y="6"/>
                      </a:lnTo>
                      <a:lnTo>
                        <a:pt x="83" y="15"/>
                      </a:lnTo>
                      <a:lnTo>
                        <a:pt x="105" y="53"/>
                      </a:lnTo>
                      <a:lnTo>
                        <a:pt x="128" y="101"/>
                      </a:lnTo>
                      <a:lnTo>
                        <a:pt x="142" y="152"/>
                      </a:lnTo>
                      <a:lnTo>
                        <a:pt x="150" y="205"/>
                      </a:lnTo>
                      <a:lnTo>
                        <a:pt x="148" y="255"/>
                      </a:lnTo>
                      <a:lnTo>
                        <a:pt x="142" y="308"/>
                      </a:lnTo>
                      <a:lnTo>
                        <a:pt x="137" y="369"/>
                      </a:lnTo>
                      <a:lnTo>
                        <a:pt x="137" y="375"/>
                      </a:lnTo>
                      <a:lnTo>
                        <a:pt x="123" y="425"/>
                      </a:lnTo>
                      <a:lnTo>
                        <a:pt x="115" y="464"/>
                      </a:lnTo>
                      <a:lnTo>
                        <a:pt x="110" y="496"/>
                      </a:lnTo>
                      <a:lnTo>
                        <a:pt x="118" y="517"/>
                      </a:lnTo>
                      <a:lnTo>
                        <a:pt x="147" y="530"/>
                      </a:lnTo>
                      <a:lnTo>
                        <a:pt x="192" y="549"/>
                      </a:lnTo>
                      <a:lnTo>
                        <a:pt x="247" y="561"/>
                      </a:lnTo>
                      <a:lnTo>
                        <a:pt x="285" y="570"/>
                      </a:lnTo>
                      <a:lnTo>
                        <a:pt x="295" y="589"/>
                      </a:lnTo>
                      <a:lnTo>
                        <a:pt x="285" y="607"/>
                      </a:lnTo>
                      <a:lnTo>
                        <a:pt x="257" y="622"/>
                      </a:lnTo>
                      <a:lnTo>
                        <a:pt x="215" y="618"/>
                      </a:lnTo>
                      <a:lnTo>
                        <a:pt x="192" y="595"/>
                      </a:lnTo>
                      <a:lnTo>
                        <a:pt x="135" y="577"/>
                      </a:lnTo>
                      <a:lnTo>
                        <a:pt x="93" y="576"/>
                      </a:lnTo>
                      <a:lnTo>
                        <a:pt x="60" y="570"/>
                      </a:lnTo>
                      <a:lnTo>
                        <a:pt x="41" y="552"/>
                      </a:lnTo>
                      <a:lnTo>
                        <a:pt x="40" y="530"/>
                      </a:lnTo>
                      <a:lnTo>
                        <a:pt x="51" y="506"/>
                      </a:lnTo>
                      <a:lnTo>
                        <a:pt x="70" y="481"/>
                      </a:lnTo>
                      <a:lnTo>
                        <a:pt x="71" y="442"/>
                      </a:lnTo>
                      <a:lnTo>
                        <a:pt x="71" y="383"/>
                      </a:lnTo>
                      <a:lnTo>
                        <a:pt x="76" y="348"/>
                      </a:lnTo>
                      <a:lnTo>
                        <a:pt x="83" y="324"/>
                      </a:lnTo>
                      <a:lnTo>
                        <a:pt x="93" y="306"/>
                      </a:lnTo>
                      <a:lnTo>
                        <a:pt x="93" y="279"/>
                      </a:lnTo>
                      <a:lnTo>
                        <a:pt x="86" y="247"/>
                      </a:lnTo>
                      <a:lnTo>
                        <a:pt x="70" y="213"/>
                      </a:lnTo>
                      <a:lnTo>
                        <a:pt x="48" y="171"/>
                      </a:lnTo>
                      <a:lnTo>
                        <a:pt x="26" y="119"/>
                      </a:lnTo>
                      <a:lnTo>
                        <a:pt x="8" y="77"/>
                      </a:lnTo>
                      <a:lnTo>
                        <a:pt x="0" y="50"/>
                      </a:lnTo>
                      <a:lnTo>
                        <a:pt x="0" y="1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4087800" y="3757320"/>
                  <a:ext cx="137160" cy="453600"/>
                </a:xfrm>
                <a:custGeom>
                  <a:avLst/>
                  <a:gdLst/>
                  <a:ahLst/>
                  <a:rect l="l" t="t" r="r" b="b"/>
                  <a:pathLst>
                    <a:path w="206" h="662">
                      <a:moveTo>
                        <a:pt x="112" y="34"/>
                      </a:moveTo>
                      <a:lnTo>
                        <a:pt x="122" y="6"/>
                      </a:lnTo>
                      <a:lnTo>
                        <a:pt x="151" y="0"/>
                      </a:lnTo>
                      <a:lnTo>
                        <a:pt x="189" y="10"/>
                      </a:lnTo>
                      <a:lnTo>
                        <a:pt x="206" y="42"/>
                      </a:lnTo>
                      <a:lnTo>
                        <a:pt x="196" y="99"/>
                      </a:lnTo>
                      <a:lnTo>
                        <a:pt x="183" y="170"/>
                      </a:lnTo>
                      <a:lnTo>
                        <a:pt x="163" y="235"/>
                      </a:lnTo>
                      <a:lnTo>
                        <a:pt x="137" y="280"/>
                      </a:lnTo>
                      <a:lnTo>
                        <a:pt x="126" y="322"/>
                      </a:lnTo>
                      <a:lnTo>
                        <a:pt x="126" y="369"/>
                      </a:lnTo>
                      <a:lnTo>
                        <a:pt x="129" y="405"/>
                      </a:lnTo>
                      <a:lnTo>
                        <a:pt x="124" y="440"/>
                      </a:lnTo>
                      <a:lnTo>
                        <a:pt x="116" y="479"/>
                      </a:lnTo>
                      <a:lnTo>
                        <a:pt x="102" y="515"/>
                      </a:lnTo>
                      <a:lnTo>
                        <a:pt x="84" y="548"/>
                      </a:lnTo>
                      <a:lnTo>
                        <a:pt x="84" y="566"/>
                      </a:lnTo>
                      <a:lnTo>
                        <a:pt x="99" y="581"/>
                      </a:lnTo>
                      <a:lnTo>
                        <a:pt x="129" y="604"/>
                      </a:lnTo>
                      <a:lnTo>
                        <a:pt x="189" y="625"/>
                      </a:lnTo>
                      <a:lnTo>
                        <a:pt x="196" y="632"/>
                      </a:lnTo>
                      <a:lnTo>
                        <a:pt x="196" y="646"/>
                      </a:lnTo>
                      <a:lnTo>
                        <a:pt x="169" y="661"/>
                      </a:lnTo>
                      <a:lnTo>
                        <a:pt x="163" y="662"/>
                      </a:lnTo>
                      <a:lnTo>
                        <a:pt x="112" y="661"/>
                      </a:lnTo>
                      <a:lnTo>
                        <a:pt x="91" y="644"/>
                      </a:lnTo>
                      <a:lnTo>
                        <a:pt x="64" y="613"/>
                      </a:lnTo>
                      <a:lnTo>
                        <a:pt x="36" y="598"/>
                      </a:lnTo>
                      <a:lnTo>
                        <a:pt x="7" y="580"/>
                      </a:lnTo>
                      <a:lnTo>
                        <a:pt x="0" y="554"/>
                      </a:lnTo>
                      <a:lnTo>
                        <a:pt x="9" y="531"/>
                      </a:lnTo>
                      <a:lnTo>
                        <a:pt x="39" y="516"/>
                      </a:lnTo>
                      <a:lnTo>
                        <a:pt x="54" y="504"/>
                      </a:lnTo>
                      <a:lnTo>
                        <a:pt x="71" y="461"/>
                      </a:lnTo>
                      <a:lnTo>
                        <a:pt x="74" y="414"/>
                      </a:lnTo>
                      <a:lnTo>
                        <a:pt x="81" y="364"/>
                      </a:lnTo>
                      <a:lnTo>
                        <a:pt x="74" y="310"/>
                      </a:lnTo>
                      <a:lnTo>
                        <a:pt x="74" y="275"/>
                      </a:lnTo>
                      <a:lnTo>
                        <a:pt x="81" y="241"/>
                      </a:lnTo>
                      <a:lnTo>
                        <a:pt x="106" y="179"/>
                      </a:lnTo>
                      <a:lnTo>
                        <a:pt x="112" y="126"/>
                      </a:lnTo>
                      <a:lnTo>
                        <a:pt x="111" y="71"/>
                      </a:lnTo>
                      <a:lnTo>
                        <a:pt x="11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4755960" y="3124080"/>
                <a:ext cx="263160" cy="225000"/>
                <a:chOff x="4755960" y="3124080"/>
                <a:chExt cx="263160" cy="22500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4755960" y="3124080"/>
                  <a:ext cx="263160" cy="225000"/>
                </a:xfrm>
                <a:custGeom>
                  <a:avLst/>
                  <a:gdLst/>
                  <a:ahLst/>
                  <a:rect l="l" t="t" r="r" b="b"/>
                  <a:pathLst>
                    <a:path w="392" h="326">
                      <a:moveTo>
                        <a:pt x="121" y="195"/>
                      </a:moveTo>
                      <a:lnTo>
                        <a:pt x="132" y="170"/>
                      </a:lnTo>
                      <a:lnTo>
                        <a:pt x="138" y="126"/>
                      </a:lnTo>
                      <a:lnTo>
                        <a:pt x="147" y="84"/>
                      </a:lnTo>
                      <a:lnTo>
                        <a:pt x="153" y="37"/>
                      </a:lnTo>
                      <a:lnTo>
                        <a:pt x="165" y="7"/>
                      </a:lnTo>
                      <a:lnTo>
                        <a:pt x="178" y="1"/>
                      </a:lnTo>
                      <a:lnTo>
                        <a:pt x="210" y="0"/>
                      </a:lnTo>
                      <a:lnTo>
                        <a:pt x="279" y="13"/>
                      </a:lnTo>
                      <a:lnTo>
                        <a:pt x="344" y="39"/>
                      </a:lnTo>
                      <a:lnTo>
                        <a:pt x="382" y="75"/>
                      </a:lnTo>
                      <a:lnTo>
                        <a:pt x="392" y="95"/>
                      </a:lnTo>
                      <a:lnTo>
                        <a:pt x="382" y="119"/>
                      </a:lnTo>
                      <a:lnTo>
                        <a:pt x="350" y="152"/>
                      </a:lnTo>
                      <a:lnTo>
                        <a:pt x="310" y="195"/>
                      </a:lnTo>
                      <a:lnTo>
                        <a:pt x="287" y="235"/>
                      </a:lnTo>
                      <a:lnTo>
                        <a:pt x="334" y="263"/>
                      </a:lnTo>
                      <a:lnTo>
                        <a:pt x="355" y="289"/>
                      </a:lnTo>
                      <a:lnTo>
                        <a:pt x="362" y="314"/>
                      </a:lnTo>
                      <a:lnTo>
                        <a:pt x="355" y="325"/>
                      </a:lnTo>
                      <a:lnTo>
                        <a:pt x="339" y="326"/>
                      </a:lnTo>
                      <a:lnTo>
                        <a:pt x="314" y="319"/>
                      </a:lnTo>
                      <a:lnTo>
                        <a:pt x="292" y="304"/>
                      </a:lnTo>
                      <a:lnTo>
                        <a:pt x="260" y="289"/>
                      </a:lnTo>
                      <a:lnTo>
                        <a:pt x="222" y="271"/>
                      </a:lnTo>
                      <a:lnTo>
                        <a:pt x="215" y="271"/>
                      </a:lnTo>
                      <a:lnTo>
                        <a:pt x="165" y="251"/>
                      </a:lnTo>
                      <a:lnTo>
                        <a:pt x="98" y="241"/>
                      </a:lnTo>
                      <a:lnTo>
                        <a:pt x="91" y="239"/>
                      </a:lnTo>
                      <a:lnTo>
                        <a:pt x="58" y="238"/>
                      </a:lnTo>
                      <a:lnTo>
                        <a:pt x="21" y="236"/>
                      </a:lnTo>
                      <a:lnTo>
                        <a:pt x="5" y="239"/>
                      </a:lnTo>
                      <a:lnTo>
                        <a:pt x="0" y="224"/>
                      </a:lnTo>
                      <a:lnTo>
                        <a:pt x="10" y="204"/>
                      </a:lnTo>
                      <a:lnTo>
                        <a:pt x="31" y="195"/>
                      </a:lnTo>
                      <a:lnTo>
                        <a:pt x="75" y="186"/>
                      </a:lnTo>
                      <a:lnTo>
                        <a:pt x="106" y="191"/>
                      </a:lnTo>
                      <a:lnTo>
                        <a:pt x="121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4849560" y="3226680"/>
                  <a:ext cx="104760" cy="54720"/>
                </a:xfrm>
                <a:custGeom>
                  <a:avLst/>
                  <a:gdLst/>
                  <a:ahLst/>
                  <a:rect l="l" t="t" r="r" b="b"/>
                  <a:pathLst>
                    <a:path w="155" h="80">
                      <a:moveTo>
                        <a:pt x="15" y="0"/>
                      </a:moveTo>
                      <a:lnTo>
                        <a:pt x="0" y="42"/>
                      </a:lnTo>
                      <a:lnTo>
                        <a:pt x="60" y="60"/>
                      </a:lnTo>
                      <a:lnTo>
                        <a:pt x="110" y="74"/>
                      </a:lnTo>
                      <a:lnTo>
                        <a:pt x="132" y="80"/>
                      </a:lnTo>
                      <a:lnTo>
                        <a:pt x="155" y="40"/>
                      </a:lnTo>
                      <a:lnTo>
                        <a:pt x="92" y="1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0" name=""/>
            <p:cNvSpPr/>
            <p:nvPr/>
          </p:nvSpPr>
          <p:spPr>
            <a:xfrm rot="18506400">
              <a:off x="3480480" y="3300840"/>
              <a:ext cx="689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200" spc="-1" strike="noStrike">
                  <a:solidFill>
                    <a:srgbClr val="000000"/>
                  </a:solidFill>
                  <a:latin typeface="Times New Roman"/>
                </a:rPr>
                <a:t>יהודיה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4947480" y="2721600"/>
            <a:ext cx="1376640" cy="880200"/>
            <a:chOff x="4947480" y="2721600"/>
            <a:chExt cx="1376640" cy="880200"/>
          </a:xfrm>
        </p:grpSpPr>
        <p:grpSp>
          <p:nvGrpSpPr>
            <p:cNvPr id="1882" name=""/>
            <p:cNvGrpSpPr/>
            <p:nvPr/>
          </p:nvGrpSpPr>
          <p:grpSpPr>
            <a:xfrm>
              <a:off x="5029200" y="2743200"/>
              <a:ext cx="1294920" cy="858600"/>
              <a:chOff x="5029200" y="2743200"/>
              <a:chExt cx="1294920" cy="858600"/>
            </a:xfrm>
          </p:grpSpPr>
          <p:grpSp>
            <p:nvGrpSpPr>
              <p:cNvPr id="1883" name=""/>
              <p:cNvGrpSpPr/>
              <p:nvPr/>
            </p:nvGrpSpPr>
            <p:grpSpPr>
              <a:xfrm>
                <a:off x="5699880" y="2845800"/>
                <a:ext cx="624240" cy="712440"/>
                <a:chOff x="5699880" y="2845800"/>
                <a:chExt cx="624240" cy="71244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5884560" y="2845800"/>
                  <a:ext cx="204480" cy="163440"/>
                </a:xfrm>
                <a:custGeom>
                  <a:avLst/>
                  <a:gdLst/>
                  <a:ahLst/>
                  <a:rect l="l" t="t" r="r" b="b"/>
                  <a:pathLst>
                    <a:path w="393" h="302">
                      <a:moveTo>
                        <a:pt x="144" y="142"/>
                      </a:moveTo>
                      <a:lnTo>
                        <a:pt x="150" y="98"/>
                      </a:lnTo>
                      <a:lnTo>
                        <a:pt x="170" y="59"/>
                      </a:lnTo>
                      <a:lnTo>
                        <a:pt x="195" y="34"/>
                      </a:lnTo>
                      <a:lnTo>
                        <a:pt x="224" y="11"/>
                      </a:lnTo>
                      <a:lnTo>
                        <a:pt x="257" y="0"/>
                      </a:lnTo>
                      <a:lnTo>
                        <a:pt x="297" y="3"/>
                      </a:lnTo>
                      <a:lnTo>
                        <a:pt x="334" y="9"/>
                      </a:lnTo>
                      <a:lnTo>
                        <a:pt x="363" y="28"/>
                      </a:lnTo>
                      <a:lnTo>
                        <a:pt x="381" y="52"/>
                      </a:lnTo>
                      <a:lnTo>
                        <a:pt x="389" y="82"/>
                      </a:lnTo>
                      <a:lnTo>
                        <a:pt x="393" y="118"/>
                      </a:lnTo>
                      <a:lnTo>
                        <a:pt x="393" y="159"/>
                      </a:lnTo>
                      <a:lnTo>
                        <a:pt x="381" y="190"/>
                      </a:lnTo>
                      <a:lnTo>
                        <a:pt x="373" y="219"/>
                      </a:lnTo>
                      <a:lnTo>
                        <a:pt x="354" y="249"/>
                      </a:lnTo>
                      <a:lnTo>
                        <a:pt x="329" y="273"/>
                      </a:lnTo>
                      <a:lnTo>
                        <a:pt x="301" y="293"/>
                      </a:lnTo>
                      <a:lnTo>
                        <a:pt x="269" y="300"/>
                      </a:lnTo>
                      <a:lnTo>
                        <a:pt x="232" y="302"/>
                      </a:lnTo>
                      <a:lnTo>
                        <a:pt x="204" y="293"/>
                      </a:lnTo>
                      <a:lnTo>
                        <a:pt x="179" y="276"/>
                      </a:lnTo>
                      <a:lnTo>
                        <a:pt x="164" y="253"/>
                      </a:lnTo>
                      <a:lnTo>
                        <a:pt x="147" y="229"/>
                      </a:lnTo>
                      <a:lnTo>
                        <a:pt x="139" y="201"/>
                      </a:lnTo>
                      <a:lnTo>
                        <a:pt x="100" y="216"/>
                      </a:lnTo>
                      <a:lnTo>
                        <a:pt x="68" y="241"/>
                      </a:lnTo>
                      <a:lnTo>
                        <a:pt x="45" y="258"/>
                      </a:lnTo>
                      <a:lnTo>
                        <a:pt x="17" y="261"/>
                      </a:lnTo>
                      <a:lnTo>
                        <a:pt x="0" y="247"/>
                      </a:lnTo>
                      <a:lnTo>
                        <a:pt x="0" y="229"/>
                      </a:lnTo>
                      <a:lnTo>
                        <a:pt x="10" y="205"/>
                      </a:lnTo>
                      <a:lnTo>
                        <a:pt x="42" y="195"/>
                      </a:lnTo>
                      <a:lnTo>
                        <a:pt x="80" y="181"/>
                      </a:lnTo>
                      <a:lnTo>
                        <a:pt x="112" y="163"/>
                      </a:lnTo>
                      <a:lnTo>
                        <a:pt x="127" y="154"/>
                      </a:lnTo>
                      <a:lnTo>
                        <a:pt x="144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6008400" y="3016800"/>
                  <a:ext cx="315720" cy="164160"/>
                </a:xfrm>
                <a:custGeom>
                  <a:avLst/>
                  <a:gdLst/>
                  <a:ahLst/>
                  <a:rect l="l" t="t" r="r" b="b"/>
                  <a:pathLst>
                    <a:path w="608" h="302">
                      <a:moveTo>
                        <a:pt x="52" y="42"/>
                      </a:moveTo>
                      <a:lnTo>
                        <a:pt x="29" y="40"/>
                      </a:lnTo>
                      <a:lnTo>
                        <a:pt x="9" y="55"/>
                      </a:lnTo>
                      <a:lnTo>
                        <a:pt x="0" y="76"/>
                      </a:lnTo>
                      <a:lnTo>
                        <a:pt x="2" y="111"/>
                      </a:lnTo>
                      <a:lnTo>
                        <a:pt x="22" y="132"/>
                      </a:lnTo>
                      <a:lnTo>
                        <a:pt x="62" y="131"/>
                      </a:lnTo>
                      <a:lnTo>
                        <a:pt x="92" y="126"/>
                      </a:lnTo>
                      <a:lnTo>
                        <a:pt x="131" y="129"/>
                      </a:lnTo>
                      <a:lnTo>
                        <a:pt x="174" y="143"/>
                      </a:lnTo>
                      <a:lnTo>
                        <a:pt x="217" y="164"/>
                      </a:lnTo>
                      <a:lnTo>
                        <a:pt x="256" y="201"/>
                      </a:lnTo>
                      <a:lnTo>
                        <a:pt x="279" y="236"/>
                      </a:lnTo>
                      <a:lnTo>
                        <a:pt x="291" y="271"/>
                      </a:lnTo>
                      <a:lnTo>
                        <a:pt x="296" y="287"/>
                      </a:lnTo>
                      <a:lnTo>
                        <a:pt x="313" y="302"/>
                      </a:lnTo>
                      <a:lnTo>
                        <a:pt x="328" y="302"/>
                      </a:lnTo>
                      <a:lnTo>
                        <a:pt x="344" y="295"/>
                      </a:lnTo>
                      <a:lnTo>
                        <a:pt x="356" y="287"/>
                      </a:lnTo>
                      <a:lnTo>
                        <a:pt x="381" y="275"/>
                      </a:lnTo>
                      <a:lnTo>
                        <a:pt x="415" y="245"/>
                      </a:lnTo>
                      <a:lnTo>
                        <a:pt x="448" y="214"/>
                      </a:lnTo>
                      <a:lnTo>
                        <a:pt x="475" y="179"/>
                      </a:lnTo>
                      <a:lnTo>
                        <a:pt x="493" y="156"/>
                      </a:lnTo>
                      <a:lnTo>
                        <a:pt x="513" y="122"/>
                      </a:lnTo>
                      <a:lnTo>
                        <a:pt x="518" y="104"/>
                      </a:lnTo>
                      <a:lnTo>
                        <a:pt x="530" y="93"/>
                      </a:lnTo>
                      <a:lnTo>
                        <a:pt x="550" y="92"/>
                      </a:lnTo>
                      <a:lnTo>
                        <a:pt x="568" y="101"/>
                      </a:lnTo>
                      <a:lnTo>
                        <a:pt x="588" y="107"/>
                      </a:lnTo>
                      <a:lnTo>
                        <a:pt x="605" y="101"/>
                      </a:lnTo>
                      <a:lnTo>
                        <a:pt x="608" y="86"/>
                      </a:lnTo>
                      <a:lnTo>
                        <a:pt x="597" y="75"/>
                      </a:lnTo>
                      <a:lnTo>
                        <a:pt x="577" y="70"/>
                      </a:lnTo>
                      <a:lnTo>
                        <a:pt x="557" y="69"/>
                      </a:lnTo>
                      <a:lnTo>
                        <a:pt x="548" y="66"/>
                      </a:lnTo>
                      <a:lnTo>
                        <a:pt x="550" y="58"/>
                      </a:lnTo>
                      <a:lnTo>
                        <a:pt x="570" y="46"/>
                      </a:lnTo>
                      <a:lnTo>
                        <a:pt x="587" y="39"/>
                      </a:lnTo>
                      <a:lnTo>
                        <a:pt x="595" y="22"/>
                      </a:lnTo>
                      <a:lnTo>
                        <a:pt x="600" y="12"/>
                      </a:lnTo>
                      <a:lnTo>
                        <a:pt x="590" y="0"/>
                      </a:lnTo>
                      <a:lnTo>
                        <a:pt x="573" y="0"/>
                      </a:lnTo>
                      <a:lnTo>
                        <a:pt x="557" y="18"/>
                      </a:lnTo>
                      <a:lnTo>
                        <a:pt x="542" y="40"/>
                      </a:lnTo>
                      <a:lnTo>
                        <a:pt x="528" y="51"/>
                      </a:lnTo>
                      <a:lnTo>
                        <a:pt x="513" y="48"/>
                      </a:lnTo>
                      <a:lnTo>
                        <a:pt x="495" y="27"/>
                      </a:lnTo>
                      <a:lnTo>
                        <a:pt x="483" y="15"/>
                      </a:lnTo>
                      <a:lnTo>
                        <a:pt x="463" y="19"/>
                      </a:lnTo>
                      <a:lnTo>
                        <a:pt x="451" y="36"/>
                      </a:lnTo>
                      <a:lnTo>
                        <a:pt x="456" y="49"/>
                      </a:lnTo>
                      <a:lnTo>
                        <a:pt x="473" y="60"/>
                      </a:lnTo>
                      <a:lnTo>
                        <a:pt x="491" y="70"/>
                      </a:lnTo>
                      <a:lnTo>
                        <a:pt x="501" y="81"/>
                      </a:lnTo>
                      <a:lnTo>
                        <a:pt x="495" y="101"/>
                      </a:lnTo>
                      <a:lnTo>
                        <a:pt x="470" y="134"/>
                      </a:lnTo>
                      <a:lnTo>
                        <a:pt x="441" y="162"/>
                      </a:lnTo>
                      <a:lnTo>
                        <a:pt x="405" y="189"/>
                      </a:lnTo>
                      <a:lnTo>
                        <a:pt x="373" y="208"/>
                      </a:lnTo>
                      <a:lnTo>
                        <a:pt x="349" y="217"/>
                      </a:lnTo>
                      <a:lnTo>
                        <a:pt x="331" y="209"/>
                      </a:lnTo>
                      <a:lnTo>
                        <a:pt x="306" y="170"/>
                      </a:lnTo>
                      <a:lnTo>
                        <a:pt x="274" y="137"/>
                      </a:lnTo>
                      <a:lnTo>
                        <a:pt x="236" y="107"/>
                      </a:lnTo>
                      <a:lnTo>
                        <a:pt x="191" y="84"/>
                      </a:lnTo>
                      <a:lnTo>
                        <a:pt x="146" y="63"/>
                      </a:lnTo>
                      <a:lnTo>
                        <a:pt x="100" y="46"/>
                      </a:lnTo>
                      <a:lnTo>
                        <a:pt x="69" y="43"/>
                      </a:lnTo>
                      <a:lnTo>
                        <a:pt x="5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5920920" y="3024360"/>
                  <a:ext cx="135720" cy="263880"/>
                </a:xfrm>
                <a:custGeom>
                  <a:avLst/>
                  <a:gdLst/>
                  <a:ahLst/>
                  <a:rect l="l" t="t" r="r" b="b"/>
                  <a:pathLst>
                    <a:path w="263" h="488">
                      <a:moveTo>
                        <a:pt x="52" y="14"/>
                      </a:moveTo>
                      <a:lnTo>
                        <a:pt x="86" y="0"/>
                      </a:lnTo>
                      <a:lnTo>
                        <a:pt x="129" y="3"/>
                      </a:lnTo>
                      <a:lnTo>
                        <a:pt x="173" y="21"/>
                      </a:lnTo>
                      <a:lnTo>
                        <a:pt x="203" y="44"/>
                      </a:lnTo>
                      <a:lnTo>
                        <a:pt x="224" y="74"/>
                      </a:lnTo>
                      <a:lnTo>
                        <a:pt x="239" y="109"/>
                      </a:lnTo>
                      <a:lnTo>
                        <a:pt x="251" y="146"/>
                      </a:lnTo>
                      <a:lnTo>
                        <a:pt x="259" y="193"/>
                      </a:lnTo>
                      <a:lnTo>
                        <a:pt x="263" y="243"/>
                      </a:lnTo>
                      <a:lnTo>
                        <a:pt x="263" y="280"/>
                      </a:lnTo>
                      <a:lnTo>
                        <a:pt x="259" y="333"/>
                      </a:lnTo>
                      <a:lnTo>
                        <a:pt x="253" y="374"/>
                      </a:lnTo>
                      <a:lnTo>
                        <a:pt x="239" y="408"/>
                      </a:lnTo>
                      <a:lnTo>
                        <a:pt x="218" y="437"/>
                      </a:lnTo>
                      <a:lnTo>
                        <a:pt x="194" y="461"/>
                      </a:lnTo>
                      <a:lnTo>
                        <a:pt x="164" y="479"/>
                      </a:lnTo>
                      <a:lnTo>
                        <a:pt x="131" y="488"/>
                      </a:lnTo>
                      <a:lnTo>
                        <a:pt x="94" y="488"/>
                      </a:lnTo>
                      <a:lnTo>
                        <a:pt x="62" y="479"/>
                      </a:lnTo>
                      <a:lnTo>
                        <a:pt x="41" y="467"/>
                      </a:lnTo>
                      <a:lnTo>
                        <a:pt x="19" y="451"/>
                      </a:lnTo>
                      <a:lnTo>
                        <a:pt x="4" y="425"/>
                      </a:lnTo>
                      <a:lnTo>
                        <a:pt x="0" y="395"/>
                      </a:lnTo>
                      <a:lnTo>
                        <a:pt x="2" y="366"/>
                      </a:lnTo>
                      <a:lnTo>
                        <a:pt x="9" y="336"/>
                      </a:lnTo>
                      <a:lnTo>
                        <a:pt x="17" y="310"/>
                      </a:lnTo>
                      <a:lnTo>
                        <a:pt x="31" y="289"/>
                      </a:lnTo>
                      <a:lnTo>
                        <a:pt x="37" y="270"/>
                      </a:lnTo>
                      <a:lnTo>
                        <a:pt x="41" y="244"/>
                      </a:lnTo>
                      <a:lnTo>
                        <a:pt x="39" y="226"/>
                      </a:lnTo>
                      <a:lnTo>
                        <a:pt x="34" y="202"/>
                      </a:lnTo>
                      <a:lnTo>
                        <a:pt x="29" y="178"/>
                      </a:lnTo>
                      <a:lnTo>
                        <a:pt x="17" y="145"/>
                      </a:lnTo>
                      <a:lnTo>
                        <a:pt x="10" y="116"/>
                      </a:lnTo>
                      <a:lnTo>
                        <a:pt x="5" y="85"/>
                      </a:lnTo>
                      <a:lnTo>
                        <a:pt x="12" y="60"/>
                      </a:lnTo>
                      <a:lnTo>
                        <a:pt x="24" y="39"/>
                      </a:lnTo>
                      <a:lnTo>
                        <a:pt x="34" y="27"/>
                      </a:lnTo>
                      <a:lnTo>
                        <a:pt x="5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5699880" y="3042720"/>
                  <a:ext cx="272160" cy="198000"/>
                </a:xfrm>
                <a:custGeom>
                  <a:avLst/>
                  <a:gdLst/>
                  <a:ahLst/>
                  <a:rect l="l" t="t" r="r" b="b"/>
                  <a:pathLst>
                    <a:path w="525" h="366">
                      <a:moveTo>
                        <a:pt x="381" y="92"/>
                      </a:moveTo>
                      <a:lnTo>
                        <a:pt x="411" y="61"/>
                      </a:lnTo>
                      <a:lnTo>
                        <a:pt x="445" y="20"/>
                      </a:lnTo>
                      <a:lnTo>
                        <a:pt x="468" y="0"/>
                      </a:lnTo>
                      <a:lnTo>
                        <a:pt x="475" y="2"/>
                      </a:lnTo>
                      <a:lnTo>
                        <a:pt x="498" y="2"/>
                      </a:lnTo>
                      <a:lnTo>
                        <a:pt x="525" y="29"/>
                      </a:lnTo>
                      <a:lnTo>
                        <a:pt x="512" y="77"/>
                      </a:lnTo>
                      <a:lnTo>
                        <a:pt x="485" y="124"/>
                      </a:lnTo>
                      <a:lnTo>
                        <a:pt x="386" y="169"/>
                      </a:lnTo>
                      <a:lnTo>
                        <a:pt x="296" y="202"/>
                      </a:lnTo>
                      <a:lnTo>
                        <a:pt x="288" y="204"/>
                      </a:lnTo>
                      <a:lnTo>
                        <a:pt x="216" y="243"/>
                      </a:lnTo>
                      <a:lnTo>
                        <a:pt x="146" y="290"/>
                      </a:lnTo>
                      <a:lnTo>
                        <a:pt x="81" y="339"/>
                      </a:lnTo>
                      <a:lnTo>
                        <a:pt x="52" y="360"/>
                      </a:lnTo>
                      <a:lnTo>
                        <a:pt x="29" y="363"/>
                      </a:lnTo>
                      <a:lnTo>
                        <a:pt x="22" y="366"/>
                      </a:lnTo>
                      <a:lnTo>
                        <a:pt x="5" y="348"/>
                      </a:lnTo>
                      <a:lnTo>
                        <a:pt x="0" y="318"/>
                      </a:lnTo>
                      <a:lnTo>
                        <a:pt x="25" y="290"/>
                      </a:lnTo>
                      <a:lnTo>
                        <a:pt x="51" y="268"/>
                      </a:lnTo>
                      <a:lnTo>
                        <a:pt x="86" y="271"/>
                      </a:lnTo>
                      <a:lnTo>
                        <a:pt x="142" y="253"/>
                      </a:lnTo>
                      <a:lnTo>
                        <a:pt x="223" y="204"/>
                      </a:lnTo>
                      <a:lnTo>
                        <a:pt x="301" y="155"/>
                      </a:lnTo>
                      <a:lnTo>
                        <a:pt x="350" y="121"/>
                      </a:lnTo>
                      <a:lnTo>
                        <a:pt x="38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5850360" y="3234240"/>
                  <a:ext cx="119160" cy="317160"/>
                </a:xfrm>
                <a:custGeom>
                  <a:avLst/>
                  <a:gdLst/>
                  <a:ahLst/>
                  <a:rect l="l" t="t" r="r" b="b"/>
                  <a:pathLst>
                    <a:path w="231" h="586">
                      <a:moveTo>
                        <a:pt x="130" y="126"/>
                      </a:moveTo>
                      <a:lnTo>
                        <a:pt x="137" y="49"/>
                      </a:lnTo>
                      <a:lnTo>
                        <a:pt x="159" y="0"/>
                      </a:lnTo>
                      <a:lnTo>
                        <a:pt x="204" y="3"/>
                      </a:lnTo>
                      <a:lnTo>
                        <a:pt x="229" y="36"/>
                      </a:lnTo>
                      <a:lnTo>
                        <a:pt x="229" y="42"/>
                      </a:lnTo>
                      <a:lnTo>
                        <a:pt x="231" y="81"/>
                      </a:lnTo>
                      <a:lnTo>
                        <a:pt x="197" y="156"/>
                      </a:lnTo>
                      <a:lnTo>
                        <a:pt x="177" y="227"/>
                      </a:lnTo>
                      <a:lnTo>
                        <a:pt x="172" y="281"/>
                      </a:lnTo>
                      <a:lnTo>
                        <a:pt x="184" y="318"/>
                      </a:lnTo>
                      <a:lnTo>
                        <a:pt x="184" y="367"/>
                      </a:lnTo>
                      <a:lnTo>
                        <a:pt x="182" y="373"/>
                      </a:lnTo>
                      <a:lnTo>
                        <a:pt x="172" y="411"/>
                      </a:lnTo>
                      <a:lnTo>
                        <a:pt x="171" y="450"/>
                      </a:lnTo>
                      <a:lnTo>
                        <a:pt x="179" y="476"/>
                      </a:lnTo>
                      <a:lnTo>
                        <a:pt x="179" y="494"/>
                      </a:lnTo>
                      <a:lnTo>
                        <a:pt x="156" y="515"/>
                      </a:lnTo>
                      <a:lnTo>
                        <a:pt x="129" y="524"/>
                      </a:lnTo>
                      <a:lnTo>
                        <a:pt x="97" y="539"/>
                      </a:lnTo>
                      <a:lnTo>
                        <a:pt x="65" y="563"/>
                      </a:lnTo>
                      <a:lnTo>
                        <a:pt x="45" y="578"/>
                      </a:lnTo>
                      <a:lnTo>
                        <a:pt x="44" y="586"/>
                      </a:lnTo>
                      <a:lnTo>
                        <a:pt x="30" y="586"/>
                      </a:lnTo>
                      <a:lnTo>
                        <a:pt x="7" y="571"/>
                      </a:lnTo>
                      <a:lnTo>
                        <a:pt x="0" y="534"/>
                      </a:lnTo>
                      <a:lnTo>
                        <a:pt x="7" y="512"/>
                      </a:lnTo>
                      <a:lnTo>
                        <a:pt x="32" y="500"/>
                      </a:lnTo>
                      <a:lnTo>
                        <a:pt x="70" y="486"/>
                      </a:lnTo>
                      <a:lnTo>
                        <a:pt x="119" y="462"/>
                      </a:lnTo>
                      <a:lnTo>
                        <a:pt x="132" y="446"/>
                      </a:lnTo>
                      <a:lnTo>
                        <a:pt x="139" y="403"/>
                      </a:lnTo>
                      <a:lnTo>
                        <a:pt x="137" y="343"/>
                      </a:lnTo>
                      <a:lnTo>
                        <a:pt x="129" y="293"/>
                      </a:lnTo>
                      <a:lnTo>
                        <a:pt x="122" y="256"/>
                      </a:lnTo>
                      <a:lnTo>
                        <a:pt x="124" y="214"/>
                      </a:lnTo>
                      <a:lnTo>
                        <a:pt x="125" y="171"/>
                      </a:lnTo>
                      <a:lnTo>
                        <a:pt x="125" y="149"/>
                      </a:lnTo>
                      <a:lnTo>
                        <a:pt x="13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5980320" y="3241080"/>
                  <a:ext cx="78840" cy="317160"/>
                </a:xfrm>
                <a:custGeom>
                  <a:avLst/>
                  <a:gdLst/>
                  <a:ahLst/>
                  <a:rect l="l" t="t" r="r" b="b"/>
                  <a:pathLst>
                    <a:path w="154" h="586">
                      <a:moveTo>
                        <a:pt x="3" y="73"/>
                      </a:moveTo>
                      <a:lnTo>
                        <a:pt x="0" y="41"/>
                      </a:lnTo>
                      <a:lnTo>
                        <a:pt x="7" y="18"/>
                      </a:lnTo>
                      <a:lnTo>
                        <a:pt x="33" y="2"/>
                      </a:lnTo>
                      <a:lnTo>
                        <a:pt x="60" y="0"/>
                      </a:lnTo>
                      <a:lnTo>
                        <a:pt x="80" y="14"/>
                      </a:lnTo>
                      <a:lnTo>
                        <a:pt x="92" y="32"/>
                      </a:lnTo>
                      <a:lnTo>
                        <a:pt x="105" y="106"/>
                      </a:lnTo>
                      <a:lnTo>
                        <a:pt x="117" y="193"/>
                      </a:lnTo>
                      <a:lnTo>
                        <a:pt x="125" y="252"/>
                      </a:lnTo>
                      <a:lnTo>
                        <a:pt x="120" y="306"/>
                      </a:lnTo>
                      <a:lnTo>
                        <a:pt x="110" y="360"/>
                      </a:lnTo>
                      <a:lnTo>
                        <a:pt x="99" y="424"/>
                      </a:lnTo>
                      <a:lnTo>
                        <a:pt x="92" y="463"/>
                      </a:lnTo>
                      <a:lnTo>
                        <a:pt x="99" y="484"/>
                      </a:lnTo>
                      <a:lnTo>
                        <a:pt x="120" y="509"/>
                      </a:lnTo>
                      <a:lnTo>
                        <a:pt x="152" y="541"/>
                      </a:lnTo>
                      <a:lnTo>
                        <a:pt x="154" y="556"/>
                      </a:lnTo>
                      <a:lnTo>
                        <a:pt x="144" y="570"/>
                      </a:lnTo>
                      <a:lnTo>
                        <a:pt x="117" y="577"/>
                      </a:lnTo>
                      <a:lnTo>
                        <a:pt x="84" y="586"/>
                      </a:lnTo>
                      <a:lnTo>
                        <a:pt x="60" y="576"/>
                      </a:lnTo>
                      <a:lnTo>
                        <a:pt x="57" y="552"/>
                      </a:lnTo>
                      <a:lnTo>
                        <a:pt x="60" y="518"/>
                      </a:lnTo>
                      <a:lnTo>
                        <a:pt x="60" y="493"/>
                      </a:lnTo>
                      <a:lnTo>
                        <a:pt x="45" y="475"/>
                      </a:lnTo>
                      <a:lnTo>
                        <a:pt x="45" y="458"/>
                      </a:lnTo>
                      <a:lnTo>
                        <a:pt x="59" y="431"/>
                      </a:lnTo>
                      <a:lnTo>
                        <a:pt x="60" y="410"/>
                      </a:lnTo>
                      <a:lnTo>
                        <a:pt x="64" y="330"/>
                      </a:lnTo>
                      <a:lnTo>
                        <a:pt x="65" y="271"/>
                      </a:lnTo>
                      <a:lnTo>
                        <a:pt x="57" y="225"/>
                      </a:lnTo>
                      <a:lnTo>
                        <a:pt x="45" y="177"/>
                      </a:lnTo>
                      <a:lnTo>
                        <a:pt x="17" y="115"/>
                      </a:lnTo>
                      <a:lnTo>
                        <a:pt x="3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0" name=""/>
              <p:cNvGrpSpPr/>
              <p:nvPr/>
            </p:nvGrpSpPr>
            <p:grpSpPr>
              <a:xfrm>
                <a:off x="5029200" y="2757240"/>
                <a:ext cx="537840" cy="727920"/>
                <a:chOff x="5029200" y="2757240"/>
                <a:chExt cx="537840" cy="72792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5036400" y="2801520"/>
                  <a:ext cx="462960" cy="676440"/>
                </a:xfrm>
                <a:custGeom>
                  <a:avLst/>
                  <a:gdLst/>
                  <a:ahLst/>
                  <a:rect l="l" t="t" r="r" b="b"/>
                  <a:pathLst>
                    <a:path w="893" h="1250">
                      <a:moveTo>
                        <a:pt x="769" y="0"/>
                      </a:moveTo>
                      <a:lnTo>
                        <a:pt x="789" y="63"/>
                      </a:lnTo>
                      <a:lnTo>
                        <a:pt x="806" y="85"/>
                      </a:lnTo>
                      <a:lnTo>
                        <a:pt x="809" y="146"/>
                      </a:lnTo>
                      <a:lnTo>
                        <a:pt x="809" y="225"/>
                      </a:lnTo>
                      <a:lnTo>
                        <a:pt x="851" y="287"/>
                      </a:lnTo>
                      <a:lnTo>
                        <a:pt x="877" y="317"/>
                      </a:lnTo>
                      <a:lnTo>
                        <a:pt x="893" y="391"/>
                      </a:lnTo>
                      <a:lnTo>
                        <a:pt x="826" y="469"/>
                      </a:lnTo>
                      <a:lnTo>
                        <a:pt x="794" y="560"/>
                      </a:lnTo>
                      <a:lnTo>
                        <a:pt x="789" y="597"/>
                      </a:lnTo>
                      <a:lnTo>
                        <a:pt x="782" y="667"/>
                      </a:lnTo>
                      <a:lnTo>
                        <a:pt x="761" y="757"/>
                      </a:lnTo>
                      <a:lnTo>
                        <a:pt x="749" y="807"/>
                      </a:lnTo>
                      <a:lnTo>
                        <a:pt x="735" y="844"/>
                      </a:lnTo>
                      <a:lnTo>
                        <a:pt x="724" y="936"/>
                      </a:lnTo>
                      <a:lnTo>
                        <a:pt x="715" y="983"/>
                      </a:lnTo>
                      <a:lnTo>
                        <a:pt x="704" y="1024"/>
                      </a:lnTo>
                      <a:lnTo>
                        <a:pt x="689" y="1094"/>
                      </a:lnTo>
                      <a:lnTo>
                        <a:pt x="669" y="1147"/>
                      </a:lnTo>
                      <a:lnTo>
                        <a:pt x="617" y="1227"/>
                      </a:lnTo>
                      <a:lnTo>
                        <a:pt x="580" y="1212"/>
                      </a:lnTo>
                      <a:lnTo>
                        <a:pt x="548" y="1207"/>
                      </a:lnTo>
                      <a:lnTo>
                        <a:pt x="520" y="1225"/>
                      </a:lnTo>
                      <a:lnTo>
                        <a:pt x="487" y="1250"/>
                      </a:lnTo>
                      <a:lnTo>
                        <a:pt x="450" y="1250"/>
                      </a:lnTo>
                      <a:lnTo>
                        <a:pt x="390" y="1213"/>
                      </a:lnTo>
                      <a:lnTo>
                        <a:pt x="340" y="1206"/>
                      </a:lnTo>
                      <a:lnTo>
                        <a:pt x="293" y="1183"/>
                      </a:lnTo>
                      <a:lnTo>
                        <a:pt x="266" y="1141"/>
                      </a:lnTo>
                      <a:lnTo>
                        <a:pt x="239" y="1131"/>
                      </a:lnTo>
                      <a:lnTo>
                        <a:pt x="199" y="1126"/>
                      </a:lnTo>
                      <a:lnTo>
                        <a:pt x="189" y="1076"/>
                      </a:lnTo>
                      <a:lnTo>
                        <a:pt x="174" y="1055"/>
                      </a:lnTo>
                      <a:lnTo>
                        <a:pt x="134" y="1049"/>
                      </a:lnTo>
                      <a:lnTo>
                        <a:pt x="97" y="1063"/>
                      </a:lnTo>
                      <a:lnTo>
                        <a:pt x="40" y="1102"/>
                      </a:lnTo>
                      <a:lnTo>
                        <a:pt x="7" y="1107"/>
                      </a:lnTo>
                      <a:lnTo>
                        <a:pt x="0" y="1084"/>
                      </a:lnTo>
                      <a:lnTo>
                        <a:pt x="10" y="1060"/>
                      </a:lnTo>
                      <a:lnTo>
                        <a:pt x="64" y="1010"/>
                      </a:lnTo>
                      <a:lnTo>
                        <a:pt x="117" y="977"/>
                      </a:lnTo>
                      <a:lnTo>
                        <a:pt x="176" y="945"/>
                      </a:lnTo>
                      <a:lnTo>
                        <a:pt x="208" y="924"/>
                      </a:lnTo>
                      <a:lnTo>
                        <a:pt x="241" y="861"/>
                      </a:lnTo>
                      <a:lnTo>
                        <a:pt x="279" y="792"/>
                      </a:lnTo>
                      <a:lnTo>
                        <a:pt x="326" y="760"/>
                      </a:lnTo>
                      <a:lnTo>
                        <a:pt x="383" y="686"/>
                      </a:lnTo>
                      <a:lnTo>
                        <a:pt x="443" y="614"/>
                      </a:lnTo>
                      <a:lnTo>
                        <a:pt x="487" y="545"/>
                      </a:lnTo>
                      <a:lnTo>
                        <a:pt x="502" y="480"/>
                      </a:lnTo>
                      <a:lnTo>
                        <a:pt x="520" y="396"/>
                      </a:lnTo>
                      <a:lnTo>
                        <a:pt x="542" y="338"/>
                      </a:lnTo>
                      <a:lnTo>
                        <a:pt x="597" y="268"/>
                      </a:lnTo>
                      <a:lnTo>
                        <a:pt x="655" y="179"/>
                      </a:lnTo>
                      <a:lnTo>
                        <a:pt x="694" y="114"/>
                      </a:lnTo>
                      <a:lnTo>
                        <a:pt x="730" y="58"/>
                      </a:lnTo>
                      <a:lnTo>
                        <a:pt x="747" y="24"/>
                      </a:lnTo>
                      <a:lnTo>
                        <a:pt x="76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5440320" y="2765520"/>
                  <a:ext cx="118440" cy="76680"/>
                </a:xfrm>
                <a:custGeom>
                  <a:avLst/>
                  <a:gdLst/>
                  <a:ahLst/>
                  <a:rect l="l" t="t" r="r" b="b"/>
                  <a:pathLst>
                    <a:path w="227" h="143">
                      <a:moveTo>
                        <a:pt x="32" y="142"/>
                      </a:moveTo>
                      <a:lnTo>
                        <a:pt x="7" y="115"/>
                      </a:lnTo>
                      <a:lnTo>
                        <a:pt x="0" y="77"/>
                      </a:lnTo>
                      <a:lnTo>
                        <a:pt x="13" y="38"/>
                      </a:lnTo>
                      <a:lnTo>
                        <a:pt x="38" y="9"/>
                      </a:lnTo>
                      <a:lnTo>
                        <a:pt x="75" y="43"/>
                      </a:lnTo>
                      <a:lnTo>
                        <a:pt x="102" y="26"/>
                      </a:lnTo>
                      <a:lnTo>
                        <a:pt x="120" y="0"/>
                      </a:lnTo>
                      <a:lnTo>
                        <a:pt x="147" y="14"/>
                      </a:lnTo>
                      <a:lnTo>
                        <a:pt x="154" y="15"/>
                      </a:lnTo>
                      <a:lnTo>
                        <a:pt x="162" y="44"/>
                      </a:lnTo>
                      <a:lnTo>
                        <a:pt x="185" y="52"/>
                      </a:lnTo>
                      <a:lnTo>
                        <a:pt x="227" y="46"/>
                      </a:lnTo>
                      <a:lnTo>
                        <a:pt x="220" y="89"/>
                      </a:lnTo>
                      <a:lnTo>
                        <a:pt x="187" y="119"/>
                      </a:lnTo>
                      <a:lnTo>
                        <a:pt x="144" y="143"/>
                      </a:lnTo>
                      <a:lnTo>
                        <a:pt x="129" y="130"/>
                      </a:lnTo>
                      <a:lnTo>
                        <a:pt x="108" y="124"/>
                      </a:lnTo>
                      <a:lnTo>
                        <a:pt x="98" y="140"/>
                      </a:lnTo>
                      <a:lnTo>
                        <a:pt x="82" y="142"/>
                      </a:lnTo>
                      <a:lnTo>
                        <a:pt x="68" y="134"/>
                      </a:lnTo>
                      <a:lnTo>
                        <a:pt x="52" y="142"/>
                      </a:lnTo>
                      <a:lnTo>
                        <a:pt x="32" y="1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5029200" y="2784960"/>
                  <a:ext cx="439920" cy="700200"/>
                </a:xfrm>
                <a:custGeom>
                  <a:avLst/>
                  <a:gdLst/>
                  <a:ahLst/>
                  <a:rect l="l" t="t" r="r" b="b"/>
                  <a:pathLst>
                    <a:path w="847" h="1294">
                      <a:moveTo>
                        <a:pt x="742" y="61"/>
                      </a:moveTo>
                      <a:lnTo>
                        <a:pt x="789" y="0"/>
                      </a:lnTo>
                      <a:lnTo>
                        <a:pt x="792" y="37"/>
                      </a:lnTo>
                      <a:lnTo>
                        <a:pt x="784" y="55"/>
                      </a:lnTo>
                      <a:lnTo>
                        <a:pt x="727" y="132"/>
                      </a:lnTo>
                      <a:lnTo>
                        <a:pt x="690" y="204"/>
                      </a:lnTo>
                      <a:lnTo>
                        <a:pt x="645" y="266"/>
                      </a:lnTo>
                      <a:lnTo>
                        <a:pt x="606" y="327"/>
                      </a:lnTo>
                      <a:lnTo>
                        <a:pt x="563" y="389"/>
                      </a:lnTo>
                      <a:lnTo>
                        <a:pt x="563" y="395"/>
                      </a:lnTo>
                      <a:lnTo>
                        <a:pt x="538" y="455"/>
                      </a:lnTo>
                      <a:lnTo>
                        <a:pt x="528" y="508"/>
                      </a:lnTo>
                      <a:lnTo>
                        <a:pt x="516" y="565"/>
                      </a:lnTo>
                      <a:lnTo>
                        <a:pt x="495" y="612"/>
                      </a:lnTo>
                      <a:lnTo>
                        <a:pt x="466" y="654"/>
                      </a:lnTo>
                      <a:lnTo>
                        <a:pt x="429" y="702"/>
                      </a:lnTo>
                      <a:lnTo>
                        <a:pt x="386" y="749"/>
                      </a:lnTo>
                      <a:lnTo>
                        <a:pt x="351" y="800"/>
                      </a:lnTo>
                      <a:lnTo>
                        <a:pt x="351" y="806"/>
                      </a:lnTo>
                      <a:lnTo>
                        <a:pt x="312" y="829"/>
                      </a:lnTo>
                      <a:lnTo>
                        <a:pt x="286" y="859"/>
                      </a:lnTo>
                      <a:lnTo>
                        <a:pt x="267" y="906"/>
                      </a:lnTo>
                      <a:lnTo>
                        <a:pt x="264" y="912"/>
                      </a:lnTo>
                      <a:lnTo>
                        <a:pt x="241" y="954"/>
                      </a:lnTo>
                      <a:lnTo>
                        <a:pt x="229" y="970"/>
                      </a:lnTo>
                      <a:lnTo>
                        <a:pt x="199" y="985"/>
                      </a:lnTo>
                      <a:lnTo>
                        <a:pt x="157" y="1003"/>
                      </a:lnTo>
                      <a:lnTo>
                        <a:pt x="110" y="1029"/>
                      </a:lnTo>
                      <a:lnTo>
                        <a:pt x="79" y="1055"/>
                      </a:lnTo>
                      <a:lnTo>
                        <a:pt x="74" y="1061"/>
                      </a:lnTo>
                      <a:lnTo>
                        <a:pt x="47" y="1083"/>
                      </a:lnTo>
                      <a:lnTo>
                        <a:pt x="32" y="1106"/>
                      </a:lnTo>
                      <a:lnTo>
                        <a:pt x="33" y="1115"/>
                      </a:lnTo>
                      <a:lnTo>
                        <a:pt x="55" y="1119"/>
                      </a:lnTo>
                      <a:lnTo>
                        <a:pt x="79" y="1106"/>
                      </a:lnTo>
                      <a:lnTo>
                        <a:pt x="120" y="1079"/>
                      </a:lnTo>
                      <a:lnTo>
                        <a:pt x="165" y="1067"/>
                      </a:lnTo>
                      <a:lnTo>
                        <a:pt x="195" y="1070"/>
                      </a:lnTo>
                      <a:lnTo>
                        <a:pt x="216" y="1085"/>
                      </a:lnTo>
                      <a:lnTo>
                        <a:pt x="224" y="1112"/>
                      </a:lnTo>
                      <a:lnTo>
                        <a:pt x="224" y="1134"/>
                      </a:lnTo>
                      <a:lnTo>
                        <a:pt x="236" y="1148"/>
                      </a:lnTo>
                      <a:lnTo>
                        <a:pt x="267" y="1153"/>
                      </a:lnTo>
                      <a:lnTo>
                        <a:pt x="294" y="1162"/>
                      </a:lnTo>
                      <a:lnTo>
                        <a:pt x="307" y="1178"/>
                      </a:lnTo>
                      <a:lnTo>
                        <a:pt x="316" y="1199"/>
                      </a:lnTo>
                      <a:lnTo>
                        <a:pt x="329" y="1213"/>
                      </a:lnTo>
                      <a:lnTo>
                        <a:pt x="359" y="1225"/>
                      </a:lnTo>
                      <a:lnTo>
                        <a:pt x="386" y="1229"/>
                      </a:lnTo>
                      <a:lnTo>
                        <a:pt x="413" y="1235"/>
                      </a:lnTo>
                      <a:lnTo>
                        <a:pt x="438" y="1247"/>
                      </a:lnTo>
                      <a:lnTo>
                        <a:pt x="451" y="1258"/>
                      </a:lnTo>
                      <a:lnTo>
                        <a:pt x="481" y="1270"/>
                      </a:lnTo>
                      <a:lnTo>
                        <a:pt x="510" y="1264"/>
                      </a:lnTo>
                      <a:lnTo>
                        <a:pt x="528" y="1250"/>
                      </a:lnTo>
                      <a:lnTo>
                        <a:pt x="546" y="1229"/>
                      </a:lnTo>
                      <a:lnTo>
                        <a:pt x="563" y="1223"/>
                      </a:lnTo>
                      <a:lnTo>
                        <a:pt x="596" y="1220"/>
                      </a:lnTo>
                      <a:lnTo>
                        <a:pt x="615" y="1231"/>
                      </a:lnTo>
                      <a:lnTo>
                        <a:pt x="628" y="1237"/>
                      </a:lnTo>
                      <a:lnTo>
                        <a:pt x="648" y="1213"/>
                      </a:lnTo>
                      <a:lnTo>
                        <a:pt x="673" y="1165"/>
                      </a:lnTo>
                      <a:lnTo>
                        <a:pt x="690" y="1125"/>
                      </a:lnTo>
                      <a:lnTo>
                        <a:pt x="698" y="1088"/>
                      </a:lnTo>
                      <a:lnTo>
                        <a:pt x="705" y="1049"/>
                      </a:lnTo>
                      <a:lnTo>
                        <a:pt x="713" y="1017"/>
                      </a:lnTo>
                      <a:lnTo>
                        <a:pt x="725" y="982"/>
                      </a:lnTo>
                      <a:lnTo>
                        <a:pt x="730" y="927"/>
                      </a:lnTo>
                      <a:lnTo>
                        <a:pt x="745" y="853"/>
                      </a:lnTo>
                      <a:lnTo>
                        <a:pt x="764" y="806"/>
                      </a:lnTo>
                      <a:lnTo>
                        <a:pt x="770" y="772"/>
                      </a:lnTo>
                      <a:lnTo>
                        <a:pt x="779" y="723"/>
                      </a:lnTo>
                      <a:lnTo>
                        <a:pt x="790" y="662"/>
                      </a:lnTo>
                      <a:lnTo>
                        <a:pt x="792" y="615"/>
                      </a:lnTo>
                      <a:lnTo>
                        <a:pt x="804" y="568"/>
                      </a:lnTo>
                      <a:lnTo>
                        <a:pt x="814" y="541"/>
                      </a:lnTo>
                      <a:lnTo>
                        <a:pt x="824" y="500"/>
                      </a:lnTo>
                      <a:lnTo>
                        <a:pt x="847" y="470"/>
                      </a:lnTo>
                      <a:lnTo>
                        <a:pt x="844" y="514"/>
                      </a:lnTo>
                      <a:lnTo>
                        <a:pt x="817" y="612"/>
                      </a:lnTo>
                      <a:lnTo>
                        <a:pt x="809" y="674"/>
                      </a:lnTo>
                      <a:lnTo>
                        <a:pt x="792" y="750"/>
                      </a:lnTo>
                      <a:lnTo>
                        <a:pt x="777" y="824"/>
                      </a:lnTo>
                      <a:lnTo>
                        <a:pt x="758" y="868"/>
                      </a:lnTo>
                      <a:lnTo>
                        <a:pt x="755" y="930"/>
                      </a:lnTo>
                      <a:lnTo>
                        <a:pt x="748" y="976"/>
                      </a:lnTo>
                      <a:lnTo>
                        <a:pt x="743" y="1006"/>
                      </a:lnTo>
                      <a:lnTo>
                        <a:pt x="732" y="1038"/>
                      </a:lnTo>
                      <a:lnTo>
                        <a:pt x="727" y="1073"/>
                      </a:lnTo>
                      <a:lnTo>
                        <a:pt x="717" y="1125"/>
                      </a:lnTo>
                      <a:lnTo>
                        <a:pt x="700" y="1171"/>
                      </a:lnTo>
                      <a:lnTo>
                        <a:pt x="687" y="1202"/>
                      </a:lnTo>
                      <a:lnTo>
                        <a:pt x="665" y="1238"/>
                      </a:lnTo>
                      <a:lnTo>
                        <a:pt x="645" y="1272"/>
                      </a:lnTo>
                      <a:lnTo>
                        <a:pt x="621" y="1273"/>
                      </a:lnTo>
                      <a:lnTo>
                        <a:pt x="600" y="1261"/>
                      </a:lnTo>
                      <a:lnTo>
                        <a:pt x="573" y="1249"/>
                      </a:lnTo>
                      <a:lnTo>
                        <a:pt x="553" y="1259"/>
                      </a:lnTo>
                      <a:lnTo>
                        <a:pt x="525" y="1284"/>
                      </a:lnTo>
                      <a:lnTo>
                        <a:pt x="498" y="1294"/>
                      </a:lnTo>
                      <a:lnTo>
                        <a:pt x="466" y="1294"/>
                      </a:lnTo>
                      <a:lnTo>
                        <a:pt x="444" y="1282"/>
                      </a:lnTo>
                      <a:lnTo>
                        <a:pt x="423" y="1267"/>
                      </a:lnTo>
                      <a:lnTo>
                        <a:pt x="393" y="1255"/>
                      </a:lnTo>
                      <a:lnTo>
                        <a:pt x="368" y="1253"/>
                      </a:lnTo>
                      <a:lnTo>
                        <a:pt x="361" y="1253"/>
                      </a:lnTo>
                      <a:lnTo>
                        <a:pt x="336" y="1243"/>
                      </a:lnTo>
                      <a:lnTo>
                        <a:pt x="314" y="1232"/>
                      </a:lnTo>
                      <a:lnTo>
                        <a:pt x="296" y="1219"/>
                      </a:lnTo>
                      <a:lnTo>
                        <a:pt x="281" y="1196"/>
                      </a:lnTo>
                      <a:lnTo>
                        <a:pt x="271" y="1180"/>
                      </a:lnTo>
                      <a:lnTo>
                        <a:pt x="254" y="1172"/>
                      </a:lnTo>
                      <a:lnTo>
                        <a:pt x="224" y="1172"/>
                      </a:lnTo>
                      <a:lnTo>
                        <a:pt x="204" y="1165"/>
                      </a:lnTo>
                      <a:lnTo>
                        <a:pt x="197" y="1147"/>
                      </a:lnTo>
                      <a:lnTo>
                        <a:pt x="192" y="1119"/>
                      </a:lnTo>
                      <a:lnTo>
                        <a:pt x="189" y="1103"/>
                      </a:lnTo>
                      <a:lnTo>
                        <a:pt x="175" y="1095"/>
                      </a:lnTo>
                      <a:lnTo>
                        <a:pt x="145" y="1094"/>
                      </a:lnTo>
                      <a:lnTo>
                        <a:pt x="105" y="1112"/>
                      </a:lnTo>
                      <a:lnTo>
                        <a:pt x="65" y="1141"/>
                      </a:lnTo>
                      <a:lnTo>
                        <a:pt x="33" y="1150"/>
                      </a:lnTo>
                      <a:lnTo>
                        <a:pt x="25" y="1153"/>
                      </a:lnTo>
                      <a:lnTo>
                        <a:pt x="7" y="1142"/>
                      </a:lnTo>
                      <a:lnTo>
                        <a:pt x="0" y="1124"/>
                      </a:lnTo>
                      <a:lnTo>
                        <a:pt x="3" y="1095"/>
                      </a:lnTo>
                      <a:lnTo>
                        <a:pt x="20" y="1076"/>
                      </a:lnTo>
                      <a:lnTo>
                        <a:pt x="55" y="1044"/>
                      </a:lnTo>
                      <a:lnTo>
                        <a:pt x="97" y="1017"/>
                      </a:lnTo>
                      <a:lnTo>
                        <a:pt x="139" y="988"/>
                      </a:lnTo>
                      <a:lnTo>
                        <a:pt x="189" y="964"/>
                      </a:lnTo>
                      <a:lnTo>
                        <a:pt x="209" y="946"/>
                      </a:lnTo>
                      <a:lnTo>
                        <a:pt x="234" y="912"/>
                      </a:lnTo>
                      <a:lnTo>
                        <a:pt x="256" y="868"/>
                      </a:lnTo>
                      <a:lnTo>
                        <a:pt x="271" y="836"/>
                      </a:lnTo>
                      <a:lnTo>
                        <a:pt x="282" y="818"/>
                      </a:lnTo>
                      <a:lnTo>
                        <a:pt x="312" y="794"/>
                      </a:lnTo>
                      <a:lnTo>
                        <a:pt x="334" y="779"/>
                      </a:lnTo>
                      <a:lnTo>
                        <a:pt x="364" y="738"/>
                      </a:lnTo>
                      <a:lnTo>
                        <a:pt x="391" y="707"/>
                      </a:lnTo>
                      <a:lnTo>
                        <a:pt x="429" y="660"/>
                      </a:lnTo>
                      <a:lnTo>
                        <a:pt x="456" y="624"/>
                      </a:lnTo>
                      <a:lnTo>
                        <a:pt x="484" y="573"/>
                      </a:lnTo>
                      <a:lnTo>
                        <a:pt x="503" y="526"/>
                      </a:lnTo>
                      <a:lnTo>
                        <a:pt x="515" y="460"/>
                      </a:lnTo>
                      <a:lnTo>
                        <a:pt x="525" y="424"/>
                      </a:lnTo>
                      <a:lnTo>
                        <a:pt x="550" y="359"/>
                      </a:lnTo>
                      <a:lnTo>
                        <a:pt x="588" y="303"/>
                      </a:lnTo>
                      <a:lnTo>
                        <a:pt x="638" y="232"/>
                      </a:lnTo>
                      <a:lnTo>
                        <a:pt x="678" y="174"/>
                      </a:lnTo>
                      <a:lnTo>
                        <a:pt x="707" y="118"/>
                      </a:lnTo>
                      <a:lnTo>
                        <a:pt x="738" y="73"/>
                      </a:lnTo>
                      <a:lnTo>
                        <a:pt x="742" y="6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433120" y="2757240"/>
                  <a:ext cx="133920" cy="93960"/>
                </a:xfrm>
                <a:custGeom>
                  <a:avLst/>
                  <a:gdLst/>
                  <a:ahLst/>
                  <a:rect l="l" t="t" r="r" b="b"/>
                  <a:pathLst>
                    <a:path w="257" h="173">
                      <a:moveTo>
                        <a:pt x="197" y="155"/>
                      </a:moveTo>
                      <a:lnTo>
                        <a:pt x="228" y="133"/>
                      </a:lnTo>
                      <a:lnTo>
                        <a:pt x="250" y="106"/>
                      </a:lnTo>
                      <a:lnTo>
                        <a:pt x="257" y="76"/>
                      </a:lnTo>
                      <a:lnTo>
                        <a:pt x="253" y="51"/>
                      </a:lnTo>
                      <a:lnTo>
                        <a:pt x="237" y="36"/>
                      </a:lnTo>
                      <a:lnTo>
                        <a:pt x="217" y="41"/>
                      </a:lnTo>
                      <a:lnTo>
                        <a:pt x="197" y="53"/>
                      </a:lnTo>
                      <a:lnTo>
                        <a:pt x="182" y="41"/>
                      </a:lnTo>
                      <a:lnTo>
                        <a:pt x="177" y="17"/>
                      </a:lnTo>
                      <a:lnTo>
                        <a:pt x="157" y="8"/>
                      </a:lnTo>
                      <a:lnTo>
                        <a:pt x="130" y="0"/>
                      </a:lnTo>
                      <a:lnTo>
                        <a:pt x="115" y="9"/>
                      </a:lnTo>
                      <a:lnTo>
                        <a:pt x="110" y="17"/>
                      </a:lnTo>
                      <a:lnTo>
                        <a:pt x="108" y="32"/>
                      </a:lnTo>
                      <a:lnTo>
                        <a:pt x="91" y="38"/>
                      </a:lnTo>
                      <a:lnTo>
                        <a:pt x="76" y="24"/>
                      </a:lnTo>
                      <a:lnTo>
                        <a:pt x="60" y="9"/>
                      </a:lnTo>
                      <a:lnTo>
                        <a:pt x="53" y="8"/>
                      </a:lnTo>
                      <a:lnTo>
                        <a:pt x="36" y="17"/>
                      </a:lnTo>
                      <a:lnTo>
                        <a:pt x="30" y="18"/>
                      </a:lnTo>
                      <a:lnTo>
                        <a:pt x="16" y="30"/>
                      </a:lnTo>
                      <a:lnTo>
                        <a:pt x="5" y="44"/>
                      </a:lnTo>
                      <a:lnTo>
                        <a:pt x="3" y="67"/>
                      </a:lnTo>
                      <a:lnTo>
                        <a:pt x="0" y="73"/>
                      </a:lnTo>
                      <a:lnTo>
                        <a:pt x="0" y="88"/>
                      </a:lnTo>
                      <a:lnTo>
                        <a:pt x="0" y="94"/>
                      </a:lnTo>
                      <a:lnTo>
                        <a:pt x="5" y="121"/>
                      </a:lnTo>
                      <a:lnTo>
                        <a:pt x="11" y="145"/>
                      </a:lnTo>
                      <a:lnTo>
                        <a:pt x="25" y="163"/>
                      </a:lnTo>
                      <a:lnTo>
                        <a:pt x="43" y="173"/>
                      </a:lnTo>
                      <a:lnTo>
                        <a:pt x="58" y="161"/>
                      </a:lnTo>
                      <a:lnTo>
                        <a:pt x="50" y="142"/>
                      </a:lnTo>
                      <a:lnTo>
                        <a:pt x="43" y="145"/>
                      </a:lnTo>
                      <a:lnTo>
                        <a:pt x="36" y="124"/>
                      </a:lnTo>
                      <a:lnTo>
                        <a:pt x="25" y="95"/>
                      </a:lnTo>
                      <a:lnTo>
                        <a:pt x="26" y="65"/>
                      </a:lnTo>
                      <a:lnTo>
                        <a:pt x="38" y="47"/>
                      </a:lnTo>
                      <a:lnTo>
                        <a:pt x="53" y="51"/>
                      </a:lnTo>
                      <a:lnTo>
                        <a:pt x="73" y="71"/>
                      </a:lnTo>
                      <a:lnTo>
                        <a:pt x="93" y="70"/>
                      </a:lnTo>
                      <a:lnTo>
                        <a:pt x="118" y="61"/>
                      </a:lnTo>
                      <a:lnTo>
                        <a:pt x="128" y="51"/>
                      </a:lnTo>
                      <a:lnTo>
                        <a:pt x="137" y="35"/>
                      </a:lnTo>
                      <a:lnTo>
                        <a:pt x="157" y="42"/>
                      </a:lnTo>
                      <a:lnTo>
                        <a:pt x="162" y="65"/>
                      </a:lnTo>
                      <a:lnTo>
                        <a:pt x="172" y="73"/>
                      </a:lnTo>
                      <a:lnTo>
                        <a:pt x="197" y="76"/>
                      </a:lnTo>
                      <a:lnTo>
                        <a:pt x="210" y="73"/>
                      </a:lnTo>
                      <a:lnTo>
                        <a:pt x="223" y="76"/>
                      </a:lnTo>
                      <a:lnTo>
                        <a:pt x="223" y="82"/>
                      </a:lnTo>
                      <a:lnTo>
                        <a:pt x="222" y="98"/>
                      </a:lnTo>
                      <a:lnTo>
                        <a:pt x="202" y="118"/>
                      </a:lnTo>
                      <a:lnTo>
                        <a:pt x="172" y="133"/>
                      </a:lnTo>
                      <a:lnTo>
                        <a:pt x="152" y="145"/>
                      </a:lnTo>
                      <a:lnTo>
                        <a:pt x="145" y="146"/>
                      </a:lnTo>
                      <a:lnTo>
                        <a:pt x="145" y="158"/>
                      </a:lnTo>
                      <a:lnTo>
                        <a:pt x="157" y="169"/>
                      </a:lnTo>
                      <a:lnTo>
                        <a:pt x="182" y="163"/>
                      </a:lnTo>
                      <a:lnTo>
                        <a:pt x="197" y="155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5145480" y="3081960"/>
                  <a:ext cx="184320" cy="270360"/>
                </a:xfrm>
                <a:custGeom>
                  <a:avLst/>
                  <a:gdLst/>
                  <a:ahLst/>
                  <a:rect l="l" t="t" r="r" b="b"/>
                  <a:pathLst>
                    <a:path w="356" h="500">
                      <a:moveTo>
                        <a:pt x="0" y="486"/>
                      </a:moveTo>
                      <a:lnTo>
                        <a:pt x="60" y="448"/>
                      </a:lnTo>
                      <a:lnTo>
                        <a:pt x="93" y="415"/>
                      </a:lnTo>
                      <a:lnTo>
                        <a:pt x="115" y="369"/>
                      </a:lnTo>
                      <a:lnTo>
                        <a:pt x="135" y="337"/>
                      </a:lnTo>
                      <a:lnTo>
                        <a:pt x="160" y="295"/>
                      </a:lnTo>
                      <a:lnTo>
                        <a:pt x="190" y="263"/>
                      </a:lnTo>
                      <a:lnTo>
                        <a:pt x="220" y="233"/>
                      </a:lnTo>
                      <a:lnTo>
                        <a:pt x="257" y="180"/>
                      </a:lnTo>
                      <a:lnTo>
                        <a:pt x="297" y="131"/>
                      </a:lnTo>
                      <a:lnTo>
                        <a:pt x="322" y="86"/>
                      </a:lnTo>
                      <a:lnTo>
                        <a:pt x="337" y="57"/>
                      </a:lnTo>
                      <a:lnTo>
                        <a:pt x="356" y="0"/>
                      </a:lnTo>
                      <a:lnTo>
                        <a:pt x="349" y="61"/>
                      </a:lnTo>
                      <a:lnTo>
                        <a:pt x="316" y="132"/>
                      </a:lnTo>
                      <a:lnTo>
                        <a:pt x="282" y="174"/>
                      </a:lnTo>
                      <a:lnTo>
                        <a:pt x="244" y="232"/>
                      </a:lnTo>
                      <a:lnTo>
                        <a:pt x="219" y="257"/>
                      </a:lnTo>
                      <a:lnTo>
                        <a:pt x="185" y="292"/>
                      </a:lnTo>
                      <a:lnTo>
                        <a:pt x="180" y="298"/>
                      </a:lnTo>
                      <a:lnTo>
                        <a:pt x="155" y="332"/>
                      </a:lnTo>
                      <a:lnTo>
                        <a:pt x="152" y="339"/>
                      </a:lnTo>
                      <a:lnTo>
                        <a:pt x="125" y="394"/>
                      </a:lnTo>
                      <a:lnTo>
                        <a:pt x="100" y="433"/>
                      </a:lnTo>
                      <a:lnTo>
                        <a:pt x="75" y="461"/>
                      </a:lnTo>
                      <a:lnTo>
                        <a:pt x="13" y="500"/>
                      </a:lnTo>
                      <a:lnTo>
                        <a:pt x="0" y="48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5277240" y="3131640"/>
                  <a:ext cx="108720" cy="277920"/>
                </a:xfrm>
                <a:custGeom>
                  <a:avLst/>
                  <a:gdLst/>
                  <a:ahLst/>
                  <a:rect l="l" t="t" r="r" b="b"/>
                  <a:pathLst>
                    <a:path w="210" h="513">
                      <a:moveTo>
                        <a:pt x="115" y="237"/>
                      </a:moveTo>
                      <a:lnTo>
                        <a:pt x="137" y="183"/>
                      </a:lnTo>
                      <a:lnTo>
                        <a:pt x="177" y="108"/>
                      </a:lnTo>
                      <a:lnTo>
                        <a:pt x="184" y="61"/>
                      </a:lnTo>
                      <a:lnTo>
                        <a:pt x="210" y="0"/>
                      </a:lnTo>
                      <a:lnTo>
                        <a:pt x="195" y="69"/>
                      </a:lnTo>
                      <a:lnTo>
                        <a:pt x="190" y="125"/>
                      </a:lnTo>
                      <a:lnTo>
                        <a:pt x="150" y="198"/>
                      </a:lnTo>
                      <a:lnTo>
                        <a:pt x="128" y="256"/>
                      </a:lnTo>
                      <a:lnTo>
                        <a:pt x="112" y="307"/>
                      </a:lnTo>
                      <a:lnTo>
                        <a:pt x="95" y="355"/>
                      </a:lnTo>
                      <a:lnTo>
                        <a:pt x="93" y="361"/>
                      </a:lnTo>
                      <a:lnTo>
                        <a:pt x="68" y="399"/>
                      </a:lnTo>
                      <a:lnTo>
                        <a:pt x="45" y="448"/>
                      </a:lnTo>
                      <a:lnTo>
                        <a:pt x="27" y="492"/>
                      </a:lnTo>
                      <a:lnTo>
                        <a:pt x="18" y="513"/>
                      </a:lnTo>
                      <a:lnTo>
                        <a:pt x="0" y="513"/>
                      </a:lnTo>
                      <a:lnTo>
                        <a:pt x="3" y="497"/>
                      </a:lnTo>
                      <a:lnTo>
                        <a:pt x="20" y="451"/>
                      </a:lnTo>
                      <a:lnTo>
                        <a:pt x="45" y="397"/>
                      </a:lnTo>
                      <a:lnTo>
                        <a:pt x="63" y="361"/>
                      </a:lnTo>
                      <a:lnTo>
                        <a:pt x="80" y="343"/>
                      </a:lnTo>
                      <a:lnTo>
                        <a:pt x="95" y="292"/>
                      </a:lnTo>
                      <a:lnTo>
                        <a:pt x="108" y="254"/>
                      </a:lnTo>
                      <a:lnTo>
                        <a:pt x="115" y="23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7" name=""/>
              <p:cNvGrpSpPr/>
              <p:nvPr/>
            </p:nvGrpSpPr>
            <p:grpSpPr>
              <a:xfrm>
                <a:off x="5420520" y="2828880"/>
                <a:ext cx="333000" cy="772920"/>
                <a:chOff x="5420520" y="2828880"/>
                <a:chExt cx="333000" cy="772920"/>
              </a:xfrm>
            </p:grpSpPr>
            <p:sp>
              <p:nvSpPr>
                <p:cNvPr id="1898" name=""/>
                <p:cNvSpPr/>
                <p:nvPr/>
              </p:nvSpPr>
              <p:spPr>
                <a:xfrm>
                  <a:off x="5461920" y="3004200"/>
                  <a:ext cx="127440" cy="282600"/>
                </a:xfrm>
                <a:custGeom>
                  <a:avLst/>
                  <a:gdLst/>
                  <a:ahLst/>
                  <a:rect l="l" t="t" r="r" b="b"/>
                  <a:pathLst>
                    <a:path w="245" h="521">
                      <a:moveTo>
                        <a:pt x="53" y="10"/>
                      </a:moveTo>
                      <a:lnTo>
                        <a:pt x="60" y="7"/>
                      </a:lnTo>
                      <a:lnTo>
                        <a:pt x="98" y="0"/>
                      </a:lnTo>
                      <a:lnTo>
                        <a:pt x="125" y="7"/>
                      </a:lnTo>
                      <a:lnTo>
                        <a:pt x="132" y="7"/>
                      </a:lnTo>
                      <a:lnTo>
                        <a:pt x="162" y="21"/>
                      </a:lnTo>
                      <a:lnTo>
                        <a:pt x="187" y="51"/>
                      </a:lnTo>
                      <a:lnTo>
                        <a:pt x="210" y="90"/>
                      </a:lnTo>
                      <a:lnTo>
                        <a:pt x="222" y="132"/>
                      </a:lnTo>
                      <a:lnTo>
                        <a:pt x="234" y="177"/>
                      </a:lnTo>
                      <a:lnTo>
                        <a:pt x="240" y="221"/>
                      </a:lnTo>
                      <a:lnTo>
                        <a:pt x="245" y="265"/>
                      </a:lnTo>
                      <a:lnTo>
                        <a:pt x="245" y="302"/>
                      </a:lnTo>
                      <a:lnTo>
                        <a:pt x="245" y="346"/>
                      </a:lnTo>
                      <a:lnTo>
                        <a:pt x="240" y="390"/>
                      </a:lnTo>
                      <a:lnTo>
                        <a:pt x="229" y="433"/>
                      </a:lnTo>
                      <a:lnTo>
                        <a:pt x="215" y="457"/>
                      </a:lnTo>
                      <a:lnTo>
                        <a:pt x="197" y="488"/>
                      </a:lnTo>
                      <a:lnTo>
                        <a:pt x="180" y="504"/>
                      </a:lnTo>
                      <a:lnTo>
                        <a:pt x="150" y="513"/>
                      </a:lnTo>
                      <a:lnTo>
                        <a:pt x="112" y="521"/>
                      </a:lnTo>
                      <a:lnTo>
                        <a:pt x="73" y="516"/>
                      </a:lnTo>
                      <a:lnTo>
                        <a:pt x="45" y="506"/>
                      </a:lnTo>
                      <a:lnTo>
                        <a:pt x="20" y="480"/>
                      </a:lnTo>
                      <a:lnTo>
                        <a:pt x="13" y="445"/>
                      </a:lnTo>
                      <a:lnTo>
                        <a:pt x="13" y="414"/>
                      </a:lnTo>
                      <a:lnTo>
                        <a:pt x="20" y="370"/>
                      </a:lnTo>
                      <a:lnTo>
                        <a:pt x="35" y="335"/>
                      </a:lnTo>
                      <a:lnTo>
                        <a:pt x="48" y="308"/>
                      </a:lnTo>
                      <a:lnTo>
                        <a:pt x="51" y="287"/>
                      </a:lnTo>
                      <a:lnTo>
                        <a:pt x="53" y="265"/>
                      </a:lnTo>
                      <a:lnTo>
                        <a:pt x="48" y="241"/>
                      </a:lnTo>
                      <a:lnTo>
                        <a:pt x="33" y="207"/>
                      </a:lnTo>
                      <a:lnTo>
                        <a:pt x="25" y="177"/>
                      </a:lnTo>
                      <a:lnTo>
                        <a:pt x="15" y="150"/>
                      </a:lnTo>
                      <a:lnTo>
                        <a:pt x="6" y="116"/>
                      </a:lnTo>
                      <a:lnTo>
                        <a:pt x="0" y="90"/>
                      </a:lnTo>
                      <a:lnTo>
                        <a:pt x="1" y="60"/>
                      </a:lnTo>
                      <a:lnTo>
                        <a:pt x="8" y="39"/>
                      </a:lnTo>
                      <a:lnTo>
                        <a:pt x="28" y="25"/>
                      </a:lnTo>
                      <a:lnTo>
                        <a:pt x="45" y="15"/>
                      </a:lnTo>
                      <a:lnTo>
                        <a:pt x="5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5505480" y="3017160"/>
                  <a:ext cx="248040" cy="222840"/>
                </a:xfrm>
                <a:custGeom>
                  <a:avLst/>
                  <a:gdLst/>
                  <a:ahLst/>
                  <a:rect l="l" t="t" r="r" b="b"/>
                  <a:pathLst>
                    <a:path w="478" h="411">
                      <a:moveTo>
                        <a:pt x="33" y="0"/>
                      </a:moveTo>
                      <a:lnTo>
                        <a:pt x="77" y="18"/>
                      </a:lnTo>
                      <a:lnTo>
                        <a:pt x="105" y="48"/>
                      </a:lnTo>
                      <a:lnTo>
                        <a:pt x="140" y="89"/>
                      </a:lnTo>
                      <a:lnTo>
                        <a:pt x="185" y="135"/>
                      </a:lnTo>
                      <a:lnTo>
                        <a:pt x="254" y="198"/>
                      </a:lnTo>
                      <a:lnTo>
                        <a:pt x="317" y="257"/>
                      </a:lnTo>
                      <a:lnTo>
                        <a:pt x="366" y="289"/>
                      </a:lnTo>
                      <a:lnTo>
                        <a:pt x="414" y="319"/>
                      </a:lnTo>
                      <a:lnTo>
                        <a:pt x="441" y="331"/>
                      </a:lnTo>
                      <a:lnTo>
                        <a:pt x="471" y="346"/>
                      </a:lnTo>
                      <a:lnTo>
                        <a:pt x="478" y="367"/>
                      </a:lnTo>
                      <a:lnTo>
                        <a:pt x="476" y="375"/>
                      </a:lnTo>
                      <a:lnTo>
                        <a:pt x="471" y="393"/>
                      </a:lnTo>
                      <a:lnTo>
                        <a:pt x="464" y="405"/>
                      </a:lnTo>
                      <a:lnTo>
                        <a:pt x="458" y="406"/>
                      </a:lnTo>
                      <a:lnTo>
                        <a:pt x="441" y="411"/>
                      </a:lnTo>
                      <a:lnTo>
                        <a:pt x="411" y="405"/>
                      </a:lnTo>
                      <a:lnTo>
                        <a:pt x="387" y="381"/>
                      </a:lnTo>
                      <a:lnTo>
                        <a:pt x="359" y="328"/>
                      </a:lnTo>
                      <a:lnTo>
                        <a:pt x="311" y="284"/>
                      </a:lnTo>
                      <a:lnTo>
                        <a:pt x="247" y="235"/>
                      </a:lnTo>
                      <a:lnTo>
                        <a:pt x="189" y="188"/>
                      </a:lnTo>
                      <a:lnTo>
                        <a:pt x="134" y="149"/>
                      </a:lnTo>
                      <a:lnTo>
                        <a:pt x="60" y="108"/>
                      </a:lnTo>
                      <a:lnTo>
                        <a:pt x="30" y="84"/>
                      </a:lnTo>
                      <a:lnTo>
                        <a:pt x="12" y="55"/>
                      </a:lnTo>
                      <a:lnTo>
                        <a:pt x="0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5471280" y="3047400"/>
                  <a:ext cx="277200" cy="186840"/>
                </a:xfrm>
                <a:custGeom>
                  <a:avLst/>
                  <a:gdLst/>
                  <a:ahLst/>
                  <a:rect l="l" t="t" r="r" b="b"/>
                  <a:pathLst>
                    <a:path w="535" h="347">
                      <a:moveTo>
                        <a:pt x="80" y="31"/>
                      </a:moveTo>
                      <a:lnTo>
                        <a:pt x="47" y="0"/>
                      </a:lnTo>
                      <a:lnTo>
                        <a:pt x="0" y="15"/>
                      </a:lnTo>
                      <a:lnTo>
                        <a:pt x="5" y="21"/>
                      </a:lnTo>
                      <a:lnTo>
                        <a:pt x="15" y="68"/>
                      </a:lnTo>
                      <a:lnTo>
                        <a:pt x="43" y="122"/>
                      </a:lnTo>
                      <a:lnTo>
                        <a:pt x="142" y="192"/>
                      </a:lnTo>
                      <a:lnTo>
                        <a:pt x="196" y="223"/>
                      </a:lnTo>
                      <a:lnTo>
                        <a:pt x="272" y="253"/>
                      </a:lnTo>
                      <a:lnTo>
                        <a:pt x="334" y="285"/>
                      </a:lnTo>
                      <a:lnTo>
                        <a:pt x="383" y="309"/>
                      </a:lnTo>
                      <a:lnTo>
                        <a:pt x="431" y="329"/>
                      </a:lnTo>
                      <a:lnTo>
                        <a:pt x="470" y="345"/>
                      </a:lnTo>
                      <a:lnTo>
                        <a:pt x="498" y="347"/>
                      </a:lnTo>
                      <a:lnTo>
                        <a:pt x="521" y="344"/>
                      </a:lnTo>
                      <a:lnTo>
                        <a:pt x="535" y="315"/>
                      </a:lnTo>
                      <a:lnTo>
                        <a:pt x="526" y="299"/>
                      </a:lnTo>
                      <a:lnTo>
                        <a:pt x="501" y="285"/>
                      </a:lnTo>
                      <a:lnTo>
                        <a:pt x="468" y="278"/>
                      </a:lnTo>
                      <a:lnTo>
                        <a:pt x="441" y="276"/>
                      </a:lnTo>
                      <a:lnTo>
                        <a:pt x="398" y="268"/>
                      </a:lnTo>
                      <a:lnTo>
                        <a:pt x="341" y="253"/>
                      </a:lnTo>
                      <a:lnTo>
                        <a:pt x="282" y="228"/>
                      </a:lnTo>
                      <a:lnTo>
                        <a:pt x="229" y="193"/>
                      </a:lnTo>
                      <a:lnTo>
                        <a:pt x="182" y="148"/>
                      </a:lnTo>
                      <a:lnTo>
                        <a:pt x="137" y="100"/>
                      </a:lnTo>
                      <a:lnTo>
                        <a:pt x="97" y="52"/>
                      </a:lnTo>
                      <a:lnTo>
                        <a:pt x="8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5432760" y="2828880"/>
                  <a:ext cx="185760" cy="152640"/>
                </a:xfrm>
                <a:custGeom>
                  <a:avLst/>
                  <a:gdLst/>
                  <a:ahLst/>
                  <a:rect l="l" t="t" r="r" b="b"/>
                  <a:pathLst>
                    <a:path w="357" h="283">
                      <a:moveTo>
                        <a:pt x="225" y="112"/>
                      </a:moveTo>
                      <a:lnTo>
                        <a:pt x="212" y="76"/>
                      </a:lnTo>
                      <a:lnTo>
                        <a:pt x="197" y="39"/>
                      </a:lnTo>
                      <a:lnTo>
                        <a:pt x="172" y="17"/>
                      </a:lnTo>
                      <a:lnTo>
                        <a:pt x="145" y="5"/>
                      </a:lnTo>
                      <a:lnTo>
                        <a:pt x="106" y="0"/>
                      </a:lnTo>
                      <a:lnTo>
                        <a:pt x="70" y="8"/>
                      </a:lnTo>
                      <a:lnTo>
                        <a:pt x="40" y="23"/>
                      </a:lnTo>
                      <a:lnTo>
                        <a:pt x="20" y="52"/>
                      </a:lnTo>
                      <a:lnTo>
                        <a:pt x="6" y="88"/>
                      </a:lnTo>
                      <a:lnTo>
                        <a:pt x="1" y="124"/>
                      </a:lnTo>
                      <a:lnTo>
                        <a:pt x="0" y="158"/>
                      </a:lnTo>
                      <a:lnTo>
                        <a:pt x="0" y="164"/>
                      </a:lnTo>
                      <a:lnTo>
                        <a:pt x="11" y="199"/>
                      </a:lnTo>
                      <a:lnTo>
                        <a:pt x="30" y="232"/>
                      </a:lnTo>
                      <a:lnTo>
                        <a:pt x="55" y="264"/>
                      </a:lnTo>
                      <a:lnTo>
                        <a:pt x="88" y="282"/>
                      </a:lnTo>
                      <a:lnTo>
                        <a:pt x="120" y="283"/>
                      </a:lnTo>
                      <a:lnTo>
                        <a:pt x="153" y="283"/>
                      </a:lnTo>
                      <a:lnTo>
                        <a:pt x="180" y="279"/>
                      </a:lnTo>
                      <a:lnTo>
                        <a:pt x="198" y="264"/>
                      </a:lnTo>
                      <a:lnTo>
                        <a:pt x="215" y="243"/>
                      </a:lnTo>
                      <a:lnTo>
                        <a:pt x="230" y="223"/>
                      </a:lnTo>
                      <a:lnTo>
                        <a:pt x="235" y="199"/>
                      </a:lnTo>
                      <a:lnTo>
                        <a:pt x="237" y="178"/>
                      </a:lnTo>
                      <a:lnTo>
                        <a:pt x="240" y="146"/>
                      </a:lnTo>
                      <a:lnTo>
                        <a:pt x="280" y="155"/>
                      </a:lnTo>
                      <a:lnTo>
                        <a:pt x="324" y="161"/>
                      </a:lnTo>
                      <a:lnTo>
                        <a:pt x="349" y="160"/>
                      </a:lnTo>
                      <a:lnTo>
                        <a:pt x="357" y="148"/>
                      </a:lnTo>
                      <a:lnTo>
                        <a:pt x="352" y="130"/>
                      </a:lnTo>
                      <a:lnTo>
                        <a:pt x="344" y="116"/>
                      </a:lnTo>
                      <a:lnTo>
                        <a:pt x="317" y="110"/>
                      </a:lnTo>
                      <a:lnTo>
                        <a:pt x="285" y="110"/>
                      </a:lnTo>
                      <a:lnTo>
                        <a:pt x="253" y="107"/>
                      </a:lnTo>
                      <a:lnTo>
                        <a:pt x="225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5522040" y="3241080"/>
                  <a:ext cx="153720" cy="336600"/>
                </a:xfrm>
                <a:custGeom>
                  <a:avLst/>
                  <a:gdLst/>
                  <a:ahLst/>
                  <a:rect l="l" t="t" r="r" b="b"/>
                  <a:pathLst>
                    <a:path w="295" h="622">
                      <a:moveTo>
                        <a:pt x="18" y="0"/>
                      </a:moveTo>
                      <a:lnTo>
                        <a:pt x="53" y="2"/>
                      </a:lnTo>
                      <a:lnTo>
                        <a:pt x="60" y="6"/>
                      </a:lnTo>
                      <a:lnTo>
                        <a:pt x="83" y="15"/>
                      </a:lnTo>
                      <a:lnTo>
                        <a:pt x="105" y="53"/>
                      </a:lnTo>
                      <a:lnTo>
                        <a:pt x="128" y="101"/>
                      </a:lnTo>
                      <a:lnTo>
                        <a:pt x="142" y="152"/>
                      </a:lnTo>
                      <a:lnTo>
                        <a:pt x="150" y="205"/>
                      </a:lnTo>
                      <a:lnTo>
                        <a:pt x="148" y="255"/>
                      </a:lnTo>
                      <a:lnTo>
                        <a:pt x="142" y="308"/>
                      </a:lnTo>
                      <a:lnTo>
                        <a:pt x="137" y="369"/>
                      </a:lnTo>
                      <a:lnTo>
                        <a:pt x="137" y="375"/>
                      </a:lnTo>
                      <a:lnTo>
                        <a:pt x="123" y="425"/>
                      </a:lnTo>
                      <a:lnTo>
                        <a:pt x="115" y="464"/>
                      </a:lnTo>
                      <a:lnTo>
                        <a:pt x="110" y="496"/>
                      </a:lnTo>
                      <a:lnTo>
                        <a:pt x="118" y="517"/>
                      </a:lnTo>
                      <a:lnTo>
                        <a:pt x="147" y="530"/>
                      </a:lnTo>
                      <a:lnTo>
                        <a:pt x="192" y="549"/>
                      </a:lnTo>
                      <a:lnTo>
                        <a:pt x="247" y="561"/>
                      </a:lnTo>
                      <a:lnTo>
                        <a:pt x="285" y="570"/>
                      </a:lnTo>
                      <a:lnTo>
                        <a:pt x="295" y="589"/>
                      </a:lnTo>
                      <a:lnTo>
                        <a:pt x="285" y="607"/>
                      </a:lnTo>
                      <a:lnTo>
                        <a:pt x="257" y="622"/>
                      </a:lnTo>
                      <a:lnTo>
                        <a:pt x="215" y="618"/>
                      </a:lnTo>
                      <a:lnTo>
                        <a:pt x="192" y="595"/>
                      </a:lnTo>
                      <a:lnTo>
                        <a:pt x="135" y="577"/>
                      </a:lnTo>
                      <a:lnTo>
                        <a:pt x="93" y="576"/>
                      </a:lnTo>
                      <a:lnTo>
                        <a:pt x="60" y="570"/>
                      </a:lnTo>
                      <a:lnTo>
                        <a:pt x="41" y="552"/>
                      </a:lnTo>
                      <a:lnTo>
                        <a:pt x="40" y="530"/>
                      </a:lnTo>
                      <a:lnTo>
                        <a:pt x="51" y="506"/>
                      </a:lnTo>
                      <a:lnTo>
                        <a:pt x="70" y="481"/>
                      </a:lnTo>
                      <a:lnTo>
                        <a:pt x="71" y="442"/>
                      </a:lnTo>
                      <a:lnTo>
                        <a:pt x="71" y="383"/>
                      </a:lnTo>
                      <a:lnTo>
                        <a:pt x="76" y="348"/>
                      </a:lnTo>
                      <a:lnTo>
                        <a:pt x="83" y="324"/>
                      </a:lnTo>
                      <a:lnTo>
                        <a:pt x="93" y="306"/>
                      </a:lnTo>
                      <a:lnTo>
                        <a:pt x="93" y="279"/>
                      </a:lnTo>
                      <a:lnTo>
                        <a:pt x="86" y="247"/>
                      </a:lnTo>
                      <a:lnTo>
                        <a:pt x="70" y="213"/>
                      </a:lnTo>
                      <a:lnTo>
                        <a:pt x="48" y="171"/>
                      </a:lnTo>
                      <a:lnTo>
                        <a:pt x="26" y="119"/>
                      </a:lnTo>
                      <a:lnTo>
                        <a:pt x="8" y="77"/>
                      </a:lnTo>
                      <a:lnTo>
                        <a:pt x="0" y="50"/>
                      </a:lnTo>
                      <a:lnTo>
                        <a:pt x="0" y="1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5420520" y="3243600"/>
                  <a:ext cx="105840" cy="358200"/>
                </a:xfrm>
                <a:custGeom>
                  <a:avLst/>
                  <a:gdLst/>
                  <a:ahLst/>
                  <a:rect l="l" t="t" r="r" b="b"/>
                  <a:pathLst>
                    <a:path w="206" h="662">
                      <a:moveTo>
                        <a:pt x="112" y="34"/>
                      </a:moveTo>
                      <a:lnTo>
                        <a:pt x="122" y="6"/>
                      </a:lnTo>
                      <a:lnTo>
                        <a:pt x="151" y="0"/>
                      </a:lnTo>
                      <a:lnTo>
                        <a:pt x="189" y="10"/>
                      </a:lnTo>
                      <a:lnTo>
                        <a:pt x="206" y="42"/>
                      </a:lnTo>
                      <a:lnTo>
                        <a:pt x="196" y="99"/>
                      </a:lnTo>
                      <a:lnTo>
                        <a:pt x="183" y="170"/>
                      </a:lnTo>
                      <a:lnTo>
                        <a:pt x="163" y="235"/>
                      </a:lnTo>
                      <a:lnTo>
                        <a:pt x="137" y="280"/>
                      </a:lnTo>
                      <a:lnTo>
                        <a:pt x="126" y="322"/>
                      </a:lnTo>
                      <a:lnTo>
                        <a:pt x="126" y="369"/>
                      </a:lnTo>
                      <a:lnTo>
                        <a:pt x="129" y="405"/>
                      </a:lnTo>
                      <a:lnTo>
                        <a:pt x="124" y="440"/>
                      </a:lnTo>
                      <a:lnTo>
                        <a:pt x="116" y="479"/>
                      </a:lnTo>
                      <a:lnTo>
                        <a:pt x="102" y="515"/>
                      </a:lnTo>
                      <a:lnTo>
                        <a:pt x="84" y="548"/>
                      </a:lnTo>
                      <a:lnTo>
                        <a:pt x="84" y="566"/>
                      </a:lnTo>
                      <a:lnTo>
                        <a:pt x="99" y="581"/>
                      </a:lnTo>
                      <a:lnTo>
                        <a:pt x="129" y="604"/>
                      </a:lnTo>
                      <a:lnTo>
                        <a:pt x="189" y="625"/>
                      </a:lnTo>
                      <a:lnTo>
                        <a:pt x="196" y="632"/>
                      </a:lnTo>
                      <a:lnTo>
                        <a:pt x="196" y="646"/>
                      </a:lnTo>
                      <a:lnTo>
                        <a:pt x="169" y="661"/>
                      </a:lnTo>
                      <a:lnTo>
                        <a:pt x="163" y="662"/>
                      </a:lnTo>
                      <a:lnTo>
                        <a:pt x="112" y="661"/>
                      </a:lnTo>
                      <a:lnTo>
                        <a:pt x="91" y="644"/>
                      </a:lnTo>
                      <a:lnTo>
                        <a:pt x="64" y="613"/>
                      </a:lnTo>
                      <a:lnTo>
                        <a:pt x="36" y="598"/>
                      </a:lnTo>
                      <a:lnTo>
                        <a:pt x="7" y="580"/>
                      </a:lnTo>
                      <a:lnTo>
                        <a:pt x="0" y="554"/>
                      </a:lnTo>
                      <a:lnTo>
                        <a:pt x="9" y="531"/>
                      </a:lnTo>
                      <a:lnTo>
                        <a:pt x="39" y="516"/>
                      </a:lnTo>
                      <a:lnTo>
                        <a:pt x="54" y="504"/>
                      </a:lnTo>
                      <a:lnTo>
                        <a:pt x="71" y="461"/>
                      </a:lnTo>
                      <a:lnTo>
                        <a:pt x="74" y="414"/>
                      </a:lnTo>
                      <a:lnTo>
                        <a:pt x="81" y="364"/>
                      </a:lnTo>
                      <a:lnTo>
                        <a:pt x="74" y="310"/>
                      </a:lnTo>
                      <a:lnTo>
                        <a:pt x="74" y="275"/>
                      </a:lnTo>
                      <a:lnTo>
                        <a:pt x="81" y="241"/>
                      </a:lnTo>
                      <a:lnTo>
                        <a:pt x="106" y="179"/>
                      </a:lnTo>
                      <a:lnTo>
                        <a:pt x="112" y="126"/>
                      </a:lnTo>
                      <a:lnTo>
                        <a:pt x="111" y="71"/>
                      </a:lnTo>
                      <a:lnTo>
                        <a:pt x="11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4" name=""/>
              <p:cNvGrpSpPr/>
              <p:nvPr/>
            </p:nvGrpSpPr>
            <p:grpSpPr>
              <a:xfrm>
                <a:off x="5936760" y="2743200"/>
                <a:ext cx="203400" cy="177480"/>
                <a:chOff x="5936760" y="2743200"/>
                <a:chExt cx="203400" cy="1774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5936760" y="2743200"/>
                  <a:ext cx="203400" cy="177480"/>
                </a:xfrm>
                <a:custGeom>
                  <a:avLst/>
                  <a:gdLst/>
                  <a:ahLst/>
                  <a:rect l="l" t="t" r="r" b="b"/>
                  <a:pathLst>
                    <a:path w="392" h="326">
                      <a:moveTo>
                        <a:pt x="121" y="195"/>
                      </a:moveTo>
                      <a:lnTo>
                        <a:pt x="132" y="170"/>
                      </a:lnTo>
                      <a:lnTo>
                        <a:pt x="138" y="126"/>
                      </a:lnTo>
                      <a:lnTo>
                        <a:pt x="147" y="84"/>
                      </a:lnTo>
                      <a:lnTo>
                        <a:pt x="153" y="37"/>
                      </a:lnTo>
                      <a:lnTo>
                        <a:pt x="165" y="7"/>
                      </a:lnTo>
                      <a:lnTo>
                        <a:pt x="178" y="1"/>
                      </a:lnTo>
                      <a:lnTo>
                        <a:pt x="210" y="0"/>
                      </a:lnTo>
                      <a:lnTo>
                        <a:pt x="279" y="13"/>
                      </a:lnTo>
                      <a:lnTo>
                        <a:pt x="344" y="39"/>
                      </a:lnTo>
                      <a:lnTo>
                        <a:pt x="382" y="75"/>
                      </a:lnTo>
                      <a:lnTo>
                        <a:pt x="392" y="95"/>
                      </a:lnTo>
                      <a:lnTo>
                        <a:pt x="382" y="119"/>
                      </a:lnTo>
                      <a:lnTo>
                        <a:pt x="350" y="152"/>
                      </a:lnTo>
                      <a:lnTo>
                        <a:pt x="310" y="195"/>
                      </a:lnTo>
                      <a:lnTo>
                        <a:pt x="287" y="235"/>
                      </a:lnTo>
                      <a:lnTo>
                        <a:pt x="334" y="263"/>
                      </a:lnTo>
                      <a:lnTo>
                        <a:pt x="355" y="289"/>
                      </a:lnTo>
                      <a:lnTo>
                        <a:pt x="362" y="314"/>
                      </a:lnTo>
                      <a:lnTo>
                        <a:pt x="355" y="325"/>
                      </a:lnTo>
                      <a:lnTo>
                        <a:pt x="339" y="326"/>
                      </a:lnTo>
                      <a:lnTo>
                        <a:pt x="314" y="319"/>
                      </a:lnTo>
                      <a:lnTo>
                        <a:pt x="292" y="304"/>
                      </a:lnTo>
                      <a:lnTo>
                        <a:pt x="260" y="289"/>
                      </a:lnTo>
                      <a:lnTo>
                        <a:pt x="222" y="271"/>
                      </a:lnTo>
                      <a:lnTo>
                        <a:pt x="215" y="271"/>
                      </a:lnTo>
                      <a:lnTo>
                        <a:pt x="165" y="251"/>
                      </a:lnTo>
                      <a:lnTo>
                        <a:pt x="98" y="241"/>
                      </a:lnTo>
                      <a:lnTo>
                        <a:pt x="91" y="239"/>
                      </a:lnTo>
                      <a:lnTo>
                        <a:pt x="58" y="238"/>
                      </a:lnTo>
                      <a:lnTo>
                        <a:pt x="21" y="236"/>
                      </a:lnTo>
                      <a:lnTo>
                        <a:pt x="5" y="239"/>
                      </a:lnTo>
                      <a:lnTo>
                        <a:pt x="0" y="224"/>
                      </a:lnTo>
                      <a:lnTo>
                        <a:pt x="10" y="204"/>
                      </a:lnTo>
                      <a:lnTo>
                        <a:pt x="31" y="195"/>
                      </a:lnTo>
                      <a:lnTo>
                        <a:pt x="75" y="186"/>
                      </a:lnTo>
                      <a:lnTo>
                        <a:pt x="106" y="191"/>
                      </a:lnTo>
                      <a:lnTo>
                        <a:pt x="121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6009120" y="2824200"/>
                  <a:ext cx="81000" cy="43200"/>
                </a:xfrm>
                <a:custGeom>
                  <a:avLst/>
                  <a:gdLst/>
                  <a:ahLst/>
                  <a:rect l="l" t="t" r="r" b="b"/>
                  <a:pathLst>
                    <a:path w="155" h="80">
                      <a:moveTo>
                        <a:pt x="15" y="0"/>
                      </a:moveTo>
                      <a:lnTo>
                        <a:pt x="0" y="42"/>
                      </a:lnTo>
                      <a:lnTo>
                        <a:pt x="60" y="60"/>
                      </a:lnTo>
                      <a:lnTo>
                        <a:pt x="110" y="74"/>
                      </a:lnTo>
                      <a:lnTo>
                        <a:pt x="132" y="80"/>
                      </a:lnTo>
                      <a:lnTo>
                        <a:pt x="155" y="40"/>
                      </a:lnTo>
                      <a:lnTo>
                        <a:pt x="92" y="1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rot="18506400">
              <a:off x="4939560" y="2889000"/>
              <a:ext cx="54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Times New Roman"/>
                </a:rPr>
                <a:t>יהודיה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6044400" y="2341080"/>
            <a:ext cx="1118520" cy="655560"/>
            <a:chOff x="6044400" y="2341080"/>
            <a:chExt cx="1118520" cy="655560"/>
          </a:xfrm>
        </p:grpSpPr>
        <p:grpSp>
          <p:nvGrpSpPr>
            <p:cNvPr id="1909" name=""/>
            <p:cNvGrpSpPr/>
            <p:nvPr/>
          </p:nvGrpSpPr>
          <p:grpSpPr>
            <a:xfrm>
              <a:off x="6095880" y="2365200"/>
              <a:ext cx="1067040" cy="631440"/>
              <a:chOff x="6095880" y="2365200"/>
              <a:chExt cx="1067040" cy="63144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6648480" y="2440800"/>
                <a:ext cx="514440" cy="524160"/>
                <a:chOff x="6648480" y="2440800"/>
                <a:chExt cx="514440" cy="5241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6800760" y="2440800"/>
                  <a:ext cx="168480" cy="120240"/>
                </a:xfrm>
                <a:custGeom>
                  <a:avLst/>
                  <a:gdLst/>
                  <a:ahLst/>
                  <a:rect l="l" t="t" r="r" b="b"/>
                  <a:pathLst>
                    <a:path w="393" h="302">
                      <a:moveTo>
                        <a:pt x="144" y="142"/>
                      </a:moveTo>
                      <a:lnTo>
                        <a:pt x="150" y="98"/>
                      </a:lnTo>
                      <a:lnTo>
                        <a:pt x="170" y="59"/>
                      </a:lnTo>
                      <a:lnTo>
                        <a:pt x="195" y="34"/>
                      </a:lnTo>
                      <a:lnTo>
                        <a:pt x="224" y="11"/>
                      </a:lnTo>
                      <a:lnTo>
                        <a:pt x="257" y="0"/>
                      </a:lnTo>
                      <a:lnTo>
                        <a:pt x="297" y="3"/>
                      </a:lnTo>
                      <a:lnTo>
                        <a:pt x="334" y="9"/>
                      </a:lnTo>
                      <a:lnTo>
                        <a:pt x="363" y="28"/>
                      </a:lnTo>
                      <a:lnTo>
                        <a:pt x="381" y="52"/>
                      </a:lnTo>
                      <a:lnTo>
                        <a:pt x="389" y="82"/>
                      </a:lnTo>
                      <a:lnTo>
                        <a:pt x="393" y="118"/>
                      </a:lnTo>
                      <a:lnTo>
                        <a:pt x="393" y="159"/>
                      </a:lnTo>
                      <a:lnTo>
                        <a:pt x="381" y="190"/>
                      </a:lnTo>
                      <a:lnTo>
                        <a:pt x="373" y="219"/>
                      </a:lnTo>
                      <a:lnTo>
                        <a:pt x="354" y="249"/>
                      </a:lnTo>
                      <a:lnTo>
                        <a:pt x="329" y="273"/>
                      </a:lnTo>
                      <a:lnTo>
                        <a:pt x="301" y="293"/>
                      </a:lnTo>
                      <a:lnTo>
                        <a:pt x="269" y="300"/>
                      </a:lnTo>
                      <a:lnTo>
                        <a:pt x="232" y="302"/>
                      </a:lnTo>
                      <a:lnTo>
                        <a:pt x="204" y="293"/>
                      </a:lnTo>
                      <a:lnTo>
                        <a:pt x="179" y="276"/>
                      </a:lnTo>
                      <a:lnTo>
                        <a:pt x="164" y="253"/>
                      </a:lnTo>
                      <a:lnTo>
                        <a:pt x="147" y="229"/>
                      </a:lnTo>
                      <a:lnTo>
                        <a:pt x="139" y="201"/>
                      </a:lnTo>
                      <a:lnTo>
                        <a:pt x="100" y="216"/>
                      </a:lnTo>
                      <a:lnTo>
                        <a:pt x="68" y="241"/>
                      </a:lnTo>
                      <a:lnTo>
                        <a:pt x="45" y="258"/>
                      </a:lnTo>
                      <a:lnTo>
                        <a:pt x="17" y="261"/>
                      </a:lnTo>
                      <a:lnTo>
                        <a:pt x="0" y="247"/>
                      </a:lnTo>
                      <a:lnTo>
                        <a:pt x="0" y="229"/>
                      </a:lnTo>
                      <a:lnTo>
                        <a:pt x="10" y="205"/>
                      </a:lnTo>
                      <a:lnTo>
                        <a:pt x="42" y="195"/>
                      </a:lnTo>
                      <a:lnTo>
                        <a:pt x="80" y="181"/>
                      </a:lnTo>
                      <a:lnTo>
                        <a:pt x="112" y="163"/>
                      </a:lnTo>
                      <a:lnTo>
                        <a:pt x="127" y="154"/>
                      </a:lnTo>
                      <a:lnTo>
                        <a:pt x="144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6902640" y="2566440"/>
                  <a:ext cx="260280" cy="120960"/>
                </a:xfrm>
                <a:custGeom>
                  <a:avLst/>
                  <a:gdLst/>
                  <a:ahLst/>
                  <a:rect l="l" t="t" r="r" b="b"/>
                  <a:pathLst>
                    <a:path w="608" h="302">
                      <a:moveTo>
                        <a:pt x="52" y="42"/>
                      </a:moveTo>
                      <a:lnTo>
                        <a:pt x="29" y="40"/>
                      </a:lnTo>
                      <a:lnTo>
                        <a:pt x="9" y="55"/>
                      </a:lnTo>
                      <a:lnTo>
                        <a:pt x="0" y="76"/>
                      </a:lnTo>
                      <a:lnTo>
                        <a:pt x="2" y="111"/>
                      </a:lnTo>
                      <a:lnTo>
                        <a:pt x="22" y="132"/>
                      </a:lnTo>
                      <a:lnTo>
                        <a:pt x="62" y="131"/>
                      </a:lnTo>
                      <a:lnTo>
                        <a:pt x="92" y="126"/>
                      </a:lnTo>
                      <a:lnTo>
                        <a:pt x="131" y="129"/>
                      </a:lnTo>
                      <a:lnTo>
                        <a:pt x="174" y="143"/>
                      </a:lnTo>
                      <a:lnTo>
                        <a:pt x="217" y="164"/>
                      </a:lnTo>
                      <a:lnTo>
                        <a:pt x="256" y="201"/>
                      </a:lnTo>
                      <a:lnTo>
                        <a:pt x="279" y="236"/>
                      </a:lnTo>
                      <a:lnTo>
                        <a:pt x="291" y="271"/>
                      </a:lnTo>
                      <a:lnTo>
                        <a:pt x="296" y="287"/>
                      </a:lnTo>
                      <a:lnTo>
                        <a:pt x="313" y="302"/>
                      </a:lnTo>
                      <a:lnTo>
                        <a:pt x="328" y="302"/>
                      </a:lnTo>
                      <a:lnTo>
                        <a:pt x="344" y="295"/>
                      </a:lnTo>
                      <a:lnTo>
                        <a:pt x="356" y="287"/>
                      </a:lnTo>
                      <a:lnTo>
                        <a:pt x="381" y="275"/>
                      </a:lnTo>
                      <a:lnTo>
                        <a:pt x="415" y="245"/>
                      </a:lnTo>
                      <a:lnTo>
                        <a:pt x="448" y="214"/>
                      </a:lnTo>
                      <a:lnTo>
                        <a:pt x="475" y="179"/>
                      </a:lnTo>
                      <a:lnTo>
                        <a:pt x="493" y="156"/>
                      </a:lnTo>
                      <a:lnTo>
                        <a:pt x="513" y="122"/>
                      </a:lnTo>
                      <a:lnTo>
                        <a:pt x="518" y="104"/>
                      </a:lnTo>
                      <a:lnTo>
                        <a:pt x="530" y="93"/>
                      </a:lnTo>
                      <a:lnTo>
                        <a:pt x="550" y="92"/>
                      </a:lnTo>
                      <a:lnTo>
                        <a:pt x="568" y="101"/>
                      </a:lnTo>
                      <a:lnTo>
                        <a:pt x="588" y="107"/>
                      </a:lnTo>
                      <a:lnTo>
                        <a:pt x="605" y="101"/>
                      </a:lnTo>
                      <a:lnTo>
                        <a:pt x="608" y="86"/>
                      </a:lnTo>
                      <a:lnTo>
                        <a:pt x="597" y="75"/>
                      </a:lnTo>
                      <a:lnTo>
                        <a:pt x="577" y="70"/>
                      </a:lnTo>
                      <a:lnTo>
                        <a:pt x="557" y="69"/>
                      </a:lnTo>
                      <a:lnTo>
                        <a:pt x="548" y="66"/>
                      </a:lnTo>
                      <a:lnTo>
                        <a:pt x="550" y="58"/>
                      </a:lnTo>
                      <a:lnTo>
                        <a:pt x="570" y="46"/>
                      </a:lnTo>
                      <a:lnTo>
                        <a:pt x="587" y="39"/>
                      </a:lnTo>
                      <a:lnTo>
                        <a:pt x="595" y="22"/>
                      </a:lnTo>
                      <a:lnTo>
                        <a:pt x="600" y="12"/>
                      </a:lnTo>
                      <a:lnTo>
                        <a:pt x="590" y="0"/>
                      </a:lnTo>
                      <a:lnTo>
                        <a:pt x="573" y="0"/>
                      </a:lnTo>
                      <a:lnTo>
                        <a:pt x="557" y="18"/>
                      </a:lnTo>
                      <a:lnTo>
                        <a:pt x="542" y="40"/>
                      </a:lnTo>
                      <a:lnTo>
                        <a:pt x="528" y="51"/>
                      </a:lnTo>
                      <a:lnTo>
                        <a:pt x="513" y="48"/>
                      </a:lnTo>
                      <a:lnTo>
                        <a:pt x="495" y="27"/>
                      </a:lnTo>
                      <a:lnTo>
                        <a:pt x="483" y="15"/>
                      </a:lnTo>
                      <a:lnTo>
                        <a:pt x="463" y="19"/>
                      </a:lnTo>
                      <a:lnTo>
                        <a:pt x="451" y="36"/>
                      </a:lnTo>
                      <a:lnTo>
                        <a:pt x="456" y="49"/>
                      </a:lnTo>
                      <a:lnTo>
                        <a:pt x="473" y="60"/>
                      </a:lnTo>
                      <a:lnTo>
                        <a:pt x="491" y="70"/>
                      </a:lnTo>
                      <a:lnTo>
                        <a:pt x="501" y="81"/>
                      </a:lnTo>
                      <a:lnTo>
                        <a:pt x="495" y="101"/>
                      </a:lnTo>
                      <a:lnTo>
                        <a:pt x="470" y="134"/>
                      </a:lnTo>
                      <a:lnTo>
                        <a:pt x="441" y="162"/>
                      </a:lnTo>
                      <a:lnTo>
                        <a:pt x="405" y="189"/>
                      </a:lnTo>
                      <a:lnTo>
                        <a:pt x="373" y="208"/>
                      </a:lnTo>
                      <a:lnTo>
                        <a:pt x="349" y="217"/>
                      </a:lnTo>
                      <a:lnTo>
                        <a:pt x="331" y="209"/>
                      </a:lnTo>
                      <a:lnTo>
                        <a:pt x="306" y="170"/>
                      </a:lnTo>
                      <a:lnTo>
                        <a:pt x="274" y="137"/>
                      </a:lnTo>
                      <a:lnTo>
                        <a:pt x="236" y="107"/>
                      </a:lnTo>
                      <a:lnTo>
                        <a:pt x="191" y="84"/>
                      </a:lnTo>
                      <a:lnTo>
                        <a:pt x="146" y="63"/>
                      </a:lnTo>
                      <a:lnTo>
                        <a:pt x="100" y="46"/>
                      </a:lnTo>
                      <a:lnTo>
                        <a:pt x="69" y="43"/>
                      </a:lnTo>
                      <a:lnTo>
                        <a:pt x="5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6830640" y="2572200"/>
                  <a:ext cx="111960" cy="194400"/>
                </a:xfrm>
                <a:custGeom>
                  <a:avLst/>
                  <a:gdLst/>
                  <a:ahLst/>
                  <a:rect l="l" t="t" r="r" b="b"/>
                  <a:pathLst>
                    <a:path w="263" h="488">
                      <a:moveTo>
                        <a:pt x="52" y="14"/>
                      </a:moveTo>
                      <a:lnTo>
                        <a:pt x="86" y="0"/>
                      </a:lnTo>
                      <a:lnTo>
                        <a:pt x="129" y="3"/>
                      </a:lnTo>
                      <a:lnTo>
                        <a:pt x="173" y="21"/>
                      </a:lnTo>
                      <a:lnTo>
                        <a:pt x="203" y="44"/>
                      </a:lnTo>
                      <a:lnTo>
                        <a:pt x="224" y="74"/>
                      </a:lnTo>
                      <a:lnTo>
                        <a:pt x="239" y="109"/>
                      </a:lnTo>
                      <a:lnTo>
                        <a:pt x="251" y="146"/>
                      </a:lnTo>
                      <a:lnTo>
                        <a:pt x="259" y="193"/>
                      </a:lnTo>
                      <a:lnTo>
                        <a:pt x="263" y="243"/>
                      </a:lnTo>
                      <a:lnTo>
                        <a:pt x="263" y="280"/>
                      </a:lnTo>
                      <a:lnTo>
                        <a:pt x="259" y="333"/>
                      </a:lnTo>
                      <a:lnTo>
                        <a:pt x="253" y="374"/>
                      </a:lnTo>
                      <a:lnTo>
                        <a:pt x="239" y="408"/>
                      </a:lnTo>
                      <a:lnTo>
                        <a:pt x="218" y="437"/>
                      </a:lnTo>
                      <a:lnTo>
                        <a:pt x="194" y="461"/>
                      </a:lnTo>
                      <a:lnTo>
                        <a:pt x="164" y="479"/>
                      </a:lnTo>
                      <a:lnTo>
                        <a:pt x="131" y="488"/>
                      </a:lnTo>
                      <a:lnTo>
                        <a:pt x="94" y="488"/>
                      </a:lnTo>
                      <a:lnTo>
                        <a:pt x="62" y="479"/>
                      </a:lnTo>
                      <a:lnTo>
                        <a:pt x="41" y="467"/>
                      </a:lnTo>
                      <a:lnTo>
                        <a:pt x="19" y="451"/>
                      </a:lnTo>
                      <a:lnTo>
                        <a:pt x="4" y="425"/>
                      </a:lnTo>
                      <a:lnTo>
                        <a:pt x="0" y="395"/>
                      </a:lnTo>
                      <a:lnTo>
                        <a:pt x="2" y="366"/>
                      </a:lnTo>
                      <a:lnTo>
                        <a:pt x="9" y="336"/>
                      </a:lnTo>
                      <a:lnTo>
                        <a:pt x="17" y="310"/>
                      </a:lnTo>
                      <a:lnTo>
                        <a:pt x="31" y="289"/>
                      </a:lnTo>
                      <a:lnTo>
                        <a:pt x="37" y="270"/>
                      </a:lnTo>
                      <a:lnTo>
                        <a:pt x="41" y="244"/>
                      </a:lnTo>
                      <a:lnTo>
                        <a:pt x="39" y="226"/>
                      </a:lnTo>
                      <a:lnTo>
                        <a:pt x="34" y="202"/>
                      </a:lnTo>
                      <a:lnTo>
                        <a:pt x="29" y="178"/>
                      </a:lnTo>
                      <a:lnTo>
                        <a:pt x="17" y="145"/>
                      </a:lnTo>
                      <a:lnTo>
                        <a:pt x="10" y="116"/>
                      </a:lnTo>
                      <a:lnTo>
                        <a:pt x="5" y="85"/>
                      </a:lnTo>
                      <a:lnTo>
                        <a:pt x="12" y="60"/>
                      </a:lnTo>
                      <a:lnTo>
                        <a:pt x="24" y="39"/>
                      </a:lnTo>
                      <a:lnTo>
                        <a:pt x="34" y="27"/>
                      </a:lnTo>
                      <a:lnTo>
                        <a:pt x="5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6648480" y="2585880"/>
                  <a:ext cx="224280" cy="145800"/>
                </a:xfrm>
                <a:custGeom>
                  <a:avLst/>
                  <a:gdLst/>
                  <a:ahLst/>
                  <a:rect l="l" t="t" r="r" b="b"/>
                  <a:pathLst>
                    <a:path w="525" h="366">
                      <a:moveTo>
                        <a:pt x="381" y="92"/>
                      </a:moveTo>
                      <a:lnTo>
                        <a:pt x="411" y="61"/>
                      </a:lnTo>
                      <a:lnTo>
                        <a:pt x="445" y="20"/>
                      </a:lnTo>
                      <a:lnTo>
                        <a:pt x="468" y="0"/>
                      </a:lnTo>
                      <a:lnTo>
                        <a:pt x="475" y="2"/>
                      </a:lnTo>
                      <a:lnTo>
                        <a:pt x="498" y="2"/>
                      </a:lnTo>
                      <a:lnTo>
                        <a:pt x="525" y="29"/>
                      </a:lnTo>
                      <a:lnTo>
                        <a:pt x="512" y="77"/>
                      </a:lnTo>
                      <a:lnTo>
                        <a:pt x="485" y="124"/>
                      </a:lnTo>
                      <a:lnTo>
                        <a:pt x="386" y="169"/>
                      </a:lnTo>
                      <a:lnTo>
                        <a:pt x="296" y="202"/>
                      </a:lnTo>
                      <a:lnTo>
                        <a:pt x="288" y="204"/>
                      </a:lnTo>
                      <a:lnTo>
                        <a:pt x="216" y="243"/>
                      </a:lnTo>
                      <a:lnTo>
                        <a:pt x="146" y="290"/>
                      </a:lnTo>
                      <a:lnTo>
                        <a:pt x="81" y="339"/>
                      </a:lnTo>
                      <a:lnTo>
                        <a:pt x="52" y="360"/>
                      </a:lnTo>
                      <a:lnTo>
                        <a:pt x="29" y="363"/>
                      </a:lnTo>
                      <a:lnTo>
                        <a:pt x="22" y="366"/>
                      </a:lnTo>
                      <a:lnTo>
                        <a:pt x="5" y="348"/>
                      </a:lnTo>
                      <a:lnTo>
                        <a:pt x="0" y="318"/>
                      </a:lnTo>
                      <a:lnTo>
                        <a:pt x="25" y="290"/>
                      </a:lnTo>
                      <a:lnTo>
                        <a:pt x="51" y="268"/>
                      </a:lnTo>
                      <a:lnTo>
                        <a:pt x="86" y="271"/>
                      </a:lnTo>
                      <a:lnTo>
                        <a:pt x="142" y="253"/>
                      </a:lnTo>
                      <a:lnTo>
                        <a:pt x="223" y="204"/>
                      </a:lnTo>
                      <a:lnTo>
                        <a:pt x="301" y="155"/>
                      </a:lnTo>
                      <a:lnTo>
                        <a:pt x="350" y="121"/>
                      </a:lnTo>
                      <a:lnTo>
                        <a:pt x="38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6772680" y="2726640"/>
                  <a:ext cx="98280" cy="233280"/>
                </a:xfrm>
                <a:custGeom>
                  <a:avLst/>
                  <a:gdLst/>
                  <a:ahLst/>
                  <a:rect l="l" t="t" r="r" b="b"/>
                  <a:pathLst>
                    <a:path w="231" h="586">
                      <a:moveTo>
                        <a:pt x="130" y="126"/>
                      </a:moveTo>
                      <a:lnTo>
                        <a:pt x="137" y="49"/>
                      </a:lnTo>
                      <a:lnTo>
                        <a:pt x="159" y="0"/>
                      </a:lnTo>
                      <a:lnTo>
                        <a:pt x="204" y="3"/>
                      </a:lnTo>
                      <a:lnTo>
                        <a:pt x="229" y="36"/>
                      </a:lnTo>
                      <a:lnTo>
                        <a:pt x="229" y="42"/>
                      </a:lnTo>
                      <a:lnTo>
                        <a:pt x="231" y="81"/>
                      </a:lnTo>
                      <a:lnTo>
                        <a:pt x="197" y="156"/>
                      </a:lnTo>
                      <a:lnTo>
                        <a:pt x="177" y="227"/>
                      </a:lnTo>
                      <a:lnTo>
                        <a:pt x="172" y="281"/>
                      </a:lnTo>
                      <a:lnTo>
                        <a:pt x="184" y="318"/>
                      </a:lnTo>
                      <a:lnTo>
                        <a:pt x="184" y="367"/>
                      </a:lnTo>
                      <a:lnTo>
                        <a:pt x="182" y="373"/>
                      </a:lnTo>
                      <a:lnTo>
                        <a:pt x="172" y="411"/>
                      </a:lnTo>
                      <a:lnTo>
                        <a:pt x="171" y="450"/>
                      </a:lnTo>
                      <a:lnTo>
                        <a:pt x="179" y="476"/>
                      </a:lnTo>
                      <a:lnTo>
                        <a:pt x="179" y="494"/>
                      </a:lnTo>
                      <a:lnTo>
                        <a:pt x="156" y="515"/>
                      </a:lnTo>
                      <a:lnTo>
                        <a:pt x="129" y="524"/>
                      </a:lnTo>
                      <a:lnTo>
                        <a:pt x="97" y="539"/>
                      </a:lnTo>
                      <a:lnTo>
                        <a:pt x="65" y="563"/>
                      </a:lnTo>
                      <a:lnTo>
                        <a:pt x="45" y="578"/>
                      </a:lnTo>
                      <a:lnTo>
                        <a:pt x="44" y="586"/>
                      </a:lnTo>
                      <a:lnTo>
                        <a:pt x="30" y="586"/>
                      </a:lnTo>
                      <a:lnTo>
                        <a:pt x="7" y="571"/>
                      </a:lnTo>
                      <a:lnTo>
                        <a:pt x="0" y="534"/>
                      </a:lnTo>
                      <a:lnTo>
                        <a:pt x="7" y="512"/>
                      </a:lnTo>
                      <a:lnTo>
                        <a:pt x="32" y="500"/>
                      </a:lnTo>
                      <a:lnTo>
                        <a:pt x="70" y="486"/>
                      </a:lnTo>
                      <a:lnTo>
                        <a:pt x="119" y="462"/>
                      </a:lnTo>
                      <a:lnTo>
                        <a:pt x="132" y="446"/>
                      </a:lnTo>
                      <a:lnTo>
                        <a:pt x="139" y="403"/>
                      </a:lnTo>
                      <a:lnTo>
                        <a:pt x="137" y="343"/>
                      </a:lnTo>
                      <a:lnTo>
                        <a:pt x="129" y="293"/>
                      </a:lnTo>
                      <a:lnTo>
                        <a:pt x="122" y="256"/>
                      </a:lnTo>
                      <a:lnTo>
                        <a:pt x="124" y="214"/>
                      </a:lnTo>
                      <a:lnTo>
                        <a:pt x="125" y="171"/>
                      </a:lnTo>
                      <a:lnTo>
                        <a:pt x="125" y="149"/>
                      </a:lnTo>
                      <a:lnTo>
                        <a:pt x="13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6879600" y="2731680"/>
                  <a:ext cx="64800" cy="233280"/>
                </a:xfrm>
                <a:custGeom>
                  <a:avLst/>
                  <a:gdLst/>
                  <a:ahLst/>
                  <a:rect l="l" t="t" r="r" b="b"/>
                  <a:pathLst>
                    <a:path w="154" h="586">
                      <a:moveTo>
                        <a:pt x="3" y="73"/>
                      </a:moveTo>
                      <a:lnTo>
                        <a:pt x="0" y="41"/>
                      </a:lnTo>
                      <a:lnTo>
                        <a:pt x="7" y="18"/>
                      </a:lnTo>
                      <a:lnTo>
                        <a:pt x="33" y="2"/>
                      </a:lnTo>
                      <a:lnTo>
                        <a:pt x="60" y="0"/>
                      </a:lnTo>
                      <a:lnTo>
                        <a:pt x="80" y="14"/>
                      </a:lnTo>
                      <a:lnTo>
                        <a:pt x="92" y="32"/>
                      </a:lnTo>
                      <a:lnTo>
                        <a:pt x="105" y="106"/>
                      </a:lnTo>
                      <a:lnTo>
                        <a:pt x="117" y="193"/>
                      </a:lnTo>
                      <a:lnTo>
                        <a:pt x="125" y="252"/>
                      </a:lnTo>
                      <a:lnTo>
                        <a:pt x="120" y="306"/>
                      </a:lnTo>
                      <a:lnTo>
                        <a:pt x="110" y="360"/>
                      </a:lnTo>
                      <a:lnTo>
                        <a:pt x="99" y="424"/>
                      </a:lnTo>
                      <a:lnTo>
                        <a:pt x="92" y="463"/>
                      </a:lnTo>
                      <a:lnTo>
                        <a:pt x="99" y="484"/>
                      </a:lnTo>
                      <a:lnTo>
                        <a:pt x="120" y="509"/>
                      </a:lnTo>
                      <a:lnTo>
                        <a:pt x="152" y="541"/>
                      </a:lnTo>
                      <a:lnTo>
                        <a:pt x="154" y="556"/>
                      </a:lnTo>
                      <a:lnTo>
                        <a:pt x="144" y="570"/>
                      </a:lnTo>
                      <a:lnTo>
                        <a:pt x="117" y="577"/>
                      </a:lnTo>
                      <a:lnTo>
                        <a:pt x="84" y="586"/>
                      </a:lnTo>
                      <a:lnTo>
                        <a:pt x="60" y="576"/>
                      </a:lnTo>
                      <a:lnTo>
                        <a:pt x="57" y="552"/>
                      </a:lnTo>
                      <a:lnTo>
                        <a:pt x="60" y="518"/>
                      </a:lnTo>
                      <a:lnTo>
                        <a:pt x="60" y="493"/>
                      </a:lnTo>
                      <a:lnTo>
                        <a:pt x="45" y="475"/>
                      </a:lnTo>
                      <a:lnTo>
                        <a:pt x="45" y="458"/>
                      </a:lnTo>
                      <a:lnTo>
                        <a:pt x="59" y="431"/>
                      </a:lnTo>
                      <a:lnTo>
                        <a:pt x="60" y="410"/>
                      </a:lnTo>
                      <a:lnTo>
                        <a:pt x="64" y="330"/>
                      </a:lnTo>
                      <a:lnTo>
                        <a:pt x="65" y="271"/>
                      </a:lnTo>
                      <a:lnTo>
                        <a:pt x="57" y="225"/>
                      </a:lnTo>
                      <a:lnTo>
                        <a:pt x="45" y="177"/>
                      </a:lnTo>
                      <a:lnTo>
                        <a:pt x="17" y="115"/>
                      </a:lnTo>
                      <a:lnTo>
                        <a:pt x="3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7" name=""/>
              <p:cNvGrpSpPr/>
              <p:nvPr/>
            </p:nvGrpSpPr>
            <p:grpSpPr>
              <a:xfrm>
                <a:off x="6095880" y="2375640"/>
                <a:ext cx="442800" cy="536040"/>
                <a:chOff x="6095880" y="2375640"/>
                <a:chExt cx="442800" cy="536040"/>
              </a:xfrm>
            </p:grpSpPr>
            <p:sp>
              <p:nvSpPr>
                <p:cNvPr id="1918" name=""/>
                <p:cNvSpPr/>
                <p:nvPr/>
              </p:nvSpPr>
              <p:spPr>
                <a:xfrm>
                  <a:off x="6101640" y="2408040"/>
                  <a:ext cx="381600" cy="497880"/>
                </a:xfrm>
                <a:custGeom>
                  <a:avLst/>
                  <a:gdLst/>
                  <a:ahLst/>
                  <a:rect l="l" t="t" r="r" b="b"/>
                  <a:pathLst>
                    <a:path w="893" h="1250">
                      <a:moveTo>
                        <a:pt x="769" y="0"/>
                      </a:moveTo>
                      <a:lnTo>
                        <a:pt x="789" y="63"/>
                      </a:lnTo>
                      <a:lnTo>
                        <a:pt x="806" y="85"/>
                      </a:lnTo>
                      <a:lnTo>
                        <a:pt x="809" y="146"/>
                      </a:lnTo>
                      <a:lnTo>
                        <a:pt x="809" y="225"/>
                      </a:lnTo>
                      <a:lnTo>
                        <a:pt x="851" y="287"/>
                      </a:lnTo>
                      <a:lnTo>
                        <a:pt x="877" y="317"/>
                      </a:lnTo>
                      <a:lnTo>
                        <a:pt x="893" y="391"/>
                      </a:lnTo>
                      <a:lnTo>
                        <a:pt x="826" y="469"/>
                      </a:lnTo>
                      <a:lnTo>
                        <a:pt x="794" y="560"/>
                      </a:lnTo>
                      <a:lnTo>
                        <a:pt x="789" y="597"/>
                      </a:lnTo>
                      <a:lnTo>
                        <a:pt x="782" y="667"/>
                      </a:lnTo>
                      <a:lnTo>
                        <a:pt x="761" y="757"/>
                      </a:lnTo>
                      <a:lnTo>
                        <a:pt x="749" y="807"/>
                      </a:lnTo>
                      <a:lnTo>
                        <a:pt x="735" y="844"/>
                      </a:lnTo>
                      <a:lnTo>
                        <a:pt x="724" y="936"/>
                      </a:lnTo>
                      <a:lnTo>
                        <a:pt x="715" y="983"/>
                      </a:lnTo>
                      <a:lnTo>
                        <a:pt x="704" y="1024"/>
                      </a:lnTo>
                      <a:lnTo>
                        <a:pt x="689" y="1094"/>
                      </a:lnTo>
                      <a:lnTo>
                        <a:pt x="669" y="1147"/>
                      </a:lnTo>
                      <a:lnTo>
                        <a:pt x="617" y="1227"/>
                      </a:lnTo>
                      <a:lnTo>
                        <a:pt x="580" y="1212"/>
                      </a:lnTo>
                      <a:lnTo>
                        <a:pt x="548" y="1207"/>
                      </a:lnTo>
                      <a:lnTo>
                        <a:pt x="520" y="1225"/>
                      </a:lnTo>
                      <a:lnTo>
                        <a:pt x="487" y="1250"/>
                      </a:lnTo>
                      <a:lnTo>
                        <a:pt x="450" y="1250"/>
                      </a:lnTo>
                      <a:lnTo>
                        <a:pt x="390" y="1213"/>
                      </a:lnTo>
                      <a:lnTo>
                        <a:pt x="340" y="1206"/>
                      </a:lnTo>
                      <a:lnTo>
                        <a:pt x="293" y="1183"/>
                      </a:lnTo>
                      <a:lnTo>
                        <a:pt x="266" y="1141"/>
                      </a:lnTo>
                      <a:lnTo>
                        <a:pt x="239" y="1131"/>
                      </a:lnTo>
                      <a:lnTo>
                        <a:pt x="199" y="1126"/>
                      </a:lnTo>
                      <a:lnTo>
                        <a:pt x="189" y="1076"/>
                      </a:lnTo>
                      <a:lnTo>
                        <a:pt x="174" y="1055"/>
                      </a:lnTo>
                      <a:lnTo>
                        <a:pt x="134" y="1049"/>
                      </a:lnTo>
                      <a:lnTo>
                        <a:pt x="97" y="1063"/>
                      </a:lnTo>
                      <a:lnTo>
                        <a:pt x="40" y="1102"/>
                      </a:lnTo>
                      <a:lnTo>
                        <a:pt x="7" y="1107"/>
                      </a:lnTo>
                      <a:lnTo>
                        <a:pt x="0" y="1084"/>
                      </a:lnTo>
                      <a:lnTo>
                        <a:pt x="10" y="1060"/>
                      </a:lnTo>
                      <a:lnTo>
                        <a:pt x="64" y="1010"/>
                      </a:lnTo>
                      <a:lnTo>
                        <a:pt x="117" y="977"/>
                      </a:lnTo>
                      <a:lnTo>
                        <a:pt x="176" y="945"/>
                      </a:lnTo>
                      <a:lnTo>
                        <a:pt x="208" y="924"/>
                      </a:lnTo>
                      <a:lnTo>
                        <a:pt x="241" y="861"/>
                      </a:lnTo>
                      <a:lnTo>
                        <a:pt x="279" y="792"/>
                      </a:lnTo>
                      <a:lnTo>
                        <a:pt x="326" y="760"/>
                      </a:lnTo>
                      <a:lnTo>
                        <a:pt x="383" y="686"/>
                      </a:lnTo>
                      <a:lnTo>
                        <a:pt x="443" y="614"/>
                      </a:lnTo>
                      <a:lnTo>
                        <a:pt x="487" y="545"/>
                      </a:lnTo>
                      <a:lnTo>
                        <a:pt x="502" y="480"/>
                      </a:lnTo>
                      <a:lnTo>
                        <a:pt x="520" y="396"/>
                      </a:lnTo>
                      <a:lnTo>
                        <a:pt x="542" y="338"/>
                      </a:lnTo>
                      <a:lnTo>
                        <a:pt x="597" y="268"/>
                      </a:lnTo>
                      <a:lnTo>
                        <a:pt x="655" y="179"/>
                      </a:lnTo>
                      <a:lnTo>
                        <a:pt x="694" y="114"/>
                      </a:lnTo>
                      <a:lnTo>
                        <a:pt x="730" y="58"/>
                      </a:lnTo>
                      <a:lnTo>
                        <a:pt x="747" y="24"/>
                      </a:lnTo>
                      <a:lnTo>
                        <a:pt x="76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6434640" y="2381760"/>
                  <a:ext cx="97560" cy="56520"/>
                </a:xfrm>
                <a:custGeom>
                  <a:avLst/>
                  <a:gdLst/>
                  <a:ahLst/>
                  <a:rect l="l" t="t" r="r" b="b"/>
                  <a:pathLst>
                    <a:path w="227" h="143">
                      <a:moveTo>
                        <a:pt x="32" y="142"/>
                      </a:moveTo>
                      <a:lnTo>
                        <a:pt x="7" y="115"/>
                      </a:lnTo>
                      <a:lnTo>
                        <a:pt x="0" y="77"/>
                      </a:lnTo>
                      <a:lnTo>
                        <a:pt x="13" y="38"/>
                      </a:lnTo>
                      <a:lnTo>
                        <a:pt x="38" y="9"/>
                      </a:lnTo>
                      <a:lnTo>
                        <a:pt x="75" y="43"/>
                      </a:lnTo>
                      <a:lnTo>
                        <a:pt x="102" y="26"/>
                      </a:lnTo>
                      <a:lnTo>
                        <a:pt x="120" y="0"/>
                      </a:lnTo>
                      <a:lnTo>
                        <a:pt x="147" y="14"/>
                      </a:lnTo>
                      <a:lnTo>
                        <a:pt x="154" y="15"/>
                      </a:lnTo>
                      <a:lnTo>
                        <a:pt x="162" y="44"/>
                      </a:lnTo>
                      <a:lnTo>
                        <a:pt x="185" y="52"/>
                      </a:lnTo>
                      <a:lnTo>
                        <a:pt x="227" y="46"/>
                      </a:lnTo>
                      <a:lnTo>
                        <a:pt x="220" y="89"/>
                      </a:lnTo>
                      <a:lnTo>
                        <a:pt x="187" y="119"/>
                      </a:lnTo>
                      <a:lnTo>
                        <a:pt x="144" y="143"/>
                      </a:lnTo>
                      <a:lnTo>
                        <a:pt x="129" y="130"/>
                      </a:lnTo>
                      <a:lnTo>
                        <a:pt x="108" y="124"/>
                      </a:lnTo>
                      <a:lnTo>
                        <a:pt x="98" y="140"/>
                      </a:lnTo>
                      <a:lnTo>
                        <a:pt x="82" y="142"/>
                      </a:lnTo>
                      <a:lnTo>
                        <a:pt x="68" y="134"/>
                      </a:lnTo>
                      <a:lnTo>
                        <a:pt x="52" y="142"/>
                      </a:lnTo>
                      <a:lnTo>
                        <a:pt x="32" y="1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6095880" y="2396160"/>
                  <a:ext cx="362520" cy="515520"/>
                </a:xfrm>
                <a:custGeom>
                  <a:avLst/>
                  <a:gdLst/>
                  <a:ahLst/>
                  <a:rect l="l" t="t" r="r" b="b"/>
                  <a:pathLst>
                    <a:path w="847" h="1294">
                      <a:moveTo>
                        <a:pt x="742" y="61"/>
                      </a:moveTo>
                      <a:lnTo>
                        <a:pt x="789" y="0"/>
                      </a:lnTo>
                      <a:lnTo>
                        <a:pt x="792" y="37"/>
                      </a:lnTo>
                      <a:lnTo>
                        <a:pt x="784" y="55"/>
                      </a:lnTo>
                      <a:lnTo>
                        <a:pt x="727" y="132"/>
                      </a:lnTo>
                      <a:lnTo>
                        <a:pt x="690" y="204"/>
                      </a:lnTo>
                      <a:lnTo>
                        <a:pt x="645" y="266"/>
                      </a:lnTo>
                      <a:lnTo>
                        <a:pt x="606" y="327"/>
                      </a:lnTo>
                      <a:lnTo>
                        <a:pt x="563" y="389"/>
                      </a:lnTo>
                      <a:lnTo>
                        <a:pt x="563" y="395"/>
                      </a:lnTo>
                      <a:lnTo>
                        <a:pt x="538" y="455"/>
                      </a:lnTo>
                      <a:lnTo>
                        <a:pt x="528" y="508"/>
                      </a:lnTo>
                      <a:lnTo>
                        <a:pt x="516" y="565"/>
                      </a:lnTo>
                      <a:lnTo>
                        <a:pt x="495" y="612"/>
                      </a:lnTo>
                      <a:lnTo>
                        <a:pt x="466" y="654"/>
                      </a:lnTo>
                      <a:lnTo>
                        <a:pt x="429" y="702"/>
                      </a:lnTo>
                      <a:lnTo>
                        <a:pt x="386" y="749"/>
                      </a:lnTo>
                      <a:lnTo>
                        <a:pt x="351" y="800"/>
                      </a:lnTo>
                      <a:lnTo>
                        <a:pt x="351" y="806"/>
                      </a:lnTo>
                      <a:lnTo>
                        <a:pt x="312" y="829"/>
                      </a:lnTo>
                      <a:lnTo>
                        <a:pt x="286" y="859"/>
                      </a:lnTo>
                      <a:lnTo>
                        <a:pt x="267" y="906"/>
                      </a:lnTo>
                      <a:lnTo>
                        <a:pt x="264" y="912"/>
                      </a:lnTo>
                      <a:lnTo>
                        <a:pt x="241" y="954"/>
                      </a:lnTo>
                      <a:lnTo>
                        <a:pt x="229" y="970"/>
                      </a:lnTo>
                      <a:lnTo>
                        <a:pt x="199" y="985"/>
                      </a:lnTo>
                      <a:lnTo>
                        <a:pt x="157" y="1003"/>
                      </a:lnTo>
                      <a:lnTo>
                        <a:pt x="110" y="1029"/>
                      </a:lnTo>
                      <a:lnTo>
                        <a:pt x="79" y="1055"/>
                      </a:lnTo>
                      <a:lnTo>
                        <a:pt x="74" y="1061"/>
                      </a:lnTo>
                      <a:lnTo>
                        <a:pt x="47" y="1083"/>
                      </a:lnTo>
                      <a:lnTo>
                        <a:pt x="32" y="1106"/>
                      </a:lnTo>
                      <a:lnTo>
                        <a:pt x="33" y="1115"/>
                      </a:lnTo>
                      <a:lnTo>
                        <a:pt x="55" y="1119"/>
                      </a:lnTo>
                      <a:lnTo>
                        <a:pt x="79" y="1106"/>
                      </a:lnTo>
                      <a:lnTo>
                        <a:pt x="120" y="1079"/>
                      </a:lnTo>
                      <a:lnTo>
                        <a:pt x="165" y="1067"/>
                      </a:lnTo>
                      <a:lnTo>
                        <a:pt x="195" y="1070"/>
                      </a:lnTo>
                      <a:lnTo>
                        <a:pt x="216" y="1085"/>
                      </a:lnTo>
                      <a:lnTo>
                        <a:pt x="224" y="1112"/>
                      </a:lnTo>
                      <a:lnTo>
                        <a:pt x="224" y="1134"/>
                      </a:lnTo>
                      <a:lnTo>
                        <a:pt x="236" y="1148"/>
                      </a:lnTo>
                      <a:lnTo>
                        <a:pt x="267" y="1153"/>
                      </a:lnTo>
                      <a:lnTo>
                        <a:pt x="294" y="1162"/>
                      </a:lnTo>
                      <a:lnTo>
                        <a:pt x="307" y="1178"/>
                      </a:lnTo>
                      <a:lnTo>
                        <a:pt x="316" y="1199"/>
                      </a:lnTo>
                      <a:lnTo>
                        <a:pt x="329" y="1213"/>
                      </a:lnTo>
                      <a:lnTo>
                        <a:pt x="359" y="1225"/>
                      </a:lnTo>
                      <a:lnTo>
                        <a:pt x="386" y="1229"/>
                      </a:lnTo>
                      <a:lnTo>
                        <a:pt x="413" y="1235"/>
                      </a:lnTo>
                      <a:lnTo>
                        <a:pt x="438" y="1247"/>
                      </a:lnTo>
                      <a:lnTo>
                        <a:pt x="451" y="1258"/>
                      </a:lnTo>
                      <a:lnTo>
                        <a:pt x="481" y="1270"/>
                      </a:lnTo>
                      <a:lnTo>
                        <a:pt x="510" y="1264"/>
                      </a:lnTo>
                      <a:lnTo>
                        <a:pt x="528" y="1250"/>
                      </a:lnTo>
                      <a:lnTo>
                        <a:pt x="546" y="1229"/>
                      </a:lnTo>
                      <a:lnTo>
                        <a:pt x="563" y="1223"/>
                      </a:lnTo>
                      <a:lnTo>
                        <a:pt x="596" y="1220"/>
                      </a:lnTo>
                      <a:lnTo>
                        <a:pt x="615" y="1231"/>
                      </a:lnTo>
                      <a:lnTo>
                        <a:pt x="628" y="1237"/>
                      </a:lnTo>
                      <a:lnTo>
                        <a:pt x="648" y="1213"/>
                      </a:lnTo>
                      <a:lnTo>
                        <a:pt x="673" y="1165"/>
                      </a:lnTo>
                      <a:lnTo>
                        <a:pt x="690" y="1125"/>
                      </a:lnTo>
                      <a:lnTo>
                        <a:pt x="698" y="1088"/>
                      </a:lnTo>
                      <a:lnTo>
                        <a:pt x="705" y="1049"/>
                      </a:lnTo>
                      <a:lnTo>
                        <a:pt x="713" y="1017"/>
                      </a:lnTo>
                      <a:lnTo>
                        <a:pt x="725" y="982"/>
                      </a:lnTo>
                      <a:lnTo>
                        <a:pt x="730" y="927"/>
                      </a:lnTo>
                      <a:lnTo>
                        <a:pt x="745" y="853"/>
                      </a:lnTo>
                      <a:lnTo>
                        <a:pt x="764" y="806"/>
                      </a:lnTo>
                      <a:lnTo>
                        <a:pt x="770" y="772"/>
                      </a:lnTo>
                      <a:lnTo>
                        <a:pt x="779" y="723"/>
                      </a:lnTo>
                      <a:lnTo>
                        <a:pt x="790" y="662"/>
                      </a:lnTo>
                      <a:lnTo>
                        <a:pt x="792" y="615"/>
                      </a:lnTo>
                      <a:lnTo>
                        <a:pt x="804" y="568"/>
                      </a:lnTo>
                      <a:lnTo>
                        <a:pt x="814" y="541"/>
                      </a:lnTo>
                      <a:lnTo>
                        <a:pt x="824" y="500"/>
                      </a:lnTo>
                      <a:lnTo>
                        <a:pt x="847" y="470"/>
                      </a:lnTo>
                      <a:lnTo>
                        <a:pt x="844" y="514"/>
                      </a:lnTo>
                      <a:lnTo>
                        <a:pt x="817" y="612"/>
                      </a:lnTo>
                      <a:lnTo>
                        <a:pt x="809" y="674"/>
                      </a:lnTo>
                      <a:lnTo>
                        <a:pt x="792" y="750"/>
                      </a:lnTo>
                      <a:lnTo>
                        <a:pt x="777" y="824"/>
                      </a:lnTo>
                      <a:lnTo>
                        <a:pt x="758" y="868"/>
                      </a:lnTo>
                      <a:lnTo>
                        <a:pt x="755" y="930"/>
                      </a:lnTo>
                      <a:lnTo>
                        <a:pt x="748" y="976"/>
                      </a:lnTo>
                      <a:lnTo>
                        <a:pt x="743" y="1006"/>
                      </a:lnTo>
                      <a:lnTo>
                        <a:pt x="732" y="1038"/>
                      </a:lnTo>
                      <a:lnTo>
                        <a:pt x="727" y="1073"/>
                      </a:lnTo>
                      <a:lnTo>
                        <a:pt x="717" y="1125"/>
                      </a:lnTo>
                      <a:lnTo>
                        <a:pt x="700" y="1171"/>
                      </a:lnTo>
                      <a:lnTo>
                        <a:pt x="687" y="1202"/>
                      </a:lnTo>
                      <a:lnTo>
                        <a:pt x="665" y="1238"/>
                      </a:lnTo>
                      <a:lnTo>
                        <a:pt x="645" y="1272"/>
                      </a:lnTo>
                      <a:lnTo>
                        <a:pt x="621" y="1273"/>
                      </a:lnTo>
                      <a:lnTo>
                        <a:pt x="600" y="1261"/>
                      </a:lnTo>
                      <a:lnTo>
                        <a:pt x="573" y="1249"/>
                      </a:lnTo>
                      <a:lnTo>
                        <a:pt x="553" y="1259"/>
                      </a:lnTo>
                      <a:lnTo>
                        <a:pt x="525" y="1284"/>
                      </a:lnTo>
                      <a:lnTo>
                        <a:pt x="498" y="1294"/>
                      </a:lnTo>
                      <a:lnTo>
                        <a:pt x="466" y="1294"/>
                      </a:lnTo>
                      <a:lnTo>
                        <a:pt x="444" y="1282"/>
                      </a:lnTo>
                      <a:lnTo>
                        <a:pt x="423" y="1267"/>
                      </a:lnTo>
                      <a:lnTo>
                        <a:pt x="393" y="1255"/>
                      </a:lnTo>
                      <a:lnTo>
                        <a:pt x="368" y="1253"/>
                      </a:lnTo>
                      <a:lnTo>
                        <a:pt x="361" y="1253"/>
                      </a:lnTo>
                      <a:lnTo>
                        <a:pt x="336" y="1243"/>
                      </a:lnTo>
                      <a:lnTo>
                        <a:pt x="314" y="1232"/>
                      </a:lnTo>
                      <a:lnTo>
                        <a:pt x="296" y="1219"/>
                      </a:lnTo>
                      <a:lnTo>
                        <a:pt x="281" y="1196"/>
                      </a:lnTo>
                      <a:lnTo>
                        <a:pt x="271" y="1180"/>
                      </a:lnTo>
                      <a:lnTo>
                        <a:pt x="254" y="1172"/>
                      </a:lnTo>
                      <a:lnTo>
                        <a:pt x="224" y="1172"/>
                      </a:lnTo>
                      <a:lnTo>
                        <a:pt x="204" y="1165"/>
                      </a:lnTo>
                      <a:lnTo>
                        <a:pt x="197" y="1147"/>
                      </a:lnTo>
                      <a:lnTo>
                        <a:pt x="192" y="1119"/>
                      </a:lnTo>
                      <a:lnTo>
                        <a:pt x="189" y="1103"/>
                      </a:lnTo>
                      <a:lnTo>
                        <a:pt x="175" y="1095"/>
                      </a:lnTo>
                      <a:lnTo>
                        <a:pt x="145" y="1094"/>
                      </a:lnTo>
                      <a:lnTo>
                        <a:pt x="105" y="1112"/>
                      </a:lnTo>
                      <a:lnTo>
                        <a:pt x="65" y="1141"/>
                      </a:lnTo>
                      <a:lnTo>
                        <a:pt x="33" y="1150"/>
                      </a:lnTo>
                      <a:lnTo>
                        <a:pt x="25" y="1153"/>
                      </a:lnTo>
                      <a:lnTo>
                        <a:pt x="7" y="1142"/>
                      </a:lnTo>
                      <a:lnTo>
                        <a:pt x="0" y="1124"/>
                      </a:lnTo>
                      <a:lnTo>
                        <a:pt x="3" y="1095"/>
                      </a:lnTo>
                      <a:lnTo>
                        <a:pt x="20" y="1076"/>
                      </a:lnTo>
                      <a:lnTo>
                        <a:pt x="55" y="1044"/>
                      </a:lnTo>
                      <a:lnTo>
                        <a:pt x="97" y="1017"/>
                      </a:lnTo>
                      <a:lnTo>
                        <a:pt x="139" y="988"/>
                      </a:lnTo>
                      <a:lnTo>
                        <a:pt x="189" y="964"/>
                      </a:lnTo>
                      <a:lnTo>
                        <a:pt x="209" y="946"/>
                      </a:lnTo>
                      <a:lnTo>
                        <a:pt x="234" y="912"/>
                      </a:lnTo>
                      <a:lnTo>
                        <a:pt x="256" y="868"/>
                      </a:lnTo>
                      <a:lnTo>
                        <a:pt x="271" y="836"/>
                      </a:lnTo>
                      <a:lnTo>
                        <a:pt x="282" y="818"/>
                      </a:lnTo>
                      <a:lnTo>
                        <a:pt x="312" y="794"/>
                      </a:lnTo>
                      <a:lnTo>
                        <a:pt x="334" y="779"/>
                      </a:lnTo>
                      <a:lnTo>
                        <a:pt x="364" y="738"/>
                      </a:lnTo>
                      <a:lnTo>
                        <a:pt x="391" y="707"/>
                      </a:lnTo>
                      <a:lnTo>
                        <a:pt x="429" y="660"/>
                      </a:lnTo>
                      <a:lnTo>
                        <a:pt x="456" y="624"/>
                      </a:lnTo>
                      <a:lnTo>
                        <a:pt x="484" y="573"/>
                      </a:lnTo>
                      <a:lnTo>
                        <a:pt x="503" y="526"/>
                      </a:lnTo>
                      <a:lnTo>
                        <a:pt x="515" y="460"/>
                      </a:lnTo>
                      <a:lnTo>
                        <a:pt x="525" y="424"/>
                      </a:lnTo>
                      <a:lnTo>
                        <a:pt x="550" y="359"/>
                      </a:lnTo>
                      <a:lnTo>
                        <a:pt x="588" y="303"/>
                      </a:lnTo>
                      <a:lnTo>
                        <a:pt x="638" y="232"/>
                      </a:lnTo>
                      <a:lnTo>
                        <a:pt x="678" y="174"/>
                      </a:lnTo>
                      <a:lnTo>
                        <a:pt x="707" y="118"/>
                      </a:lnTo>
                      <a:lnTo>
                        <a:pt x="738" y="73"/>
                      </a:lnTo>
                      <a:lnTo>
                        <a:pt x="742" y="6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428520" y="2375640"/>
                  <a:ext cx="110160" cy="69120"/>
                </a:xfrm>
                <a:custGeom>
                  <a:avLst/>
                  <a:gdLst/>
                  <a:ahLst/>
                  <a:rect l="l" t="t" r="r" b="b"/>
                  <a:pathLst>
                    <a:path w="257" h="173">
                      <a:moveTo>
                        <a:pt x="197" y="155"/>
                      </a:moveTo>
                      <a:lnTo>
                        <a:pt x="228" y="133"/>
                      </a:lnTo>
                      <a:lnTo>
                        <a:pt x="250" y="106"/>
                      </a:lnTo>
                      <a:lnTo>
                        <a:pt x="257" y="76"/>
                      </a:lnTo>
                      <a:lnTo>
                        <a:pt x="253" y="51"/>
                      </a:lnTo>
                      <a:lnTo>
                        <a:pt x="237" y="36"/>
                      </a:lnTo>
                      <a:lnTo>
                        <a:pt x="217" y="41"/>
                      </a:lnTo>
                      <a:lnTo>
                        <a:pt x="197" y="53"/>
                      </a:lnTo>
                      <a:lnTo>
                        <a:pt x="182" y="41"/>
                      </a:lnTo>
                      <a:lnTo>
                        <a:pt x="177" y="17"/>
                      </a:lnTo>
                      <a:lnTo>
                        <a:pt x="157" y="8"/>
                      </a:lnTo>
                      <a:lnTo>
                        <a:pt x="130" y="0"/>
                      </a:lnTo>
                      <a:lnTo>
                        <a:pt x="115" y="9"/>
                      </a:lnTo>
                      <a:lnTo>
                        <a:pt x="110" y="17"/>
                      </a:lnTo>
                      <a:lnTo>
                        <a:pt x="108" y="32"/>
                      </a:lnTo>
                      <a:lnTo>
                        <a:pt x="91" y="38"/>
                      </a:lnTo>
                      <a:lnTo>
                        <a:pt x="76" y="24"/>
                      </a:lnTo>
                      <a:lnTo>
                        <a:pt x="60" y="9"/>
                      </a:lnTo>
                      <a:lnTo>
                        <a:pt x="53" y="8"/>
                      </a:lnTo>
                      <a:lnTo>
                        <a:pt x="36" y="17"/>
                      </a:lnTo>
                      <a:lnTo>
                        <a:pt x="30" y="18"/>
                      </a:lnTo>
                      <a:lnTo>
                        <a:pt x="16" y="30"/>
                      </a:lnTo>
                      <a:lnTo>
                        <a:pt x="5" y="44"/>
                      </a:lnTo>
                      <a:lnTo>
                        <a:pt x="3" y="67"/>
                      </a:lnTo>
                      <a:lnTo>
                        <a:pt x="0" y="73"/>
                      </a:lnTo>
                      <a:lnTo>
                        <a:pt x="0" y="88"/>
                      </a:lnTo>
                      <a:lnTo>
                        <a:pt x="0" y="94"/>
                      </a:lnTo>
                      <a:lnTo>
                        <a:pt x="5" y="121"/>
                      </a:lnTo>
                      <a:lnTo>
                        <a:pt x="11" y="145"/>
                      </a:lnTo>
                      <a:lnTo>
                        <a:pt x="25" y="163"/>
                      </a:lnTo>
                      <a:lnTo>
                        <a:pt x="43" y="173"/>
                      </a:lnTo>
                      <a:lnTo>
                        <a:pt x="58" y="161"/>
                      </a:lnTo>
                      <a:lnTo>
                        <a:pt x="50" y="142"/>
                      </a:lnTo>
                      <a:lnTo>
                        <a:pt x="43" y="145"/>
                      </a:lnTo>
                      <a:lnTo>
                        <a:pt x="36" y="124"/>
                      </a:lnTo>
                      <a:lnTo>
                        <a:pt x="25" y="95"/>
                      </a:lnTo>
                      <a:lnTo>
                        <a:pt x="26" y="65"/>
                      </a:lnTo>
                      <a:lnTo>
                        <a:pt x="38" y="47"/>
                      </a:lnTo>
                      <a:lnTo>
                        <a:pt x="53" y="51"/>
                      </a:lnTo>
                      <a:lnTo>
                        <a:pt x="73" y="71"/>
                      </a:lnTo>
                      <a:lnTo>
                        <a:pt x="93" y="70"/>
                      </a:lnTo>
                      <a:lnTo>
                        <a:pt x="118" y="61"/>
                      </a:lnTo>
                      <a:lnTo>
                        <a:pt x="128" y="51"/>
                      </a:lnTo>
                      <a:lnTo>
                        <a:pt x="137" y="35"/>
                      </a:lnTo>
                      <a:lnTo>
                        <a:pt x="157" y="42"/>
                      </a:lnTo>
                      <a:lnTo>
                        <a:pt x="162" y="65"/>
                      </a:lnTo>
                      <a:lnTo>
                        <a:pt x="172" y="73"/>
                      </a:lnTo>
                      <a:lnTo>
                        <a:pt x="197" y="76"/>
                      </a:lnTo>
                      <a:lnTo>
                        <a:pt x="210" y="73"/>
                      </a:lnTo>
                      <a:lnTo>
                        <a:pt x="223" y="76"/>
                      </a:lnTo>
                      <a:lnTo>
                        <a:pt x="223" y="82"/>
                      </a:lnTo>
                      <a:lnTo>
                        <a:pt x="222" y="98"/>
                      </a:lnTo>
                      <a:lnTo>
                        <a:pt x="202" y="118"/>
                      </a:lnTo>
                      <a:lnTo>
                        <a:pt x="172" y="133"/>
                      </a:lnTo>
                      <a:lnTo>
                        <a:pt x="152" y="145"/>
                      </a:lnTo>
                      <a:lnTo>
                        <a:pt x="145" y="146"/>
                      </a:lnTo>
                      <a:lnTo>
                        <a:pt x="145" y="158"/>
                      </a:lnTo>
                      <a:lnTo>
                        <a:pt x="157" y="169"/>
                      </a:lnTo>
                      <a:lnTo>
                        <a:pt x="182" y="163"/>
                      </a:lnTo>
                      <a:lnTo>
                        <a:pt x="197" y="155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6191640" y="2614680"/>
                  <a:ext cx="151920" cy="199080"/>
                </a:xfrm>
                <a:custGeom>
                  <a:avLst/>
                  <a:gdLst/>
                  <a:ahLst/>
                  <a:rect l="l" t="t" r="r" b="b"/>
                  <a:pathLst>
                    <a:path w="356" h="500">
                      <a:moveTo>
                        <a:pt x="0" y="486"/>
                      </a:moveTo>
                      <a:lnTo>
                        <a:pt x="60" y="448"/>
                      </a:lnTo>
                      <a:lnTo>
                        <a:pt x="93" y="415"/>
                      </a:lnTo>
                      <a:lnTo>
                        <a:pt x="115" y="369"/>
                      </a:lnTo>
                      <a:lnTo>
                        <a:pt x="135" y="337"/>
                      </a:lnTo>
                      <a:lnTo>
                        <a:pt x="160" y="295"/>
                      </a:lnTo>
                      <a:lnTo>
                        <a:pt x="190" y="263"/>
                      </a:lnTo>
                      <a:lnTo>
                        <a:pt x="220" y="233"/>
                      </a:lnTo>
                      <a:lnTo>
                        <a:pt x="257" y="180"/>
                      </a:lnTo>
                      <a:lnTo>
                        <a:pt x="297" y="131"/>
                      </a:lnTo>
                      <a:lnTo>
                        <a:pt x="322" y="86"/>
                      </a:lnTo>
                      <a:lnTo>
                        <a:pt x="337" y="57"/>
                      </a:lnTo>
                      <a:lnTo>
                        <a:pt x="356" y="0"/>
                      </a:lnTo>
                      <a:lnTo>
                        <a:pt x="349" y="61"/>
                      </a:lnTo>
                      <a:lnTo>
                        <a:pt x="316" y="132"/>
                      </a:lnTo>
                      <a:lnTo>
                        <a:pt x="282" y="174"/>
                      </a:lnTo>
                      <a:lnTo>
                        <a:pt x="244" y="232"/>
                      </a:lnTo>
                      <a:lnTo>
                        <a:pt x="219" y="257"/>
                      </a:lnTo>
                      <a:lnTo>
                        <a:pt x="185" y="292"/>
                      </a:lnTo>
                      <a:lnTo>
                        <a:pt x="180" y="298"/>
                      </a:lnTo>
                      <a:lnTo>
                        <a:pt x="155" y="332"/>
                      </a:lnTo>
                      <a:lnTo>
                        <a:pt x="152" y="339"/>
                      </a:lnTo>
                      <a:lnTo>
                        <a:pt x="125" y="394"/>
                      </a:lnTo>
                      <a:lnTo>
                        <a:pt x="100" y="433"/>
                      </a:lnTo>
                      <a:lnTo>
                        <a:pt x="75" y="461"/>
                      </a:lnTo>
                      <a:lnTo>
                        <a:pt x="13" y="500"/>
                      </a:lnTo>
                      <a:lnTo>
                        <a:pt x="0" y="48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6300360" y="265140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10" h="513">
                      <a:moveTo>
                        <a:pt x="115" y="237"/>
                      </a:moveTo>
                      <a:lnTo>
                        <a:pt x="137" y="183"/>
                      </a:lnTo>
                      <a:lnTo>
                        <a:pt x="177" y="108"/>
                      </a:lnTo>
                      <a:lnTo>
                        <a:pt x="184" y="61"/>
                      </a:lnTo>
                      <a:lnTo>
                        <a:pt x="210" y="0"/>
                      </a:lnTo>
                      <a:lnTo>
                        <a:pt x="195" y="69"/>
                      </a:lnTo>
                      <a:lnTo>
                        <a:pt x="190" y="125"/>
                      </a:lnTo>
                      <a:lnTo>
                        <a:pt x="150" y="198"/>
                      </a:lnTo>
                      <a:lnTo>
                        <a:pt x="128" y="256"/>
                      </a:lnTo>
                      <a:lnTo>
                        <a:pt x="112" y="307"/>
                      </a:lnTo>
                      <a:lnTo>
                        <a:pt x="95" y="355"/>
                      </a:lnTo>
                      <a:lnTo>
                        <a:pt x="93" y="361"/>
                      </a:lnTo>
                      <a:lnTo>
                        <a:pt x="68" y="399"/>
                      </a:lnTo>
                      <a:lnTo>
                        <a:pt x="45" y="448"/>
                      </a:lnTo>
                      <a:lnTo>
                        <a:pt x="27" y="492"/>
                      </a:lnTo>
                      <a:lnTo>
                        <a:pt x="18" y="513"/>
                      </a:lnTo>
                      <a:lnTo>
                        <a:pt x="0" y="513"/>
                      </a:lnTo>
                      <a:lnTo>
                        <a:pt x="3" y="497"/>
                      </a:lnTo>
                      <a:lnTo>
                        <a:pt x="20" y="451"/>
                      </a:lnTo>
                      <a:lnTo>
                        <a:pt x="45" y="397"/>
                      </a:lnTo>
                      <a:lnTo>
                        <a:pt x="63" y="361"/>
                      </a:lnTo>
                      <a:lnTo>
                        <a:pt x="80" y="343"/>
                      </a:lnTo>
                      <a:lnTo>
                        <a:pt x="95" y="292"/>
                      </a:lnTo>
                      <a:lnTo>
                        <a:pt x="108" y="254"/>
                      </a:lnTo>
                      <a:lnTo>
                        <a:pt x="115" y="23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4" name=""/>
              <p:cNvGrpSpPr/>
              <p:nvPr/>
            </p:nvGrpSpPr>
            <p:grpSpPr>
              <a:xfrm>
                <a:off x="6418080" y="2428200"/>
                <a:ext cx="274680" cy="568440"/>
                <a:chOff x="6418080" y="2428200"/>
                <a:chExt cx="274680" cy="56844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6452280" y="2557080"/>
                  <a:ext cx="105120" cy="207720"/>
                </a:xfrm>
                <a:custGeom>
                  <a:avLst/>
                  <a:gdLst/>
                  <a:ahLst/>
                  <a:rect l="l" t="t" r="r" b="b"/>
                  <a:pathLst>
                    <a:path w="245" h="521">
                      <a:moveTo>
                        <a:pt x="53" y="10"/>
                      </a:moveTo>
                      <a:lnTo>
                        <a:pt x="60" y="7"/>
                      </a:lnTo>
                      <a:lnTo>
                        <a:pt x="98" y="0"/>
                      </a:lnTo>
                      <a:lnTo>
                        <a:pt x="125" y="7"/>
                      </a:lnTo>
                      <a:lnTo>
                        <a:pt x="132" y="7"/>
                      </a:lnTo>
                      <a:lnTo>
                        <a:pt x="162" y="21"/>
                      </a:lnTo>
                      <a:lnTo>
                        <a:pt x="187" y="51"/>
                      </a:lnTo>
                      <a:lnTo>
                        <a:pt x="210" y="90"/>
                      </a:lnTo>
                      <a:lnTo>
                        <a:pt x="222" y="132"/>
                      </a:lnTo>
                      <a:lnTo>
                        <a:pt x="234" y="177"/>
                      </a:lnTo>
                      <a:lnTo>
                        <a:pt x="240" y="221"/>
                      </a:lnTo>
                      <a:lnTo>
                        <a:pt x="245" y="265"/>
                      </a:lnTo>
                      <a:lnTo>
                        <a:pt x="245" y="302"/>
                      </a:lnTo>
                      <a:lnTo>
                        <a:pt x="245" y="346"/>
                      </a:lnTo>
                      <a:lnTo>
                        <a:pt x="240" y="390"/>
                      </a:lnTo>
                      <a:lnTo>
                        <a:pt x="229" y="433"/>
                      </a:lnTo>
                      <a:lnTo>
                        <a:pt x="215" y="457"/>
                      </a:lnTo>
                      <a:lnTo>
                        <a:pt x="197" y="488"/>
                      </a:lnTo>
                      <a:lnTo>
                        <a:pt x="180" y="504"/>
                      </a:lnTo>
                      <a:lnTo>
                        <a:pt x="150" y="513"/>
                      </a:lnTo>
                      <a:lnTo>
                        <a:pt x="112" y="521"/>
                      </a:lnTo>
                      <a:lnTo>
                        <a:pt x="73" y="516"/>
                      </a:lnTo>
                      <a:lnTo>
                        <a:pt x="45" y="506"/>
                      </a:lnTo>
                      <a:lnTo>
                        <a:pt x="20" y="480"/>
                      </a:lnTo>
                      <a:lnTo>
                        <a:pt x="13" y="445"/>
                      </a:lnTo>
                      <a:lnTo>
                        <a:pt x="13" y="414"/>
                      </a:lnTo>
                      <a:lnTo>
                        <a:pt x="20" y="370"/>
                      </a:lnTo>
                      <a:lnTo>
                        <a:pt x="35" y="335"/>
                      </a:lnTo>
                      <a:lnTo>
                        <a:pt x="48" y="308"/>
                      </a:lnTo>
                      <a:lnTo>
                        <a:pt x="51" y="287"/>
                      </a:lnTo>
                      <a:lnTo>
                        <a:pt x="53" y="265"/>
                      </a:lnTo>
                      <a:lnTo>
                        <a:pt x="48" y="241"/>
                      </a:lnTo>
                      <a:lnTo>
                        <a:pt x="33" y="207"/>
                      </a:lnTo>
                      <a:lnTo>
                        <a:pt x="25" y="177"/>
                      </a:lnTo>
                      <a:lnTo>
                        <a:pt x="15" y="150"/>
                      </a:lnTo>
                      <a:lnTo>
                        <a:pt x="6" y="116"/>
                      </a:lnTo>
                      <a:lnTo>
                        <a:pt x="0" y="90"/>
                      </a:lnTo>
                      <a:lnTo>
                        <a:pt x="1" y="60"/>
                      </a:lnTo>
                      <a:lnTo>
                        <a:pt x="8" y="39"/>
                      </a:lnTo>
                      <a:lnTo>
                        <a:pt x="28" y="25"/>
                      </a:lnTo>
                      <a:lnTo>
                        <a:pt x="45" y="15"/>
                      </a:lnTo>
                      <a:lnTo>
                        <a:pt x="5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6488280" y="2566800"/>
                  <a:ext cx="204480" cy="163800"/>
                </a:xfrm>
                <a:custGeom>
                  <a:avLst/>
                  <a:gdLst/>
                  <a:ahLst/>
                  <a:rect l="l" t="t" r="r" b="b"/>
                  <a:pathLst>
                    <a:path w="478" h="411">
                      <a:moveTo>
                        <a:pt x="33" y="0"/>
                      </a:moveTo>
                      <a:lnTo>
                        <a:pt x="77" y="18"/>
                      </a:lnTo>
                      <a:lnTo>
                        <a:pt x="105" y="48"/>
                      </a:lnTo>
                      <a:lnTo>
                        <a:pt x="140" y="89"/>
                      </a:lnTo>
                      <a:lnTo>
                        <a:pt x="185" y="135"/>
                      </a:lnTo>
                      <a:lnTo>
                        <a:pt x="254" y="198"/>
                      </a:lnTo>
                      <a:lnTo>
                        <a:pt x="317" y="257"/>
                      </a:lnTo>
                      <a:lnTo>
                        <a:pt x="366" y="289"/>
                      </a:lnTo>
                      <a:lnTo>
                        <a:pt x="414" y="319"/>
                      </a:lnTo>
                      <a:lnTo>
                        <a:pt x="441" y="331"/>
                      </a:lnTo>
                      <a:lnTo>
                        <a:pt x="471" y="346"/>
                      </a:lnTo>
                      <a:lnTo>
                        <a:pt x="478" y="367"/>
                      </a:lnTo>
                      <a:lnTo>
                        <a:pt x="476" y="375"/>
                      </a:lnTo>
                      <a:lnTo>
                        <a:pt x="471" y="393"/>
                      </a:lnTo>
                      <a:lnTo>
                        <a:pt x="464" y="405"/>
                      </a:lnTo>
                      <a:lnTo>
                        <a:pt x="458" y="406"/>
                      </a:lnTo>
                      <a:lnTo>
                        <a:pt x="441" y="411"/>
                      </a:lnTo>
                      <a:lnTo>
                        <a:pt x="411" y="405"/>
                      </a:lnTo>
                      <a:lnTo>
                        <a:pt x="387" y="381"/>
                      </a:lnTo>
                      <a:lnTo>
                        <a:pt x="359" y="328"/>
                      </a:lnTo>
                      <a:lnTo>
                        <a:pt x="311" y="284"/>
                      </a:lnTo>
                      <a:lnTo>
                        <a:pt x="247" y="235"/>
                      </a:lnTo>
                      <a:lnTo>
                        <a:pt x="189" y="188"/>
                      </a:lnTo>
                      <a:lnTo>
                        <a:pt x="134" y="149"/>
                      </a:lnTo>
                      <a:lnTo>
                        <a:pt x="60" y="108"/>
                      </a:lnTo>
                      <a:lnTo>
                        <a:pt x="30" y="84"/>
                      </a:lnTo>
                      <a:lnTo>
                        <a:pt x="12" y="55"/>
                      </a:lnTo>
                      <a:lnTo>
                        <a:pt x="0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6459840" y="2589120"/>
                  <a:ext cx="228600" cy="137520"/>
                </a:xfrm>
                <a:custGeom>
                  <a:avLst/>
                  <a:gdLst/>
                  <a:ahLst/>
                  <a:rect l="l" t="t" r="r" b="b"/>
                  <a:pathLst>
                    <a:path w="535" h="347">
                      <a:moveTo>
                        <a:pt x="80" y="31"/>
                      </a:moveTo>
                      <a:lnTo>
                        <a:pt x="47" y="0"/>
                      </a:lnTo>
                      <a:lnTo>
                        <a:pt x="0" y="15"/>
                      </a:lnTo>
                      <a:lnTo>
                        <a:pt x="5" y="21"/>
                      </a:lnTo>
                      <a:lnTo>
                        <a:pt x="15" y="68"/>
                      </a:lnTo>
                      <a:lnTo>
                        <a:pt x="43" y="122"/>
                      </a:lnTo>
                      <a:lnTo>
                        <a:pt x="142" y="192"/>
                      </a:lnTo>
                      <a:lnTo>
                        <a:pt x="196" y="223"/>
                      </a:lnTo>
                      <a:lnTo>
                        <a:pt x="272" y="253"/>
                      </a:lnTo>
                      <a:lnTo>
                        <a:pt x="334" y="285"/>
                      </a:lnTo>
                      <a:lnTo>
                        <a:pt x="383" y="309"/>
                      </a:lnTo>
                      <a:lnTo>
                        <a:pt x="431" y="329"/>
                      </a:lnTo>
                      <a:lnTo>
                        <a:pt x="470" y="345"/>
                      </a:lnTo>
                      <a:lnTo>
                        <a:pt x="498" y="347"/>
                      </a:lnTo>
                      <a:lnTo>
                        <a:pt x="521" y="344"/>
                      </a:lnTo>
                      <a:lnTo>
                        <a:pt x="535" y="315"/>
                      </a:lnTo>
                      <a:lnTo>
                        <a:pt x="526" y="299"/>
                      </a:lnTo>
                      <a:lnTo>
                        <a:pt x="501" y="285"/>
                      </a:lnTo>
                      <a:lnTo>
                        <a:pt x="468" y="278"/>
                      </a:lnTo>
                      <a:lnTo>
                        <a:pt x="441" y="276"/>
                      </a:lnTo>
                      <a:lnTo>
                        <a:pt x="398" y="268"/>
                      </a:lnTo>
                      <a:lnTo>
                        <a:pt x="341" y="253"/>
                      </a:lnTo>
                      <a:lnTo>
                        <a:pt x="282" y="228"/>
                      </a:lnTo>
                      <a:lnTo>
                        <a:pt x="229" y="193"/>
                      </a:lnTo>
                      <a:lnTo>
                        <a:pt x="182" y="148"/>
                      </a:lnTo>
                      <a:lnTo>
                        <a:pt x="137" y="100"/>
                      </a:lnTo>
                      <a:lnTo>
                        <a:pt x="97" y="52"/>
                      </a:lnTo>
                      <a:lnTo>
                        <a:pt x="8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6428160" y="2428200"/>
                  <a:ext cx="153000" cy="112320"/>
                </a:xfrm>
                <a:custGeom>
                  <a:avLst/>
                  <a:gdLst/>
                  <a:ahLst/>
                  <a:rect l="l" t="t" r="r" b="b"/>
                  <a:pathLst>
                    <a:path w="357" h="283">
                      <a:moveTo>
                        <a:pt x="225" y="112"/>
                      </a:moveTo>
                      <a:lnTo>
                        <a:pt x="212" y="76"/>
                      </a:lnTo>
                      <a:lnTo>
                        <a:pt x="197" y="39"/>
                      </a:lnTo>
                      <a:lnTo>
                        <a:pt x="172" y="17"/>
                      </a:lnTo>
                      <a:lnTo>
                        <a:pt x="145" y="5"/>
                      </a:lnTo>
                      <a:lnTo>
                        <a:pt x="106" y="0"/>
                      </a:lnTo>
                      <a:lnTo>
                        <a:pt x="70" y="8"/>
                      </a:lnTo>
                      <a:lnTo>
                        <a:pt x="40" y="23"/>
                      </a:lnTo>
                      <a:lnTo>
                        <a:pt x="20" y="52"/>
                      </a:lnTo>
                      <a:lnTo>
                        <a:pt x="6" y="88"/>
                      </a:lnTo>
                      <a:lnTo>
                        <a:pt x="1" y="124"/>
                      </a:lnTo>
                      <a:lnTo>
                        <a:pt x="0" y="158"/>
                      </a:lnTo>
                      <a:lnTo>
                        <a:pt x="0" y="164"/>
                      </a:lnTo>
                      <a:lnTo>
                        <a:pt x="11" y="199"/>
                      </a:lnTo>
                      <a:lnTo>
                        <a:pt x="30" y="232"/>
                      </a:lnTo>
                      <a:lnTo>
                        <a:pt x="55" y="264"/>
                      </a:lnTo>
                      <a:lnTo>
                        <a:pt x="88" y="282"/>
                      </a:lnTo>
                      <a:lnTo>
                        <a:pt x="120" y="283"/>
                      </a:lnTo>
                      <a:lnTo>
                        <a:pt x="153" y="283"/>
                      </a:lnTo>
                      <a:lnTo>
                        <a:pt x="180" y="279"/>
                      </a:lnTo>
                      <a:lnTo>
                        <a:pt x="198" y="264"/>
                      </a:lnTo>
                      <a:lnTo>
                        <a:pt x="215" y="243"/>
                      </a:lnTo>
                      <a:lnTo>
                        <a:pt x="230" y="223"/>
                      </a:lnTo>
                      <a:lnTo>
                        <a:pt x="235" y="199"/>
                      </a:lnTo>
                      <a:lnTo>
                        <a:pt x="237" y="178"/>
                      </a:lnTo>
                      <a:lnTo>
                        <a:pt x="240" y="146"/>
                      </a:lnTo>
                      <a:lnTo>
                        <a:pt x="280" y="155"/>
                      </a:lnTo>
                      <a:lnTo>
                        <a:pt x="324" y="161"/>
                      </a:lnTo>
                      <a:lnTo>
                        <a:pt x="349" y="160"/>
                      </a:lnTo>
                      <a:lnTo>
                        <a:pt x="357" y="148"/>
                      </a:lnTo>
                      <a:lnTo>
                        <a:pt x="352" y="130"/>
                      </a:lnTo>
                      <a:lnTo>
                        <a:pt x="344" y="116"/>
                      </a:lnTo>
                      <a:lnTo>
                        <a:pt x="317" y="110"/>
                      </a:lnTo>
                      <a:lnTo>
                        <a:pt x="285" y="110"/>
                      </a:lnTo>
                      <a:lnTo>
                        <a:pt x="253" y="107"/>
                      </a:lnTo>
                      <a:lnTo>
                        <a:pt x="225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6501600" y="2731680"/>
                  <a:ext cx="126720" cy="247680"/>
                </a:xfrm>
                <a:custGeom>
                  <a:avLst/>
                  <a:gdLst/>
                  <a:ahLst/>
                  <a:rect l="l" t="t" r="r" b="b"/>
                  <a:pathLst>
                    <a:path w="295" h="622">
                      <a:moveTo>
                        <a:pt x="18" y="0"/>
                      </a:moveTo>
                      <a:lnTo>
                        <a:pt x="53" y="2"/>
                      </a:lnTo>
                      <a:lnTo>
                        <a:pt x="60" y="6"/>
                      </a:lnTo>
                      <a:lnTo>
                        <a:pt x="83" y="15"/>
                      </a:lnTo>
                      <a:lnTo>
                        <a:pt x="105" y="53"/>
                      </a:lnTo>
                      <a:lnTo>
                        <a:pt x="128" y="101"/>
                      </a:lnTo>
                      <a:lnTo>
                        <a:pt x="142" y="152"/>
                      </a:lnTo>
                      <a:lnTo>
                        <a:pt x="150" y="205"/>
                      </a:lnTo>
                      <a:lnTo>
                        <a:pt x="148" y="255"/>
                      </a:lnTo>
                      <a:lnTo>
                        <a:pt x="142" y="308"/>
                      </a:lnTo>
                      <a:lnTo>
                        <a:pt x="137" y="369"/>
                      </a:lnTo>
                      <a:lnTo>
                        <a:pt x="137" y="375"/>
                      </a:lnTo>
                      <a:lnTo>
                        <a:pt x="123" y="425"/>
                      </a:lnTo>
                      <a:lnTo>
                        <a:pt x="115" y="464"/>
                      </a:lnTo>
                      <a:lnTo>
                        <a:pt x="110" y="496"/>
                      </a:lnTo>
                      <a:lnTo>
                        <a:pt x="118" y="517"/>
                      </a:lnTo>
                      <a:lnTo>
                        <a:pt x="147" y="530"/>
                      </a:lnTo>
                      <a:lnTo>
                        <a:pt x="192" y="549"/>
                      </a:lnTo>
                      <a:lnTo>
                        <a:pt x="247" y="561"/>
                      </a:lnTo>
                      <a:lnTo>
                        <a:pt x="285" y="570"/>
                      </a:lnTo>
                      <a:lnTo>
                        <a:pt x="295" y="589"/>
                      </a:lnTo>
                      <a:lnTo>
                        <a:pt x="285" y="607"/>
                      </a:lnTo>
                      <a:lnTo>
                        <a:pt x="257" y="622"/>
                      </a:lnTo>
                      <a:lnTo>
                        <a:pt x="215" y="618"/>
                      </a:lnTo>
                      <a:lnTo>
                        <a:pt x="192" y="595"/>
                      </a:lnTo>
                      <a:lnTo>
                        <a:pt x="135" y="577"/>
                      </a:lnTo>
                      <a:lnTo>
                        <a:pt x="93" y="576"/>
                      </a:lnTo>
                      <a:lnTo>
                        <a:pt x="60" y="570"/>
                      </a:lnTo>
                      <a:lnTo>
                        <a:pt x="41" y="552"/>
                      </a:lnTo>
                      <a:lnTo>
                        <a:pt x="40" y="530"/>
                      </a:lnTo>
                      <a:lnTo>
                        <a:pt x="51" y="506"/>
                      </a:lnTo>
                      <a:lnTo>
                        <a:pt x="70" y="481"/>
                      </a:lnTo>
                      <a:lnTo>
                        <a:pt x="71" y="442"/>
                      </a:lnTo>
                      <a:lnTo>
                        <a:pt x="71" y="383"/>
                      </a:lnTo>
                      <a:lnTo>
                        <a:pt x="76" y="348"/>
                      </a:lnTo>
                      <a:lnTo>
                        <a:pt x="83" y="324"/>
                      </a:lnTo>
                      <a:lnTo>
                        <a:pt x="93" y="306"/>
                      </a:lnTo>
                      <a:lnTo>
                        <a:pt x="93" y="279"/>
                      </a:lnTo>
                      <a:lnTo>
                        <a:pt x="86" y="247"/>
                      </a:lnTo>
                      <a:lnTo>
                        <a:pt x="70" y="213"/>
                      </a:lnTo>
                      <a:lnTo>
                        <a:pt x="48" y="171"/>
                      </a:lnTo>
                      <a:lnTo>
                        <a:pt x="26" y="119"/>
                      </a:lnTo>
                      <a:lnTo>
                        <a:pt x="8" y="77"/>
                      </a:lnTo>
                      <a:lnTo>
                        <a:pt x="0" y="50"/>
                      </a:lnTo>
                      <a:lnTo>
                        <a:pt x="0" y="1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6418080" y="2733120"/>
                  <a:ext cx="87120" cy="263520"/>
                </a:xfrm>
                <a:custGeom>
                  <a:avLst/>
                  <a:gdLst/>
                  <a:ahLst/>
                  <a:rect l="l" t="t" r="r" b="b"/>
                  <a:pathLst>
                    <a:path w="206" h="662">
                      <a:moveTo>
                        <a:pt x="112" y="34"/>
                      </a:moveTo>
                      <a:lnTo>
                        <a:pt x="122" y="6"/>
                      </a:lnTo>
                      <a:lnTo>
                        <a:pt x="151" y="0"/>
                      </a:lnTo>
                      <a:lnTo>
                        <a:pt x="189" y="10"/>
                      </a:lnTo>
                      <a:lnTo>
                        <a:pt x="206" y="42"/>
                      </a:lnTo>
                      <a:lnTo>
                        <a:pt x="196" y="99"/>
                      </a:lnTo>
                      <a:lnTo>
                        <a:pt x="183" y="170"/>
                      </a:lnTo>
                      <a:lnTo>
                        <a:pt x="163" y="235"/>
                      </a:lnTo>
                      <a:lnTo>
                        <a:pt x="137" y="280"/>
                      </a:lnTo>
                      <a:lnTo>
                        <a:pt x="126" y="322"/>
                      </a:lnTo>
                      <a:lnTo>
                        <a:pt x="126" y="369"/>
                      </a:lnTo>
                      <a:lnTo>
                        <a:pt x="129" y="405"/>
                      </a:lnTo>
                      <a:lnTo>
                        <a:pt x="124" y="440"/>
                      </a:lnTo>
                      <a:lnTo>
                        <a:pt x="116" y="479"/>
                      </a:lnTo>
                      <a:lnTo>
                        <a:pt x="102" y="515"/>
                      </a:lnTo>
                      <a:lnTo>
                        <a:pt x="84" y="548"/>
                      </a:lnTo>
                      <a:lnTo>
                        <a:pt x="84" y="566"/>
                      </a:lnTo>
                      <a:lnTo>
                        <a:pt x="99" y="581"/>
                      </a:lnTo>
                      <a:lnTo>
                        <a:pt x="129" y="604"/>
                      </a:lnTo>
                      <a:lnTo>
                        <a:pt x="189" y="625"/>
                      </a:lnTo>
                      <a:lnTo>
                        <a:pt x="196" y="632"/>
                      </a:lnTo>
                      <a:lnTo>
                        <a:pt x="196" y="646"/>
                      </a:lnTo>
                      <a:lnTo>
                        <a:pt x="169" y="661"/>
                      </a:lnTo>
                      <a:lnTo>
                        <a:pt x="163" y="662"/>
                      </a:lnTo>
                      <a:lnTo>
                        <a:pt x="112" y="661"/>
                      </a:lnTo>
                      <a:lnTo>
                        <a:pt x="91" y="644"/>
                      </a:lnTo>
                      <a:lnTo>
                        <a:pt x="64" y="613"/>
                      </a:lnTo>
                      <a:lnTo>
                        <a:pt x="36" y="598"/>
                      </a:lnTo>
                      <a:lnTo>
                        <a:pt x="7" y="580"/>
                      </a:lnTo>
                      <a:lnTo>
                        <a:pt x="0" y="554"/>
                      </a:lnTo>
                      <a:lnTo>
                        <a:pt x="9" y="531"/>
                      </a:lnTo>
                      <a:lnTo>
                        <a:pt x="39" y="516"/>
                      </a:lnTo>
                      <a:lnTo>
                        <a:pt x="54" y="504"/>
                      </a:lnTo>
                      <a:lnTo>
                        <a:pt x="71" y="461"/>
                      </a:lnTo>
                      <a:lnTo>
                        <a:pt x="74" y="414"/>
                      </a:lnTo>
                      <a:lnTo>
                        <a:pt x="81" y="364"/>
                      </a:lnTo>
                      <a:lnTo>
                        <a:pt x="74" y="310"/>
                      </a:lnTo>
                      <a:lnTo>
                        <a:pt x="74" y="275"/>
                      </a:lnTo>
                      <a:lnTo>
                        <a:pt x="81" y="241"/>
                      </a:lnTo>
                      <a:lnTo>
                        <a:pt x="106" y="179"/>
                      </a:lnTo>
                      <a:lnTo>
                        <a:pt x="112" y="126"/>
                      </a:lnTo>
                      <a:lnTo>
                        <a:pt x="111" y="71"/>
                      </a:lnTo>
                      <a:lnTo>
                        <a:pt x="11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6843600" y="2365200"/>
                <a:ext cx="167400" cy="130680"/>
                <a:chOff x="6843600" y="2365200"/>
                <a:chExt cx="167400" cy="13068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6843600" y="2365200"/>
                  <a:ext cx="167400" cy="130680"/>
                </a:xfrm>
                <a:custGeom>
                  <a:avLst/>
                  <a:gdLst/>
                  <a:ahLst/>
                  <a:rect l="l" t="t" r="r" b="b"/>
                  <a:pathLst>
                    <a:path w="392" h="326">
                      <a:moveTo>
                        <a:pt x="121" y="195"/>
                      </a:moveTo>
                      <a:lnTo>
                        <a:pt x="132" y="170"/>
                      </a:lnTo>
                      <a:lnTo>
                        <a:pt x="138" y="126"/>
                      </a:lnTo>
                      <a:lnTo>
                        <a:pt x="147" y="84"/>
                      </a:lnTo>
                      <a:lnTo>
                        <a:pt x="153" y="37"/>
                      </a:lnTo>
                      <a:lnTo>
                        <a:pt x="165" y="7"/>
                      </a:lnTo>
                      <a:lnTo>
                        <a:pt x="178" y="1"/>
                      </a:lnTo>
                      <a:lnTo>
                        <a:pt x="210" y="0"/>
                      </a:lnTo>
                      <a:lnTo>
                        <a:pt x="279" y="13"/>
                      </a:lnTo>
                      <a:lnTo>
                        <a:pt x="344" y="39"/>
                      </a:lnTo>
                      <a:lnTo>
                        <a:pt x="382" y="75"/>
                      </a:lnTo>
                      <a:lnTo>
                        <a:pt x="392" y="95"/>
                      </a:lnTo>
                      <a:lnTo>
                        <a:pt x="382" y="119"/>
                      </a:lnTo>
                      <a:lnTo>
                        <a:pt x="350" y="152"/>
                      </a:lnTo>
                      <a:lnTo>
                        <a:pt x="310" y="195"/>
                      </a:lnTo>
                      <a:lnTo>
                        <a:pt x="287" y="235"/>
                      </a:lnTo>
                      <a:lnTo>
                        <a:pt x="334" y="263"/>
                      </a:lnTo>
                      <a:lnTo>
                        <a:pt x="355" y="289"/>
                      </a:lnTo>
                      <a:lnTo>
                        <a:pt x="362" y="314"/>
                      </a:lnTo>
                      <a:lnTo>
                        <a:pt x="355" y="325"/>
                      </a:lnTo>
                      <a:lnTo>
                        <a:pt x="339" y="326"/>
                      </a:lnTo>
                      <a:lnTo>
                        <a:pt x="314" y="319"/>
                      </a:lnTo>
                      <a:lnTo>
                        <a:pt x="292" y="304"/>
                      </a:lnTo>
                      <a:lnTo>
                        <a:pt x="260" y="289"/>
                      </a:lnTo>
                      <a:lnTo>
                        <a:pt x="222" y="271"/>
                      </a:lnTo>
                      <a:lnTo>
                        <a:pt x="215" y="271"/>
                      </a:lnTo>
                      <a:lnTo>
                        <a:pt x="165" y="251"/>
                      </a:lnTo>
                      <a:lnTo>
                        <a:pt x="98" y="241"/>
                      </a:lnTo>
                      <a:lnTo>
                        <a:pt x="91" y="239"/>
                      </a:lnTo>
                      <a:lnTo>
                        <a:pt x="58" y="238"/>
                      </a:lnTo>
                      <a:lnTo>
                        <a:pt x="21" y="236"/>
                      </a:lnTo>
                      <a:lnTo>
                        <a:pt x="5" y="239"/>
                      </a:lnTo>
                      <a:lnTo>
                        <a:pt x="0" y="224"/>
                      </a:lnTo>
                      <a:lnTo>
                        <a:pt x="10" y="204"/>
                      </a:lnTo>
                      <a:lnTo>
                        <a:pt x="31" y="195"/>
                      </a:lnTo>
                      <a:lnTo>
                        <a:pt x="75" y="186"/>
                      </a:lnTo>
                      <a:lnTo>
                        <a:pt x="106" y="191"/>
                      </a:lnTo>
                      <a:lnTo>
                        <a:pt x="121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6903000" y="2424960"/>
                  <a:ext cx="66600" cy="31680"/>
                </a:xfrm>
                <a:custGeom>
                  <a:avLst/>
                  <a:gdLst/>
                  <a:ahLst/>
                  <a:rect l="l" t="t" r="r" b="b"/>
                  <a:pathLst>
                    <a:path w="155" h="80">
                      <a:moveTo>
                        <a:pt x="15" y="0"/>
                      </a:moveTo>
                      <a:lnTo>
                        <a:pt x="0" y="42"/>
                      </a:lnTo>
                      <a:lnTo>
                        <a:pt x="60" y="60"/>
                      </a:lnTo>
                      <a:lnTo>
                        <a:pt x="110" y="74"/>
                      </a:lnTo>
                      <a:lnTo>
                        <a:pt x="132" y="80"/>
                      </a:lnTo>
                      <a:lnTo>
                        <a:pt x="155" y="40"/>
                      </a:lnTo>
                      <a:lnTo>
                        <a:pt x="92" y="1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4" name=""/>
            <p:cNvSpPr/>
            <p:nvPr/>
          </p:nvSpPr>
          <p:spPr>
            <a:xfrm rot="18506400">
              <a:off x="6040080" y="246348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200" spc="-1" strike="noStrike">
                  <a:solidFill>
                    <a:srgbClr val="000000"/>
                  </a:solidFill>
                  <a:latin typeface="Times New Roman"/>
                </a:rPr>
                <a:t>יהודיה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5" name=""/>
          <p:cNvGrpSpPr/>
          <p:nvPr/>
        </p:nvGrpSpPr>
        <p:grpSpPr>
          <a:xfrm>
            <a:off x="7111440" y="2196360"/>
            <a:ext cx="1117440" cy="655560"/>
            <a:chOff x="7111440" y="2196360"/>
            <a:chExt cx="1117440" cy="655560"/>
          </a:xfrm>
        </p:grpSpPr>
        <p:grpSp>
          <p:nvGrpSpPr>
            <p:cNvPr id="1936" name=""/>
            <p:cNvGrpSpPr/>
            <p:nvPr/>
          </p:nvGrpSpPr>
          <p:grpSpPr>
            <a:xfrm>
              <a:off x="7162920" y="2220480"/>
              <a:ext cx="1065960" cy="631440"/>
              <a:chOff x="7162920" y="2220480"/>
              <a:chExt cx="1065960" cy="631440"/>
            </a:xfrm>
          </p:grpSpPr>
          <p:grpSp>
            <p:nvGrpSpPr>
              <p:cNvPr id="1937" name=""/>
              <p:cNvGrpSpPr/>
              <p:nvPr/>
            </p:nvGrpSpPr>
            <p:grpSpPr>
              <a:xfrm>
                <a:off x="7715160" y="2296080"/>
                <a:ext cx="513720" cy="524160"/>
                <a:chOff x="7715160" y="2296080"/>
                <a:chExt cx="513720" cy="5241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7867080" y="2296080"/>
                  <a:ext cx="168480" cy="120240"/>
                </a:xfrm>
                <a:custGeom>
                  <a:avLst/>
                  <a:gdLst/>
                  <a:ahLst/>
                  <a:rect l="l" t="t" r="r" b="b"/>
                  <a:pathLst>
                    <a:path w="393" h="302">
                      <a:moveTo>
                        <a:pt x="144" y="142"/>
                      </a:moveTo>
                      <a:lnTo>
                        <a:pt x="150" y="98"/>
                      </a:lnTo>
                      <a:lnTo>
                        <a:pt x="170" y="59"/>
                      </a:lnTo>
                      <a:lnTo>
                        <a:pt x="195" y="34"/>
                      </a:lnTo>
                      <a:lnTo>
                        <a:pt x="224" y="11"/>
                      </a:lnTo>
                      <a:lnTo>
                        <a:pt x="257" y="0"/>
                      </a:lnTo>
                      <a:lnTo>
                        <a:pt x="297" y="3"/>
                      </a:lnTo>
                      <a:lnTo>
                        <a:pt x="334" y="9"/>
                      </a:lnTo>
                      <a:lnTo>
                        <a:pt x="363" y="28"/>
                      </a:lnTo>
                      <a:lnTo>
                        <a:pt x="381" y="52"/>
                      </a:lnTo>
                      <a:lnTo>
                        <a:pt x="389" y="82"/>
                      </a:lnTo>
                      <a:lnTo>
                        <a:pt x="393" y="118"/>
                      </a:lnTo>
                      <a:lnTo>
                        <a:pt x="393" y="159"/>
                      </a:lnTo>
                      <a:lnTo>
                        <a:pt x="381" y="190"/>
                      </a:lnTo>
                      <a:lnTo>
                        <a:pt x="373" y="219"/>
                      </a:lnTo>
                      <a:lnTo>
                        <a:pt x="354" y="249"/>
                      </a:lnTo>
                      <a:lnTo>
                        <a:pt x="329" y="273"/>
                      </a:lnTo>
                      <a:lnTo>
                        <a:pt x="301" y="293"/>
                      </a:lnTo>
                      <a:lnTo>
                        <a:pt x="269" y="300"/>
                      </a:lnTo>
                      <a:lnTo>
                        <a:pt x="232" y="302"/>
                      </a:lnTo>
                      <a:lnTo>
                        <a:pt x="204" y="293"/>
                      </a:lnTo>
                      <a:lnTo>
                        <a:pt x="179" y="276"/>
                      </a:lnTo>
                      <a:lnTo>
                        <a:pt x="164" y="253"/>
                      </a:lnTo>
                      <a:lnTo>
                        <a:pt x="147" y="229"/>
                      </a:lnTo>
                      <a:lnTo>
                        <a:pt x="139" y="201"/>
                      </a:lnTo>
                      <a:lnTo>
                        <a:pt x="100" y="216"/>
                      </a:lnTo>
                      <a:lnTo>
                        <a:pt x="68" y="241"/>
                      </a:lnTo>
                      <a:lnTo>
                        <a:pt x="45" y="258"/>
                      </a:lnTo>
                      <a:lnTo>
                        <a:pt x="17" y="261"/>
                      </a:lnTo>
                      <a:lnTo>
                        <a:pt x="0" y="247"/>
                      </a:lnTo>
                      <a:lnTo>
                        <a:pt x="0" y="229"/>
                      </a:lnTo>
                      <a:lnTo>
                        <a:pt x="10" y="205"/>
                      </a:lnTo>
                      <a:lnTo>
                        <a:pt x="42" y="195"/>
                      </a:lnTo>
                      <a:lnTo>
                        <a:pt x="80" y="181"/>
                      </a:lnTo>
                      <a:lnTo>
                        <a:pt x="112" y="163"/>
                      </a:lnTo>
                      <a:lnTo>
                        <a:pt x="127" y="154"/>
                      </a:lnTo>
                      <a:lnTo>
                        <a:pt x="144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968960" y="2421720"/>
                  <a:ext cx="259920" cy="120960"/>
                </a:xfrm>
                <a:custGeom>
                  <a:avLst/>
                  <a:gdLst/>
                  <a:ahLst/>
                  <a:rect l="l" t="t" r="r" b="b"/>
                  <a:pathLst>
                    <a:path w="608" h="302">
                      <a:moveTo>
                        <a:pt x="52" y="42"/>
                      </a:moveTo>
                      <a:lnTo>
                        <a:pt x="29" y="40"/>
                      </a:lnTo>
                      <a:lnTo>
                        <a:pt x="9" y="55"/>
                      </a:lnTo>
                      <a:lnTo>
                        <a:pt x="0" y="76"/>
                      </a:lnTo>
                      <a:lnTo>
                        <a:pt x="2" y="111"/>
                      </a:lnTo>
                      <a:lnTo>
                        <a:pt x="22" y="132"/>
                      </a:lnTo>
                      <a:lnTo>
                        <a:pt x="62" y="131"/>
                      </a:lnTo>
                      <a:lnTo>
                        <a:pt x="92" y="126"/>
                      </a:lnTo>
                      <a:lnTo>
                        <a:pt x="131" y="129"/>
                      </a:lnTo>
                      <a:lnTo>
                        <a:pt x="174" y="143"/>
                      </a:lnTo>
                      <a:lnTo>
                        <a:pt x="217" y="164"/>
                      </a:lnTo>
                      <a:lnTo>
                        <a:pt x="256" y="201"/>
                      </a:lnTo>
                      <a:lnTo>
                        <a:pt x="279" y="236"/>
                      </a:lnTo>
                      <a:lnTo>
                        <a:pt x="291" y="271"/>
                      </a:lnTo>
                      <a:lnTo>
                        <a:pt x="296" y="287"/>
                      </a:lnTo>
                      <a:lnTo>
                        <a:pt x="313" y="302"/>
                      </a:lnTo>
                      <a:lnTo>
                        <a:pt x="328" y="302"/>
                      </a:lnTo>
                      <a:lnTo>
                        <a:pt x="344" y="295"/>
                      </a:lnTo>
                      <a:lnTo>
                        <a:pt x="356" y="287"/>
                      </a:lnTo>
                      <a:lnTo>
                        <a:pt x="381" y="275"/>
                      </a:lnTo>
                      <a:lnTo>
                        <a:pt x="415" y="245"/>
                      </a:lnTo>
                      <a:lnTo>
                        <a:pt x="448" y="214"/>
                      </a:lnTo>
                      <a:lnTo>
                        <a:pt x="475" y="179"/>
                      </a:lnTo>
                      <a:lnTo>
                        <a:pt x="493" y="156"/>
                      </a:lnTo>
                      <a:lnTo>
                        <a:pt x="513" y="122"/>
                      </a:lnTo>
                      <a:lnTo>
                        <a:pt x="518" y="104"/>
                      </a:lnTo>
                      <a:lnTo>
                        <a:pt x="530" y="93"/>
                      </a:lnTo>
                      <a:lnTo>
                        <a:pt x="550" y="92"/>
                      </a:lnTo>
                      <a:lnTo>
                        <a:pt x="568" y="101"/>
                      </a:lnTo>
                      <a:lnTo>
                        <a:pt x="588" y="107"/>
                      </a:lnTo>
                      <a:lnTo>
                        <a:pt x="605" y="101"/>
                      </a:lnTo>
                      <a:lnTo>
                        <a:pt x="608" y="86"/>
                      </a:lnTo>
                      <a:lnTo>
                        <a:pt x="597" y="75"/>
                      </a:lnTo>
                      <a:lnTo>
                        <a:pt x="577" y="70"/>
                      </a:lnTo>
                      <a:lnTo>
                        <a:pt x="557" y="69"/>
                      </a:lnTo>
                      <a:lnTo>
                        <a:pt x="548" y="66"/>
                      </a:lnTo>
                      <a:lnTo>
                        <a:pt x="550" y="58"/>
                      </a:lnTo>
                      <a:lnTo>
                        <a:pt x="570" y="46"/>
                      </a:lnTo>
                      <a:lnTo>
                        <a:pt x="587" y="39"/>
                      </a:lnTo>
                      <a:lnTo>
                        <a:pt x="595" y="22"/>
                      </a:lnTo>
                      <a:lnTo>
                        <a:pt x="600" y="12"/>
                      </a:lnTo>
                      <a:lnTo>
                        <a:pt x="590" y="0"/>
                      </a:lnTo>
                      <a:lnTo>
                        <a:pt x="573" y="0"/>
                      </a:lnTo>
                      <a:lnTo>
                        <a:pt x="557" y="18"/>
                      </a:lnTo>
                      <a:lnTo>
                        <a:pt x="542" y="40"/>
                      </a:lnTo>
                      <a:lnTo>
                        <a:pt x="528" y="51"/>
                      </a:lnTo>
                      <a:lnTo>
                        <a:pt x="513" y="48"/>
                      </a:lnTo>
                      <a:lnTo>
                        <a:pt x="495" y="27"/>
                      </a:lnTo>
                      <a:lnTo>
                        <a:pt x="483" y="15"/>
                      </a:lnTo>
                      <a:lnTo>
                        <a:pt x="463" y="19"/>
                      </a:lnTo>
                      <a:lnTo>
                        <a:pt x="451" y="36"/>
                      </a:lnTo>
                      <a:lnTo>
                        <a:pt x="456" y="49"/>
                      </a:lnTo>
                      <a:lnTo>
                        <a:pt x="473" y="60"/>
                      </a:lnTo>
                      <a:lnTo>
                        <a:pt x="491" y="70"/>
                      </a:lnTo>
                      <a:lnTo>
                        <a:pt x="501" y="81"/>
                      </a:lnTo>
                      <a:lnTo>
                        <a:pt x="495" y="101"/>
                      </a:lnTo>
                      <a:lnTo>
                        <a:pt x="470" y="134"/>
                      </a:lnTo>
                      <a:lnTo>
                        <a:pt x="441" y="162"/>
                      </a:lnTo>
                      <a:lnTo>
                        <a:pt x="405" y="189"/>
                      </a:lnTo>
                      <a:lnTo>
                        <a:pt x="373" y="208"/>
                      </a:lnTo>
                      <a:lnTo>
                        <a:pt x="349" y="217"/>
                      </a:lnTo>
                      <a:lnTo>
                        <a:pt x="331" y="209"/>
                      </a:lnTo>
                      <a:lnTo>
                        <a:pt x="306" y="170"/>
                      </a:lnTo>
                      <a:lnTo>
                        <a:pt x="274" y="137"/>
                      </a:lnTo>
                      <a:lnTo>
                        <a:pt x="236" y="107"/>
                      </a:lnTo>
                      <a:lnTo>
                        <a:pt x="191" y="84"/>
                      </a:lnTo>
                      <a:lnTo>
                        <a:pt x="146" y="63"/>
                      </a:lnTo>
                      <a:lnTo>
                        <a:pt x="100" y="46"/>
                      </a:lnTo>
                      <a:lnTo>
                        <a:pt x="69" y="43"/>
                      </a:lnTo>
                      <a:lnTo>
                        <a:pt x="5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897320" y="2427480"/>
                  <a:ext cx="111600" cy="194400"/>
                </a:xfrm>
                <a:custGeom>
                  <a:avLst/>
                  <a:gdLst/>
                  <a:ahLst/>
                  <a:rect l="l" t="t" r="r" b="b"/>
                  <a:pathLst>
                    <a:path w="263" h="488">
                      <a:moveTo>
                        <a:pt x="52" y="14"/>
                      </a:moveTo>
                      <a:lnTo>
                        <a:pt x="86" y="0"/>
                      </a:lnTo>
                      <a:lnTo>
                        <a:pt x="129" y="3"/>
                      </a:lnTo>
                      <a:lnTo>
                        <a:pt x="173" y="21"/>
                      </a:lnTo>
                      <a:lnTo>
                        <a:pt x="203" y="44"/>
                      </a:lnTo>
                      <a:lnTo>
                        <a:pt x="224" y="74"/>
                      </a:lnTo>
                      <a:lnTo>
                        <a:pt x="239" y="109"/>
                      </a:lnTo>
                      <a:lnTo>
                        <a:pt x="251" y="146"/>
                      </a:lnTo>
                      <a:lnTo>
                        <a:pt x="259" y="193"/>
                      </a:lnTo>
                      <a:lnTo>
                        <a:pt x="263" y="243"/>
                      </a:lnTo>
                      <a:lnTo>
                        <a:pt x="263" y="280"/>
                      </a:lnTo>
                      <a:lnTo>
                        <a:pt x="259" y="333"/>
                      </a:lnTo>
                      <a:lnTo>
                        <a:pt x="253" y="374"/>
                      </a:lnTo>
                      <a:lnTo>
                        <a:pt x="239" y="408"/>
                      </a:lnTo>
                      <a:lnTo>
                        <a:pt x="218" y="437"/>
                      </a:lnTo>
                      <a:lnTo>
                        <a:pt x="194" y="461"/>
                      </a:lnTo>
                      <a:lnTo>
                        <a:pt x="164" y="479"/>
                      </a:lnTo>
                      <a:lnTo>
                        <a:pt x="131" y="488"/>
                      </a:lnTo>
                      <a:lnTo>
                        <a:pt x="94" y="488"/>
                      </a:lnTo>
                      <a:lnTo>
                        <a:pt x="62" y="479"/>
                      </a:lnTo>
                      <a:lnTo>
                        <a:pt x="41" y="467"/>
                      </a:lnTo>
                      <a:lnTo>
                        <a:pt x="19" y="451"/>
                      </a:lnTo>
                      <a:lnTo>
                        <a:pt x="4" y="425"/>
                      </a:lnTo>
                      <a:lnTo>
                        <a:pt x="0" y="395"/>
                      </a:lnTo>
                      <a:lnTo>
                        <a:pt x="2" y="366"/>
                      </a:lnTo>
                      <a:lnTo>
                        <a:pt x="9" y="336"/>
                      </a:lnTo>
                      <a:lnTo>
                        <a:pt x="17" y="310"/>
                      </a:lnTo>
                      <a:lnTo>
                        <a:pt x="31" y="289"/>
                      </a:lnTo>
                      <a:lnTo>
                        <a:pt x="37" y="270"/>
                      </a:lnTo>
                      <a:lnTo>
                        <a:pt x="41" y="244"/>
                      </a:lnTo>
                      <a:lnTo>
                        <a:pt x="39" y="226"/>
                      </a:lnTo>
                      <a:lnTo>
                        <a:pt x="34" y="202"/>
                      </a:lnTo>
                      <a:lnTo>
                        <a:pt x="29" y="178"/>
                      </a:lnTo>
                      <a:lnTo>
                        <a:pt x="17" y="145"/>
                      </a:lnTo>
                      <a:lnTo>
                        <a:pt x="10" y="116"/>
                      </a:lnTo>
                      <a:lnTo>
                        <a:pt x="5" y="85"/>
                      </a:lnTo>
                      <a:lnTo>
                        <a:pt x="12" y="60"/>
                      </a:lnTo>
                      <a:lnTo>
                        <a:pt x="24" y="39"/>
                      </a:lnTo>
                      <a:lnTo>
                        <a:pt x="34" y="27"/>
                      </a:lnTo>
                      <a:lnTo>
                        <a:pt x="5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7715160" y="2441160"/>
                  <a:ext cx="223920" cy="145800"/>
                </a:xfrm>
                <a:custGeom>
                  <a:avLst/>
                  <a:gdLst/>
                  <a:ahLst/>
                  <a:rect l="l" t="t" r="r" b="b"/>
                  <a:pathLst>
                    <a:path w="525" h="366">
                      <a:moveTo>
                        <a:pt x="381" y="92"/>
                      </a:moveTo>
                      <a:lnTo>
                        <a:pt x="411" y="61"/>
                      </a:lnTo>
                      <a:lnTo>
                        <a:pt x="445" y="20"/>
                      </a:lnTo>
                      <a:lnTo>
                        <a:pt x="468" y="0"/>
                      </a:lnTo>
                      <a:lnTo>
                        <a:pt x="475" y="2"/>
                      </a:lnTo>
                      <a:lnTo>
                        <a:pt x="498" y="2"/>
                      </a:lnTo>
                      <a:lnTo>
                        <a:pt x="525" y="29"/>
                      </a:lnTo>
                      <a:lnTo>
                        <a:pt x="512" y="77"/>
                      </a:lnTo>
                      <a:lnTo>
                        <a:pt x="485" y="124"/>
                      </a:lnTo>
                      <a:lnTo>
                        <a:pt x="386" y="169"/>
                      </a:lnTo>
                      <a:lnTo>
                        <a:pt x="296" y="202"/>
                      </a:lnTo>
                      <a:lnTo>
                        <a:pt x="288" y="204"/>
                      </a:lnTo>
                      <a:lnTo>
                        <a:pt x="216" y="243"/>
                      </a:lnTo>
                      <a:lnTo>
                        <a:pt x="146" y="290"/>
                      </a:lnTo>
                      <a:lnTo>
                        <a:pt x="81" y="339"/>
                      </a:lnTo>
                      <a:lnTo>
                        <a:pt x="52" y="360"/>
                      </a:lnTo>
                      <a:lnTo>
                        <a:pt x="29" y="363"/>
                      </a:lnTo>
                      <a:lnTo>
                        <a:pt x="22" y="366"/>
                      </a:lnTo>
                      <a:lnTo>
                        <a:pt x="5" y="348"/>
                      </a:lnTo>
                      <a:lnTo>
                        <a:pt x="0" y="318"/>
                      </a:lnTo>
                      <a:lnTo>
                        <a:pt x="25" y="290"/>
                      </a:lnTo>
                      <a:lnTo>
                        <a:pt x="51" y="268"/>
                      </a:lnTo>
                      <a:lnTo>
                        <a:pt x="86" y="271"/>
                      </a:lnTo>
                      <a:lnTo>
                        <a:pt x="142" y="253"/>
                      </a:lnTo>
                      <a:lnTo>
                        <a:pt x="223" y="204"/>
                      </a:lnTo>
                      <a:lnTo>
                        <a:pt x="301" y="155"/>
                      </a:lnTo>
                      <a:lnTo>
                        <a:pt x="350" y="121"/>
                      </a:lnTo>
                      <a:lnTo>
                        <a:pt x="38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7839000" y="2581920"/>
                  <a:ext cx="98280" cy="233280"/>
                </a:xfrm>
                <a:custGeom>
                  <a:avLst/>
                  <a:gdLst/>
                  <a:ahLst/>
                  <a:rect l="l" t="t" r="r" b="b"/>
                  <a:pathLst>
                    <a:path w="231" h="586">
                      <a:moveTo>
                        <a:pt x="130" y="126"/>
                      </a:moveTo>
                      <a:lnTo>
                        <a:pt x="137" y="49"/>
                      </a:lnTo>
                      <a:lnTo>
                        <a:pt x="159" y="0"/>
                      </a:lnTo>
                      <a:lnTo>
                        <a:pt x="204" y="3"/>
                      </a:lnTo>
                      <a:lnTo>
                        <a:pt x="229" y="36"/>
                      </a:lnTo>
                      <a:lnTo>
                        <a:pt x="229" y="42"/>
                      </a:lnTo>
                      <a:lnTo>
                        <a:pt x="231" y="81"/>
                      </a:lnTo>
                      <a:lnTo>
                        <a:pt x="197" y="156"/>
                      </a:lnTo>
                      <a:lnTo>
                        <a:pt x="177" y="227"/>
                      </a:lnTo>
                      <a:lnTo>
                        <a:pt x="172" y="281"/>
                      </a:lnTo>
                      <a:lnTo>
                        <a:pt x="184" y="318"/>
                      </a:lnTo>
                      <a:lnTo>
                        <a:pt x="184" y="367"/>
                      </a:lnTo>
                      <a:lnTo>
                        <a:pt x="182" y="373"/>
                      </a:lnTo>
                      <a:lnTo>
                        <a:pt x="172" y="411"/>
                      </a:lnTo>
                      <a:lnTo>
                        <a:pt x="171" y="450"/>
                      </a:lnTo>
                      <a:lnTo>
                        <a:pt x="179" y="476"/>
                      </a:lnTo>
                      <a:lnTo>
                        <a:pt x="179" y="494"/>
                      </a:lnTo>
                      <a:lnTo>
                        <a:pt x="156" y="515"/>
                      </a:lnTo>
                      <a:lnTo>
                        <a:pt x="129" y="524"/>
                      </a:lnTo>
                      <a:lnTo>
                        <a:pt x="97" y="539"/>
                      </a:lnTo>
                      <a:lnTo>
                        <a:pt x="65" y="563"/>
                      </a:lnTo>
                      <a:lnTo>
                        <a:pt x="45" y="578"/>
                      </a:lnTo>
                      <a:lnTo>
                        <a:pt x="44" y="586"/>
                      </a:lnTo>
                      <a:lnTo>
                        <a:pt x="30" y="586"/>
                      </a:lnTo>
                      <a:lnTo>
                        <a:pt x="7" y="571"/>
                      </a:lnTo>
                      <a:lnTo>
                        <a:pt x="0" y="534"/>
                      </a:lnTo>
                      <a:lnTo>
                        <a:pt x="7" y="512"/>
                      </a:lnTo>
                      <a:lnTo>
                        <a:pt x="32" y="500"/>
                      </a:lnTo>
                      <a:lnTo>
                        <a:pt x="70" y="486"/>
                      </a:lnTo>
                      <a:lnTo>
                        <a:pt x="119" y="462"/>
                      </a:lnTo>
                      <a:lnTo>
                        <a:pt x="132" y="446"/>
                      </a:lnTo>
                      <a:lnTo>
                        <a:pt x="139" y="403"/>
                      </a:lnTo>
                      <a:lnTo>
                        <a:pt x="137" y="343"/>
                      </a:lnTo>
                      <a:lnTo>
                        <a:pt x="129" y="293"/>
                      </a:lnTo>
                      <a:lnTo>
                        <a:pt x="122" y="256"/>
                      </a:lnTo>
                      <a:lnTo>
                        <a:pt x="124" y="214"/>
                      </a:lnTo>
                      <a:lnTo>
                        <a:pt x="125" y="171"/>
                      </a:lnTo>
                      <a:lnTo>
                        <a:pt x="125" y="149"/>
                      </a:lnTo>
                      <a:lnTo>
                        <a:pt x="13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7945920" y="2586960"/>
                  <a:ext cx="64800" cy="233280"/>
                </a:xfrm>
                <a:custGeom>
                  <a:avLst/>
                  <a:gdLst/>
                  <a:ahLst/>
                  <a:rect l="l" t="t" r="r" b="b"/>
                  <a:pathLst>
                    <a:path w="154" h="586">
                      <a:moveTo>
                        <a:pt x="3" y="73"/>
                      </a:moveTo>
                      <a:lnTo>
                        <a:pt x="0" y="41"/>
                      </a:lnTo>
                      <a:lnTo>
                        <a:pt x="7" y="18"/>
                      </a:lnTo>
                      <a:lnTo>
                        <a:pt x="33" y="2"/>
                      </a:lnTo>
                      <a:lnTo>
                        <a:pt x="60" y="0"/>
                      </a:lnTo>
                      <a:lnTo>
                        <a:pt x="80" y="14"/>
                      </a:lnTo>
                      <a:lnTo>
                        <a:pt x="92" y="32"/>
                      </a:lnTo>
                      <a:lnTo>
                        <a:pt x="105" y="106"/>
                      </a:lnTo>
                      <a:lnTo>
                        <a:pt x="117" y="193"/>
                      </a:lnTo>
                      <a:lnTo>
                        <a:pt x="125" y="252"/>
                      </a:lnTo>
                      <a:lnTo>
                        <a:pt x="120" y="306"/>
                      </a:lnTo>
                      <a:lnTo>
                        <a:pt x="110" y="360"/>
                      </a:lnTo>
                      <a:lnTo>
                        <a:pt x="99" y="424"/>
                      </a:lnTo>
                      <a:lnTo>
                        <a:pt x="92" y="463"/>
                      </a:lnTo>
                      <a:lnTo>
                        <a:pt x="99" y="484"/>
                      </a:lnTo>
                      <a:lnTo>
                        <a:pt x="120" y="509"/>
                      </a:lnTo>
                      <a:lnTo>
                        <a:pt x="152" y="541"/>
                      </a:lnTo>
                      <a:lnTo>
                        <a:pt x="154" y="556"/>
                      </a:lnTo>
                      <a:lnTo>
                        <a:pt x="144" y="570"/>
                      </a:lnTo>
                      <a:lnTo>
                        <a:pt x="117" y="577"/>
                      </a:lnTo>
                      <a:lnTo>
                        <a:pt x="84" y="586"/>
                      </a:lnTo>
                      <a:lnTo>
                        <a:pt x="60" y="576"/>
                      </a:lnTo>
                      <a:lnTo>
                        <a:pt x="57" y="552"/>
                      </a:lnTo>
                      <a:lnTo>
                        <a:pt x="60" y="518"/>
                      </a:lnTo>
                      <a:lnTo>
                        <a:pt x="60" y="493"/>
                      </a:lnTo>
                      <a:lnTo>
                        <a:pt x="45" y="475"/>
                      </a:lnTo>
                      <a:lnTo>
                        <a:pt x="45" y="458"/>
                      </a:lnTo>
                      <a:lnTo>
                        <a:pt x="59" y="431"/>
                      </a:lnTo>
                      <a:lnTo>
                        <a:pt x="60" y="410"/>
                      </a:lnTo>
                      <a:lnTo>
                        <a:pt x="64" y="330"/>
                      </a:lnTo>
                      <a:lnTo>
                        <a:pt x="65" y="271"/>
                      </a:lnTo>
                      <a:lnTo>
                        <a:pt x="57" y="225"/>
                      </a:lnTo>
                      <a:lnTo>
                        <a:pt x="45" y="177"/>
                      </a:lnTo>
                      <a:lnTo>
                        <a:pt x="17" y="115"/>
                      </a:lnTo>
                      <a:lnTo>
                        <a:pt x="3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4" name=""/>
              <p:cNvGrpSpPr/>
              <p:nvPr/>
            </p:nvGrpSpPr>
            <p:grpSpPr>
              <a:xfrm>
                <a:off x="7162920" y="2230920"/>
                <a:ext cx="442440" cy="536040"/>
                <a:chOff x="7162920" y="2230920"/>
                <a:chExt cx="442440" cy="53604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7168680" y="2263320"/>
                  <a:ext cx="381240" cy="497880"/>
                </a:xfrm>
                <a:custGeom>
                  <a:avLst/>
                  <a:gdLst/>
                  <a:ahLst/>
                  <a:rect l="l" t="t" r="r" b="b"/>
                  <a:pathLst>
                    <a:path w="893" h="1250">
                      <a:moveTo>
                        <a:pt x="769" y="0"/>
                      </a:moveTo>
                      <a:lnTo>
                        <a:pt x="789" y="63"/>
                      </a:lnTo>
                      <a:lnTo>
                        <a:pt x="806" y="85"/>
                      </a:lnTo>
                      <a:lnTo>
                        <a:pt x="809" y="146"/>
                      </a:lnTo>
                      <a:lnTo>
                        <a:pt x="809" y="225"/>
                      </a:lnTo>
                      <a:lnTo>
                        <a:pt x="851" y="287"/>
                      </a:lnTo>
                      <a:lnTo>
                        <a:pt x="877" y="317"/>
                      </a:lnTo>
                      <a:lnTo>
                        <a:pt x="893" y="391"/>
                      </a:lnTo>
                      <a:lnTo>
                        <a:pt x="826" y="469"/>
                      </a:lnTo>
                      <a:lnTo>
                        <a:pt x="794" y="560"/>
                      </a:lnTo>
                      <a:lnTo>
                        <a:pt x="789" y="597"/>
                      </a:lnTo>
                      <a:lnTo>
                        <a:pt x="782" y="667"/>
                      </a:lnTo>
                      <a:lnTo>
                        <a:pt x="761" y="757"/>
                      </a:lnTo>
                      <a:lnTo>
                        <a:pt x="749" y="807"/>
                      </a:lnTo>
                      <a:lnTo>
                        <a:pt x="735" y="844"/>
                      </a:lnTo>
                      <a:lnTo>
                        <a:pt x="724" y="936"/>
                      </a:lnTo>
                      <a:lnTo>
                        <a:pt x="715" y="983"/>
                      </a:lnTo>
                      <a:lnTo>
                        <a:pt x="704" y="1024"/>
                      </a:lnTo>
                      <a:lnTo>
                        <a:pt x="689" y="1094"/>
                      </a:lnTo>
                      <a:lnTo>
                        <a:pt x="669" y="1147"/>
                      </a:lnTo>
                      <a:lnTo>
                        <a:pt x="617" y="1227"/>
                      </a:lnTo>
                      <a:lnTo>
                        <a:pt x="580" y="1212"/>
                      </a:lnTo>
                      <a:lnTo>
                        <a:pt x="548" y="1207"/>
                      </a:lnTo>
                      <a:lnTo>
                        <a:pt x="520" y="1225"/>
                      </a:lnTo>
                      <a:lnTo>
                        <a:pt x="487" y="1250"/>
                      </a:lnTo>
                      <a:lnTo>
                        <a:pt x="450" y="1250"/>
                      </a:lnTo>
                      <a:lnTo>
                        <a:pt x="390" y="1213"/>
                      </a:lnTo>
                      <a:lnTo>
                        <a:pt x="340" y="1206"/>
                      </a:lnTo>
                      <a:lnTo>
                        <a:pt x="293" y="1183"/>
                      </a:lnTo>
                      <a:lnTo>
                        <a:pt x="266" y="1141"/>
                      </a:lnTo>
                      <a:lnTo>
                        <a:pt x="239" y="1131"/>
                      </a:lnTo>
                      <a:lnTo>
                        <a:pt x="199" y="1126"/>
                      </a:lnTo>
                      <a:lnTo>
                        <a:pt x="189" y="1076"/>
                      </a:lnTo>
                      <a:lnTo>
                        <a:pt x="174" y="1055"/>
                      </a:lnTo>
                      <a:lnTo>
                        <a:pt x="134" y="1049"/>
                      </a:lnTo>
                      <a:lnTo>
                        <a:pt x="97" y="1063"/>
                      </a:lnTo>
                      <a:lnTo>
                        <a:pt x="40" y="1102"/>
                      </a:lnTo>
                      <a:lnTo>
                        <a:pt x="7" y="1107"/>
                      </a:lnTo>
                      <a:lnTo>
                        <a:pt x="0" y="1084"/>
                      </a:lnTo>
                      <a:lnTo>
                        <a:pt x="10" y="1060"/>
                      </a:lnTo>
                      <a:lnTo>
                        <a:pt x="64" y="1010"/>
                      </a:lnTo>
                      <a:lnTo>
                        <a:pt x="117" y="977"/>
                      </a:lnTo>
                      <a:lnTo>
                        <a:pt x="176" y="945"/>
                      </a:lnTo>
                      <a:lnTo>
                        <a:pt x="208" y="924"/>
                      </a:lnTo>
                      <a:lnTo>
                        <a:pt x="241" y="861"/>
                      </a:lnTo>
                      <a:lnTo>
                        <a:pt x="279" y="792"/>
                      </a:lnTo>
                      <a:lnTo>
                        <a:pt x="326" y="760"/>
                      </a:lnTo>
                      <a:lnTo>
                        <a:pt x="383" y="686"/>
                      </a:lnTo>
                      <a:lnTo>
                        <a:pt x="443" y="614"/>
                      </a:lnTo>
                      <a:lnTo>
                        <a:pt x="487" y="545"/>
                      </a:lnTo>
                      <a:lnTo>
                        <a:pt x="502" y="480"/>
                      </a:lnTo>
                      <a:lnTo>
                        <a:pt x="520" y="396"/>
                      </a:lnTo>
                      <a:lnTo>
                        <a:pt x="542" y="338"/>
                      </a:lnTo>
                      <a:lnTo>
                        <a:pt x="597" y="268"/>
                      </a:lnTo>
                      <a:lnTo>
                        <a:pt x="655" y="179"/>
                      </a:lnTo>
                      <a:lnTo>
                        <a:pt x="694" y="114"/>
                      </a:lnTo>
                      <a:lnTo>
                        <a:pt x="730" y="58"/>
                      </a:lnTo>
                      <a:lnTo>
                        <a:pt x="747" y="24"/>
                      </a:lnTo>
                      <a:lnTo>
                        <a:pt x="76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7501320" y="2237040"/>
                  <a:ext cx="97200" cy="56520"/>
                </a:xfrm>
                <a:custGeom>
                  <a:avLst/>
                  <a:gdLst/>
                  <a:ahLst/>
                  <a:rect l="l" t="t" r="r" b="b"/>
                  <a:pathLst>
                    <a:path w="227" h="143">
                      <a:moveTo>
                        <a:pt x="32" y="142"/>
                      </a:moveTo>
                      <a:lnTo>
                        <a:pt x="7" y="115"/>
                      </a:lnTo>
                      <a:lnTo>
                        <a:pt x="0" y="77"/>
                      </a:lnTo>
                      <a:lnTo>
                        <a:pt x="13" y="38"/>
                      </a:lnTo>
                      <a:lnTo>
                        <a:pt x="38" y="9"/>
                      </a:lnTo>
                      <a:lnTo>
                        <a:pt x="75" y="43"/>
                      </a:lnTo>
                      <a:lnTo>
                        <a:pt x="102" y="26"/>
                      </a:lnTo>
                      <a:lnTo>
                        <a:pt x="120" y="0"/>
                      </a:lnTo>
                      <a:lnTo>
                        <a:pt x="147" y="14"/>
                      </a:lnTo>
                      <a:lnTo>
                        <a:pt x="154" y="15"/>
                      </a:lnTo>
                      <a:lnTo>
                        <a:pt x="162" y="44"/>
                      </a:lnTo>
                      <a:lnTo>
                        <a:pt x="185" y="52"/>
                      </a:lnTo>
                      <a:lnTo>
                        <a:pt x="227" y="46"/>
                      </a:lnTo>
                      <a:lnTo>
                        <a:pt x="220" y="89"/>
                      </a:lnTo>
                      <a:lnTo>
                        <a:pt x="187" y="119"/>
                      </a:lnTo>
                      <a:lnTo>
                        <a:pt x="144" y="143"/>
                      </a:lnTo>
                      <a:lnTo>
                        <a:pt x="129" y="130"/>
                      </a:lnTo>
                      <a:lnTo>
                        <a:pt x="108" y="124"/>
                      </a:lnTo>
                      <a:lnTo>
                        <a:pt x="98" y="140"/>
                      </a:lnTo>
                      <a:lnTo>
                        <a:pt x="82" y="142"/>
                      </a:lnTo>
                      <a:lnTo>
                        <a:pt x="68" y="134"/>
                      </a:lnTo>
                      <a:lnTo>
                        <a:pt x="52" y="142"/>
                      </a:lnTo>
                      <a:lnTo>
                        <a:pt x="32" y="1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7162920" y="2251440"/>
                  <a:ext cx="362160" cy="515520"/>
                </a:xfrm>
                <a:custGeom>
                  <a:avLst/>
                  <a:gdLst/>
                  <a:ahLst/>
                  <a:rect l="l" t="t" r="r" b="b"/>
                  <a:pathLst>
                    <a:path w="847" h="1294">
                      <a:moveTo>
                        <a:pt x="742" y="61"/>
                      </a:moveTo>
                      <a:lnTo>
                        <a:pt x="789" y="0"/>
                      </a:lnTo>
                      <a:lnTo>
                        <a:pt x="792" y="37"/>
                      </a:lnTo>
                      <a:lnTo>
                        <a:pt x="784" y="55"/>
                      </a:lnTo>
                      <a:lnTo>
                        <a:pt x="727" y="132"/>
                      </a:lnTo>
                      <a:lnTo>
                        <a:pt x="690" y="204"/>
                      </a:lnTo>
                      <a:lnTo>
                        <a:pt x="645" y="266"/>
                      </a:lnTo>
                      <a:lnTo>
                        <a:pt x="606" y="327"/>
                      </a:lnTo>
                      <a:lnTo>
                        <a:pt x="563" y="389"/>
                      </a:lnTo>
                      <a:lnTo>
                        <a:pt x="563" y="395"/>
                      </a:lnTo>
                      <a:lnTo>
                        <a:pt x="538" y="455"/>
                      </a:lnTo>
                      <a:lnTo>
                        <a:pt x="528" y="508"/>
                      </a:lnTo>
                      <a:lnTo>
                        <a:pt x="516" y="565"/>
                      </a:lnTo>
                      <a:lnTo>
                        <a:pt x="495" y="612"/>
                      </a:lnTo>
                      <a:lnTo>
                        <a:pt x="466" y="654"/>
                      </a:lnTo>
                      <a:lnTo>
                        <a:pt x="429" y="702"/>
                      </a:lnTo>
                      <a:lnTo>
                        <a:pt x="386" y="749"/>
                      </a:lnTo>
                      <a:lnTo>
                        <a:pt x="351" y="800"/>
                      </a:lnTo>
                      <a:lnTo>
                        <a:pt x="351" y="806"/>
                      </a:lnTo>
                      <a:lnTo>
                        <a:pt x="312" y="829"/>
                      </a:lnTo>
                      <a:lnTo>
                        <a:pt x="286" y="859"/>
                      </a:lnTo>
                      <a:lnTo>
                        <a:pt x="267" y="906"/>
                      </a:lnTo>
                      <a:lnTo>
                        <a:pt x="264" y="912"/>
                      </a:lnTo>
                      <a:lnTo>
                        <a:pt x="241" y="954"/>
                      </a:lnTo>
                      <a:lnTo>
                        <a:pt x="229" y="970"/>
                      </a:lnTo>
                      <a:lnTo>
                        <a:pt x="199" y="985"/>
                      </a:lnTo>
                      <a:lnTo>
                        <a:pt x="157" y="1003"/>
                      </a:lnTo>
                      <a:lnTo>
                        <a:pt x="110" y="1029"/>
                      </a:lnTo>
                      <a:lnTo>
                        <a:pt x="79" y="1055"/>
                      </a:lnTo>
                      <a:lnTo>
                        <a:pt x="74" y="1061"/>
                      </a:lnTo>
                      <a:lnTo>
                        <a:pt x="47" y="1083"/>
                      </a:lnTo>
                      <a:lnTo>
                        <a:pt x="32" y="1106"/>
                      </a:lnTo>
                      <a:lnTo>
                        <a:pt x="33" y="1115"/>
                      </a:lnTo>
                      <a:lnTo>
                        <a:pt x="55" y="1119"/>
                      </a:lnTo>
                      <a:lnTo>
                        <a:pt x="79" y="1106"/>
                      </a:lnTo>
                      <a:lnTo>
                        <a:pt x="120" y="1079"/>
                      </a:lnTo>
                      <a:lnTo>
                        <a:pt x="165" y="1067"/>
                      </a:lnTo>
                      <a:lnTo>
                        <a:pt x="195" y="1070"/>
                      </a:lnTo>
                      <a:lnTo>
                        <a:pt x="216" y="1085"/>
                      </a:lnTo>
                      <a:lnTo>
                        <a:pt x="224" y="1112"/>
                      </a:lnTo>
                      <a:lnTo>
                        <a:pt x="224" y="1134"/>
                      </a:lnTo>
                      <a:lnTo>
                        <a:pt x="236" y="1148"/>
                      </a:lnTo>
                      <a:lnTo>
                        <a:pt x="267" y="1153"/>
                      </a:lnTo>
                      <a:lnTo>
                        <a:pt x="294" y="1162"/>
                      </a:lnTo>
                      <a:lnTo>
                        <a:pt x="307" y="1178"/>
                      </a:lnTo>
                      <a:lnTo>
                        <a:pt x="316" y="1199"/>
                      </a:lnTo>
                      <a:lnTo>
                        <a:pt x="329" y="1213"/>
                      </a:lnTo>
                      <a:lnTo>
                        <a:pt x="359" y="1225"/>
                      </a:lnTo>
                      <a:lnTo>
                        <a:pt x="386" y="1229"/>
                      </a:lnTo>
                      <a:lnTo>
                        <a:pt x="413" y="1235"/>
                      </a:lnTo>
                      <a:lnTo>
                        <a:pt x="438" y="1247"/>
                      </a:lnTo>
                      <a:lnTo>
                        <a:pt x="451" y="1258"/>
                      </a:lnTo>
                      <a:lnTo>
                        <a:pt x="481" y="1270"/>
                      </a:lnTo>
                      <a:lnTo>
                        <a:pt x="510" y="1264"/>
                      </a:lnTo>
                      <a:lnTo>
                        <a:pt x="528" y="1250"/>
                      </a:lnTo>
                      <a:lnTo>
                        <a:pt x="546" y="1229"/>
                      </a:lnTo>
                      <a:lnTo>
                        <a:pt x="563" y="1223"/>
                      </a:lnTo>
                      <a:lnTo>
                        <a:pt x="596" y="1220"/>
                      </a:lnTo>
                      <a:lnTo>
                        <a:pt x="615" y="1231"/>
                      </a:lnTo>
                      <a:lnTo>
                        <a:pt x="628" y="1237"/>
                      </a:lnTo>
                      <a:lnTo>
                        <a:pt x="648" y="1213"/>
                      </a:lnTo>
                      <a:lnTo>
                        <a:pt x="673" y="1165"/>
                      </a:lnTo>
                      <a:lnTo>
                        <a:pt x="690" y="1125"/>
                      </a:lnTo>
                      <a:lnTo>
                        <a:pt x="698" y="1088"/>
                      </a:lnTo>
                      <a:lnTo>
                        <a:pt x="705" y="1049"/>
                      </a:lnTo>
                      <a:lnTo>
                        <a:pt x="713" y="1017"/>
                      </a:lnTo>
                      <a:lnTo>
                        <a:pt x="725" y="982"/>
                      </a:lnTo>
                      <a:lnTo>
                        <a:pt x="730" y="927"/>
                      </a:lnTo>
                      <a:lnTo>
                        <a:pt x="745" y="853"/>
                      </a:lnTo>
                      <a:lnTo>
                        <a:pt x="764" y="806"/>
                      </a:lnTo>
                      <a:lnTo>
                        <a:pt x="770" y="772"/>
                      </a:lnTo>
                      <a:lnTo>
                        <a:pt x="779" y="723"/>
                      </a:lnTo>
                      <a:lnTo>
                        <a:pt x="790" y="662"/>
                      </a:lnTo>
                      <a:lnTo>
                        <a:pt x="792" y="615"/>
                      </a:lnTo>
                      <a:lnTo>
                        <a:pt x="804" y="568"/>
                      </a:lnTo>
                      <a:lnTo>
                        <a:pt x="814" y="541"/>
                      </a:lnTo>
                      <a:lnTo>
                        <a:pt x="824" y="500"/>
                      </a:lnTo>
                      <a:lnTo>
                        <a:pt x="847" y="470"/>
                      </a:lnTo>
                      <a:lnTo>
                        <a:pt x="844" y="514"/>
                      </a:lnTo>
                      <a:lnTo>
                        <a:pt x="817" y="612"/>
                      </a:lnTo>
                      <a:lnTo>
                        <a:pt x="809" y="674"/>
                      </a:lnTo>
                      <a:lnTo>
                        <a:pt x="792" y="750"/>
                      </a:lnTo>
                      <a:lnTo>
                        <a:pt x="777" y="824"/>
                      </a:lnTo>
                      <a:lnTo>
                        <a:pt x="758" y="868"/>
                      </a:lnTo>
                      <a:lnTo>
                        <a:pt x="755" y="930"/>
                      </a:lnTo>
                      <a:lnTo>
                        <a:pt x="748" y="976"/>
                      </a:lnTo>
                      <a:lnTo>
                        <a:pt x="743" y="1006"/>
                      </a:lnTo>
                      <a:lnTo>
                        <a:pt x="732" y="1038"/>
                      </a:lnTo>
                      <a:lnTo>
                        <a:pt x="727" y="1073"/>
                      </a:lnTo>
                      <a:lnTo>
                        <a:pt x="717" y="1125"/>
                      </a:lnTo>
                      <a:lnTo>
                        <a:pt x="700" y="1171"/>
                      </a:lnTo>
                      <a:lnTo>
                        <a:pt x="687" y="1202"/>
                      </a:lnTo>
                      <a:lnTo>
                        <a:pt x="665" y="1238"/>
                      </a:lnTo>
                      <a:lnTo>
                        <a:pt x="645" y="1272"/>
                      </a:lnTo>
                      <a:lnTo>
                        <a:pt x="621" y="1273"/>
                      </a:lnTo>
                      <a:lnTo>
                        <a:pt x="600" y="1261"/>
                      </a:lnTo>
                      <a:lnTo>
                        <a:pt x="573" y="1249"/>
                      </a:lnTo>
                      <a:lnTo>
                        <a:pt x="553" y="1259"/>
                      </a:lnTo>
                      <a:lnTo>
                        <a:pt x="525" y="1284"/>
                      </a:lnTo>
                      <a:lnTo>
                        <a:pt x="498" y="1294"/>
                      </a:lnTo>
                      <a:lnTo>
                        <a:pt x="466" y="1294"/>
                      </a:lnTo>
                      <a:lnTo>
                        <a:pt x="444" y="1282"/>
                      </a:lnTo>
                      <a:lnTo>
                        <a:pt x="423" y="1267"/>
                      </a:lnTo>
                      <a:lnTo>
                        <a:pt x="393" y="1255"/>
                      </a:lnTo>
                      <a:lnTo>
                        <a:pt x="368" y="1253"/>
                      </a:lnTo>
                      <a:lnTo>
                        <a:pt x="361" y="1253"/>
                      </a:lnTo>
                      <a:lnTo>
                        <a:pt x="336" y="1243"/>
                      </a:lnTo>
                      <a:lnTo>
                        <a:pt x="314" y="1232"/>
                      </a:lnTo>
                      <a:lnTo>
                        <a:pt x="296" y="1219"/>
                      </a:lnTo>
                      <a:lnTo>
                        <a:pt x="281" y="1196"/>
                      </a:lnTo>
                      <a:lnTo>
                        <a:pt x="271" y="1180"/>
                      </a:lnTo>
                      <a:lnTo>
                        <a:pt x="254" y="1172"/>
                      </a:lnTo>
                      <a:lnTo>
                        <a:pt x="224" y="1172"/>
                      </a:lnTo>
                      <a:lnTo>
                        <a:pt x="204" y="1165"/>
                      </a:lnTo>
                      <a:lnTo>
                        <a:pt x="197" y="1147"/>
                      </a:lnTo>
                      <a:lnTo>
                        <a:pt x="192" y="1119"/>
                      </a:lnTo>
                      <a:lnTo>
                        <a:pt x="189" y="1103"/>
                      </a:lnTo>
                      <a:lnTo>
                        <a:pt x="175" y="1095"/>
                      </a:lnTo>
                      <a:lnTo>
                        <a:pt x="145" y="1094"/>
                      </a:lnTo>
                      <a:lnTo>
                        <a:pt x="105" y="1112"/>
                      </a:lnTo>
                      <a:lnTo>
                        <a:pt x="65" y="1141"/>
                      </a:lnTo>
                      <a:lnTo>
                        <a:pt x="33" y="1150"/>
                      </a:lnTo>
                      <a:lnTo>
                        <a:pt x="25" y="1153"/>
                      </a:lnTo>
                      <a:lnTo>
                        <a:pt x="7" y="1142"/>
                      </a:lnTo>
                      <a:lnTo>
                        <a:pt x="0" y="1124"/>
                      </a:lnTo>
                      <a:lnTo>
                        <a:pt x="3" y="1095"/>
                      </a:lnTo>
                      <a:lnTo>
                        <a:pt x="20" y="1076"/>
                      </a:lnTo>
                      <a:lnTo>
                        <a:pt x="55" y="1044"/>
                      </a:lnTo>
                      <a:lnTo>
                        <a:pt x="97" y="1017"/>
                      </a:lnTo>
                      <a:lnTo>
                        <a:pt x="139" y="988"/>
                      </a:lnTo>
                      <a:lnTo>
                        <a:pt x="189" y="964"/>
                      </a:lnTo>
                      <a:lnTo>
                        <a:pt x="209" y="946"/>
                      </a:lnTo>
                      <a:lnTo>
                        <a:pt x="234" y="912"/>
                      </a:lnTo>
                      <a:lnTo>
                        <a:pt x="256" y="868"/>
                      </a:lnTo>
                      <a:lnTo>
                        <a:pt x="271" y="836"/>
                      </a:lnTo>
                      <a:lnTo>
                        <a:pt x="282" y="818"/>
                      </a:lnTo>
                      <a:lnTo>
                        <a:pt x="312" y="794"/>
                      </a:lnTo>
                      <a:lnTo>
                        <a:pt x="334" y="779"/>
                      </a:lnTo>
                      <a:lnTo>
                        <a:pt x="364" y="738"/>
                      </a:lnTo>
                      <a:lnTo>
                        <a:pt x="391" y="707"/>
                      </a:lnTo>
                      <a:lnTo>
                        <a:pt x="429" y="660"/>
                      </a:lnTo>
                      <a:lnTo>
                        <a:pt x="456" y="624"/>
                      </a:lnTo>
                      <a:lnTo>
                        <a:pt x="484" y="573"/>
                      </a:lnTo>
                      <a:lnTo>
                        <a:pt x="503" y="526"/>
                      </a:lnTo>
                      <a:lnTo>
                        <a:pt x="515" y="460"/>
                      </a:lnTo>
                      <a:lnTo>
                        <a:pt x="525" y="424"/>
                      </a:lnTo>
                      <a:lnTo>
                        <a:pt x="550" y="359"/>
                      </a:lnTo>
                      <a:lnTo>
                        <a:pt x="588" y="303"/>
                      </a:lnTo>
                      <a:lnTo>
                        <a:pt x="638" y="232"/>
                      </a:lnTo>
                      <a:lnTo>
                        <a:pt x="678" y="174"/>
                      </a:lnTo>
                      <a:lnTo>
                        <a:pt x="707" y="118"/>
                      </a:lnTo>
                      <a:lnTo>
                        <a:pt x="738" y="73"/>
                      </a:lnTo>
                      <a:lnTo>
                        <a:pt x="742" y="6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7495200" y="2230920"/>
                  <a:ext cx="110160" cy="69120"/>
                </a:xfrm>
                <a:custGeom>
                  <a:avLst/>
                  <a:gdLst/>
                  <a:ahLst/>
                  <a:rect l="l" t="t" r="r" b="b"/>
                  <a:pathLst>
                    <a:path w="257" h="173">
                      <a:moveTo>
                        <a:pt x="197" y="155"/>
                      </a:moveTo>
                      <a:lnTo>
                        <a:pt x="228" y="133"/>
                      </a:lnTo>
                      <a:lnTo>
                        <a:pt x="250" y="106"/>
                      </a:lnTo>
                      <a:lnTo>
                        <a:pt x="257" y="76"/>
                      </a:lnTo>
                      <a:lnTo>
                        <a:pt x="253" y="51"/>
                      </a:lnTo>
                      <a:lnTo>
                        <a:pt x="237" y="36"/>
                      </a:lnTo>
                      <a:lnTo>
                        <a:pt x="217" y="41"/>
                      </a:lnTo>
                      <a:lnTo>
                        <a:pt x="197" y="53"/>
                      </a:lnTo>
                      <a:lnTo>
                        <a:pt x="182" y="41"/>
                      </a:lnTo>
                      <a:lnTo>
                        <a:pt x="177" y="17"/>
                      </a:lnTo>
                      <a:lnTo>
                        <a:pt x="157" y="8"/>
                      </a:lnTo>
                      <a:lnTo>
                        <a:pt x="130" y="0"/>
                      </a:lnTo>
                      <a:lnTo>
                        <a:pt x="115" y="9"/>
                      </a:lnTo>
                      <a:lnTo>
                        <a:pt x="110" y="17"/>
                      </a:lnTo>
                      <a:lnTo>
                        <a:pt x="108" y="32"/>
                      </a:lnTo>
                      <a:lnTo>
                        <a:pt x="91" y="38"/>
                      </a:lnTo>
                      <a:lnTo>
                        <a:pt x="76" y="24"/>
                      </a:lnTo>
                      <a:lnTo>
                        <a:pt x="60" y="9"/>
                      </a:lnTo>
                      <a:lnTo>
                        <a:pt x="53" y="8"/>
                      </a:lnTo>
                      <a:lnTo>
                        <a:pt x="36" y="17"/>
                      </a:lnTo>
                      <a:lnTo>
                        <a:pt x="30" y="18"/>
                      </a:lnTo>
                      <a:lnTo>
                        <a:pt x="16" y="30"/>
                      </a:lnTo>
                      <a:lnTo>
                        <a:pt x="5" y="44"/>
                      </a:lnTo>
                      <a:lnTo>
                        <a:pt x="3" y="67"/>
                      </a:lnTo>
                      <a:lnTo>
                        <a:pt x="0" y="73"/>
                      </a:lnTo>
                      <a:lnTo>
                        <a:pt x="0" y="88"/>
                      </a:lnTo>
                      <a:lnTo>
                        <a:pt x="0" y="94"/>
                      </a:lnTo>
                      <a:lnTo>
                        <a:pt x="5" y="121"/>
                      </a:lnTo>
                      <a:lnTo>
                        <a:pt x="11" y="145"/>
                      </a:lnTo>
                      <a:lnTo>
                        <a:pt x="25" y="163"/>
                      </a:lnTo>
                      <a:lnTo>
                        <a:pt x="43" y="173"/>
                      </a:lnTo>
                      <a:lnTo>
                        <a:pt x="58" y="161"/>
                      </a:lnTo>
                      <a:lnTo>
                        <a:pt x="50" y="142"/>
                      </a:lnTo>
                      <a:lnTo>
                        <a:pt x="43" y="145"/>
                      </a:lnTo>
                      <a:lnTo>
                        <a:pt x="36" y="124"/>
                      </a:lnTo>
                      <a:lnTo>
                        <a:pt x="25" y="95"/>
                      </a:lnTo>
                      <a:lnTo>
                        <a:pt x="26" y="65"/>
                      </a:lnTo>
                      <a:lnTo>
                        <a:pt x="38" y="47"/>
                      </a:lnTo>
                      <a:lnTo>
                        <a:pt x="53" y="51"/>
                      </a:lnTo>
                      <a:lnTo>
                        <a:pt x="73" y="71"/>
                      </a:lnTo>
                      <a:lnTo>
                        <a:pt x="93" y="70"/>
                      </a:lnTo>
                      <a:lnTo>
                        <a:pt x="118" y="61"/>
                      </a:lnTo>
                      <a:lnTo>
                        <a:pt x="128" y="51"/>
                      </a:lnTo>
                      <a:lnTo>
                        <a:pt x="137" y="35"/>
                      </a:lnTo>
                      <a:lnTo>
                        <a:pt x="157" y="42"/>
                      </a:lnTo>
                      <a:lnTo>
                        <a:pt x="162" y="65"/>
                      </a:lnTo>
                      <a:lnTo>
                        <a:pt x="172" y="73"/>
                      </a:lnTo>
                      <a:lnTo>
                        <a:pt x="197" y="76"/>
                      </a:lnTo>
                      <a:lnTo>
                        <a:pt x="210" y="73"/>
                      </a:lnTo>
                      <a:lnTo>
                        <a:pt x="223" y="76"/>
                      </a:lnTo>
                      <a:lnTo>
                        <a:pt x="223" y="82"/>
                      </a:lnTo>
                      <a:lnTo>
                        <a:pt x="222" y="98"/>
                      </a:lnTo>
                      <a:lnTo>
                        <a:pt x="202" y="118"/>
                      </a:lnTo>
                      <a:lnTo>
                        <a:pt x="172" y="133"/>
                      </a:lnTo>
                      <a:lnTo>
                        <a:pt x="152" y="145"/>
                      </a:lnTo>
                      <a:lnTo>
                        <a:pt x="145" y="146"/>
                      </a:lnTo>
                      <a:lnTo>
                        <a:pt x="145" y="158"/>
                      </a:lnTo>
                      <a:lnTo>
                        <a:pt x="157" y="169"/>
                      </a:lnTo>
                      <a:lnTo>
                        <a:pt x="182" y="163"/>
                      </a:lnTo>
                      <a:lnTo>
                        <a:pt x="197" y="155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7258680" y="2469960"/>
                  <a:ext cx="151920" cy="199080"/>
                </a:xfrm>
                <a:custGeom>
                  <a:avLst/>
                  <a:gdLst/>
                  <a:ahLst/>
                  <a:rect l="l" t="t" r="r" b="b"/>
                  <a:pathLst>
                    <a:path w="356" h="500">
                      <a:moveTo>
                        <a:pt x="0" y="486"/>
                      </a:moveTo>
                      <a:lnTo>
                        <a:pt x="60" y="448"/>
                      </a:lnTo>
                      <a:lnTo>
                        <a:pt x="93" y="415"/>
                      </a:lnTo>
                      <a:lnTo>
                        <a:pt x="115" y="369"/>
                      </a:lnTo>
                      <a:lnTo>
                        <a:pt x="135" y="337"/>
                      </a:lnTo>
                      <a:lnTo>
                        <a:pt x="160" y="295"/>
                      </a:lnTo>
                      <a:lnTo>
                        <a:pt x="190" y="263"/>
                      </a:lnTo>
                      <a:lnTo>
                        <a:pt x="220" y="233"/>
                      </a:lnTo>
                      <a:lnTo>
                        <a:pt x="257" y="180"/>
                      </a:lnTo>
                      <a:lnTo>
                        <a:pt x="297" y="131"/>
                      </a:lnTo>
                      <a:lnTo>
                        <a:pt x="322" y="86"/>
                      </a:lnTo>
                      <a:lnTo>
                        <a:pt x="337" y="57"/>
                      </a:lnTo>
                      <a:lnTo>
                        <a:pt x="356" y="0"/>
                      </a:lnTo>
                      <a:lnTo>
                        <a:pt x="349" y="61"/>
                      </a:lnTo>
                      <a:lnTo>
                        <a:pt x="316" y="132"/>
                      </a:lnTo>
                      <a:lnTo>
                        <a:pt x="282" y="174"/>
                      </a:lnTo>
                      <a:lnTo>
                        <a:pt x="244" y="232"/>
                      </a:lnTo>
                      <a:lnTo>
                        <a:pt x="219" y="257"/>
                      </a:lnTo>
                      <a:lnTo>
                        <a:pt x="185" y="292"/>
                      </a:lnTo>
                      <a:lnTo>
                        <a:pt x="180" y="298"/>
                      </a:lnTo>
                      <a:lnTo>
                        <a:pt x="155" y="332"/>
                      </a:lnTo>
                      <a:lnTo>
                        <a:pt x="152" y="339"/>
                      </a:lnTo>
                      <a:lnTo>
                        <a:pt x="125" y="394"/>
                      </a:lnTo>
                      <a:lnTo>
                        <a:pt x="100" y="433"/>
                      </a:lnTo>
                      <a:lnTo>
                        <a:pt x="75" y="461"/>
                      </a:lnTo>
                      <a:lnTo>
                        <a:pt x="13" y="500"/>
                      </a:lnTo>
                      <a:lnTo>
                        <a:pt x="0" y="48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7367040" y="250668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10" h="513">
                      <a:moveTo>
                        <a:pt x="115" y="237"/>
                      </a:moveTo>
                      <a:lnTo>
                        <a:pt x="137" y="183"/>
                      </a:lnTo>
                      <a:lnTo>
                        <a:pt x="177" y="108"/>
                      </a:lnTo>
                      <a:lnTo>
                        <a:pt x="184" y="61"/>
                      </a:lnTo>
                      <a:lnTo>
                        <a:pt x="210" y="0"/>
                      </a:lnTo>
                      <a:lnTo>
                        <a:pt x="195" y="69"/>
                      </a:lnTo>
                      <a:lnTo>
                        <a:pt x="190" y="125"/>
                      </a:lnTo>
                      <a:lnTo>
                        <a:pt x="150" y="198"/>
                      </a:lnTo>
                      <a:lnTo>
                        <a:pt x="128" y="256"/>
                      </a:lnTo>
                      <a:lnTo>
                        <a:pt x="112" y="307"/>
                      </a:lnTo>
                      <a:lnTo>
                        <a:pt x="95" y="355"/>
                      </a:lnTo>
                      <a:lnTo>
                        <a:pt x="93" y="361"/>
                      </a:lnTo>
                      <a:lnTo>
                        <a:pt x="68" y="399"/>
                      </a:lnTo>
                      <a:lnTo>
                        <a:pt x="45" y="448"/>
                      </a:lnTo>
                      <a:lnTo>
                        <a:pt x="27" y="492"/>
                      </a:lnTo>
                      <a:lnTo>
                        <a:pt x="18" y="513"/>
                      </a:lnTo>
                      <a:lnTo>
                        <a:pt x="0" y="513"/>
                      </a:lnTo>
                      <a:lnTo>
                        <a:pt x="3" y="497"/>
                      </a:lnTo>
                      <a:lnTo>
                        <a:pt x="20" y="451"/>
                      </a:lnTo>
                      <a:lnTo>
                        <a:pt x="45" y="397"/>
                      </a:lnTo>
                      <a:lnTo>
                        <a:pt x="63" y="361"/>
                      </a:lnTo>
                      <a:lnTo>
                        <a:pt x="80" y="343"/>
                      </a:lnTo>
                      <a:lnTo>
                        <a:pt x="95" y="292"/>
                      </a:lnTo>
                      <a:lnTo>
                        <a:pt x="108" y="254"/>
                      </a:lnTo>
                      <a:lnTo>
                        <a:pt x="115" y="23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1" name=""/>
              <p:cNvGrpSpPr/>
              <p:nvPr/>
            </p:nvGrpSpPr>
            <p:grpSpPr>
              <a:xfrm>
                <a:off x="7485120" y="2283480"/>
                <a:ext cx="274680" cy="568440"/>
                <a:chOff x="7485120" y="2283480"/>
                <a:chExt cx="274680" cy="568440"/>
              </a:xfrm>
            </p:grpSpPr>
            <p:sp>
              <p:nvSpPr>
                <p:cNvPr id="1952" name=""/>
                <p:cNvSpPr/>
                <p:nvPr/>
              </p:nvSpPr>
              <p:spPr>
                <a:xfrm>
                  <a:off x="7519320" y="2412360"/>
                  <a:ext cx="105120" cy="207720"/>
                </a:xfrm>
                <a:custGeom>
                  <a:avLst/>
                  <a:gdLst/>
                  <a:ahLst/>
                  <a:rect l="l" t="t" r="r" b="b"/>
                  <a:pathLst>
                    <a:path w="245" h="521">
                      <a:moveTo>
                        <a:pt x="53" y="10"/>
                      </a:moveTo>
                      <a:lnTo>
                        <a:pt x="60" y="7"/>
                      </a:lnTo>
                      <a:lnTo>
                        <a:pt x="98" y="0"/>
                      </a:lnTo>
                      <a:lnTo>
                        <a:pt x="125" y="7"/>
                      </a:lnTo>
                      <a:lnTo>
                        <a:pt x="132" y="7"/>
                      </a:lnTo>
                      <a:lnTo>
                        <a:pt x="162" y="21"/>
                      </a:lnTo>
                      <a:lnTo>
                        <a:pt x="187" y="51"/>
                      </a:lnTo>
                      <a:lnTo>
                        <a:pt x="210" y="90"/>
                      </a:lnTo>
                      <a:lnTo>
                        <a:pt x="222" y="132"/>
                      </a:lnTo>
                      <a:lnTo>
                        <a:pt x="234" y="177"/>
                      </a:lnTo>
                      <a:lnTo>
                        <a:pt x="240" y="221"/>
                      </a:lnTo>
                      <a:lnTo>
                        <a:pt x="245" y="265"/>
                      </a:lnTo>
                      <a:lnTo>
                        <a:pt x="245" y="302"/>
                      </a:lnTo>
                      <a:lnTo>
                        <a:pt x="245" y="346"/>
                      </a:lnTo>
                      <a:lnTo>
                        <a:pt x="240" y="390"/>
                      </a:lnTo>
                      <a:lnTo>
                        <a:pt x="229" y="433"/>
                      </a:lnTo>
                      <a:lnTo>
                        <a:pt x="215" y="457"/>
                      </a:lnTo>
                      <a:lnTo>
                        <a:pt x="197" y="488"/>
                      </a:lnTo>
                      <a:lnTo>
                        <a:pt x="180" y="504"/>
                      </a:lnTo>
                      <a:lnTo>
                        <a:pt x="150" y="513"/>
                      </a:lnTo>
                      <a:lnTo>
                        <a:pt x="112" y="521"/>
                      </a:lnTo>
                      <a:lnTo>
                        <a:pt x="73" y="516"/>
                      </a:lnTo>
                      <a:lnTo>
                        <a:pt x="45" y="506"/>
                      </a:lnTo>
                      <a:lnTo>
                        <a:pt x="20" y="480"/>
                      </a:lnTo>
                      <a:lnTo>
                        <a:pt x="13" y="445"/>
                      </a:lnTo>
                      <a:lnTo>
                        <a:pt x="13" y="414"/>
                      </a:lnTo>
                      <a:lnTo>
                        <a:pt x="20" y="370"/>
                      </a:lnTo>
                      <a:lnTo>
                        <a:pt x="35" y="335"/>
                      </a:lnTo>
                      <a:lnTo>
                        <a:pt x="48" y="308"/>
                      </a:lnTo>
                      <a:lnTo>
                        <a:pt x="51" y="287"/>
                      </a:lnTo>
                      <a:lnTo>
                        <a:pt x="53" y="265"/>
                      </a:lnTo>
                      <a:lnTo>
                        <a:pt x="48" y="241"/>
                      </a:lnTo>
                      <a:lnTo>
                        <a:pt x="33" y="207"/>
                      </a:lnTo>
                      <a:lnTo>
                        <a:pt x="25" y="177"/>
                      </a:lnTo>
                      <a:lnTo>
                        <a:pt x="15" y="150"/>
                      </a:lnTo>
                      <a:lnTo>
                        <a:pt x="6" y="116"/>
                      </a:lnTo>
                      <a:lnTo>
                        <a:pt x="0" y="90"/>
                      </a:lnTo>
                      <a:lnTo>
                        <a:pt x="1" y="60"/>
                      </a:lnTo>
                      <a:lnTo>
                        <a:pt x="8" y="39"/>
                      </a:lnTo>
                      <a:lnTo>
                        <a:pt x="28" y="25"/>
                      </a:lnTo>
                      <a:lnTo>
                        <a:pt x="45" y="15"/>
                      </a:lnTo>
                      <a:lnTo>
                        <a:pt x="5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7555320" y="2422080"/>
                  <a:ext cx="204480" cy="163800"/>
                </a:xfrm>
                <a:custGeom>
                  <a:avLst/>
                  <a:gdLst/>
                  <a:ahLst/>
                  <a:rect l="l" t="t" r="r" b="b"/>
                  <a:pathLst>
                    <a:path w="478" h="411">
                      <a:moveTo>
                        <a:pt x="33" y="0"/>
                      </a:moveTo>
                      <a:lnTo>
                        <a:pt x="77" y="18"/>
                      </a:lnTo>
                      <a:lnTo>
                        <a:pt x="105" y="48"/>
                      </a:lnTo>
                      <a:lnTo>
                        <a:pt x="140" y="89"/>
                      </a:lnTo>
                      <a:lnTo>
                        <a:pt x="185" y="135"/>
                      </a:lnTo>
                      <a:lnTo>
                        <a:pt x="254" y="198"/>
                      </a:lnTo>
                      <a:lnTo>
                        <a:pt x="317" y="257"/>
                      </a:lnTo>
                      <a:lnTo>
                        <a:pt x="366" y="289"/>
                      </a:lnTo>
                      <a:lnTo>
                        <a:pt x="414" y="319"/>
                      </a:lnTo>
                      <a:lnTo>
                        <a:pt x="441" y="331"/>
                      </a:lnTo>
                      <a:lnTo>
                        <a:pt x="471" y="346"/>
                      </a:lnTo>
                      <a:lnTo>
                        <a:pt x="478" y="367"/>
                      </a:lnTo>
                      <a:lnTo>
                        <a:pt x="476" y="375"/>
                      </a:lnTo>
                      <a:lnTo>
                        <a:pt x="471" y="393"/>
                      </a:lnTo>
                      <a:lnTo>
                        <a:pt x="464" y="405"/>
                      </a:lnTo>
                      <a:lnTo>
                        <a:pt x="458" y="406"/>
                      </a:lnTo>
                      <a:lnTo>
                        <a:pt x="441" y="411"/>
                      </a:lnTo>
                      <a:lnTo>
                        <a:pt x="411" y="405"/>
                      </a:lnTo>
                      <a:lnTo>
                        <a:pt x="387" y="381"/>
                      </a:lnTo>
                      <a:lnTo>
                        <a:pt x="359" y="328"/>
                      </a:lnTo>
                      <a:lnTo>
                        <a:pt x="311" y="284"/>
                      </a:lnTo>
                      <a:lnTo>
                        <a:pt x="247" y="235"/>
                      </a:lnTo>
                      <a:lnTo>
                        <a:pt x="189" y="188"/>
                      </a:lnTo>
                      <a:lnTo>
                        <a:pt x="134" y="149"/>
                      </a:lnTo>
                      <a:lnTo>
                        <a:pt x="60" y="108"/>
                      </a:lnTo>
                      <a:lnTo>
                        <a:pt x="30" y="84"/>
                      </a:lnTo>
                      <a:lnTo>
                        <a:pt x="12" y="55"/>
                      </a:lnTo>
                      <a:lnTo>
                        <a:pt x="0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7526880" y="2444400"/>
                  <a:ext cx="228600" cy="137520"/>
                </a:xfrm>
                <a:custGeom>
                  <a:avLst/>
                  <a:gdLst/>
                  <a:ahLst/>
                  <a:rect l="l" t="t" r="r" b="b"/>
                  <a:pathLst>
                    <a:path w="535" h="347">
                      <a:moveTo>
                        <a:pt x="80" y="31"/>
                      </a:moveTo>
                      <a:lnTo>
                        <a:pt x="47" y="0"/>
                      </a:lnTo>
                      <a:lnTo>
                        <a:pt x="0" y="15"/>
                      </a:lnTo>
                      <a:lnTo>
                        <a:pt x="5" y="21"/>
                      </a:lnTo>
                      <a:lnTo>
                        <a:pt x="15" y="68"/>
                      </a:lnTo>
                      <a:lnTo>
                        <a:pt x="43" y="122"/>
                      </a:lnTo>
                      <a:lnTo>
                        <a:pt x="142" y="192"/>
                      </a:lnTo>
                      <a:lnTo>
                        <a:pt x="196" y="223"/>
                      </a:lnTo>
                      <a:lnTo>
                        <a:pt x="272" y="253"/>
                      </a:lnTo>
                      <a:lnTo>
                        <a:pt x="334" y="285"/>
                      </a:lnTo>
                      <a:lnTo>
                        <a:pt x="383" y="309"/>
                      </a:lnTo>
                      <a:lnTo>
                        <a:pt x="431" y="329"/>
                      </a:lnTo>
                      <a:lnTo>
                        <a:pt x="470" y="345"/>
                      </a:lnTo>
                      <a:lnTo>
                        <a:pt x="498" y="347"/>
                      </a:lnTo>
                      <a:lnTo>
                        <a:pt x="521" y="344"/>
                      </a:lnTo>
                      <a:lnTo>
                        <a:pt x="535" y="315"/>
                      </a:lnTo>
                      <a:lnTo>
                        <a:pt x="526" y="299"/>
                      </a:lnTo>
                      <a:lnTo>
                        <a:pt x="501" y="285"/>
                      </a:lnTo>
                      <a:lnTo>
                        <a:pt x="468" y="278"/>
                      </a:lnTo>
                      <a:lnTo>
                        <a:pt x="441" y="276"/>
                      </a:lnTo>
                      <a:lnTo>
                        <a:pt x="398" y="268"/>
                      </a:lnTo>
                      <a:lnTo>
                        <a:pt x="341" y="253"/>
                      </a:lnTo>
                      <a:lnTo>
                        <a:pt x="282" y="228"/>
                      </a:lnTo>
                      <a:lnTo>
                        <a:pt x="229" y="193"/>
                      </a:lnTo>
                      <a:lnTo>
                        <a:pt x="182" y="148"/>
                      </a:lnTo>
                      <a:lnTo>
                        <a:pt x="137" y="100"/>
                      </a:lnTo>
                      <a:lnTo>
                        <a:pt x="97" y="52"/>
                      </a:lnTo>
                      <a:lnTo>
                        <a:pt x="8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495200" y="2283480"/>
                  <a:ext cx="153000" cy="112320"/>
                </a:xfrm>
                <a:custGeom>
                  <a:avLst/>
                  <a:gdLst/>
                  <a:ahLst/>
                  <a:rect l="l" t="t" r="r" b="b"/>
                  <a:pathLst>
                    <a:path w="357" h="283">
                      <a:moveTo>
                        <a:pt x="225" y="112"/>
                      </a:moveTo>
                      <a:lnTo>
                        <a:pt x="212" y="76"/>
                      </a:lnTo>
                      <a:lnTo>
                        <a:pt x="197" y="39"/>
                      </a:lnTo>
                      <a:lnTo>
                        <a:pt x="172" y="17"/>
                      </a:lnTo>
                      <a:lnTo>
                        <a:pt x="145" y="5"/>
                      </a:lnTo>
                      <a:lnTo>
                        <a:pt x="106" y="0"/>
                      </a:lnTo>
                      <a:lnTo>
                        <a:pt x="70" y="8"/>
                      </a:lnTo>
                      <a:lnTo>
                        <a:pt x="40" y="23"/>
                      </a:lnTo>
                      <a:lnTo>
                        <a:pt x="20" y="52"/>
                      </a:lnTo>
                      <a:lnTo>
                        <a:pt x="6" y="88"/>
                      </a:lnTo>
                      <a:lnTo>
                        <a:pt x="1" y="124"/>
                      </a:lnTo>
                      <a:lnTo>
                        <a:pt x="0" y="158"/>
                      </a:lnTo>
                      <a:lnTo>
                        <a:pt x="0" y="164"/>
                      </a:lnTo>
                      <a:lnTo>
                        <a:pt x="11" y="199"/>
                      </a:lnTo>
                      <a:lnTo>
                        <a:pt x="30" y="232"/>
                      </a:lnTo>
                      <a:lnTo>
                        <a:pt x="55" y="264"/>
                      </a:lnTo>
                      <a:lnTo>
                        <a:pt x="88" y="282"/>
                      </a:lnTo>
                      <a:lnTo>
                        <a:pt x="120" y="283"/>
                      </a:lnTo>
                      <a:lnTo>
                        <a:pt x="153" y="283"/>
                      </a:lnTo>
                      <a:lnTo>
                        <a:pt x="180" y="279"/>
                      </a:lnTo>
                      <a:lnTo>
                        <a:pt x="198" y="264"/>
                      </a:lnTo>
                      <a:lnTo>
                        <a:pt x="215" y="243"/>
                      </a:lnTo>
                      <a:lnTo>
                        <a:pt x="230" y="223"/>
                      </a:lnTo>
                      <a:lnTo>
                        <a:pt x="235" y="199"/>
                      </a:lnTo>
                      <a:lnTo>
                        <a:pt x="237" y="178"/>
                      </a:lnTo>
                      <a:lnTo>
                        <a:pt x="240" y="146"/>
                      </a:lnTo>
                      <a:lnTo>
                        <a:pt x="280" y="155"/>
                      </a:lnTo>
                      <a:lnTo>
                        <a:pt x="324" y="161"/>
                      </a:lnTo>
                      <a:lnTo>
                        <a:pt x="349" y="160"/>
                      </a:lnTo>
                      <a:lnTo>
                        <a:pt x="357" y="148"/>
                      </a:lnTo>
                      <a:lnTo>
                        <a:pt x="352" y="130"/>
                      </a:lnTo>
                      <a:lnTo>
                        <a:pt x="344" y="116"/>
                      </a:lnTo>
                      <a:lnTo>
                        <a:pt x="317" y="110"/>
                      </a:lnTo>
                      <a:lnTo>
                        <a:pt x="285" y="110"/>
                      </a:lnTo>
                      <a:lnTo>
                        <a:pt x="253" y="107"/>
                      </a:lnTo>
                      <a:lnTo>
                        <a:pt x="225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7568640" y="2586960"/>
                  <a:ext cx="126720" cy="247680"/>
                </a:xfrm>
                <a:custGeom>
                  <a:avLst/>
                  <a:gdLst/>
                  <a:ahLst/>
                  <a:rect l="l" t="t" r="r" b="b"/>
                  <a:pathLst>
                    <a:path w="295" h="622">
                      <a:moveTo>
                        <a:pt x="18" y="0"/>
                      </a:moveTo>
                      <a:lnTo>
                        <a:pt x="53" y="2"/>
                      </a:lnTo>
                      <a:lnTo>
                        <a:pt x="60" y="6"/>
                      </a:lnTo>
                      <a:lnTo>
                        <a:pt x="83" y="15"/>
                      </a:lnTo>
                      <a:lnTo>
                        <a:pt x="105" y="53"/>
                      </a:lnTo>
                      <a:lnTo>
                        <a:pt x="128" y="101"/>
                      </a:lnTo>
                      <a:lnTo>
                        <a:pt x="142" y="152"/>
                      </a:lnTo>
                      <a:lnTo>
                        <a:pt x="150" y="205"/>
                      </a:lnTo>
                      <a:lnTo>
                        <a:pt x="148" y="255"/>
                      </a:lnTo>
                      <a:lnTo>
                        <a:pt x="142" y="308"/>
                      </a:lnTo>
                      <a:lnTo>
                        <a:pt x="137" y="369"/>
                      </a:lnTo>
                      <a:lnTo>
                        <a:pt x="137" y="375"/>
                      </a:lnTo>
                      <a:lnTo>
                        <a:pt x="123" y="425"/>
                      </a:lnTo>
                      <a:lnTo>
                        <a:pt x="115" y="464"/>
                      </a:lnTo>
                      <a:lnTo>
                        <a:pt x="110" y="496"/>
                      </a:lnTo>
                      <a:lnTo>
                        <a:pt x="118" y="517"/>
                      </a:lnTo>
                      <a:lnTo>
                        <a:pt x="147" y="530"/>
                      </a:lnTo>
                      <a:lnTo>
                        <a:pt x="192" y="549"/>
                      </a:lnTo>
                      <a:lnTo>
                        <a:pt x="247" y="561"/>
                      </a:lnTo>
                      <a:lnTo>
                        <a:pt x="285" y="570"/>
                      </a:lnTo>
                      <a:lnTo>
                        <a:pt x="295" y="589"/>
                      </a:lnTo>
                      <a:lnTo>
                        <a:pt x="285" y="607"/>
                      </a:lnTo>
                      <a:lnTo>
                        <a:pt x="257" y="622"/>
                      </a:lnTo>
                      <a:lnTo>
                        <a:pt x="215" y="618"/>
                      </a:lnTo>
                      <a:lnTo>
                        <a:pt x="192" y="595"/>
                      </a:lnTo>
                      <a:lnTo>
                        <a:pt x="135" y="577"/>
                      </a:lnTo>
                      <a:lnTo>
                        <a:pt x="93" y="576"/>
                      </a:lnTo>
                      <a:lnTo>
                        <a:pt x="60" y="570"/>
                      </a:lnTo>
                      <a:lnTo>
                        <a:pt x="41" y="552"/>
                      </a:lnTo>
                      <a:lnTo>
                        <a:pt x="40" y="530"/>
                      </a:lnTo>
                      <a:lnTo>
                        <a:pt x="51" y="506"/>
                      </a:lnTo>
                      <a:lnTo>
                        <a:pt x="70" y="481"/>
                      </a:lnTo>
                      <a:lnTo>
                        <a:pt x="71" y="442"/>
                      </a:lnTo>
                      <a:lnTo>
                        <a:pt x="71" y="383"/>
                      </a:lnTo>
                      <a:lnTo>
                        <a:pt x="76" y="348"/>
                      </a:lnTo>
                      <a:lnTo>
                        <a:pt x="83" y="324"/>
                      </a:lnTo>
                      <a:lnTo>
                        <a:pt x="93" y="306"/>
                      </a:lnTo>
                      <a:lnTo>
                        <a:pt x="93" y="279"/>
                      </a:lnTo>
                      <a:lnTo>
                        <a:pt x="86" y="247"/>
                      </a:lnTo>
                      <a:lnTo>
                        <a:pt x="70" y="213"/>
                      </a:lnTo>
                      <a:lnTo>
                        <a:pt x="48" y="171"/>
                      </a:lnTo>
                      <a:lnTo>
                        <a:pt x="26" y="119"/>
                      </a:lnTo>
                      <a:lnTo>
                        <a:pt x="8" y="77"/>
                      </a:lnTo>
                      <a:lnTo>
                        <a:pt x="0" y="50"/>
                      </a:lnTo>
                      <a:lnTo>
                        <a:pt x="0" y="1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7485120" y="2588400"/>
                  <a:ext cx="87120" cy="263520"/>
                </a:xfrm>
                <a:custGeom>
                  <a:avLst/>
                  <a:gdLst/>
                  <a:ahLst/>
                  <a:rect l="l" t="t" r="r" b="b"/>
                  <a:pathLst>
                    <a:path w="206" h="662">
                      <a:moveTo>
                        <a:pt x="112" y="34"/>
                      </a:moveTo>
                      <a:lnTo>
                        <a:pt x="122" y="6"/>
                      </a:lnTo>
                      <a:lnTo>
                        <a:pt x="151" y="0"/>
                      </a:lnTo>
                      <a:lnTo>
                        <a:pt x="189" y="10"/>
                      </a:lnTo>
                      <a:lnTo>
                        <a:pt x="206" y="42"/>
                      </a:lnTo>
                      <a:lnTo>
                        <a:pt x="196" y="99"/>
                      </a:lnTo>
                      <a:lnTo>
                        <a:pt x="183" y="170"/>
                      </a:lnTo>
                      <a:lnTo>
                        <a:pt x="163" y="235"/>
                      </a:lnTo>
                      <a:lnTo>
                        <a:pt x="137" y="280"/>
                      </a:lnTo>
                      <a:lnTo>
                        <a:pt x="126" y="322"/>
                      </a:lnTo>
                      <a:lnTo>
                        <a:pt x="126" y="369"/>
                      </a:lnTo>
                      <a:lnTo>
                        <a:pt x="129" y="405"/>
                      </a:lnTo>
                      <a:lnTo>
                        <a:pt x="124" y="440"/>
                      </a:lnTo>
                      <a:lnTo>
                        <a:pt x="116" y="479"/>
                      </a:lnTo>
                      <a:lnTo>
                        <a:pt x="102" y="515"/>
                      </a:lnTo>
                      <a:lnTo>
                        <a:pt x="84" y="548"/>
                      </a:lnTo>
                      <a:lnTo>
                        <a:pt x="84" y="566"/>
                      </a:lnTo>
                      <a:lnTo>
                        <a:pt x="99" y="581"/>
                      </a:lnTo>
                      <a:lnTo>
                        <a:pt x="129" y="604"/>
                      </a:lnTo>
                      <a:lnTo>
                        <a:pt x="189" y="625"/>
                      </a:lnTo>
                      <a:lnTo>
                        <a:pt x="196" y="632"/>
                      </a:lnTo>
                      <a:lnTo>
                        <a:pt x="196" y="646"/>
                      </a:lnTo>
                      <a:lnTo>
                        <a:pt x="169" y="661"/>
                      </a:lnTo>
                      <a:lnTo>
                        <a:pt x="163" y="662"/>
                      </a:lnTo>
                      <a:lnTo>
                        <a:pt x="112" y="661"/>
                      </a:lnTo>
                      <a:lnTo>
                        <a:pt x="91" y="644"/>
                      </a:lnTo>
                      <a:lnTo>
                        <a:pt x="64" y="613"/>
                      </a:lnTo>
                      <a:lnTo>
                        <a:pt x="36" y="598"/>
                      </a:lnTo>
                      <a:lnTo>
                        <a:pt x="7" y="580"/>
                      </a:lnTo>
                      <a:lnTo>
                        <a:pt x="0" y="554"/>
                      </a:lnTo>
                      <a:lnTo>
                        <a:pt x="9" y="531"/>
                      </a:lnTo>
                      <a:lnTo>
                        <a:pt x="39" y="516"/>
                      </a:lnTo>
                      <a:lnTo>
                        <a:pt x="54" y="504"/>
                      </a:lnTo>
                      <a:lnTo>
                        <a:pt x="71" y="461"/>
                      </a:lnTo>
                      <a:lnTo>
                        <a:pt x="74" y="414"/>
                      </a:lnTo>
                      <a:lnTo>
                        <a:pt x="81" y="364"/>
                      </a:lnTo>
                      <a:lnTo>
                        <a:pt x="74" y="310"/>
                      </a:lnTo>
                      <a:lnTo>
                        <a:pt x="74" y="275"/>
                      </a:lnTo>
                      <a:lnTo>
                        <a:pt x="81" y="241"/>
                      </a:lnTo>
                      <a:lnTo>
                        <a:pt x="106" y="179"/>
                      </a:lnTo>
                      <a:lnTo>
                        <a:pt x="112" y="126"/>
                      </a:lnTo>
                      <a:lnTo>
                        <a:pt x="111" y="71"/>
                      </a:lnTo>
                      <a:lnTo>
                        <a:pt x="11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7910280" y="2220480"/>
                <a:ext cx="167400" cy="130680"/>
                <a:chOff x="7910280" y="2220480"/>
                <a:chExt cx="167400" cy="13068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7910280" y="2220480"/>
                  <a:ext cx="167400" cy="130680"/>
                </a:xfrm>
                <a:custGeom>
                  <a:avLst/>
                  <a:gdLst/>
                  <a:ahLst/>
                  <a:rect l="l" t="t" r="r" b="b"/>
                  <a:pathLst>
                    <a:path w="392" h="326">
                      <a:moveTo>
                        <a:pt x="121" y="195"/>
                      </a:moveTo>
                      <a:lnTo>
                        <a:pt x="132" y="170"/>
                      </a:lnTo>
                      <a:lnTo>
                        <a:pt x="138" y="126"/>
                      </a:lnTo>
                      <a:lnTo>
                        <a:pt x="147" y="84"/>
                      </a:lnTo>
                      <a:lnTo>
                        <a:pt x="153" y="37"/>
                      </a:lnTo>
                      <a:lnTo>
                        <a:pt x="165" y="7"/>
                      </a:lnTo>
                      <a:lnTo>
                        <a:pt x="178" y="1"/>
                      </a:lnTo>
                      <a:lnTo>
                        <a:pt x="210" y="0"/>
                      </a:lnTo>
                      <a:lnTo>
                        <a:pt x="279" y="13"/>
                      </a:lnTo>
                      <a:lnTo>
                        <a:pt x="344" y="39"/>
                      </a:lnTo>
                      <a:lnTo>
                        <a:pt x="382" y="75"/>
                      </a:lnTo>
                      <a:lnTo>
                        <a:pt x="392" y="95"/>
                      </a:lnTo>
                      <a:lnTo>
                        <a:pt x="382" y="119"/>
                      </a:lnTo>
                      <a:lnTo>
                        <a:pt x="350" y="152"/>
                      </a:lnTo>
                      <a:lnTo>
                        <a:pt x="310" y="195"/>
                      </a:lnTo>
                      <a:lnTo>
                        <a:pt x="287" y="235"/>
                      </a:lnTo>
                      <a:lnTo>
                        <a:pt x="334" y="263"/>
                      </a:lnTo>
                      <a:lnTo>
                        <a:pt x="355" y="289"/>
                      </a:lnTo>
                      <a:lnTo>
                        <a:pt x="362" y="314"/>
                      </a:lnTo>
                      <a:lnTo>
                        <a:pt x="355" y="325"/>
                      </a:lnTo>
                      <a:lnTo>
                        <a:pt x="339" y="326"/>
                      </a:lnTo>
                      <a:lnTo>
                        <a:pt x="314" y="319"/>
                      </a:lnTo>
                      <a:lnTo>
                        <a:pt x="292" y="304"/>
                      </a:lnTo>
                      <a:lnTo>
                        <a:pt x="260" y="289"/>
                      </a:lnTo>
                      <a:lnTo>
                        <a:pt x="222" y="271"/>
                      </a:lnTo>
                      <a:lnTo>
                        <a:pt x="215" y="271"/>
                      </a:lnTo>
                      <a:lnTo>
                        <a:pt x="165" y="251"/>
                      </a:lnTo>
                      <a:lnTo>
                        <a:pt x="98" y="241"/>
                      </a:lnTo>
                      <a:lnTo>
                        <a:pt x="91" y="239"/>
                      </a:lnTo>
                      <a:lnTo>
                        <a:pt x="58" y="238"/>
                      </a:lnTo>
                      <a:lnTo>
                        <a:pt x="21" y="236"/>
                      </a:lnTo>
                      <a:lnTo>
                        <a:pt x="5" y="239"/>
                      </a:lnTo>
                      <a:lnTo>
                        <a:pt x="0" y="224"/>
                      </a:lnTo>
                      <a:lnTo>
                        <a:pt x="10" y="204"/>
                      </a:lnTo>
                      <a:lnTo>
                        <a:pt x="31" y="195"/>
                      </a:lnTo>
                      <a:lnTo>
                        <a:pt x="75" y="186"/>
                      </a:lnTo>
                      <a:lnTo>
                        <a:pt x="106" y="191"/>
                      </a:lnTo>
                      <a:lnTo>
                        <a:pt x="121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7969680" y="2280240"/>
                  <a:ext cx="66600" cy="31680"/>
                </a:xfrm>
                <a:custGeom>
                  <a:avLst/>
                  <a:gdLst/>
                  <a:ahLst/>
                  <a:rect l="l" t="t" r="r" b="b"/>
                  <a:pathLst>
                    <a:path w="155" h="80">
                      <a:moveTo>
                        <a:pt x="15" y="0"/>
                      </a:moveTo>
                      <a:lnTo>
                        <a:pt x="0" y="42"/>
                      </a:lnTo>
                      <a:lnTo>
                        <a:pt x="60" y="60"/>
                      </a:lnTo>
                      <a:lnTo>
                        <a:pt x="110" y="74"/>
                      </a:lnTo>
                      <a:lnTo>
                        <a:pt x="132" y="80"/>
                      </a:lnTo>
                      <a:lnTo>
                        <a:pt x="155" y="40"/>
                      </a:lnTo>
                      <a:lnTo>
                        <a:pt x="92" y="1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61" name=""/>
            <p:cNvSpPr/>
            <p:nvPr/>
          </p:nvSpPr>
          <p:spPr>
            <a:xfrm rot="18506400">
              <a:off x="7107120" y="231876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200" spc="-1" strike="noStrike">
                  <a:solidFill>
                    <a:srgbClr val="000000"/>
                  </a:solidFill>
                  <a:latin typeface="Times New Roman"/>
                </a:rPr>
                <a:t>יהודיה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8034120" y="2130120"/>
            <a:ext cx="576360" cy="417600"/>
            <a:chOff x="8034120" y="2130120"/>
            <a:chExt cx="576360" cy="417600"/>
          </a:xfrm>
        </p:grpSpPr>
        <p:grpSp>
          <p:nvGrpSpPr>
            <p:cNvPr id="1963" name=""/>
            <p:cNvGrpSpPr/>
            <p:nvPr/>
          </p:nvGrpSpPr>
          <p:grpSpPr>
            <a:xfrm>
              <a:off x="8077320" y="2133720"/>
              <a:ext cx="533160" cy="414000"/>
              <a:chOff x="8077320" y="2133720"/>
              <a:chExt cx="533160" cy="414000"/>
            </a:xfrm>
          </p:grpSpPr>
          <p:grpSp>
            <p:nvGrpSpPr>
              <p:cNvPr id="1964" name=""/>
              <p:cNvGrpSpPr/>
              <p:nvPr/>
            </p:nvGrpSpPr>
            <p:grpSpPr>
              <a:xfrm>
                <a:off x="8353440" y="2183040"/>
                <a:ext cx="257040" cy="343800"/>
                <a:chOff x="8353440" y="2183040"/>
                <a:chExt cx="257040" cy="343800"/>
              </a:xfrm>
            </p:grpSpPr>
            <p:sp>
              <p:nvSpPr>
                <p:cNvPr id="1965" name=""/>
                <p:cNvSpPr/>
                <p:nvPr/>
              </p:nvSpPr>
              <p:spPr>
                <a:xfrm>
                  <a:off x="8429400" y="2183040"/>
                  <a:ext cx="84240" cy="78840"/>
                </a:xfrm>
                <a:custGeom>
                  <a:avLst/>
                  <a:gdLst/>
                  <a:ahLst/>
                  <a:rect l="l" t="t" r="r" b="b"/>
                  <a:pathLst>
                    <a:path w="393" h="302">
                      <a:moveTo>
                        <a:pt x="144" y="142"/>
                      </a:moveTo>
                      <a:lnTo>
                        <a:pt x="150" y="98"/>
                      </a:lnTo>
                      <a:lnTo>
                        <a:pt x="170" y="59"/>
                      </a:lnTo>
                      <a:lnTo>
                        <a:pt x="195" y="34"/>
                      </a:lnTo>
                      <a:lnTo>
                        <a:pt x="224" y="11"/>
                      </a:lnTo>
                      <a:lnTo>
                        <a:pt x="257" y="0"/>
                      </a:lnTo>
                      <a:lnTo>
                        <a:pt x="297" y="3"/>
                      </a:lnTo>
                      <a:lnTo>
                        <a:pt x="334" y="9"/>
                      </a:lnTo>
                      <a:lnTo>
                        <a:pt x="363" y="28"/>
                      </a:lnTo>
                      <a:lnTo>
                        <a:pt x="381" y="52"/>
                      </a:lnTo>
                      <a:lnTo>
                        <a:pt x="389" y="82"/>
                      </a:lnTo>
                      <a:lnTo>
                        <a:pt x="393" y="118"/>
                      </a:lnTo>
                      <a:lnTo>
                        <a:pt x="393" y="159"/>
                      </a:lnTo>
                      <a:lnTo>
                        <a:pt x="381" y="190"/>
                      </a:lnTo>
                      <a:lnTo>
                        <a:pt x="373" y="219"/>
                      </a:lnTo>
                      <a:lnTo>
                        <a:pt x="354" y="249"/>
                      </a:lnTo>
                      <a:lnTo>
                        <a:pt x="329" y="273"/>
                      </a:lnTo>
                      <a:lnTo>
                        <a:pt x="301" y="293"/>
                      </a:lnTo>
                      <a:lnTo>
                        <a:pt x="269" y="300"/>
                      </a:lnTo>
                      <a:lnTo>
                        <a:pt x="232" y="302"/>
                      </a:lnTo>
                      <a:lnTo>
                        <a:pt x="204" y="293"/>
                      </a:lnTo>
                      <a:lnTo>
                        <a:pt x="179" y="276"/>
                      </a:lnTo>
                      <a:lnTo>
                        <a:pt x="164" y="253"/>
                      </a:lnTo>
                      <a:lnTo>
                        <a:pt x="147" y="229"/>
                      </a:lnTo>
                      <a:lnTo>
                        <a:pt x="139" y="201"/>
                      </a:lnTo>
                      <a:lnTo>
                        <a:pt x="100" y="216"/>
                      </a:lnTo>
                      <a:lnTo>
                        <a:pt x="68" y="241"/>
                      </a:lnTo>
                      <a:lnTo>
                        <a:pt x="45" y="258"/>
                      </a:lnTo>
                      <a:lnTo>
                        <a:pt x="17" y="261"/>
                      </a:lnTo>
                      <a:lnTo>
                        <a:pt x="0" y="247"/>
                      </a:lnTo>
                      <a:lnTo>
                        <a:pt x="0" y="229"/>
                      </a:lnTo>
                      <a:lnTo>
                        <a:pt x="10" y="205"/>
                      </a:lnTo>
                      <a:lnTo>
                        <a:pt x="42" y="195"/>
                      </a:lnTo>
                      <a:lnTo>
                        <a:pt x="80" y="181"/>
                      </a:lnTo>
                      <a:lnTo>
                        <a:pt x="112" y="163"/>
                      </a:lnTo>
                      <a:lnTo>
                        <a:pt x="127" y="154"/>
                      </a:lnTo>
                      <a:lnTo>
                        <a:pt x="144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8480520" y="2265480"/>
                  <a:ext cx="129960" cy="79200"/>
                </a:xfrm>
                <a:custGeom>
                  <a:avLst/>
                  <a:gdLst/>
                  <a:ahLst/>
                  <a:rect l="l" t="t" r="r" b="b"/>
                  <a:pathLst>
                    <a:path w="608" h="302">
                      <a:moveTo>
                        <a:pt x="52" y="42"/>
                      </a:moveTo>
                      <a:lnTo>
                        <a:pt x="29" y="40"/>
                      </a:lnTo>
                      <a:lnTo>
                        <a:pt x="9" y="55"/>
                      </a:lnTo>
                      <a:lnTo>
                        <a:pt x="0" y="76"/>
                      </a:lnTo>
                      <a:lnTo>
                        <a:pt x="2" y="111"/>
                      </a:lnTo>
                      <a:lnTo>
                        <a:pt x="22" y="132"/>
                      </a:lnTo>
                      <a:lnTo>
                        <a:pt x="62" y="131"/>
                      </a:lnTo>
                      <a:lnTo>
                        <a:pt x="92" y="126"/>
                      </a:lnTo>
                      <a:lnTo>
                        <a:pt x="131" y="129"/>
                      </a:lnTo>
                      <a:lnTo>
                        <a:pt x="174" y="143"/>
                      </a:lnTo>
                      <a:lnTo>
                        <a:pt x="217" y="164"/>
                      </a:lnTo>
                      <a:lnTo>
                        <a:pt x="256" y="201"/>
                      </a:lnTo>
                      <a:lnTo>
                        <a:pt x="279" y="236"/>
                      </a:lnTo>
                      <a:lnTo>
                        <a:pt x="291" y="271"/>
                      </a:lnTo>
                      <a:lnTo>
                        <a:pt x="296" y="287"/>
                      </a:lnTo>
                      <a:lnTo>
                        <a:pt x="313" y="302"/>
                      </a:lnTo>
                      <a:lnTo>
                        <a:pt x="328" y="302"/>
                      </a:lnTo>
                      <a:lnTo>
                        <a:pt x="344" y="295"/>
                      </a:lnTo>
                      <a:lnTo>
                        <a:pt x="356" y="287"/>
                      </a:lnTo>
                      <a:lnTo>
                        <a:pt x="381" y="275"/>
                      </a:lnTo>
                      <a:lnTo>
                        <a:pt x="415" y="245"/>
                      </a:lnTo>
                      <a:lnTo>
                        <a:pt x="448" y="214"/>
                      </a:lnTo>
                      <a:lnTo>
                        <a:pt x="475" y="179"/>
                      </a:lnTo>
                      <a:lnTo>
                        <a:pt x="493" y="156"/>
                      </a:lnTo>
                      <a:lnTo>
                        <a:pt x="513" y="122"/>
                      </a:lnTo>
                      <a:lnTo>
                        <a:pt x="518" y="104"/>
                      </a:lnTo>
                      <a:lnTo>
                        <a:pt x="530" y="93"/>
                      </a:lnTo>
                      <a:lnTo>
                        <a:pt x="550" y="92"/>
                      </a:lnTo>
                      <a:lnTo>
                        <a:pt x="568" y="101"/>
                      </a:lnTo>
                      <a:lnTo>
                        <a:pt x="588" y="107"/>
                      </a:lnTo>
                      <a:lnTo>
                        <a:pt x="605" y="101"/>
                      </a:lnTo>
                      <a:lnTo>
                        <a:pt x="608" y="86"/>
                      </a:lnTo>
                      <a:lnTo>
                        <a:pt x="597" y="75"/>
                      </a:lnTo>
                      <a:lnTo>
                        <a:pt x="577" y="70"/>
                      </a:lnTo>
                      <a:lnTo>
                        <a:pt x="557" y="69"/>
                      </a:lnTo>
                      <a:lnTo>
                        <a:pt x="548" y="66"/>
                      </a:lnTo>
                      <a:lnTo>
                        <a:pt x="550" y="58"/>
                      </a:lnTo>
                      <a:lnTo>
                        <a:pt x="570" y="46"/>
                      </a:lnTo>
                      <a:lnTo>
                        <a:pt x="587" y="39"/>
                      </a:lnTo>
                      <a:lnTo>
                        <a:pt x="595" y="22"/>
                      </a:lnTo>
                      <a:lnTo>
                        <a:pt x="600" y="12"/>
                      </a:lnTo>
                      <a:lnTo>
                        <a:pt x="590" y="0"/>
                      </a:lnTo>
                      <a:lnTo>
                        <a:pt x="573" y="0"/>
                      </a:lnTo>
                      <a:lnTo>
                        <a:pt x="557" y="18"/>
                      </a:lnTo>
                      <a:lnTo>
                        <a:pt x="542" y="40"/>
                      </a:lnTo>
                      <a:lnTo>
                        <a:pt x="528" y="51"/>
                      </a:lnTo>
                      <a:lnTo>
                        <a:pt x="513" y="48"/>
                      </a:lnTo>
                      <a:lnTo>
                        <a:pt x="495" y="27"/>
                      </a:lnTo>
                      <a:lnTo>
                        <a:pt x="483" y="15"/>
                      </a:lnTo>
                      <a:lnTo>
                        <a:pt x="463" y="19"/>
                      </a:lnTo>
                      <a:lnTo>
                        <a:pt x="451" y="36"/>
                      </a:lnTo>
                      <a:lnTo>
                        <a:pt x="456" y="49"/>
                      </a:lnTo>
                      <a:lnTo>
                        <a:pt x="473" y="60"/>
                      </a:lnTo>
                      <a:lnTo>
                        <a:pt x="491" y="70"/>
                      </a:lnTo>
                      <a:lnTo>
                        <a:pt x="501" y="81"/>
                      </a:lnTo>
                      <a:lnTo>
                        <a:pt x="495" y="101"/>
                      </a:lnTo>
                      <a:lnTo>
                        <a:pt x="470" y="134"/>
                      </a:lnTo>
                      <a:lnTo>
                        <a:pt x="441" y="162"/>
                      </a:lnTo>
                      <a:lnTo>
                        <a:pt x="405" y="189"/>
                      </a:lnTo>
                      <a:lnTo>
                        <a:pt x="373" y="208"/>
                      </a:lnTo>
                      <a:lnTo>
                        <a:pt x="349" y="217"/>
                      </a:lnTo>
                      <a:lnTo>
                        <a:pt x="331" y="209"/>
                      </a:lnTo>
                      <a:lnTo>
                        <a:pt x="306" y="170"/>
                      </a:lnTo>
                      <a:lnTo>
                        <a:pt x="274" y="137"/>
                      </a:lnTo>
                      <a:lnTo>
                        <a:pt x="236" y="107"/>
                      </a:lnTo>
                      <a:lnTo>
                        <a:pt x="191" y="84"/>
                      </a:lnTo>
                      <a:lnTo>
                        <a:pt x="146" y="63"/>
                      </a:lnTo>
                      <a:lnTo>
                        <a:pt x="100" y="46"/>
                      </a:lnTo>
                      <a:lnTo>
                        <a:pt x="69" y="43"/>
                      </a:lnTo>
                      <a:lnTo>
                        <a:pt x="5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8444520" y="2269080"/>
                  <a:ext cx="55800" cy="127440"/>
                </a:xfrm>
                <a:custGeom>
                  <a:avLst/>
                  <a:gdLst/>
                  <a:ahLst/>
                  <a:rect l="l" t="t" r="r" b="b"/>
                  <a:pathLst>
                    <a:path w="263" h="488">
                      <a:moveTo>
                        <a:pt x="52" y="14"/>
                      </a:moveTo>
                      <a:lnTo>
                        <a:pt x="86" y="0"/>
                      </a:lnTo>
                      <a:lnTo>
                        <a:pt x="129" y="3"/>
                      </a:lnTo>
                      <a:lnTo>
                        <a:pt x="173" y="21"/>
                      </a:lnTo>
                      <a:lnTo>
                        <a:pt x="203" y="44"/>
                      </a:lnTo>
                      <a:lnTo>
                        <a:pt x="224" y="74"/>
                      </a:lnTo>
                      <a:lnTo>
                        <a:pt x="239" y="109"/>
                      </a:lnTo>
                      <a:lnTo>
                        <a:pt x="251" y="146"/>
                      </a:lnTo>
                      <a:lnTo>
                        <a:pt x="259" y="193"/>
                      </a:lnTo>
                      <a:lnTo>
                        <a:pt x="263" y="243"/>
                      </a:lnTo>
                      <a:lnTo>
                        <a:pt x="263" y="280"/>
                      </a:lnTo>
                      <a:lnTo>
                        <a:pt x="259" y="333"/>
                      </a:lnTo>
                      <a:lnTo>
                        <a:pt x="253" y="374"/>
                      </a:lnTo>
                      <a:lnTo>
                        <a:pt x="239" y="408"/>
                      </a:lnTo>
                      <a:lnTo>
                        <a:pt x="218" y="437"/>
                      </a:lnTo>
                      <a:lnTo>
                        <a:pt x="194" y="461"/>
                      </a:lnTo>
                      <a:lnTo>
                        <a:pt x="164" y="479"/>
                      </a:lnTo>
                      <a:lnTo>
                        <a:pt x="131" y="488"/>
                      </a:lnTo>
                      <a:lnTo>
                        <a:pt x="94" y="488"/>
                      </a:lnTo>
                      <a:lnTo>
                        <a:pt x="62" y="479"/>
                      </a:lnTo>
                      <a:lnTo>
                        <a:pt x="41" y="467"/>
                      </a:lnTo>
                      <a:lnTo>
                        <a:pt x="19" y="451"/>
                      </a:lnTo>
                      <a:lnTo>
                        <a:pt x="4" y="425"/>
                      </a:lnTo>
                      <a:lnTo>
                        <a:pt x="0" y="395"/>
                      </a:lnTo>
                      <a:lnTo>
                        <a:pt x="2" y="366"/>
                      </a:lnTo>
                      <a:lnTo>
                        <a:pt x="9" y="336"/>
                      </a:lnTo>
                      <a:lnTo>
                        <a:pt x="17" y="310"/>
                      </a:lnTo>
                      <a:lnTo>
                        <a:pt x="31" y="289"/>
                      </a:lnTo>
                      <a:lnTo>
                        <a:pt x="37" y="270"/>
                      </a:lnTo>
                      <a:lnTo>
                        <a:pt x="41" y="244"/>
                      </a:lnTo>
                      <a:lnTo>
                        <a:pt x="39" y="226"/>
                      </a:lnTo>
                      <a:lnTo>
                        <a:pt x="34" y="202"/>
                      </a:lnTo>
                      <a:lnTo>
                        <a:pt x="29" y="178"/>
                      </a:lnTo>
                      <a:lnTo>
                        <a:pt x="17" y="145"/>
                      </a:lnTo>
                      <a:lnTo>
                        <a:pt x="10" y="116"/>
                      </a:lnTo>
                      <a:lnTo>
                        <a:pt x="5" y="85"/>
                      </a:lnTo>
                      <a:lnTo>
                        <a:pt x="12" y="60"/>
                      </a:lnTo>
                      <a:lnTo>
                        <a:pt x="24" y="39"/>
                      </a:lnTo>
                      <a:lnTo>
                        <a:pt x="34" y="27"/>
                      </a:lnTo>
                      <a:lnTo>
                        <a:pt x="5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8353440" y="2278080"/>
                  <a:ext cx="111960" cy="95400"/>
                </a:xfrm>
                <a:custGeom>
                  <a:avLst/>
                  <a:gdLst/>
                  <a:ahLst/>
                  <a:rect l="l" t="t" r="r" b="b"/>
                  <a:pathLst>
                    <a:path w="525" h="366">
                      <a:moveTo>
                        <a:pt x="381" y="92"/>
                      </a:moveTo>
                      <a:lnTo>
                        <a:pt x="411" y="61"/>
                      </a:lnTo>
                      <a:lnTo>
                        <a:pt x="445" y="20"/>
                      </a:lnTo>
                      <a:lnTo>
                        <a:pt x="468" y="0"/>
                      </a:lnTo>
                      <a:lnTo>
                        <a:pt x="475" y="2"/>
                      </a:lnTo>
                      <a:lnTo>
                        <a:pt x="498" y="2"/>
                      </a:lnTo>
                      <a:lnTo>
                        <a:pt x="525" y="29"/>
                      </a:lnTo>
                      <a:lnTo>
                        <a:pt x="512" y="77"/>
                      </a:lnTo>
                      <a:lnTo>
                        <a:pt x="485" y="124"/>
                      </a:lnTo>
                      <a:lnTo>
                        <a:pt x="386" y="169"/>
                      </a:lnTo>
                      <a:lnTo>
                        <a:pt x="296" y="202"/>
                      </a:lnTo>
                      <a:lnTo>
                        <a:pt x="288" y="204"/>
                      </a:lnTo>
                      <a:lnTo>
                        <a:pt x="216" y="243"/>
                      </a:lnTo>
                      <a:lnTo>
                        <a:pt x="146" y="290"/>
                      </a:lnTo>
                      <a:lnTo>
                        <a:pt x="81" y="339"/>
                      </a:lnTo>
                      <a:lnTo>
                        <a:pt x="52" y="360"/>
                      </a:lnTo>
                      <a:lnTo>
                        <a:pt x="29" y="363"/>
                      </a:lnTo>
                      <a:lnTo>
                        <a:pt x="22" y="366"/>
                      </a:lnTo>
                      <a:lnTo>
                        <a:pt x="5" y="348"/>
                      </a:lnTo>
                      <a:lnTo>
                        <a:pt x="0" y="318"/>
                      </a:lnTo>
                      <a:lnTo>
                        <a:pt x="25" y="290"/>
                      </a:lnTo>
                      <a:lnTo>
                        <a:pt x="51" y="268"/>
                      </a:lnTo>
                      <a:lnTo>
                        <a:pt x="86" y="271"/>
                      </a:lnTo>
                      <a:lnTo>
                        <a:pt x="142" y="253"/>
                      </a:lnTo>
                      <a:lnTo>
                        <a:pt x="223" y="204"/>
                      </a:lnTo>
                      <a:lnTo>
                        <a:pt x="301" y="155"/>
                      </a:lnTo>
                      <a:lnTo>
                        <a:pt x="350" y="121"/>
                      </a:lnTo>
                      <a:lnTo>
                        <a:pt x="381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8415360" y="2370600"/>
                  <a:ext cx="48960" cy="153000"/>
                </a:xfrm>
                <a:custGeom>
                  <a:avLst/>
                  <a:gdLst/>
                  <a:ahLst/>
                  <a:rect l="l" t="t" r="r" b="b"/>
                  <a:pathLst>
                    <a:path w="231" h="586">
                      <a:moveTo>
                        <a:pt x="130" y="126"/>
                      </a:moveTo>
                      <a:lnTo>
                        <a:pt x="137" y="49"/>
                      </a:lnTo>
                      <a:lnTo>
                        <a:pt x="159" y="0"/>
                      </a:lnTo>
                      <a:lnTo>
                        <a:pt x="204" y="3"/>
                      </a:lnTo>
                      <a:lnTo>
                        <a:pt x="229" y="36"/>
                      </a:lnTo>
                      <a:lnTo>
                        <a:pt x="229" y="42"/>
                      </a:lnTo>
                      <a:lnTo>
                        <a:pt x="231" y="81"/>
                      </a:lnTo>
                      <a:lnTo>
                        <a:pt x="197" y="156"/>
                      </a:lnTo>
                      <a:lnTo>
                        <a:pt x="177" y="227"/>
                      </a:lnTo>
                      <a:lnTo>
                        <a:pt x="172" y="281"/>
                      </a:lnTo>
                      <a:lnTo>
                        <a:pt x="184" y="318"/>
                      </a:lnTo>
                      <a:lnTo>
                        <a:pt x="184" y="367"/>
                      </a:lnTo>
                      <a:lnTo>
                        <a:pt x="182" y="373"/>
                      </a:lnTo>
                      <a:lnTo>
                        <a:pt x="172" y="411"/>
                      </a:lnTo>
                      <a:lnTo>
                        <a:pt x="171" y="450"/>
                      </a:lnTo>
                      <a:lnTo>
                        <a:pt x="179" y="476"/>
                      </a:lnTo>
                      <a:lnTo>
                        <a:pt x="179" y="494"/>
                      </a:lnTo>
                      <a:lnTo>
                        <a:pt x="156" y="515"/>
                      </a:lnTo>
                      <a:lnTo>
                        <a:pt x="129" y="524"/>
                      </a:lnTo>
                      <a:lnTo>
                        <a:pt x="97" y="539"/>
                      </a:lnTo>
                      <a:lnTo>
                        <a:pt x="65" y="563"/>
                      </a:lnTo>
                      <a:lnTo>
                        <a:pt x="45" y="578"/>
                      </a:lnTo>
                      <a:lnTo>
                        <a:pt x="44" y="586"/>
                      </a:lnTo>
                      <a:lnTo>
                        <a:pt x="30" y="586"/>
                      </a:lnTo>
                      <a:lnTo>
                        <a:pt x="7" y="571"/>
                      </a:lnTo>
                      <a:lnTo>
                        <a:pt x="0" y="534"/>
                      </a:lnTo>
                      <a:lnTo>
                        <a:pt x="7" y="512"/>
                      </a:lnTo>
                      <a:lnTo>
                        <a:pt x="32" y="500"/>
                      </a:lnTo>
                      <a:lnTo>
                        <a:pt x="70" y="486"/>
                      </a:lnTo>
                      <a:lnTo>
                        <a:pt x="119" y="462"/>
                      </a:lnTo>
                      <a:lnTo>
                        <a:pt x="132" y="446"/>
                      </a:lnTo>
                      <a:lnTo>
                        <a:pt x="139" y="403"/>
                      </a:lnTo>
                      <a:lnTo>
                        <a:pt x="137" y="343"/>
                      </a:lnTo>
                      <a:lnTo>
                        <a:pt x="129" y="293"/>
                      </a:lnTo>
                      <a:lnTo>
                        <a:pt x="122" y="256"/>
                      </a:lnTo>
                      <a:lnTo>
                        <a:pt x="124" y="214"/>
                      </a:lnTo>
                      <a:lnTo>
                        <a:pt x="125" y="171"/>
                      </a:lnTo>
                      <a:lnTo>
                        <a:pt x="125" y="149"/>
                      </a:lnTo>
                      <a:lnTo>
                        <a:pt x="13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8469000" y="2373840"/>
                  <a:ext cx="32400" cy="153000"/>
                </a:xfrm>
                <a:custGeom>
                  <a:avLst/>
                  <a:gdLst/>
                  <a:ahLst/>
                  <a:rect l="l" t="t" r="r" b="b"/>
                  <a:pathLst>
                    <a:path w="154" h="586">
                      <a:moveTo>
                        <a:pt x="3" y="73"/>
                      </a:moveTo>
                      <a:lnTo>
                        <a:pt x="0" y="41"/>
                      </a:lnTo>
                      <a:lnTo>
                        <a:pt x="7" y="18"/>
                      </a:lnTo>
                      <a:lnTo>
                        <a:pt x="33" y="2"/>
                      </a:lnTo>
                      <a:lnTo>
                        <a:pt x="60" y="0"/>
                      </a:lnTo>
                      <a:lnTo>
                        <a:pt x="80" y="14"/>
                      </a:lnTo>
                      <a:lnTo>
                        <a:pt x="92" y="32"/>
                      </a:lnTo>
                      <a:lnTo>
                        <a:pt x="105" y="106"/>
                      </a:lnTo>
                      <a:lnTo>
                        <a:pt x="117" y="193"/>
                      </a:lnTo>
                      <a:lnTo>
                        <a:pt x="125" y="252"/>
                      </a:lnTo>
                      <a:lnTo>
                        <a:pt x="120" y="306"/>
                      </a:lnTo>
                      <a:lnTo>
                        <a:pt x="110" y="360"/>
                      </a:lnTo>
                      <a:lnTo>
                        <a:pt x="99" y="424"/>
                      </a:lnTo>
                      <a:lnTo>
                        <a:pt x="92" y="463"/>
                      </a:lnTo>
                      <a:lnTo>
                        <a:pt x="99" y="484"/>
                      </a:lnTo>
                      <a:lnTo>
                        <a:pt x="120" y="509"/>
                      </a:lnTo>
                      <a:lnTo>
                        <a:pt x="152" y="541"/>
                      </a:lnTo>
                      <a:lnTo>
                        <a:pt x="154" y="556"/>
                      </a:lnTo>
                      <a:lnTo>
                        <a:pt x="144" y="570"/>
                      </a:lnTo>
                      <a:lnTo>
                        <a:pt x="117" y="577"/>
                      </a:lnTo>
                      <a:lnTo>
                        <a:pt x="84" y="586"/>
                      </a:lnTo>
                      <a:lnTo>
                        <a:pt x="60" y="576"/>
                      </a:lnTo>
                      <a:lnTo>
                        <a:pt x="57" y="552"/>
                      </a:lnTo>
                      <a:lnTo>
                        <a:pt x="60" y="518"/>
                      </a:lnTo>
                      <a:lnTo>
                        <a:pt x="60" y="493"/>
                      </a:lnTo>
                      <a:lnTo>
                        <a:pt x="45" y="475"/>
                      </a:lnTo>
                      <a:lnTo>
                        <a:pt x="45" y="458"/>
                      </a:lnTo>
                      <a:lnTo>
                        <a:pt x="59" y="431"/>
                      </a:lnTo>
                      <a:lnTo>
                        <a:pt x="60" y="410"/>
                      </a:lnTo>
                      <a:lnTo>
                        <a:pt x="64" y="330"/>
                      </a:lnTo>
                      <a:lnTo>
                        <a:pt x="65" y="271"/>
                      </a:lnTo>
                      <a:lnTo>
                        <a:pt x="57" y="225"/>
                      </a:lnTo>
                      <a:lnTo>
                        <a:pt x="45" y="177"/>
                      </a:lnTo>
                      <a:lnTo>
                        <a:pt x="17" y="115"/>
                      </a:lnTo>
                      <a:lnTo>
                        <a:pt x="3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1" name=""/>
              <p:cNvGrpSpPr/>
              <p:nvPr/>
            </p:nvGrpSpPr>
            <p:grpSpPr>
              <a:xfrm>
                <a:off x="8077320" y="2140560"/>
                <a:ext cx="221400" cy="351720"/>
                <a:chOff x="8077320" y="2140560"/>
                <a:chExt cx="221400" cy="35172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8080200" y="2161800"/>
                  <a:ext cx="190800" cy="326880"/>
                </a:xfrm>
                <a:custGeom>
                  <a:avLst/>
                  <a:gdLst/>
                  <a:ahLst/>
                  <a:rect l="l" t="t" r="r" b="b"/>
                  <a:pathLst>
                    <a:path w="893" h="1250">
                      <a:moveTo>
                        <a:pt x="769" y="0"/>
                      </a:moveTo>
                      <a:lnTo>
                        <a:pt x="789" y="63"/>
                      </a:lnTo>
                      <a:lnTo>
                        <a:pt x="806" y="85"/>
                      </a:lnTo>
                      <a:lnTo>
                        <a:pt x="809" y="146"/>
                      </a:lnTo>
                      <a:lnTo>
                        <a:pt x="809" y="225"/>
                      </a:lnTo>
                      <a:lnTo>
                        <a:pt x="851" y="287"/>
                      </a:lnTo>
                      <a:lnTo>
                        <a:pt x="877" y="317"/>
                      </a:lnTo>
                      <a:lnTo>
                        <a:pt x="893" y="391"/>
                      </a:lnTo>
                      <a:lnTo>
                        <a:pt x="826" y="469"/>
                      </a:lnTo>
                      <a:lnTo>
                        <a:pt x="794" y="560"/>
                      </a:lnTo>
                      <a:lnTo>
                        <a:pt x="789" y="597"/>
                      </a:lnTo>
                      <a:lnTo>
                        <a:pt x="782" y="667"/>
                      </a:lnTo>
                      <a:lnTo>
                        <a:pt x="761" y="757"/>
                      </a:lnTo>
                      <a:lnTo>
                        <a:pt x="749" y="807"/>
                      </a:lnTo>
                      <a:lnTo>
                        <a:pt x="735" y="844"/>
                      </a:lnTo>
                      <a:lnTo>
                        <a:pt x="724" y="936"/>
                      </a:lnTo>
                      <a:lnTo>
                        <a:pt x="715" y="983"/>
                      </a:lnTo>
                      <a:lnTo>
                        <a:pt x="704" y="1024"/>
                      </a:lnTo>
                      <a:lnTo>
                        <a:pt x="689" y="1094"/>
                      </a:lnTo>
                      <a:lnTo>
                        <a:pt x="669" y="1147"/>
                      </a:lnTo>
                      <a:lnTo>
                        <a:pt x="617" y="1227"/>
                      </a:lnTo>
                      <a:lnTo>
                        <a:pt x="580" y="1212"/>
                      </a:lnTo>
                      <a:lnTo>
                        <a:pt x="548" y="1207"/>
                      </a:lnTo>
                      <a:lnTo>
                        <a:pt x="520" y="1225"/>
                      </a:lnTo>
                      <a:lnTo>
                        <a:pt x="487" y="1250"/>
                      </a:lnTo>
                      <a:lnTo>
                        <a:pt x="450" y="1250"/>
                      </a:lnTo>
                      <a:lnTo>
                        <a:pt x="390" y="1213"/>
                      </a:lnTo>
                      <a:lnTo>
                        <a:pt x="340" y="1206"/>
                      </a:lnTo>
                      <a:lnTo>
                        <a:pt x="293" y="1183"/>
                      </a:lnTo>
                      <a:lnTo>
                        <a:pt x="266" y="1141"/>
                      </a:lnTo>
                      <a:lnTo>
                        <a:pt x="239" y="1131"/>
                      </a:lnTo>
                      <a:lnTo>
                        <a:pt x="199" y="1126"/>
                      </a:lnTo>
                      <a:lnTo>
                        <a:pt x="189" y="1076"/>
                      </a:lnTo>
                      <a:lnTo>
                        <a:pt x="174" y="1055"/>
                      </a:lnTo>
                      <a:lnTo>
                        <a:pt x="134" y="1049"/>
                      </a:lnTo>
                      <a:lnTo>
                        <a:pt x="97" y="1063"/>
                      </a:lnTo>
                      <a:lnTo>
                        <a:pt x="40" y="1102"/>
                      </a:lnTo>
                      <a:lnTo>
                        <a:pt x="7" y="1107"/>
                      </a:lnTo>
                      <a:lnTo>
                        <a:pt x="0" y="1084"/>
                      </a:lnTo>
                      <a:lnTo>
                        <a:pt x="10" y="1060"/>
                      </a:lnTo>
                      <a:lnTo>
                        <a:pt x="64" y="1010"/>
                      </a:lnTo>
                      <a:lnTo>
                        <a:pt x="117" y="977"/>
                      </a:lnTo>
                      <a:lnTo>
                        <a:pt x="176" y="945"/>
                      </a:lnTo>
                      <a:lnTo>
                        <a:pt x="208" y="924"/>
                      </a:lnTo>
                      <a:lnTo>
                        <a:pt x="241" y="861"/>
                      </a:lnTo>
                      <a:lnTo>
                        <a:pt x="279" y="792"/>
                      </a:lnTo>
                      <a:lnTo>
                        <a:pt x="326" y="760"/>
                      </a:lnTo>
                      <a:lnTo>
                        <a:pt x="383" y="686"/>
                      </a:lnTo>
                      <a:lnTo>
                        <a:pt x="443" y="614"/>
                      </a:lnTo>
                      <a:lnTo>
                        <a:pt x="487" y="545"/>
                      </a:lnTo>
                      <a:lnTo>
                        <a:pt x="502" y="480"/>
                      </a:lnTo>
                      <a:lnTo>
                        <a:pt x="520" y="396"/>
                      </a:lnTo>
                      <a:lnTo>
                        <a:pt x="542" y="338"/>
                      </a:lnTo>
                      <a:lnTo>
                        <a:pt x="597" y="268"/>
                      </a:lnTo>
                      <a:lnTo>
                        <a:pt x="655" y="179"/>
                      </a:lnTo>
                      <a:lnTo>
                        <a:pt x="694" y="114"/>
                      </a:lnTo>
                      <a:lnTo>
                        <a:pt x="730" y="58"/>
                      </a:lnTo>
                      <a:lnTo>
                        <a:pt x="747" y="24"/>
                      </a:lnTo>
                      <a:lnTo>
                        <a:pt x="76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8246520" y="2144520"/>
                  <a:ext cx="48600" cy="37080"/>
                </a:xfrm>
                <a:custGeom>
                  <a:avLst/>
                  <a:gdLst/>
                  <a:ahLst/>
                  <a:rect l="l" t="t" r="r" b="b"/>
                  <a:pathLst>
                    <a:path w="227" h="143">
                      <a:moveTo>
                        <a:pt x="32" y="142"/>
                      </a:moveTo>
                      <a:lnTo>
                        <a:pt x="7" y="115"/>
                      </a:lnTo>
                      <a:lnTo>
                        <a:pt x="0" y="77"/>
                      </a:lnTo>
                      <a:lnTo>
                        <a:pt x="13" y="38"/>
                      </a:lnTo>
                      <a:lnTo>
                        <a:pt x="38" y="9"/>
                      </a:lnTo>
                      <a:lnTo>
                        <a:pt x="75" y="43"/>
                      </a:lnTo>
                      <a:lnTo>
                        <a:pt x="102" y="26"/>
                      </a:lnTo>
                      <a:lnTo>
                        <a:pt x="120" y="0"/>
                      </a:lnTo>
                      <a:lnTo>
                        <a:pt x="147" y="14"/>
                      </a:lnTo>
                      <a:lnTo>
                        <a:pt x="154" y="15"/>
                      </a:lnTo>
                      <a:lnTo>
                        <a:pt x="162" y="44"/>
                      </a:lnTo>
                      <a:lnTo>
                        <a:pt x="185" y="52"/>
                      </a:lnTo>
                      <a:lnTo>
                        <a:pt x="227" y="46"/>
                      </a:lnTo>
                      <a:lnTo>
                        <a:pt x="220" y="89"/>
                      </a:lnTo>
                      <a:lnTo>
                        <a:pt x="187" y="119"/>
                      </a:lnTo>
                      <a:lnTo>
                        <a:pt x="144" y="143"/>
                      </a:lnTo>
                      <a:lnTo>
                        <a:pt x="129" y="130"/>
                      </a:lnTo>
                      <a:lnTo>
                        <a:pt x="108" y="124"/>
                      </a:lnTo>
                      <a:lnTo>
                        <a:pt x="98" y="140"/>
                      </a:lnTo>
                      <a:lnTo>
                        <a:pt x="82" y="142"/>
                      </a:lnTo>
                      <a:lnTo>
                        <a:pt x="68" y="134"/>
                      </a:lnTo>
                      <a:lnTo>
                        <a:pt x="52" y="142"/>
                      </a:lnTo>
                      <a:lnTo>
                        <a:pt x="32" y="1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8077320" y="2153880"/>
                  <a:ext cx="181080" cy="338400"/>
                </a:xfrm>
                <a:custGeom>
                  <a:avLst/>
                  <a:gdLst/>
                  <a:ahLst/>
                  <a:rect l="l" t="t" r="r" b="b"/>
                  <a:pathLst>
                    <a:path w="847" h="1294">
                      <a:moveTo>
                        <a:pt x="742" y="61"/>
                      </a:moveTo>
                      <a:lnTo>
                        <a:pt x="789" y="0"/>
                      </a:lnTo>
                      <a:lnTo>
                        <a:pt x="792" y="37"/>
                      </a:lnTo>
                      <a:lnTo>
                        <a:pt x="784" y="55"/>
                      </a:lnTo>
                      <a:lnTo>
                        <a:pt x="727" y="132"/>
                      </a:lnTo>
                      <a:lnTo>
                        <a:pt x="690" y="204"/>
                      </a:lnTo>
                      <a:lnTo>
                        <a:pt x="645" y="266"/>
                      </a:lnTo>
                      <a:lnTo>
                        <a:pt x="606" y="327"/>
                      </a:lnTo>
                      <a:lnTo>
                        <a:pt x="563" y="389"/>
                      </a:lnTo>
                      <a:lnTo>
                        <a:pt x="563" y="395"/>
                      </a:lnTo>
                      <a:lnTo>
                        <a:pt x="538" y="455"/>
                      </a:lnTo>
                      <a:lnTo>
                        <a:pt x="528" y="508"/>
                      </a:lnTo>
                      <a:lnTo>
                        <a:pt x="516" y="565"/>
                      </a:lnTo>
                      <a:lnTo>
                        <a:pt x="495" y="612"/>
                      </a:lnTo>
                      <a:lnTo>
                        <a:pt x="466" y="654"/>
                      </a:lnTo>
                      <a:lnTo>
                        <a:pt x="429" y="702"/>
                      </a:lnTo>
                      <a:lnTo>
                        <a:pt x="386" y="749"/>
                      </a:lnTo>
                      <a:lnTo>
                        <a:pt x="351" y="800"/>
                      </a:lnTo>
                      <a:lnTo>
                        <a:pt x="351" y="806"/>
                      </a:lnTo>
                      <a:lnTo>
                        <a:pt x="312" y="829"/>
                      </a:lnTo>
                      <a:lnTo>
                        <a:pt x="286" y="859"/>
                      </a:lnTo>
                      <a:lnTo>
                        <a:pt x="267" y="906"/>
                      </a:lnTo>
                      <a:lnTo>
                        <a:pt x="264" y="912"/>
                      </a:lnTo>
                      <a:lnTo>
                        <a:pt x="241" y="954"/>
                      </a:lnTo>
                      <a:lnTo>
                        <a:pt x="229" y="970"/>
                      </a:lnTo>
                      <a:lnTo>
                        <a:pt x="199" y="985"/>
                      </a:lnTo>
                      <a:lnTo>
                        <a:pt x="157" y="1003"/>
                      </a:lnTo>
                      <a:lnTo>
                        <a:pt x="110" y="1029"/>
                      </a:lnTo>
                      <a:lnTo>
                        <a:pt x="79" y="1055"/>
                      </a:lnTo>
                      <a:lnTo>
                        <a:pt x="74" y="1061"/>
                      </a:lnTo>
                      <a:lnTo>
                        <a:pt x="47" y="1083"/>
                      </a:lnTo>
                      <a:lnTo>
                        <a:pt x="32" y="1106"/>
                      </a:lnTo>
                      <a:lnTo>
                        <a:pt x="33" y="1115"/>
                      </a:lnTo>
                      <a:lnTo>
                        <a:pt x="55" y="1119"/>
                      </a:lnTo>
                      <a:lnTo>
                        <a:pt x="79" y="1106"/>
                      </a:lnTo>
                      <a:lnTo>
                        <a:pt x="120" y="1079"/>
                      </a:lnTo>
                      <a:lnTo>
                        <a:pt x="165" y="1067"/>
                      </a:lnTo>
                      <a:lnTo>
                        <a:pt x="195" y="1070"/>
                      </a:lnTo>
                      <a:lnTo>
                        <a:pt x="216" y="1085"/>
                      </a:lnTo>
                      <a:lnTo>
                        <a:pt x="224" y="1112"/>
                      </a:lnTo>
                      <a:lnTo>
                        <a:pt x="224" y="1134"/>
                      </a:lnTo>
                      <a:lnTo>
                        <a:pt x="236" y="1148"/>
                      </a:lnTo>
                      <a:lnTo>
                        <a:pt x="267" y="1153"/>
                      </a:lnTo>
                      <a:lnTo>
                        <a:pt x="294" y="1162"/>
                      </a:lnTo>
                      <a:lnTo>
                        <a:pt x="307" y="1178"/>
                      </a:lnTo>
                      <a:lnTo>
                        <a:pt x="316" y="1199"/>
                      </a:lnTo>
                      <a:lnTo>
                        <a:pt x="329" y="1213"/>
                      </a:lnTo>
                      <a:lnTo>
                        <a:pt x="359" y="1225"/>
                      </a:lnTo>
                      <a:lnTo>
                        <a:pt x="386" y="1229"/>
                      </a:lnTo>
                      <a:lnTo>
                        <a:pt x="413" y="1235"/>
                      </a:lnTo>
                      <a:lnTo>
                        <a:pt x="438" y="1247"/>
                      </a:lnTo>
                      <a:lnTo>
                        <a:pt x="451" y="1258"/>
                      </a:lnTo>
                      <a:lnTo>
                        <a:pt x="481" y="1270"/>
                      </a:lnTo>
                      <a:lnTo>
                        <a:pt x="510" y="1264"/>
                      </a:lnTo>
                      <a:lnTo>
                        <a:pt x="528" y="1250"/>
                      </a:lnTo>
                      <a:lnTo>
                        <a:pt x="546" y="1229"/>
                      </a:lnTo>
                      <a:lnTo>
                        <a:pt x="563" y="1223"/>
                      </a:lnTo>
                      <a:lnTo>
                        <a:pt x="596" y="1220"/>
                      </a:lnTo>
                      <a:lnTo>
                        <a:pt x="615" y="1231"/>
                      </a:lnTo>
                      <a:lnTo>
                        <a:pt x="628" y="1237"/>
                      </a:lnTo>
                      <a:lnTo>
                        <a:pt x="648" y="1213"/>
                      </a:lnTo>
                      <a:lnTo>
                        <a:pt x="673" y="1165"/>
                      </a:lnTo>
                      <a:lnTo>
                        <a:pt x="690" y="1125"/>
                      </a:lnTo>
                      <a:lnTo>
                        <a:pt x="698" y="1088"/>
                      </a:lnTo>
                      <a:lnTo>
                        <a:pt x="705" y="1049"/>
                      </a:lnTo>
                      <a:lnTo>
                        <a:pt x="713" y="1017"/>
                      </a:lnTo>
                      <a:lnTo>
                        <a:pt x="725" y="982"/>
                      </a:lnTo>
                      <a:lnTo>
                        <a:pt x="730" y="927"/>
                      </a:lnTo>
                      <a:lnTo>
                        <a:pt x="745" y="853"/>
                      </a:lnTo>
                      <a:lnTo>
                        <a:pt x="764" y="806"/>
                      </a:lnTo>
                      <a:lnTo>
                        <a:pt x="770" y="772"/>
                      </a:lnTo>
                      <a:lnTo>
                        <a:pt x="779" y="723"/>
                      </a:lnTo>
                      <a:lnTo>
                        <a:pt x="790" y="662"/>
                      </a:lnTo>
                      <a:lnTo>
                        <a:pt x="792" y="615"/>
                      </a:lnTo>
                      <a:lnTo>
                        <a:pt x="804" y="568"/>
                      </a:lnTo>
                      <a:lnTo>
                        <a:pt x="814" y="541"/>
                      </a:lnTo>
                      <a:lnTo>
                        <a:pt x="824" y="500"/>
                      </a:lnTo>
                      <a:lnTo>
                        <a:pt x="847" y="470"/>
                      </a:lnTo>
                      <a:lnTo>
                        <a:pt x="844" y="514"/>
                      </a:lnTo>
                      <a:lnTo>
                        <a:pt x="817" y="612"/>
                      </a:lnTo>
                      <a:lnTo>
                        <a:pt x="809" y="674"/>
                      </a:lnTo>
                      <a:lnTo>
                        <a:pt x="792" y="750"/>
                      </a:lnTo>
                      <a:lnTo>
                        <a:pt x="777" y="824"/>
                      </a:lnTo>
                      <a:lnTo>
                        <a:pt x="758" y="868"/>
                      </a:lnTo>
                      <a:lnTo>
                        <a:pt x="755" y="930"/>
                      </a:lnTo>
                      <a:lnTo>
                        <a:pt x="748" y="976"/>
                      </a:lnTo>
                      <a:lnTo>
                        <a:pt x="743" y="1006"/>
                      </a:lnTo>
                      <a:lnTo>
                        <a:pt x="732" y="1038"/>
                      </a:lnTo>
                      <a:lnTo>
                        <a:pt x="727" y="1073"/>
                      </a:lnTo>
                      <a:lnTo>
                        <a:pt x="717" y="1125"/>
                      </a:lnTo>
                      <a:lnTo>
                        <a:pt x="700" y="1171"/>
                      </a:lnTo>
                      <a:lnTo>
                        <a:pt x="687" y="1202"/>
                      </a:lnTo>
                      <a:lnTo>
                        <a:pt x="665" y="1238"/>
                      </a:lnTo>
                      <a:lnTo>
                        <a:pt x="645" y="1272"/>
                      </a:lnTo>
                      <a:lnTo>
                        <a:pt x="621" y="1273"/>
                      </a:lnTo>
                      <a:lnTo>
                        <a:pt x="600" y="1261"/>
                      </a:lnTo>
                      <a:lnTo>
                        <a:pt x="573" y="1249"/>
                      </a:lnTo>
                      <a:lnTo>
                        <a:pt x="553" y="1259"/>
                      </a:lnTo>
                      <a:lnTo>
                        <a:pt x="525" y="1284"/>
                      </a:lnTo>
                      <a:lnTo>
                        <a:pt x="498" y="1294"/>
                      </a:lnTo>
                      <a:lnTo>
                        <a:pt x="466" y="1294"/>
                      </a:lnTo>
                      <a:lnTo>
                        <a:pt x="444" y="1282"/>
                      </a:lnTo>
                      <a:lnTo>
                        <a:pt x="423" y="1267"/>
                      </a:lnTo>
                      <a:lnTo>
                        <a:pt x="393" y="1255"/>
                      </a:lnTo>
                      <a:lnTo>
                        <a:pt x="368" y="1253"/>
                      </a:lnTo>
                      <a:lnTo>
                        <a:pt x="361" y="1253"/>
                      </a:lnTo>
                      <a:lnTo>
                        <a:pt x="336" y="1243"/>
                      </a:lnTo>
                      <a:lnTo>
                        <a:pt x="314" y="1232"/>
                      </a:lnTo>
                      <a:lnTo>
                        <a:pt x="296" y="1219"/>
                      </a:lnTo>
                      <a:lnTo>
                        <a:pt x="281" y="1196"/>
                      </a:lnTo>
                      <a:lnTo>
                        <a:pt x="271" y="1180"/>
                      </a:lnTo>
                      <a:lnTo>
                        <a:pt x="254" y="1172"/>
                      </a:lnTo>
                      <a:lnTo>
                        <a:pt x="224" y="1172"/>
                      </a:lnTo>
                      <a:lnTo>
                        <a:pt x="204" y="1165"/>
                      </a:lnTo>
                      <a:lnTo>
                        <a:pt x="197" y="1147"/>
                      </a:lnTo>
                      <a:lnTo>
                        <a:pt x="192" y="1119"/>
                      </a:lnTo>
                      <a:lnTo>
                        <a:pt x="189" y="1103"/>
                      </a:lnTo>
                      <a:lnTo>
                        <a:pt x="175" y="1095"/>
                      </a:lnTo>
                      <a:lnTo>
                        <a:pt x="145" y="1094"/>
                      </a:lnTo>
                      <a:lnTo>
                        <a:pt x="105" y="1112"/>
                      </a:lnTo>
                      <a:lnTo>
                        <a:pt x="65" y="1141"/>
                      </a:lnTo>
                      <a:lnTo>
                        <a:pt x="33" y="1150"/>
                      </a:lnTo>
                      <a:lnTo>
                        <a:pt x="25" y="1153"/>
                      </a:lnTo>
                      <a:lnTo>
                        <a:pt x="7" y="1142"/>
                      </a:lnTo>
                      <a:lnTo>
                        <a:pt x="0" y="1124"/>
                      </a:lnTo>
                      <a:lnTo>
                        <a:pt x="3" y="1095"/>
                      </a:lnTo>
                      <a:lnTo>
                        <a:pt x="20" y="1076"/>
                      </a:lnTo>
                      <a:lnTo>
                        <a:pt x="55" y="1044"/>
                      </a:lnTo>
                      <a:lnTo>
                        <a:pt x="97" y="1017"/>
                      </a:lnTo>
                      <a:lnTo>
                        <a:pt x="139" y="988"/>
                      </a:lnTo>
                      <a:lnTo>
                        <a:pt x="189" y="964"/>
                      </a:lnTo>
                      <a:lnTo>
                        <a:pt x="209" y="946"/>
                      </a:lnTo>
                      <a:lnTo>
                        <a:pt x="234" y="912"/>
                      </a:lnTo>
                      <a:lnTo>
                        <a:pt x="256" y="868"/>
                      </a:lnTo>
                      <a:lnTo>
                        <a:pt x="271" y="836"/>
                      </a:lnTo>
                      <a:lnTo>
                        <a:pt x="282" y="818"/>
                      </a:lnTo>
                      <a:lnTo>
                        <a:pt x="312" y="794"/>
                      </a:lnTo>
                      <a:lnTo>
                        <a:pt x="334" y="779"/>
                      </a:lnTo>
                      <a:lnTo>
                        <a:pt x="364" y="738"/>
                      </a:lnTo>
                      <a:lnTo>
                        <a:pt x="391" y="707"/>
                      </a:lnTo>
                      <a:lnTo>
                        <a:pt x="429" y="660"/>
                      </a:lnTo>
                      <a:lnTo>
                        <a:pt x="456" y="624"/>
                      </a:lnTo>
                      <a:lnTo>
                        <a:pt x="484" y="573"/>
                      </a:lnTo>
                      <a:lnTo>
                        <a:pt x="503" y="526"/>
                      </a:lnTo>
                      <a:lnTo>
                        <a:pt x="515" y="460"/>
                      </a:lnTo>
                      <a:lnTo>
                        <a:pt x="525" y="424"/>
                      </a:lnTo>
                      <a:lnTo>
                        <a:pt x="550" y="359"/>
                      </a:lnTo>
                      <a:lnTo>
                        <a:pt x="588" y="303"/>
                      </a:lnTo>
                      <a:lnTo>
                        <a:pt x="638" y="232"/>
                      </a:lnTo>
                      <a:lnTo>
                        <a:pt x="678" y="174"/>
                      </a:lnTo>
                      <a:lnTo>
                        <a:pt x="707" y="118"/>
                      </a:lnTo>
                      <a:lnTo>
                        <a:pt x="738" y="73"/>
                      </a:lnTo>
                      <a:lnTo>
                        <a:pt x="742" y="6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8243640" y="2140560"/>
                  <a:ext cx="55080" cy="45360"/>
                </a:xfrm>
                <a:custGeom>
                  <a:avLst/>
                  <a:gdLst/>
                  <a:ahLst/>
                  <a:rect l="l" t="t" r="r" b="b"/>
                  <a:pathLst>
                    <a:path w="257" h="173">
                      <a:moveTo>
                        <a:pt x="197" y="155"/>
                      </a:moveTo>
                      <a:lnTo>
                        <a:pt x="228" y="133"/>
                      </a:lnTo>
                      <a:lnTo>
                        <a:pt x="250" y="106"/>
                      </a:lnTo>
                      <a:lnTo>
                        <a:pt x="257" y="76"/>
                      </a:lnTo>
                      <a:lnTo>
                        <a:pt x="253" y="51"/>
                      </a:lnTo>
                      <a:lnTo>
                        <a:pt x="237" y="36"/>
                      </a:lnTo>
                      <a:lnTo>
                        <a:pt x="217" y="41"/>
                      </a:lnTo>
                      <a:lnTo>
                        <a:pt x="197" y="53"/>
                      </a:lnTo>
                      <a:lnTo>
                        <a:pt x="182" y="41"/>
                      </a:lnTo>
                      <a:lnTo>
                        <a:pt x="177" y="17"/>
                      </a:lnTo>
                      <a:lnTo>
                        <a:pt x="157" y="8"/>
                      </a:lnTo>
                      <a:lnTo>
                        <a:pt x="130" y="0"/>
                      </a:lnTo>
                      <a:lnTo>
                        <a:pt x="115" y="9"/>
                      </a:lnTo>
                      <a:lnTo>
                        <a:pt x="110" y="17"/>
                      </a:lnTo>
                      <a:lnTo>
                        <a:pt x="108" y="32"/>
                      </a:lnTo>
                      <a:lnTo>
                        <a:pt x="91" y="38"/>
                      </a:lnTo>
                      <a:lnTo>
                        <a:pt x="76" y="24"/>
                      </a:lnTo>
                      <a:lnTo>
                        <a:pt x="60" y="9"/>
                      </a:lnTo>
                      <a:lnTo>
                        <a:pt x="53" y="8"/>
                      </a:lnTo>
                      <a:lnTo>
                        <a:pt x="36" y="17"/>
                      </a:lnTo>
                      <a:lnTo>
                        <a:pt x="30" y="18"/>
                      </a:lnTo>
                      <a:lnTo>
                        <a:pt x="16" y="30"/>
                      </a:lnTo>
                      <a:lnTo>
                        <a:pt x="5" y="44"/>
                      </a:lnTo>
                      <a:lnTo>
                        <a:pt x="3" y="67"/>
                      </a:lnTo>
                      <a:lnTo>
                        <a:pt x="0" y="73"/>
                      </a:lnTo>
                      <a:lnTo>
                        <a:pt x="0" y="88"/>
                      </a:lnTo>
                      <a:lnTo>
                        <a:pt x="0" y="94"/>
                      </a:lnTo>
                      <a:lnTo>
                        <a:pt x="5" y="121"/>
                      </a:lnTo>
                      <a:lnTo>
                        <a:pt x="11" y="145"/>
                      </a:lnTo>
                      <a:lnTo>
                        <a:pt x="25" y="163"/>
                      </a:lnTo>
                      <a:lnTo>
                        <a:pt x="43" y="173"/>
                      </a:lnTo>
                      <a:lnTo>
                        <a:pt x="58" y="161"/>
                      </a:lnTo>
                      <a:lnTo>
                        <a:pt x="50" y="142"/>
                      </a:lnTo>
                      <a:lnTo>
                        <a:pt x="43" y="145"/>
                      </a:lnTo>
                      <a:lnTo>
                        <a:pt x="36" y="124"/>
                      </a:lnTo>
                      <a:lnTo>
                        <a:pt x="25" y="95"/>
                      </a:lnTo>
                      <a:lnTo>
                        <a:pt x="26" y="65"/>
                      </a:lnTo>
                      <a:lnTo>
                        <a:pt x="38" y="47"/>
                      </a:lnTo>
                      <a:lnTo>
                        <a:pt x="53" y="51"/>
                      </a:lnTo>
                      <a:lnTo>
                        <a:pt x="73" y="71"/>
                      </a:lnTo>
                      <a:lnTo>
                        <a:pt x="93" y="70"/>
                      </a:lnTo>
                      <a:lnTo>
                        <a:pt x="118" y="61"/>
                      </a:lnTo>
                      <a:lnTo>
                        <a:pt x="128" y="51"/>
                      </a:lnTo>
                      <a:lnTo>
                        <a:pt x="137" y="35"/>
                      </a:lnTo>
                      <a:lnTo>
                        <a:pt x="157" y="42"/>
                      </a:lnTo>
                      <a:lnTo>
                        <a:pt x="162" y="65"/>
                      </a:lnTo>
                      <a:lnTo>
                        <a:pt x="172" y="73"/>
                      </a:lnTo>
                      <a:lnTo>
                        <a:pt x="197" y="76"/>
                      </a:lnTo>
                      <a:lnTo>
                        <a:pt x="210" y="73"/>
                      </a:lnTo>
                      <a:lnTo>
                        <a:pt x="223" y="76"/>
                      </a:lnTo>
                      <a:lnTo>
                        <a:pt x="223" y="82"/>
                      </a:lnTo>
                      <a:lnTo>
                        <a:pt x="222" y="98"/>
                      </a:lnTo>
                      <a:lnTo>
                        <a:pt x="202" y="118"/>
                      </a:lnTo>
                      <a:lnTo>
                        <a:pt x="172" y="133"/>
                      </a:lnTo>
                      <a:lnTo>
                        <a:pt x="152" y="145"/>
                      </a:lnTo>
                      <a:lnTo>
                        <a:pt x="145" y="146"/>
                      </a:lnTo>
                      <a:lnTo>
                        <a:pt x="145" y="158"/>
                      </a:lnTo>
                      <a:lnTo>
                        <a:pt x="157" y="169"/>
                      </a:lnTo>
                      <a:lnTo>
                        <a:pt x="182" y="163"/>
                      </a:lnTo>
                      <a:lnTo>
                        <a:pt x="197" y="155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8125200" y="2297160"/>
                  <a:ext cx="75960" cy="130680"/>
                </a:xfrm>
                <a:custGeom>
                  <a:avLst/>
                  <a:gdLst/>
                  <a:ahLst/>
                  <a:rect l="l" t="t" r="r" b="b"/>
                  <a:pathLst>
                    <a:path w="356" h="500">
                      <a:moveTo>
                        <a:pt x="0" y="486"/>
                      </a:moveTo>
                      <a:lnTo>
                        <a:pt x="60" y="448"/>
                      </a:lnTo>
                      <a:lnTo>
                        <a:pt x="93" y="415"/>
                      </a:lnTo>
                      <a:lnTo>
                        <a:pt x="115" y="369"/>
                      </a:lnTo>
                      <a:lnTo>
                        <a:pt x="135" y="337"/>
                      </a:lnTo>
                      <a:lnTo>
                        <a:pt x="160" y="295"/>
                      </a:lnTo>
                      <a:lnTo>
                        <a:pt x="190" y="263"/>
                      </a:lnTo>
                      <a:lnTo>
                        <a:pt x="220" y="233"/>
                      </a:lnTo>
                      <a:lnTo>
                        <a:pt x="257" y="180"/>
                      </a:lnTo>
                      <a:lnTo>
                        <a:pt x="297" y="131"/>
                      </a:lnTo>
                      <a:lnTo>
                        <a:pt x="322" y="86"/>
                      </a:lnTo>
                      <a:lnTo>
                        <a:pt x="337" y="57"/>
                      </a:lnTo>
                      <a:lnTo>
                        <a:pt x="356" y="0"/>
                      </a:lnTo>
                      <a:lnTo>
                        <a:pt x="349" y="61"/>
                      </a:lnTo>
                      <a:lnTo>
                        <a:pt x="316" y="132"/>
                      </a:lnTo>
                      <a:lnTo>
                        <a:pt x="282" y="174"/>
                      </a:lnTo>
                      <a:lnTo>
                        <a:pt x="244" y="232"/>
                      </a:lnTo>
                      <a:lnTo>
                        <a:pt x="219" y="257"/>
                      </a:lnTo>
                      <a:lnTo>
                        <a:pt x="185" y="292"/>
                      </a:lnTo>
                      <a:lnTo>
                        <a:pt x="180" y="298"/>
                      </a:lnTo>
                      <a:lnTo>
                        <a:pt x="155" y="332"/>
                      </a:lnTo>
                      <a:lnTo>
                        <a:pt x="152" y="339"/>
                      </a:lnTo>
                      <a:lnTo>
                        <a:pt x="125" y="394"/>
                      </a:lnTo>
                      <a:lnTo>
                        <a:pt x="100" y="433"/>
                      </a:lnTo>
                      <a:lnTo>
                        <a:pt x="75" y="461"/>
                      </a:lnTo>
                      <a:lnTo>
                        <a:pt x="13" y="500"/>
                      </a:lnTo>
                      <a:lnTo>
                        <a:pt x="0" y="48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8179560" y="2321280"/>
                  <a:ext cx="44640" cy="134280"/>
                </a:xfrm>
                <a:custGeom>
                  <a:avLst/>
                  <a:gdLst/>
                  <a:ahLst/>
                  <a:rect l="l" t="t" r="r" b="b"/>
                  <a:pathLst>
                    <a:path w="210" h="513">
                      <a:moveTo>
                        <a:pt x="115" y="237"/>
                      </a:moveTo>
                      <a:lnTo>
                        <a:pt x="137" y="183"/>
                      </a:lnTo>
                      <a:lnTo>
                        <a:pt x="177" y="108"/>
                      </a:lnTo>
                      <a:lnTo>
                        <a:pt x="184" y="61"/>
                      </a:lnTo>
                      <a:lnTo>
                        <a:pt x="210" y="0"/>
                      </a:lnTo>
                      <a:lnTo>
                        <a:pt x="195" y="69"/>
                      </a:lnTo>
                      <a:lnTo>
                        <a:pt x="190" y="125"/>
                      </a:lnTo>
                      <a:lnTo>
                        <a:pt x="150" y="198"/>
                      </a:lnTo>
                      <a:lnTo>
                        <a:pt x="128" y="256"/>
                      </a:lnTo>
                      <a:lnTo>
                        <a:pt x="112" y="307"/>
                      </a:lnTo>
                      <a:lnTo>
                        <a:pt x="95" y="355"/>
                      </a:lnTo>
                      <a:lnTo>
                        <a:pt x="93" y="361"/>
                      </a:lnTo>
                      <a:lnTo>
                        <a:pt x="68" y="399"/>
                      </a:lnTo>
                      <a:lnTo>
                        <a:pt x="45" y="448"/>
                      </a:lnTo>
                      <a:lnTo>
                        <a:pt x="27" y="492"/>
                      </a:lnTo>
                      <a:lnTo>
                        <a:pt x="18" y="513"/>
                      </a:lnTo>
                      <a:lnTo>
                        <a:pt x="0" y="513"/>
                      </a:lnTo>
                      <a:lnTo>
                        <a:pt x="3" y="497"/>
                      </a:lnTo>
                      <a:lnTo>
                        <a:pt x="20" y="451"/>
                      </a:lnTo>
                      <a:lnTo>
                        <a:pt x="45" y="397"/>
                      </a:lnTo>
                      <a:lnTo>
                        <a:pt x="63" y="361"/>
                      </a:lnTo>
                      <a:lnTo>
                        <a:pt x="80" y="343"/>
                      </a:lnTo>
                      <a:lnTo>
                        <a:pt x="95" y="292"/>
                      </a:lnTo>
                      <a:lnTo>
                        <a:pt x="108" y="254"/>
                      </a:lnTo>
                      <a:lnTo>
                        <a:pt x="115" y="23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"/>
              <p:cNvGrpSpPr/>
              <p:nvPr/>
            </p:nvGrpSpPr>
            <p:grpSpPr>
              <a:xfrm>
                <a:off x="8238240" y="2174760"/>
                <a:ext cx="137160" cy="372960"/>
                <a:chOff x="8238240" y="2174760"/>
                <a:chExt cx="137160" cy="372960"/>
              </a:xfrm>
            </p:grpSpPr>
            <p:sp>
              <p:nvSpPr>
                <p:cNvPr id="1979" name=""/>
                <p:cNvSpPr/>
                <p:nvPr/>
              </p:nvSpPr>
              <p:spPr>
                <a:xfrm>
                  <a:off x="8255160" y="2259360"/>
                  <a:ext cx="52560" cy="136440"/>
                </a:xfrm>
                <a:custGeom>
                  <a:avLst/>
                  <a:gdLst/>
                  <a:ahLst/>
                  <a:rect l="l" t="t" r="r" b="b"/>
                  <a:pathLst>
                    <a:path w="245" h="521">
                      <a:moveTo>
                        <a:pt x="53" y="10"/>
                      </a:moveTo>
                      <a:lnTo>
                        <a:pt x="60" y="7"/>
                      </a:lnTo>
                      <a:lnTo>
                        <a:pt x="98" y="0"/>
                      </a:lnTo>
                      <a:lnTo>
                        <a:pt x="125" y="7"/>
                      </a:lnTo>
                      <a:lnTo>
                        <a:pt x="132" y="7"/>
                      </a:lnTo>
                      <a:lnTo>
                        <a:pt x="162" y="21"/>
                      </a:lnTo>
                      <a:lnTo>
                        <a:pt x="187" y="51"/>
                      </a:lnTo>
                      <a:lnTo>
                        <a:pt x="210" y="90"/>
                      </a:lnTo>
                      <a:lnTo>
                        <a:pt x="222" y="132"/>
                      </a:lnTo>
                      <a:lnTo>
                        <a:pt x="234" y="177"/>
                      </a:lnTo>
                      <a:lnTo>
                        <a:pt x="240" y="221"/>
                      </a:lnTo>
                      <a:lnTo>
                        <a:pt x="245" y="265"/>
                      </a:lnTo>
                      <a:lnTo>
                        <a:pt x="245" y="302"/>
                      </a:lnTo>
                      <a:lnTo>
                        <a:pt x="245" y="346"/>
                      </a:lnTo>
                      <a:lnTo>
                        <a:pt x="240" y="390"/>
                      </a:lnTo>
                      <a:lnTo>
                        <a:pt x="229" y="433"/>
                      </a:lnTo>
                      <a:lnTo>
                        <a:pt x="215" y="457"/>
                      </a:lnTo>
                      <a:lnTo>
                        <a:pt x="197" y="488"/>
                      </a:lnTo>
                      <a:lnTo>
                        <a:pt x="180" y="504"/>
                      </a:lnTo>
                      <a:lnTo>
                        <a:pt x="150" y="513"/>
                      </a:lnTo>
                      <a:lnTo>
                        <a:pt x="112" y="521"/>
                      </a:lnTo>
                      <a:lnTo>
                        <a:pt x="73" y="516"/>
                      </a:lnTo>
                      <a:lnTo>
                        <a:pt x="45" y="506"/>
                      </a:lnTo>
                      <a:lnTo>
                        <a:pt x="20" y="480"/>
                      </a:lnTo>
                      <a:lnTo>
                        <a:pt x="13" y="445"/>
                      </a:lnTo>
                      <a:lnTo>
                        <a:pt x="13" y="414"/>
                      </a:lnTo>
                      <a:lnTo>
                        <a:pt x="20" y="370"/>
                      </a:lnTo>
                      <a:lnTo>
                        <a:pt x="35" y="335"/>
                      </a:lnTo>
                      <a:lnTo>
                        <a:pt x="48" y="308"/>
                      </a:lnTo>
                      <a:lnTo>
                        <a:pt x="51" y="287"/>
                      </a:lnTo>
                      <a:lnTo>
                        <a:pt x="53" y="265"/>
                      </a:lnTo>
                      <a:lnTo>
                        <a:pt x="48" y="241"/>
                      </a:lnTo>
                      <a:lnTo>
                        <a:pt x="33" y="207"/>
                      </a:lnTo>
                      <a:lnTo>
                        <a:pt x="25" y="177"/>
                      </a:lnTo>
                      <a:lnTo>
                        <a:pt x="15" y="150"/>
                      </a:lnTo>
                      <a:lnTo>
                        <a:pt x="6" y="116"/>
                      </a:lnTo>
                      <a:lnTo>
                        <a:pt x="0" y="90"/>
                      </a:lnTo>
                      <a:lnTo>
                        <a:pt x="1" y="60"/>
                      </a:lnTo>
                      <a:lnTo>
                        <a:pt x="8" y="39"/>
                      </a:lnTo>
                      <a:lnTo>
                        <a:pt x="28" y="25"/>
                      </a:lnTo>
                      <a:lnTo>
                        <a:pt x="45" y="15"/>
                      </a:lnTo>
                      <a:lnTo>
                        <a:pt x="5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8273160" y="2265480"/>
                  <a:ext cx="102240" cy="107640"/>
                </a:xfrm>
                <a:custGeom>
                  <a:avLst/>
                  <a:gdLst/>
                  <a:ahLst/>
                  <a:rect l="l" t="t" r="r" b="b"/>
                  <a:pathLst>
                    <a:path w="478" h="411">
                      <a:moveTo>
                        <a:pt x="33" y="0"/>
                      </a:moveTo>
                      <a:lnTo>
                        <a:pt x="77" y="18"/>
                      </a:lnTo>
                      <a:lnTo>
                        <a:pt x="105" y="48"/>
                      </a:lnTo>
                      <a:lnTo>
                        <a:pt x="140" y="89"/>
                      </a:lnTo>
                      <a:lnTo>
                        <a:pt x="185" y="135"/>
                      </a:lnTo>
                      <a:lnTo>
                        <a:pt x="254" y="198"/>
                      </a:lnTo>
                      <a:lnTo>
                        <a:pt x="317" y="257"/>
                      </a:lnTo>
                      <a:lnTo>
                        <a:pt x="366" y="289"/>
                      </a:lnTo>
                      <a:lnTo>
                        <a:pt x="414" y="319"/>
                      </a:lnTo>
                      <a:lnTo>
                        <a:pt x="441" y="331"/>
                      </a:lnTo>
                      <a:lnTo>
                        <a:pt x="471" y="346"/>
                      </a:lnTo>
                      <a:lnTo>
                        <a:pt x="478" y="367"/>
                      </a:lnTo>
                      <a:lnTo>
                        <a:pt x="476" y="375"/>
                      </a:lnTo>
                      <a:lnTo>
                        <a:pt x="471" y="393"/>
                      </a:lnTo>
                      <a:lnTo>
                        <a:pt x="464" y="405"/>
                      </a:lnTo>
                      <a:lnTo>
                        <a:pt x="458" y="406"/>
                      </a:lnTo>
                      <a:lnTo>
                        <a:pt x="441" y="411"/>
                      </a:lnTo>
                      <a:lnTo>
                        <a:pt x="411" y="405"/>
                      </a:lnTo>
                      <a:lnTo>
                        <a:pt x="387" y="381"/>
                      </a:lnTo>
                      <a:lnTo>
                        <a:pt x="359" y="328"/>
                      </a:lnTo>
                      <a:lnTo>
                        <a:pt x="311" y="284"/>
                      </a:lnTo>
                      <a:lnTo>
                        <a:pt x="247" y="235"/>
                      </a:lnTo>
                      <a:lnTo>
                        <a:pt x="189" y="188"/>
                      </a:lnTo>
                      <a:lnTo>
                        <a:pt x="134" y="149"/>
                      </a:lnTo>
                      <a:lnTo>
                        <a:pt x="60" y="108"/>
                      </a:lnTo>
                      <a:lnTo>
                        <a:pt x="30" y="84"/>
                      </a:lnTo>
                      <a:lnTo>
                        <a:pt x="12" y="55"/>
                      </a:lnTo>
                      <a:lnTo>
                        <a:pt x="0" y="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8259120" y="2280240"/>
                  <a:ext cx="114120" cy="90000"/>
                </a:xfrm>
                <a:custGeom>
                  <a:avLst/>
                  <a:gdLst/>
                  <a:ahLst/>
                  <a:rect l="l" t="t" r="r" b="b"/>
                  <a:pathLst>
                    <a:path w="535" h="347">
                      <a:moveTo>
                        <a:pt x="80" y="31"/>
                      </a:moveTo>
                      <a:lnTo>
                        <a:pt x="47" y="0"/>
                      </a:lnTo>
                      <a:lnTo>
                        <a:pt x="0" y="15"/>
                      </a:lnTo>
                      <a:lnTo>
                        <a:pt x="5" y="21"/>
                      </a:lnTo>
                      <a:lnTo>
                        <a:pt x="15" y="68"/>
                      </a:lnTo>
                      <a:lnTo>
                        <a:pt x="43" y="122"/>
                      </a:lnTo>
                      <a:lnTo>
                        <a:pt x="142" y="192"/>
                      </a:lnTo>
                      <a:lnTo>
                        <a:pt x="196" y="223"/>
                      </a:lnTo>
                      <a:lnTo>
                        <a:pt x="272" y="253"/>
                      </a:lnTo>
                      <a:lnTo>
                        <a:pt x="334" y="285"/>
                      </a:lnTo>
                      <a:lnTo>
                        <a:pt x="383" y="309"/>
                      </a:lnTo>
                      <a:lnTo>
                        <a:pt x="431" y="329"/>
                      </a:lnTo>
                      <a:lnTo>
                        <a:pt x="470" y="345"/>
                      </a:lnTo>
                      <a:lnTo>
                        <a:pt x="498" y="347"/>
                      </a:lnTo>
                      <a:lnTo>
                        <a:pt x="521" y="344"/>
                      </a:lnTo>
                      <a:lnTo>
                        <a:pt x="535" y="315"/>
                      </a:lnTo>
                      <a:lnTo>
                        <a:pt x="526" y="299"/>
                      </a:lnTo>
                      <a:lnTo>
                        <a:pt x="501" y="285"/>
                      </a:lnTo>
                      <a:lnTo>
                        <a:pt x="468" y="278"/>
                      </a:lnTo>
                      <a:lnTo>
                        <a:pt x="441" y="276"/>
                      </a:lnTo>
                      <a:lnTo>
                        <a:pt x="398" y="268"/>
                      </a:lnTo>
                      <a:lnTo>
                        <a:pt x="341" y="253"/>
                      </a:lnTo>
                      <a:lnTo>
                        <a:pt x="282" y="228"/>
                      </a:lnTo>
                      <a:lnTo>
                        <a:pt x="229" y="193"/>
                      </a:lnTo>
                      <a:lnTo>
                        <a:pt x="182" y="148"/>
                      </a:lnTo>
                      <a:lnTo>
                        <a:pt x="137" y="100"/>
                      </a:lnTo>
                      <a:lnTo>
                        <a:pt x="97" y="52"/>
                      </a:lnTo>
                      <a:lnTo>
                        <a:pt x="8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8243280" y="2174760"/>
                  <a:ext cx="76320" cy="73440"/>
                </a:xfrm>
                <a:custGeom>
                  <a:avLst/>
                  <a:gdLst/>
                  <a:ahLst/>
                  <a:rect l="l" t="t" r="r" b="b"/>
                  <a:pathLst>
                    <a:path w="357" h="283">
                      <a:moveTo>
                        <a:pt x="225" y="112"/>
                      </a:moveTo>
                      <a:lnTo>
                        <a:pt x="212" y="76"/>
                      </a:lnTo>
                      <a:lnTo>
                        <a:pt x="197" y="39"/>
                      </a:lnTo>
                      <a:lnTo>
                        <a:pt x="172" y="17"/>
                      </a:lnTo>
                      <a:lnTo>
                        <a:pt x="145" y="5"/>
                      </a:lnTo>
                      <a:lnTo>
                        <a:pt x="106" y="0"/>
                      </a:lnTo>
                      <a:lnTo>
                        <a:pt x="70" y="8"/>
                      </a:lnTo>
                      <a:lnTo>
                        <a:pt x="40" y="23"/>
                      </a:lnTo>
                      <a:lnTo>
                        <a:pt x="20" y="52"/>
                      </a:lnTo>
                      <a:lnTo>
                        <a:pt x="6" y="88"/>
                      </a:lnTo>
                      <a:lnTo>
                        <a:pt x="1" y="124"/>
                      </a:lnTo>
                      <a:lnTo>
                        <a:pt x="0" y="158"/>
                      </a:lnTo>
                      <a:lnTo>
                        <a:pt x="0" y="164"/>
                      </a:lnTo>
                      <a:lnTo>
                        <a:pt x="11" y="199"/>
                      </a:lnTo>
                      <a:lnTo>
                        <a:pt x="30" y="232"/>
                      </a:lnTo>
                      <a:lnTo>
                        <a:pt x="55" y="264"/>
                      </a:lnTo>
                      <a:lnTo>
                        <a:pt x="88" y="282"/>
                      </a:lnTo>
                      <a:lnTo>
                        <a:pt x="120" y="283"/>
                      </a:lnTo>
                      <a:lnTo>
                        <a:pt x="153" y="283"/>
                      </a:lnTo>
                      <a:lnTo>
                        <a:pt x="180" y="279"/>
                      </a:lnTo>
                      <a:lnTo>
                        <a:pt x="198" y="264"/>
                      </a:lnTo>
                      <a:lnTo>
                        <a:pt x="215" y="243"/>
                      </a:lnTo>
                      <a:lnTo>
                        <a:pt x="230" y="223"/>
                      </a:lnTo>
                      <a:lnTo>
                        <a:pt x="235" y="199"/>
                      </a:lnTo>
                      <a:lnTo>
                        <a:pt x="237" y="178"/>
                      </a:lnTo>
                      <a:lnTo>
                        <a:pt x="240" y="146"/>
                      </a:lnTo>
                      <a:lnTo>
                        <a:pt x="280" y="155"/>
                      </a:lnTo>
                      <a:lnTo>
                        <a:pt x="324" y="161"/>
                      </a:lnTo>
                      <a:lnTo>
                        <a:pt x="349" y="160"/>
                      </a:lnTo>
                      <a:lnTo>
                        <a:pt x="357" y="148"/>
                      </a:lnTo>
                      <a:lnTo>
                        <a:pt x="352" y="130"/>
                      </a:lnTo>
                      <a:lnTo>
                        <a:pt x="344" y="116"/>
                      </a:lnTo>
                      <a:lnTo>
                        <a:pt x="317" y="110"/>
                      </a:lnTo>
                      <a:lnTo>
                        <a:pt x="285" y="110"/>
                      </a:lnTo>
                      <a:lnTo>
                        <a:pt x="253" y="107"/>
                      </a:lnTo>
                      <a:lnTo>
                        <a:pt x="225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8280000" y="2373840"/>
                  <a:ext cx="63360" cy="162360"/>
                </a:xfrm>
                <a:custGeom>
                  <a:avLst/>
                  <a:gdLst/>
                  <a:ahLst/>
                  <a:rect l="l" t="t" r="r" b="b"/>
                  <a:pathLst>
                    <a:path w="295" h="622">
                      <a:moveTo>
                        <a:pt x="18" y="0"/>
                      </a:moveTo>
                      <a:lnTo>
                        <a:pt x="53" y="2"/>
                      </a:lnTo>
                      <a:lnTo>
                        <a:pt x="60" y="6"/>
                      </a:lnTo>
                      <a:lnTo>
                        <a:pt x="83" y="15"/>
                      </a:lnTo>
                      <a:lnTo>
                        <a:pt x="105" y="53"/>
                      </a:lnTo>
                      <a:lnTo>
                        <a:pt x="128" y="101"/>
                      </a:lnTo>
                      <a:lnTo>
                        <a:pt x="142" y="152"/>
                      </a:lnTo>
                      <a:lnTo>
                        <a:pt x="150" y="205"/>
                      </a:lnTo>
                      <a:lnTo>
                        <a:pt x="148" y="255"/>
                      </a:lnTo>
                      <a:lnTo>
                        <a:pt x="142" y="308"/>
                      </a:lnTo>
                      <a:lnTo>
                        <a:pt x="137" y="369"/>
                      </a:lnTo>
                      <a:lnTo>
                        <a:pt x="137" y="375"/>
                      </a:lnTo>
                      <a:lnTo>
                        <a:pt x="123" y="425"/>
                      </a:lnTo>
                      <a:lnTo>
                        <a:pt x="115" y="464"/>
                      </a:lnTo>
                      <a:lnTo>
                        <a:pt x="110" y="496"/>
                      </a:lnTo>
                      <a:lnTo>
                        <a:pt x="118" y="517"/>
                      </a:lnTo>
                      <a:lnTo>
                        <a:pt x="147" y="530"/>
                      </a:lnTo>
                      <a:lnTo>
                        <a:pt x="192" y="549"/>
                      </a:lnTo>
                      <a:lnTo>
                        <a:pt x="247" y="561"/>
                      </a:lnTo>
                      <a:lnTo>
                        <a:pt x="285" y="570"/>
                      </a:lnTo>
                      <a:lnTo>
                        <a:pt x="295" y="589"/>
                      </a:lnTo>
                      <a:lnTo>
                        <a:pt x="285" y="607"/>
                      </a:lnTo>
                      <a:lnTo>
                        <a:pt x="257" y="622"/>
                      </a:lnTo>
                      <a:lnTo>
                        <a:pt x="215" y="618"/>
                      </a:lnTo>
                      <a:lnTo>
                        <a:pt x="192" y="595"/>
                      </a:lnTo>
                      <a:lnTo>
                        <a:pt x="135" y="577"/>
                      </a:lnTo>
                      <a:lnTo>
                        <a:pt x="93" y="576"/>
                      </a:lnTo>
                      <a:lnTo>
                        <a:pt x="60" y="570"/>
                      </a:lnTo>
                      <a:lnTo>
                        <a:pt x="41" y="552"/>
                      </a:lnTo>
                      <a:lnTo>
                        <a:pt x="40" y="530"/>
                      </a:lnTo>
                      <a:lnTo>
                        <a:pt x="51" y="506"/>
                      </a:lnTo>
                      <a:lnTo>
                        <a:pt x="70" y="481"/>
                      </a:lnTo>
                      <a:lnTo>
                        <a:pt x="71" y="442"/>
                      </a:lnTo>
                      <a:lnTo>
                        <a:pt x="71" y="383"/>
                      </a:lnTo>
                      <a:lnTo>
                        <a:pt x="76" y="348"/>
                      </a:lnTo>
                      <a:lnTo>
                        <a:pt x="83" y="324"/>
                      </a:lnTo>
                      <a:lnTo>
                        <a:pt x="93" y="306"/>
                      </a:lnTo>
                      <a:lnTo>
                        <a:pt x="93" y="279"/>
                      </a:lnTo>
                      <a:lnTo>
                        <a:pt x="86" y="247"/>
                      </a:lnTo>
                      <a:lnTo>
                        <a:pt x="70" y="213"/>
                      </a:lnTo>
                      <a:lnTo>
                        <a:pt x="48" y="171"/>
                      </a:lnTo>
                      <a:lnTo>
                        <a:pt x="26" y="119"/>
                      </a:lnTo>
                      <a:lnTo>
                        <a:pt x="8" y="77"/>
                      </a:lnTo>
                      <a:lnTo>
                        <a:pt x="0" y="50"/>
                      </a:lnTo>
                      <a:lnTo>
                        <a:pt x="0" y="1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8238240" y="2374920"/>
                  <a:ext cx="43560" cy="172800"/>
                </a:xfrm>
                <a:custGeom>
                  <a:avLst/>
                  <a:gdLst/>
                  <a:ahLst/>
                  <a:rect l="l" t="t" r="r" b="b"/>
                  <a:pathLst>
                    <a:path w="206" h="662">
                      <a:moveTo>
                        <a:pt x="112" y="34"/>
                      </a:moveTo>
                      <a:lnTo>
                        <a:pt x="122" y="6"/>
                      </a:lnTo>
                      <a:lnTo>
                        <a:pt x="151" y="0"/>
                      </a:lnTo>
                      <a:lnTo>
                        <a:pt x="189" y="10"/>
                      </a:lnTo>
                      <a:lnTo>
                        <a:pt x="206" y="42"/>
                      </a:lnTo>
                      <a:lnTo>
                        <a:pt x="196" y="99"/>
                      </a:lnTo>
                      <a:lnTo>
                        <a:pt x="183" y="170"/>
                      </a:lnTo>
                      <a:lnTo>
                        <a:pt x="163" y="235"/>
                      </a:lnTo>
                      <a:lnTo>
                        <a:pt x="137" y="280"/>
                      </a:lnTo>
                      <a:lnTo>
                        <a:pt x="126" y="322"/>
                      </a:lnTo>
                      <a:lnTo>
                        <a:pt x="126" y="369"/>
                      </a:lnTo>
                      <a:lnTo>
                        <a:pt x="129" y="405"/>
                      </a:lnTo>
                      <a:lnTo>
                        <a:pt x="124" y="440"/>
                      </a:lnTo>
                      <a:lnTo>
                        <a:pt x="116" y="479"/>
                      </a:lnTo>
                      <a:lnTo>
                        <a:pt x="102" y="515"/>
                      </a:lnTo>
                      <a:lnTo>
                        <a:pt x="84" y="548"/>
                      </a:lnTo>
                      <a:lnTo>
                        <a:pt x="84" y="566"/>
                      </a:lnTo>
                      <a:lnTo>
                        <a:pt x="99" y="581"/>
                      </a:lnTo>
                      <a:lnTo>
                        <a:pt x="129" y="604"/>
                      </a:lnTo>
                      <a:lnTo>
                        <a:pt x="189" y="625"/>
                      </a:lnTo>
                      <a:lnTo>
                        <a:pt x="196" y="632"/>
                      </a:lnTo>
                      <a:lnTo>
                        <a:pt x="196" y="646"/>
                      </a:lnTo>
                      <a:lnTo>
                        <a:pt x="169" y="661"/>
                      </a:lnTo>
                      <a:lnTo>
                        <a:pt x="163" y="662"/>
                      </a:lnTo>
                      <a:lnTo>
                        <a:pt x="112" y="661"/>
                      </a:lnTo>
                      <a:lnTo>
                        <a:pt x="91" y="644"/>
                      </a:lnTo>
                      <a:lnTo>
                        <a:pt x="64" y="613"/>
                      </a:lnTo>
                      <a:lnTo>
                        <a:pt x="36" y="598"/>
                      </a:lnTo>
                      <a:lnTo>
                        <a:pt x="7" y="580"/>
                      </a:lnTo>
                      <a:lnTo>
                        <a:pt x="0" y="554"/>
                      </a:lnTo>
                      <a:lnTo>
                        <a:pt x="9" y="531"/>
                      </a:lnTo>
                      <a:lnTo>
                        <a:pt x="39" y="516"/>
                      </a:lnTo>
                      <a:lnTo>
                        <a:pt x="54" y="504"/>
                      </a:lnTo>
                      <a:lnTo>
                        <a:pt x="71" y="461"/>
                      </a:lnTo>
                      <a:lnTo>
                        <a:pt x="74" y="414"/>
                      </a:lnTo>
                      <a:lnTo>
                        <a:pt x="81" y="364"/>
                      </a:lnTo>
                      <a:lnTo>
                        <a:pt x="74" y="310"/>
                      </a:lnTo>
                      <a:lnTo>
                        <a:pt x="74" y="275"/>
                      </a:lnTo>
                      <a:lnTo>
                        <a:pt x="81" y="241"/>
                      </a:lnTo>
                      <a:lnTo>
                        <a:pt x="106" y="179"/>
                      </a:lnTo>
                      <a:lnTo>
                        <a:pt x="112" y="126"/>
                      </a:lnTo>
                      <a:lnTo>
                        <a:pt x="111" y="71"/>
                      </a:lnTo>
                      <a:lnTo>
                        <a:pt x="11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5" name=""/>
              <p:cNvGrpSpPr/>
              <p:nvPr/>
            </p:nvGrpSpPr>
            <p:grpSpPr>
              <a:xfrm>
                <a:off x="8451000" y="2133720"/>
                <a:ext cx="83520" cy="85680"/>
                <a:chOff x="8451000" y="2133720"/>
                <a:chExt cx="83520" cy="856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8451000" y="2133720"/>
                  <a:ext cx="83520" cy="85680"/>
                </a:xfrm>
                <a:custGeom>
                  <a:avLst/>
                  <a:gdLst/>
                  <a:ahLst/>
                  <a:rect l="l" t="t" r="r" b="b"/>
                  <a:pathLst>
                    <a:path w="392" h="326">
                      <a:moveTo>
                        <a:pt x="121" y="195"/>
                      </a:moveTo>
                      <a:lnTo>
                        <a:pt x="132" y="170"/>
                      </a:lnTo>
                      <a:lnTo>
                        <a:pt x="138" y="126"/>
                      </a:lnTo>
                      <a:lnTo>
                        <a:pt x="147" y="84"/>
                      </a:lnTo>
                      <a:lnTo>
                        <a:pt x="153" y="37"/>
                      </a:lnTo>
                      <a:lnTo>
                        <a:pt x="165" y="7"/>
                      </a:lnTo>
                      <a:lnTo>
                        <a:pt x="178" y="1"/>
                      </a:lnTo>
                      <a:lnTo>
                        <a:pt x="210" y="0"/>
                      </a:lnTo>
                      <a:lnTo>
                        <a:pt x="279" y="13"/>
                      </a:lnTo>
                      <a:lnTo>
                        <a:pt x="344" y="39"/>
                      </a:lnTo>
                      <a:lnTo>
                        <a:pt x="382" y="75"/>
                      </a:lnTo>
                      <a:lnTo>
                        <a:pt x="392" y="95"/>
                      </a:lnTo>
                      <a:lnTo>
                        <a:pt x="382" y="119"/>
                      </a:lnTo>
                      <a:lnTo>
                        <a:pt x="350" y="152"/>
                      </a:lnTo>
                      <a:lnTo>
                        <a:pt x="310" y="195"/>
                      </a:lnTo>
                      <a:lnTo>
                        <a:pt x="287" y="235"/>
                      </a:lnTo>
                      <a:lnTo>
                        <a:pt x="334" y="263"/>
                      </a:lnTo>
                      <a:lnTo>
                        <a:pt x="355" y="289"/>
                      </a:lnTo>
                      <a:lnTo>
                        <a:pt x="362" y="314"/>
                      </a:lnTo>
                      <a:lnTo>
                        <a:pt x="355" y="325"/>
                      </a:lnTo>
                      <a:lnTo>
                        <a:pt x="339" y="326"/>
                      </a:lnTo>
                      <a:lnTo>
                        <a:pt x="314" y="319"/>
                      </a:lnTo>
                      <a:lnTo>
                        <a:pt x="292" y="304"/>
                      </a:lnTo>
                      <a:lnTo>
                        <a:pt x="260" y="289"/>
                      </a:lnTo>
                      <a:lnTo>
                        <a:pt x="222" y="271"/>
                      </a:lnTo>
                      <a:lnTo>
                        <a:pt x="215" y="271"/>
                      </a:lnTo>
                      <a:lnTo>
                        <a:pt x="165" y="251"/>
                      </a:lnTo>
                      <a:lnTo>
                        <a:pt x="98" y="241"/>
                      </a:lnTo>
                      <a:lnTo>
                        <a:pt x="91" y="239"/>
                      </a:lnTo>
                      <a:lnTo>
                        <a:pt x="58" y="238"/>
                      </a:lnTo>
                      <a:lnTo>
                        <a:pt x="21" y="236"/>
                      </a:lnTo>
                      <a:lnTo>
                        <a:pt x="5" y="239"/>
                      </a:lnTo>
                      <a:lnTo>
                        <a:pt x="0" y="224"/>
                      </a:lnTo>
                      <a:lnTo>
                        <a:pt x="10" y="204"/>
                      </a:lnTo>
                      <a:lnTo>
                        <a:pt x="31" y="195"/>
                      </a:lnTo>
                      <a:lnTo>
                        <a:pt x="75" y="186"/>
                      </a:lnTo>
                      <a:lnTo>
                        <a:pt x="106" y="191"/>
                      </a:lnTo>
                      <a:lnTo>
                        <a:pt x="121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8480520" y="2172960"/>
                  <a:ext cx="33120" cy="20880"/>
                </a:xfrm>
                <a:custGeom>
                  <a:avLst/>
                  <a:gdLst/>
                  <a:ahLst/>
                  <a:rect l="l" t="t" r="r" b="b"/>
                  <a:pathLst>
                    <a:path w="155" h="80">
                      <a:moveTo>
                        <a:pt x="15" y="0"/>
                      </a:moveTo>
                      <a:lnTo>
                        <a:pt x="0" y="42"/>
                      </a:lnTo>
                      <a:lnTo>
                        <a:pt x="60" y="60"/>
                      </a:lnTo>
                      <a:lnTo>
                        <a:pt x="110" y="74"/>
                      </a:lnTo>
                      <a:lnTo>
                        <a:pt x="132" y="80"/>
                      </a:lnTo>
                      <a:lnTo>
                        <a:pt x="155" y="40"/>
                      </a:lnTo>
                      <a:lnTo>
                        <a:pt x="92" y="1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8" name=""/>
            <p:cNvSpPr/>
            <p:nvPr/>
          </p:nvSpPr>
          <p:spPr>
            <a:xfrm rot="18506400">
              <a:off x="8031960" y="2210040"/>
              <a:ext cx="26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0000"/>
                  </a:solidFill>
                  <a:latin typeface="Times New Roman"/>
                </a:rPr>
                <a:t>יהודיה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9" name=""/>
          <p:cNvSpPr txBox="1"/>
          <p:nvPr/>
        </p:nvSpPr>
        <p:spPr>
          <a:xfrm>
            <a:off x="4267080" y="5334120"/>
            <a:ext cx="4324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99192" dir="18581945" blurRad="0" rotWithShape="0">
                    <a:srgbClr val="000099"/>
                  </a:outerShdw>
                </a:effectLst>
                <a:latin typeface="Arial"/>
              </a:rPr>
              <a:t>מי שאמו יהודיה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99192" dir="18581945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000000"/>
                </a:solidFill>
                <a:latin typeface="Times New Roman"/>
              </a:rPr>
              <a:t>חפש_הוגה_חטא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e-IL" sz="3000" spc="-1" strike="noStrike">
                <a:solidFill>
                  <a:srgbClr val="3333cc"/>
                </a:solidFill>
                <a:latin typeface="Times New Roman"/>
                <a:cs typeface="Tahoma (Hebrew)"/>
              </a:rPr>
              <a:t>יצור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ם  </a:t>
            </a:r>
            <a:r>
              <a:rPr b="0" i="1" lang="he-IL" sz="3000" spc="-1" strike="noStrike">
                <a:solidFill>
                  <a:srgbClr val="3333cc"/>
                </a:solidFill>
                <a:latin typeface="Times New Roman"/>
              </a:rPr>
              <a:t>יצור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וא האחראי לחטא אז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ענש את  </a:t>
            </a:r>
            <a:r>
              <a:rPr b="0" i="1" lang="he-IL" sz="3200" spc="-1" strike="noStrike">
                <a:solidFill>
                  <a:srgbClr val="3333cc"/>
                </a:solidFill>
                <a:latin typeface="Times New Roman"/>
              </a:rPr>
              <a:t>יצור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אחר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שאל את  </a:t>
            </a:r>
            <a:r>
              <a:rPr b="0" i="1" lang="he-IL" sz="3200" spc="-1" strike="noStrike">
                <a:solidFill>
                  <a:srgbClr val="3333cc"/>
                </a:solidFill>
                <a:latin typeface="Times New Roman"/>
              </a:rPr>
              <a:t>יצור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מי האחראי ? </a:t>
            </a:r>
            <a:r>
              <a:rPr b="1" lang="he-IL" sz="4000" spc="-1" strike="noStrike" baseline="20000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3200" spc="-1" strike="noStrike">
                <a:solidFill>
                  <a:srgbClr val="3333cc"/>
                </a:solidFill>
                <a:latin typeface="Times New Roman"/>
                <a:cs typeface="Tahoma (Hebrew)"/>
              </a:rPr>
              <a:t>הב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00"/>
                </a:solidFill>
                <a:latin typeface="Times New Roman"/>
              </a:rPr>
              <a:t> חפש_הוגה_חטא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e-IL" sz="3200" spc="-1" strike="noStrike">
                <a:solidFill>
                  <a:srgbClr val="3333cc"/>
                </a:solidFill>
                <a:latin typeface="Times New Roman"/>
                <a:cs typeface="Tahoma (Hebrew)"/>
              </a:rPr>
              <a:t>הבא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הענש את  </a:t>
            </a:r>
            <a:r>
              <a:rPr b="0" i="1" lang="he-IL" sz="3200" spc="-1" strike="noStrike">
                <a:solidFill>
                  <a:srgbClr val="3333cc"/>
                </a:solidFill>
                <a:latin typeface="Times New Roman"/>
              </a:rPr>
              <a:t>יצור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1" name=""/>
          <p:cNvGrpSpPr/>
          <p:nvPr/>
        </p:nvGrpSpPr>
        <p:grpSpPr>
          <a:xfrm>
            <a:off x="0" y="1778040"/>
            <a:ext cx="3470400" cy="3708360"/>
            <a:chOff x="0" y="1778040"/>
            <a:chExt cx="3470400" cy="3708360"/>
          </a:xfrm>
        </p:grpSpPr>
        <p:pic>
          <p:nvPicPr>
            <p:cNvPr id="1992" name="" descr=""/>
            <p:cNvPicPr/>
            <p:nvPr/>
          </p:nvPicPr>
          <p:blipFill>
            <a:blip r:embed="rId1"/>
            <a:stretch/>
          </p:blipFill>
          <p:spPr>
            <a:xfrm>
              <a:off x="0" y="1778040"/>
              <a:ext cx="3470400" cy="37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3" name="" descr=""/>
            <p:cNvPicPr/>
            <p:nvPr/>
          </p:nvPicPr>
          <p:blipFill>
            <a:blip r:embed="rId2"/>
            <a:stretch/>
          </p:blipFill>
          <p:spPr>
            <a:xfrm>
              <a:off x="1676520" y="3301920"/>
              <a:ext cx="41436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4" name="" descr=""/>
            <p:cNvPicPr/>
            <p:nvPr/>
          </p:nvPicPr>
          <p:blipFill>
            <a:blip r:embed="rId3"/>
            <a:stretch/>
          </p:blipFill>
          <p:spPr>
            <a:xfrm>
              <a:off x="609480" y="2616120"/>
              <a:ext cx="41436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5" name="" descr=""/>
            <p:cNvPicPr/>
            <p:nvPr/>
          </p:nvPicPr>
          <p:blipFill>
            <a:blip r:embed="rId4"/>
            <a:stretch/>
          </p:blipFill>
          <p:spPr>
            <a:xfrm>
              <a:off x="1981080" y="2692440"/>
              <a:ext cx="3524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6" name=""/>
          <p:cNvSpPr txBox="1"/>
          <p:nvPr/>
        </p:nvSpPr>
        <p:spPr>
          <a:xfrm>
            <a:off x="457200" y="380880"/>
            <a:ext cx="3114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חטא אדם הראשו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4343400" y="838080"/>
            <a:ext cx="4419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3333cc"/>
                </a:solidFill>
                <a:latin typeface="Times New Roman"/>
              </a:rPr>
              <a:t>אלגוריתם למציאת הוגה החט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304920" y="1295280"/>
            <a:ext cx="1666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בראשית  ג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'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6e6e"/>
            </a:gs>
            <a:gs pos="100000">
              <a:srgbClr val="ddddd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/>
          </p:nvPr>
        </p:nvSpPr>
        <p:spPr>
          <a:xfrm>
            <a:off x="1066680" y="609120"/>
            <a:ext cx="7391520" cy="6248520"/>
          </a:xfrm>
          <a:prstGeom prst="rect">
            <a:avLst/>
          </a:prstGeom>
          <a:gradFill rotWithShape="0">
            <a:gsLst>
              <a:gs pos="0">
                <a:srgbClr val="dedef6"/>
              </a:gs>
              <a:gs pos="100000">
                <a:srgbClr val="3333cc"/>
              </a:gs>
            </a:gsLst>
            <a:lin ang="8100000"/>
          </a:gradFill>
          <a:ln w="0">
            <a:noFill/>
          </a:ln>
          <a:effectLst>
            <a:outerShdw dist="89604" dir="189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“…ויקרא ה’ אלוקים אל האדם ויאמר לו: איכה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מן העץ אשר צויתיך לבלתי אכול ממנו אכלת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ויאמר האדם:  האשה אשר נתת עמדי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04920" y="2362320"/>
            <a:ext cx="7086600" cy="3429000"/>
          </a:xfrm>
          <a:prstGeom prst="rect">
            <a:avLst/>
          </a:prstGeom>
          <a:gradFill rotWithShape="0">
            <a:gsLst>
              <a:gs pos="0">
                <a:srgbClr val="fedfeb"/>
              </a:gs>
              <a:gs pos="100000">
                <a:srgbClr val="ff0066"/>
              </a:gs>
            </a:gsLst>
            <a:lin ang="8100000"/>
          </a:gradFill>
          <a:ln w="0">
            <a:noFill/>
          </a:ln>
          <a:effectLst>
            <a:outerShdw dist="73964" dir="1973643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ויאמר ה’ אלוקים לאשה: מה זאת עשית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ותאמר האשה:  הנחש השיאני ואוכל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0" y="3505320"/>
            <a:ext cx="8258040" cy="1218960"/>
            <a:chOff x="0" y="3505320"/>
            <a:chExt cx="8258040" cy="1218960"/>
          </a:xfrm>
        </p:grpSpPr>
        <p:sp>
          <p:nvSpPr>
            <p:cNvPr id="2002" name=""/>
            <p:cNvSpPr/>
            <p:nvPr/>
          </p:nvSpPr>
          <p:spPr>
            <a:xfrm>
              <a:off x="0" y="3581280"/>
              <a:ext cx="6477120" cy="1143000"/>
            </a:xfrm>
            <a:prstGeom prst="rect">
              <a:avLst/>
            </a:prstGeom>
            <a:gradFill rotWithShape="0">
              <a:gsLst>
                <a:gs pos="0">
                  <a:srgbClr val="ebe2d9"/>
                </a:gs>
                <a:gs pos="100000">
                  <a:srgbClr val="996633"/>
                </a:gs>
              </a:gsLst>
              <a:lin ang="8100000"/>
            </a:gradFill>
            <a:ln w="0">
              <a:noFill/>
            </a:ln>
            <a:effectLst>
              <a:outerShdw dist="63504" dir="1938390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000000"/>
                  </a:solidFill>
                  <a:latin typeface="Times New Roman"/>
                </a:rPr>
                <a:t>ויאמר ה’ אלוקים אל הנחש: כי עשית זאת ארור אתה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3" name="" descr=""/>
            <p:cNvPicPr/>
            <p:nvPr/>
          </p:nvPicPr>
          <p:blipFill>
            <a:blip r:embed="rId1"/>
            <a:stretch/>
          </p:blipFill>
          <p:spPr>
            <a:xfrm>
              <a:off x="6324480" y="3505320"/>
              <a:ext cx="1933560" cy="1191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/>
          </p:nvPr>
        </p:nvSpPr>
        <p:spPr>
          <a:xfrm>
            <a:off x="1066680" y="609120"/>
            <a:ext cx="7391520" cy="6248520"/>
          </a:xfrm>
          <a:prstGeom prst="rect">
            <a:avLst/>
          </a:prstGeom>
          <a:gradFill rotWithShape="0">
            <a:gsLst>
              <a:gs pos="0">
                <a:srgbClr val="dedef6"/>
              </a:gs>
              <a:gs pos="100000">
                <a:srgbClr val="3333cc"/>
              </a:gs>
            </a:gsLst>
            <a:lin ang="8100000"/>
          </a:gradFill>
          <a:ln w="0">
            <a:noFill/>
          </a:ln>
          <a:effectLst>
            <a:outerShdw dist="89604" dir="189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“…ויקרא ה’ אלוקים אל האדם ויאמר לו: איכה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המן העץ אשר צויתיך לבלתי אכול ממנו אכלת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ויאמר האדם:  האשה אשר נתת עמדי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04920" y="2362320"/>
            <a:ext cx="7086600" cy="3429000"/>
          </a:xfrm>
          <a:prstGeom prst="rect">
            <a:avLst/>
          </a:prstGeom>
          <a:gradFill rotWithShape="0">
            <a:gsLst>
              <a:gs pos="0">
                <a:srgbClr val="fedfeb"/>
              </a:gs>
              <a:gs pos="100000">
                <a:srgbClr val="ff0066"/>
              </a:gs>
            </a:gsLst>
            <a:lin ang="8100000"/>
          </a:gradFill>
          <a:ln w="0">
            <a:noFill/>
          </a:ln>
          <a:effectLst>
            <a:outerShdw dist="73964" dir="1973643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ויאמר ה’ אלוקים לאשה: מה זאת עשית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ותאמר האשה:  הנחש השיאני ואוכל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0" y="3581280"/>
            <a:ext cx="6477120" cy="1143000"/>
          </a:xfrm>
          <a:prstGeom prst="rect">
            <a:avLst/>
          </a:prstGeom>
          <a:gradFill rotWithShape="0">
            <a:gsLst>
              <a:gs pos="0">
                <a:srgbClr val="ebe2d9"/>
              </a:gs>
              <a:gs pos="100000">
                <a:srgbClr val="996633"/>
              </a:gs>
            </a:gsLst>
            <a:lin ang="8100000"/>
          </a:gradFill>
          <a:ln w="0">
            <a:noFill/>
          </a:ln>
          <a:effectLst>
            <a:outerShdw dist="63504" dir="19383909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ויאמר ה’ אלוקים אל הנחש: כי עשית זאת ארור אתה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04920" y="472428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ל האשה אמר: הרבה ארבה עצבונך והרונך בעצב תלדי בנים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447920" y="5943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ולאדם אמר: … ארורה האדמה בעבורך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9" name="" descr=""/>
          <p:cNvPicPr/>
          <p:nvPr/>
        </p:nvPicPr>
        <p:blipFill>
          <a:blip r:embed="rId1"/>
          <a:stretch/>
        </p:blipFill>
        <p:spPr>
          <a:xfrm>
            <a:off x="6324480" y="3529080"/>
            <a:ext cx="1981440" cy="11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0" name=""/>
          <p:cNvGrpSpPr/>
          <p:nvPr/>
        </p:nvGrpSpPr>
        <p:grpSpPr>
          <a:xfrm>
            <a:off x="0" y="1778040"/>
            <a:ext cx="3470400" cy="3708360"/>
            <a:chOff x="0" y="1778040"/>
            <a:chExt cx="3470400" cy="3708360"/>
          </a:xfrm>
        </p:grpSpPr>
        <p:pic>
          <p:nvPicPr>
            <p:cNvPr id="2011" name="" descr=""/>
            <p:cNvPicPr/>
            <p:nvPr/>
          </p:nvPicPr>
          <p:blipFill>
            <a:blip r:embed="rId1"/>
            <a:stretch/>
          </p:blipFill>
          <p:spPr>
            <a:xfrm>
              <a:off x="0" y="1778040"/>
              <a:ext cx="3470400" cy="37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2" name="" descr=""/>
            <p:cNvPicPr/>
            <p:nvPr/>
          </p:nvPicPr>
          <p:blipFill>
            <a:blip r:embed="rId2"/>
            <a:stretch/>
          </p:blipFill>
          <p:spPr>
            <a:xfrm>
              <a:off x="1676520" y="3301920"/>
              <a:ext cx="41436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3" name="" descr=""/>
            <p:cNvPicPr/>
            <p:nvPr/>
          </p:nvPicPr>
          <p:blipFill>
            <a:blip r:embed="rId3"/>
            <a:stretch/>
          </p:blipFill>
          <p:spPr>
            <a:xfrm>
              <a:off x="609480" y="2616120"/>
              <a:ext cx="41436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4" name="" descr=""/>
            <p:cNvPicPr/>
            <p:nvPr/>
          </p:nvPicPr>
          <p:blipFill>
            <a:blip r:embed="rId4"/>
            <a:stretch/>
          </p:blipFill>
          <p:spPr>
            <a:xfrm>
              <a:off x="1981080" y="2692440"/>
              <a:ext cx="3524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5" name=""/>
          <p:cNvSpPr txBox="1"/>
          <p:nvPr/>
        </p:nvSpPr>
        <p:spPr>
          <a:xfrm>
            <a:off x="457200" y="380880"/>
            <a:ext cx="3114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חטא אדם הראשו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343400" y="838080"/>
            <a:ext cx="4419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3333cc"/>
                </a:solidFill>
                <a:latin typeface="Times New Roman"/>
              </a:rPr>
              <a:t>אלגוריתם למציאת הוגה החט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304920" y="1295280"/>
            <a:ext cx="1666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בראשית  ג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'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8" name=""/>
          <p:cNvSpPr txBox="1"/>
          <p:nvPr/>
        </p:nvSpPr>
        <p:spPr>
          <a:xfrm rot="19750200">
            <a:off x="1720800" y="3503520"/>
            <a:ext cx="749304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19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התוכל לרשום אלגוריתם רקורסיבי לסיפור ??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000000"/>
                </a:solidFill>
                <a:latin typeface="Times New Roman"/>
              </a:rPr>
              <a:t>חפש_הוגה_חטא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e-IL" sz="3000" spc="-1" strike="noStrike">
                <a:solidFill>
                  <a:srgbClr val="3333cc"/>
                </a:solidFill>
                <a:latin typeface="Times New Roman"/>
                <a:cs typeface="Tahoma (Hebrew)"/>
              </a:rPr>
              <a:t>יצור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ם  </a:t>
            </a:r>
            <a:r>
              <a:rPr b="0" i="1" lang="he-IL" sz="3000" spc="-1" strike="noStrike">
                <a:solidFill>
                  <a:srgbClr val="3333cc"/>
                </a:solidFill>
                <a:latin typeface="Times New Roman"/>
              </a:rPr>
              <a:t>יצור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וא האחראי לחטא אז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ענש את  </a:t>
            </a:r>
            <a:r>
              <a:rPr b="0" i="1" lang="he-IL" sz="3200" spc="-1" strike="noStrike">
                <a:solidFill>
                  <a:srgbClr val="3333cc"/>
                </a:solidFill>
                <a:latin typeface="Times New Roman"/>
              </a:rPr>
              <a:t>יצור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אחר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שאל את  </a:t>
            </a:r>
            <a:r>
              <a:rPr b="0" i="1" lang="he-IL" sz="3200" spc="-1" strike="noStrike">
                <a:solidFill>
                  <a:srgbClr val="3333cc"/>
                </a:solidFill>
                <a:latin typeface="Times New Roman"/>
              </a:rPr>
              <a:t>יצור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מי האחראי ? </a:t>
            </a:r>
            <a:r>
              <a:rPr b="1" lang="he-IL" sz="4000" spc="-1" strike="noStrike" baseline="20000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3200" spc="-1" strike="noStrike">
                <a:solidFill>
                  <a:srgbClr val="3333cc"/>
                </a:solidFill>
                <a:latin typeface="Times New Roman"/>
                <a:cs typeface="Tahoma (Hebrew)"/>
              </a:rPr>
              <a:t>הב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00"/>
                </a:solidFill>
                <a:latin typeface="Times New Roman"/>
              </a:rPr>
              <a:t> חפש_הוגה_חטא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e-IL" sz="3200" spc="-1" strike="noStrike">
                <a:solidFill>
                  <a:srgbClr val="3333cc"/>
                </a:solidFill>
                <a:latin typeface="Times New Roman"/>
                <a:cs typeface="Tahoma (Hebrew)"/>
              </a:rPr>
              <a:t>הבא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הענש את  </a:t>
            </a:r>
            <a:r>
              <a:rPr b="0" i="1" lang="he-IL" sz="3200" spc="-1" strike="noStrike">
                <a:solidFill>
                  <a:srgbClr val="3333cc"/>
                </a:solidFill>
                <a:latin typeface="Times New Roman"/>
              </a:rPr>
              <a:t>יצור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0" name=""/>
          <p:cNvGrpSpPr/>
          <p:nvPr/>
        </p:nvGrpSpPr>
        <p:grpSpPr>
          <a:xfrm>
            <a:off x="0" y="1778040"/>
            <a:ext cx="3470400" cy="3708360"/>
            <a:chOff x="0" y="1778040"/>
            <a:chExt cx="3470400" cy="3708360"/>
          </a:xfrm>
        </p:grpSpPr>
        <p:pic>
          <p:nvPicPr>
            <p:cNvPr id="2021" name="" descr=""/>
            <p:cNvPicPr/>
            <p:nvPr/>
          </p:nvPicPr>
          <p:blipFill>
            <a:blip r:embed="rId1"/>
            <a:stretch/>
          </p:blipFill>
          <p:spPr>
            <a:xfrm>
              <a:off x="0" y="1778040"/>
              <a:ext cx="3470400" cy="37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2" name="" descr=""/>
            <p:cNvPicPr/>
            <p:nvPr/>
          </p:nvPicPr>
          <p:blipFill>
            <a:blip r:embed="rId2"/>
            <a:stretch/>
          </p:blipFill>
          <p:spPr>
            <a:xfrm>
              <a:off x="1676520" y="3301920"/>
              <a:ext cx="41436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3" name="" descr=""/>
            <p:cNvPicPr/>
            <p:nvPr/>
          </p:nvPicPr>
          <p:blipFill>
            <a:blip r:embed="rId3"/>
            <a:stretch/>
          </p:blipFill>
          <p:spPr>
            <a:xfrm>
              <a:off x="609480" y="2616120"/>
              <a:ext cx="41436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4" name="" descr=""/>
            <p:cNvPicPr/>
            <p:nvPr/>
          </p:nvPicPr>
          <p:blipFill>
            <a:blip r:embed="rId4"/>
            <a:stretch/>
          </p:blipFill>
          <p:spPr>
            <a:xfrm>
              <a:off x="1981080" y="2692440"/>
              <a:ext cx="35244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5" name=""/>
          <p:cNvSpPr txBox="1"/>
          <p:nvPr/>
        </p:nvSpPr>
        <p:spPr>
          <a:xfrm>
            <a:off x="457200" y="380880"/>
            <a:ext cx="3114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חטא אדם הראשו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4343400" y="838080"/>
            <a:ext cx="4419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3333cc"/>
                </a:solidFill>
                <a:latin typeface="Times New Roman"/>
              </a:rPr>
              <a:t>אלגוריתם למציאת הוגה החט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304920" y="1295280"/>
            <a:ext cx="1666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בראשית  ג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'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b38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"/>
          <p:cNvSpPr txBox="1"/>
          <p:nvPr/>
        </p:nvSpPr>
        <p:spPr>
          <a:xfrm rot="19973400">
            <a:off x="2428560" y="1835280"/>
            <a:ext cx="4800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תור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f4e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חד בתשרי הוא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ראש השנה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אך הוא גם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ראש חודש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תשר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לכן ביום זה מקריבים שני קורבנות מוסף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3429000" y="5029200"/>
            <a:ext cx="1760400" cy="1219320"/>
            <a:chOff x="3429000" y="5029200"/>
            <a:chExt cx="1760400" cy="1219320"/>
          </a:xfrm>
        </p:grpSpPr>
        <p:pic>
          <p:nvPicPr>
            <p:cNvPr id="2031" name="" descr=""/>
            <p:cNvPicPr/>
            <p:nvPr/>
          </p:nvPicPr>
          <p:blipFill>
            <a:blip r:embed="rId1"/>
            <a:stretch/>
          </p:blipFill>
          <p:spPr>
            <a:xfrm>
              <a:off x="3429000" y="5029200"/>
              <a:ext cx="1760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2" name=""/>
            <p:cNvSpPr/>
            <p:nvPr/>
          </p:nvSpPr>
          <p:spPr>
            <a:xfrm>
              <a:off x="3962520" y="5334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88620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4" name=""/>
          <p:cNvSpPr txBox="1"/>
          <p:nvPr/>
        </p:nvSpPr>
        <p:spPr>
          <a:xfrm>
            <a:off x="1066680" y="457200"/>
            <a:ext cx="6934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21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דיני קדימה בקורבנות ובנסכים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035" name=""/>
          <p:cNvGrpSpPr/>
          <p:nvPr/>
        </p:nvGrpSpPr>
        <p:grpSpPr>
          <a:xfrm>
            <a:off x="4876920" y="2362320"/>
            <a:ext cx="3886200" cy="1523880"/>
            <a:chOff x="4876920" y="2362320"/>
            <a:chExt cx="3886200" cy="1523880"/>
          </a:xfrm>
        </p:grpSpPr>
        <p:grpSp>
          <p:nvGrpSpPr>
            <p:cNvPr id="2036" name=""/>
            <p:cNvGrpSpPr/>
            <p:nvPr/>
          </p:nvGrpSpPr>
          <p:grpSpPr>
            <a:xfrm>
              <a:off x="5715000" y="2971800"/>
              <a:ext cx="1531800" cy="914400"/>
              <a:chOff x="5715000" y="2971800"/>
              <a:chExt cx="1531800" cy="914400"/>
            </a:xfrm>
          </p:grpSpPr>
          <p:pic>
            <p:nvPicPr>
              <p:cNvPr id="20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15000" y="2971800"/>
                <a:ext cx="15318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8" name=""/>
              <p:cNvSpPr/>
              <p:nvPr/>
            </p:nvSpPr>
            <p:spPr>
              <a:xfrm>
                <a:off x="6178680" y="3200400"/>
                <a:ext cx="39816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172200" y="3124440"/>
                <a:ext cx="41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4876920" y="23623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000000"/>
                  </a:solidFill>
                  <a:latin typeface="Times New Roman"/>
                </a:rPr>
                <a:t>אחד לכבוד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he-IL" sz="3200" spc="-1" strike="noStrike">
                  <a:solidFill>
                    <a:srgbClr val="000000"/>
                  </a:solidFill>
                  <a:latin typeface="Times New Roman"/>
                </a:rPr>
                <a:t>ראש השנה</a:t>
              </a:r>
              <a:r>
                <a:rPr b="1" i="1" lang="he-I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"/>
          <p:cNvGrpSpPr/>
          <p:nvPr/>
        </p:nvGrpSpPr>
        <p:grpSpPr>
          <a:xfrm>
            <a:off x="838080" y="2362320"/>
            <a:ext cx="3733920" cy="1617480"/>
            <a:chOff x="838080" y="2362320"/>
            <a:chExt cx="3733920" cy="1617480"/>
          </a:xfrm>
        </p:grpSpPr>
        <p:grpSp>
          <p:nvGrpSpPr>
            <p:cNvPr id="2042" name=""/>
            <p:cNvGrpSpPr/>
            <p:nvPr/>
          </p:nvGrpSpPr>
          <p:grpSpPr>
            <a:xfrm>
              <a:off x="1600200" y="2971800"/>
              <a:ext cx="1455840" cy="1008000"/>
              <a:chOff x="1600200" y="2971800"/>
              <a:chExt cx="1455840" cy="1008000"/>
            </a:xfrm>
          </p:grpSpPr>
          <p:pic>
            <p:nvPicPr>
              <p:cNvPr id="204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00200" y="2971800"/>
                <a:ext cx="145584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4" name=""/>
              <p:cNvSpPr/>
              <p:nvPr/>
            </p:nvSpPr>
            <p:spPr>
              <a:xfrm>
                <a:off x="1981080" y="320040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057400" y="3200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6" name=""/>
            <p:cNvSpPr/>
            <p:nvPr/>
          </p:nvSpPr>
          <p:spPr>
            <a:xfrm>
              <a:off x="838080" y="2362320"/>
              <a:ext cx="3733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000000"/>
                  </a:solidFill>
                  <a:latin typeface="Times New Roman"/>
                </a:rPr>
                <a:t>והשני לכבוד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he-IL" sz="3200" spc="-1" strike="noStrike">
                  <a:solidFill>
                    <a:srgbClr val="000000"/>
                  </a:solidFill>
                  <a:latin typeface="Times New Roman"/>
                </a:rPr>
                <a:t>ראש חוד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7" name=""/>
          <p:cNvSpPr/>
          <p:nvPr/>
        </p:nvSpPr>
        <p:spPr>
          <a:xfrm>
            <a:off x="685800" y="39625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כאשר ראש השנה חל בשבת מתווסף קורבן מוסף שלישי - לכבוד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000000"/>
                </a:solidFill>
                <a:latin typeface="Times New Roman"/>
              </a:rPr>
              <a:t>השבת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b38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19973400">
            <a:off x="1312920" y="1846080"/>
            <a:ext cx="7026120" cy="29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רשימה מקושרת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f4e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2285640" y="60912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996633"/>
                </a:solidFill>
                <a:latin typeface="Times New Roman"/>
              </a:rPr>
              <a:t>ומהו סדר הקרבתן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0880" y="5029200"/>
            <a:ext cx="830592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09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שכל התדיר מחברו, קודם את חברו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3962520" y="1523880"/>
            <a:ext cx="4571640" cy="1066680"/>
            <a:chOff x="3962520" y="1523880"/>
            <a:chExt cx="4571640" cy="1066680"/>
          </a:xfrm>
        </p:grpSpPr>
        <p:sp>
          <p:nvSpPr>
            <p:cNvPr id="2051" name="PlaceHolder 2"/>
            <p:cNvSpPr>
              <a:spLocks noGrp="1"/>
            </p:cNvSpPr>
            <p:nvPr>
              <p:ph/>
            </p:nvPr>
          </p:nvSpPr>
          <p:spPr>
            <a:xfrm>
              <a:off x="5866920" y="1599840"/>
              <a:ext cx="26672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77000"/>
            </a:bodyPr>
            <a:p>
              <a:pPr marL="263880" indent="0" algn="r" rtl="1"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000000"/>
                  </a:solidFill>
                  <a:latin typeface="Times New Roman"/>
                </a:rPr>
                <a:t>מוסף שבת תחיל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3962520" y="1523880"/>
              <a:ext cx="1676160" cy="1066680"/>
              <a:chOff x="3962520" y="1523880"/>
              <a:chExt cx="1676160" cy="1066680"/>
            </a:xfrm>
          </p:grpSpPr>
          <p:pic>
            <p:nvPicPr>
              <p:cNvPr id="20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62520" y="1523880"/>
                <a:ext cx="167616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4" name=""/>
              <p:cNvSpPr/>
              <p:nvPr/>
            </p:nvSpPr>
            <p:spPr>
              <a:xfrm>
                <a:off x="4190760" y="1790640"/>
                <a:ext cx="837720" cy="49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114440" y="1828440"/>
                <a:ext cx="89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400" spc="-1" strike="noStrike">
                    <a:solidFill>
                      <a:srgbClr val="000000"/>
                    </a:solidFill>
                    <a:latin typeface="Times New Roman"/>
                  </a:rPr>
                  <a:t>שב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6" name=""/>
          <p:cNvSpPr/>
          <p:nvPr/>
        </p:nvSpPr>
        <p:spPr>
          <a:xfrm>
            <a:off x="304920" y="838080"/>
            <a:ext cx="2286000" cy="2057400"/>
          </a:xfrm>
          <a:prstGeom prst="cloudCallout">
            <a:avLst>
              <a:gd name="adj1" fmla="val 39791"/>
              <a:gd name="adj2" fmla="val 74615"/>
            </a:avLst>
          </a:prstGeom>
          <a:gradFill rotWithShape="0">
            <a:gsLst>
              <a:gs pos="0">
                <a:srgbClr val="ffff99"/>
              </a:gs>
              <a:gs pos="100000">
                <a:srgbClr val="fefed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סדר הכנס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יברים לתו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2666880" y="2666880"/>
            <a:ext cx="5486400" cy="1221480"/>
            <a:chOff x="2666880" y="2666880"/>
            <a:chExt cx="5486400" cy="1221480"/>
          </a:xfrm>
        </p:grpSpPr>
        <p:grpSp>
          <p:nvGrpSpPr>
            <p:cNvPr id="2058" name=""/>
            <p:cNvGrpSpPr/>
            <p:nvPr/>
          </p:nvGrpSpPr>
          <p:grpSpPr>
            <a:xfrm>
              <a:off x="2666880" y="2666880"/>
              <a:ext cx="1676520" cy="1067040"/>
              <a:chOff x="2666880" y="2666880"/>
              <a:chExt cx="1676520" cy="1067040"/>
            </a:xfrm>
          </p:grpSpPr>
          <p:pic>
            <p:nvPicPr>
              <p:cNvPr id="20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2666880"/>
                <a:ext cx="1676520" cy="106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0" name=""/>
              <p:cNvSpPr/>
              <p:nvPr/>
            </p:nvSpPr>
            <p:spPr>
              <a:xfrm>
                <a:off x="2666880" y="2895480"/>
                <a:ext cx="1219320" cy="419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743200" y="297180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1800" spc="-1" strike="noStrike">
                    <a:solidFill>
                      <a:srgbClr val="000000"/>
                    </a:solidFill>
                    <a:latin typeface="Times New Roman"/>
                  </a:rPr>
                  <a:t>ראש חוד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2" name=""/>
            <p:cNvSpPr/>
            <p:nvPr/>
          </p:nvSpPr>
          <p:spPr>
            <a:xfrm>
              <a:off x="4495680" y="2819520"/>
              <a:ext cx="3657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000000"/>
                  </a:solidFill>
                  <a:latin typeface="Times New Roman"/>
                </a:rPr>
                <a:t>ואחריו מוסף ראש חוד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1828800" y="3733920"/>
            <a:ext cx="5279040" cy="1066680"/>
            <a:chOff x="1828800" y="3733920"/>
            <a:chExt cx="5279040" cy="1066680"/>
          </a:xfrm>
        </p:grpSpPr>
        <p:grpSp>
          <p:nvGrpSpPr>
            <p:cNvPr id="2064" name=""/>
            <p:cNvGrpSpPr/>
            <p:nvPr/>
          </p:nvGrpSpPr>
          <p:grpSpPr>
            <a:xfrm>
              <a:off x="1828800" y="3733920"/>
              <a:ext cx="1676520" cy="1066680"/>
              <a:chOff x="1828800" y="3733920"/>
              <a:chExt cx="1676520" cy="1066680"/>
            </a:xfrm>
          </p:grpSpPr>
          <p:pic>
            <p:nvPicPr>
              <p:cNvPr id="20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28800" y="3733920"/>
                <a:ext cx="167652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6" name=""/>
              <p:cNvSpPr/>
              <p:nvPr/>
            </p:nvSpPr>
            <p:spPr>
              <a:xfrm>
                <a:off x="2057400" y="4000680"/>
                <a:ext cx="838080" cy="49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981080" y="4038480"/>
                <a:ext cx="89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000" spc="-1" strike="noStrike">
                    <a:solidFill>
                      <a:srgbClr val="000000"/>
                    </a:solidFill>
                    <a:latin typeface="Times New Roman"/>
                  </a:rPr>
                  <a:t>יום טוב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8" name=""/>
            <p:cNvSpPr/>
            <p:nvPr/>
          </p:nvSpPr>
          <p:spPr>
            <a:xfrm>
              <a:off x="3825720" y="3886200"/>
              <a:ext cx="328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3200" spc="-1" strike="noStrike">
                  <a:solidFill>
                    <a:srgbClr val="000000"/>
                  </a:solidFill>
                  <a:latin typeface="Times New Roman"/>
                </a:rPr>
                <a:t>ואחריו מוסף יום טו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9" name=""/>
          <p:cNvSpPr/>
          <p:nvPr/>
        </p:nvSpPr>
        <p:spPr>
          <a:xfrm>
            <a:off x="228600" y="61722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(רמב“ם הלכות תמידין ומוספין פרק ט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f4e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 flipH="1">
            <a:off x="380880" y="1981080"/>
            <a:ext cx="7772400" cy="1295640"/>
          </a:xfrm>
          <a:custGeom>
            <a:avLst/>
            <a:gdLst>
              <a:gd name="textAreaLeft" fmla="*/ 360 w 7772400"/>
              <a:gd name="textAreaRight" fmla="*/ 7773120 w 77724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9" y="0"/>
                </a:lnTo>
                <a:lnTo>
                  <a:pt x="21600" y="10800"/>
                </a:lnTo>
                <a:lnTo>
                  <a:pt x="19959" y="21600"/>
                </a:lnTo>
                <a:lnTo>
                  <a:pt x="0" y="21600"/>
                </a:lnTo>
                <a:lnTo>
                  <a:pt x="1641" y="108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dff7f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1676520" y="1981080"/>
            <a:ext cx="457200" cy="1295280"/>
            <a:chOff x="1676520" y="1981080"/>
            <a:chExt cx="457200" cy="1295280"/>
          </a:xfrm>
        </p:grpSpPr>
        <p:sp>
          <p:nvSpPr>
            <p:cNvPr id="2072" name=""/>
            <p:cNvSpPr/>
            <p:nvPr/>
          </p:nvSpPr>
          <p:spPr>
            <a:xfrm flipH="1">
              <a:off x="1676520" y="1981080"/>
              <a:ext cx="45720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 flipV="1">
              <a:off x="1676520" y="2709720"/>
              <a:ext cx="38088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4" name=""/>
          <p:cNvSpPr/>
          <p:nvPr/>
        </p:nvSpPr>
        <p:spPr>
          <a:xfrm flipH="1">
            <a:off x="456480" y="23623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מנחו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1751760" y="2362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יי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2971080" y="2362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שמ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4037760" y="2362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לבונ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5180760" y="2362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מל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6400080" y="2362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עצ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0" name=""/>
          <p:cNvGrpSpPr/>
          <p:nvPr/>
        </p:nvGrpSpPr>
        <p:grpSpPr>
          <a:xfrm>
            <a:off x="7696080" y="1981080"/>
            <a:ext cx="609840" cy="1294920"/>
            <a:chOff x="7696080" y="1981080"/>
            <a:chExt cx="609840" cy="1294920"/>
          </a:xfrm>
        </p:grpSpPr>
        <p:sp>
          <p:nvSpPr>
            <p:cNvPr id="2081" name=""/>
            <p:cNvSpPr/>
            <p:nvPr/>
          </p:nvSpPr>
          <p:spPr>
            <a:xfrm flipH="1">
              <a:off x="7696080" y="1981080"/>
              <a:ext cx="609840" cy="64764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 flipV="1">
              <a:off x="7696080" y="2628360"/>
              <a:ext cx="609840" cy="64764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609480" y="3581280"/>
            <a:ext cx="815364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ימתי, בזמן שבאו כולם כאחד (=כשכולם הובאו ביחד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Times New Roman"/>
              </a:rPr>
              <a:t>אב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3657600" y="4267080"/>
            <a:ext cx="4038480" cy="2210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הבא ראשון - קרב ראשון</a:t>
            </a:r>
            <a:endParaRPr b="0" lang="en-US" sz="2400" spc="1" strike="noStrike">
              <a:ln w="19080">
                <a:solidFill>
                  <a:srgbClr val="33cccc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1371600" y="4191120"/>
            <a:ext cx="4210200" cy="181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והבא אחרון - קרב אחרון</a:t>
            </a:r>
            <a:endParaRPr b="0" lang="en-US" sz="2400" spc="1" strike="noStrike">
              <a:ln w="19080">
                <a:solidFill>
                  <a:srgbClr val="33cccc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33520" y="228600"/>
            <a:ext cx="7848360" cy="1371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76212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מנחות קודמים ליין, יין קודם לשמן והשמן ללבונה, ולבונה קודמת למלח, ומלח קודם לעצ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4572000" y="62485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(רמב“ם הלכות תמידין ומוספין פרק ט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2743200" y="1981080"/>
            <a:ext cx="457200" cy="1295280"/>
            <a:chOff x="2743200" y="1981080"/>
            <a:chExt cx="457200" cy="1295280"/>
          </a:xfrm>
        </p:grpSpPr>
        <p:sp>
          <p:nvSpPr>
            <p:cNvPr id="2090" name=""/>
            <p:cNvSpPr/>
            <p:nvPr/>
          </p:nvSpPr>
          <p:spPr>
            <a:xfrm flipH="1">
              <a:off x="2743200" y="1981080"/>
              <a:ext cx="45720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 flipV="1">
              <a:off x="2743200" y="2709720"/>
              <a:ext cx="38088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4038480" y="1981080"/>
            <a:ext cx="457200" cy="1295280"/>
            <a:chOff x="4038480" y="1981080"/>
            <a:chExt cx="457200" cy="1295280"/>
          </a:xfrm>
        </p:grpSpPr>
        <p:sp>
          <p:nvSpPr>
            <p:cNvPr id="2093" name=""/>
            <p:cNvSpPr/>
            <p:nvPr/>
          </p:nvSpPr>
          <p:spPr>
            <a:xfrm flipH="1">
              <a:off x="4038480" y="1981080"/>
              <a:ext cx="45720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 flipV="1">
              <a:off x="4038480" y="2709720"/>
              <a:ext cx="38088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5" name=""/>
          <p:cNvGrpSpPr/>
          <p:nvPr/>
        </p:nvGrpSpPr>
        <p:grpSpPr>
          <a:xfrm>
            <a:off x="5257800" y="1981080"/>
            <a:ext cx="457200" cy="1295280"/>
            <a:chOff x="5257800" y="1981080"/>
            <a:chExt cx="457200" cy="1295280"/>
          </a:xfrm>
        </p:grpSpPr>
        <p:sp>
          <p:nvSpPr>
            <p:cNvPr id="2096" name=""/>
            <p:cNvSpPr/>
            <p:nvPr/>
          </p:nvSpPr>
          <p:spPr>
            <a:xfrm flipH="1">
              <a:off x="5257800" y="1981080"/>
              <a:ext cx="45720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 flipV="1">
              <a:off x="5257800" y="2709720"/>
              <a:ext cx="38088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8" name=""/>
          <p:cNvGrpSpPr/>
          <p:nvPr/>
        </p:nvGrpSpPr>
        <p:grpSpPr>
          <a:xfrm>
            <a:off x="6324480" y="1981080"/>
            <a:ext cx="457200" cy="1295280"/>
            <a:chOff x="6324480" y="1981080"/>
            <a:chExt cx="457200" cy="1295280"/>
          </a:xfrm>
        </p:grpSpPr>
        <p:sp>
          <p:nvSpPr>
            <p:cNvPr id="2099" name=""/>
            <p:cNvSpPr/>
            <p:nvPr/>
          </p:nvSpPr>
          <p:spPr>
            <a:xfrm flipH="1">
              <a:off x="6324480" y="1981080"/>
              <a:ext cx="45720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 flipV="1">
              <a:off x="6324480" y="2709720"/>
              <a:ext cx="38088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7924680" y="1981080"/>
            <a:ext cx="609840" cy="1294920"/>
            <a:chOff x="7924680" y="1981080"/>
            <a:chExt cx="609840" cy="1294920"/>
          </a:xfrm>
        </p:grpSpPr>
        <p:sp>
          <p:nvSpPr>
            <p:cNvPr id="2102" name=""/>
            <p:cNvSpPr/>
            <p:nvPr/>
          </p:nvSpPr>
          <p:spPr>
            <a:xfrm flipH="1">
              <a:off x="7924680" y="1981080"/>
              <a:ext cx="609840" cy="64764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 flipV="1">
              <a:off x="7924680" y="2628360"/>
              <a:ext cx="609840" cy="64764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8153280" y="1981080"/>
            <a:ext cx="609840" cy="1294920"/>
            <a:chOff x="8153280" y="1981080"/>
            <a:chExt cx="609840" cy="1294920"/>
          </a:xfrm>
        </p:grpSpPr>
        <p:sp>
          <p:nvSpPr>
            <p:cNvPr id="2105" name=""/>
            <p:cNvSpPr/>
            <p:nvPr/>
          </p:nvSpPr>
          <p:spPr>
            <a:xfrm flipH="1">
              <a:off x="8153280" y="1981080"/>
              <a:ext cx="609840" cy="64764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8153280" y="2628360"/>
              <a:ext cx="609840" cy="64764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f4e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7" name=""/>
          <p:cNvGrpSpPr/>
          <p:nvPr/>
        </p:nvGrpSpPr>
        <p:grpSpPr>
          <a:xfrm>
            <a:off x="380880" y="1752480"/>
            <a:ext cx="8382240" cy="1828800"/>
            <a:chOff x="380880" y="1752480"/>
            <a:chExt cx="8382240" cy="1828800"/>
          </a:xfrm>
        </p:grpSpPr>
        <p:sp>
          <p:nvSpPr>
            <p:cNvPr id="2108" name=""/>
            <p:cNvSpPr/>
            <p:nvPr/>
          </p:nvSpPr>
          <p:spPr>
            <a:xfrm rot="10800000">
              <a:off x="380880" y="1752120"/>
              <a:ext cx="7772400" cy="1828800"/>
            </a:xfrm>
            <a:custGeom>
              <a:avLst/>
              <a:gdLst>
                <a:gd name="textAreaLeft" fmla="*/ 0 w 7772400"/>
                <a:gd name="textAreaRight" fmla="*/ 7772760 w 777240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59" y="0"/>
                  </a:lnTo>
                  <a:lnTo>
                    <a:pt x="21600" y="10800"/>
                  </a:lnTo>
                  <a:lnTo>
                    <a:pt x="19959" y="21600"/>
                  </a:lnTo>
                  <a:lnTo>
                    <a:pt x="0" y="21600"/>
                  </a:lnTo>
                  <a:lnTo>
                    <a:pt x="1641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dff7f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9" name=""/>
            <p:cNvGrpSpPr/>
            <p:nvPr/>
          </p:nvGrpSpPr>
          <p:grpSpPr>
            <a:xfrm>
              <a:off x="6324480" y="1752480"/>
              <a:ext cx="609840" cy="1828800"/>
              <a:chOff x="6324480" y="1752480"/>
              <a:chExt cx="609840" cy="1828800"/>
            </a:xfrm>
          </p:grpSpPr>
          <p:sp>
            <p:nvSpPr>
              <p:cNvPr id="2110" name=""/>
              <p:cNvSpPr/>
              <p:nvPr/>
            </p:nvSpPr>
            <p:spPr>
              <a:xfrm flipH="1" flipV="1">
                <a:off x="6324480" y="2666880"/>
                <a:ext cx="6098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H="1">
                <a:off x="6324480" y="1752480"/>
                <a:ext cx="6098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2" name=""/>
            <p:cNvGrpSpPr/>
            <p:nvPr/>
          </p:nvGrpSpPr>
          <p:grpSpPr>
            <a:xfrm>
              <a:off x="5105520" y="1752480"/>
              <a:ext cx="609480" cy="1828800"/>
              <a:chOff x="5105520" y="1752480"/>
              <a:chExt cx="609480" cy="1828800"/>
            </a:xfrm>
          </p:grpSpPr>
          <p:sp>
            <p:nvSpPr>
              <p:cNvPr id="2113" name=""/>
              <p:cNvSpPr/>
              <p:nvPr/>
            </p:nvSpPr>
            <p:spPr>
              <a:xfrm flipH="1" flipV="1">
                <a:off x="5105520" y="2666880"/>
                <a:ext cx="6094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H="1">
                <a:off x="5105520" y="1752480"/>
                <a:ext cx="6094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5" name=""/>
            <p:cNvGrpSpPr/>
            <p:nvPr/>
          </p:nvGrpSpPr>
          <p:grpSpPr>
            <a:xfrm>
              <a:off x="4038480" y="1752480"/>
              <a:ext cx="609840" cy="1828800"/>
              <a:chOff x="4038480" y="1752480"/>
              <a:chExt cx="609840" cy="1828800"/>
            </a:xfrm>
          </p:grpSpPr>
          <p:sp>
            <p:nvSpPr>
              <p:cNvPr id="2116" name=""/>
              <p:cNvSpPr/>
              <p:nvPr/>
            </p:nvSpPr>
            <p:spPr>
              <a:xfrm flipH="1" flipV="1">
                <a:off x="4038480" y="2666880"/>
                <a:ext cx="6098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>
                <a:off x="4038480" y="1752480"/>
                <a:ext cx="6098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8" name=""/>
            <p:cNvGrpSpPr/>
            <p:nvPr/>
          </p:nvGrpSpPr>
          <p:grpSpPr>
            <a:xfrm>
              <a:off x="2895480" y="1752480"/>
              <a:ext cx="609840" cy="1828800"/>
              <a:chOff x="2895480" y="1752480"/>
              <a:chExt cx="609840" cy="1828800"/>
            </a:xfrm>
          </p:grpSpPr>
          <p:sp>
            <p:nvSpPr>
              <p:cNvPr id="2119" name=""/>
              <p:cNvSpPr/>
              <p:nvPr/>
            </p:nvSpPr>
            <p:spPr>
              <a:xfrm flipH="1" flipV="1">
                <a:off x="2895480" y="2666880"/>
                <a:ext cx="6098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>
                <a:off x="2895480" y="1752480"/>
                <a:ext cx="6098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1" name=""/>
            <p:cNvGrpSpPr/>
            <p:nvPr/>
          </p:nvGrpSpPr>
          <p:grpSpPr>
            <a:xfrm>
              <a:off x="1676520" y="1752480"/>
              <a:ext cx="609480" cy="1828800"/>
              <a:chOff x="1676520" y="1752480"/>
              <a:chExt cx="609480" cy="1828800"/>
            </a:xfrm>
          </p:grpSpPr>
          <p:sp>
            <p:nvSpPr>
              <p:cNvPr id="2122" name=""/>
              <p:cNvSpPr/>
              <p:nvPr/>
            </p:nvSpPr>
            <p:spPr>
              <a:xfrm flipH="1" flipV="1">
                <a:off x="1676520" y="2666880"/>
                <a:ext cx="6094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>
                <a:off x="1676520" y="1752480"/>
                <a:ext cx="6094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4" name=""/>
            <p:cNvGrpSpPr/>
            <p:nvPr/>
          </p:nvGrpSpPr>
          <p:grpSpPr>
            <a:xfrm>
              <a:off x="7924680" y="1752480"/>
              <a:ext cx="609840" cy="1828800"/>
              <a:chOff x="7924680" y="1752480"/>
              <a:chExt cx="609840" cy="1828800"/>
            </a:xfrm>
          </p:grpSpPr>
          <p:sp>
            <p:nvSpPr>
              <p:cNvPr id="2125" name=""/>
              <p:cNvSpPr/>
              <p:nvPr/>
            </p:nvSpPr>
            <p:spPr>
              <a:xfrm flipH="1" flipV="1">
                <a:off x="7924680" y="2666880"/>
                <a:ext cx="609840" cy="914400"/>
              </a:xfrm>
              <a:prstGeom prst="line">
                <a:avLst/>
              </a:prstGeom>
              <a:ln w="57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>
                <a:off x="7924680" y="1752480"/>
                <a:ext cx="609840" cy="914400"/>
              </a:xfrm>
              <a:prstGeom prst="line">
                <a:avLst/>
              </a:prstGeom>
              <a:ln w="57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7" name=""/>
            <p:cNvGrpSpPr/>
            <p:nvPr/>
          </p:nvGrpSpPr>
          <p:grpSpPr>
            <a:xfrm>
              <a:off x="7696080" y="1752480"/>
              <a:ext cx="609840" cy="1828800"/>
              <a:chOff x="7696080" y="1752480"/>
              <a:chExt cx="609840" cy="1828800"/>
            </a:xfrm>
          </p:grpSpPr>
          <p:sp>
            <p:nvSpPr>
              <p:cNvPr id="2128" name=""/>
              <p:cNvSpPr/>
              <p:nvPr/>
            </p:nvSpPr>
            <p:spPr>
              <a:xfrm flipH="1" flipV="1">
                <a:off x="7696080" y="2666880"/>
                <a:ext cx="609840" cy="914400"/>
              </a:xfrm>
              <a:prstGeom prst="line">
                <a:avLst/>
              </a:prstGeom>
              <a:ln w="57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>
                <a:off x="7696080" y="1752480"/>
                <a:ext cx="609840" cy="914400"/>
              </a:xfrm>
              <a:prstGeom prst="line">
                <a:avLst/>
              </a:prstGeom>
              <a:ln w="57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0" name=""/>
            <p:cNvGrpSpPr/>
            <p:nvPr/>
          </p:nvGrpSpPr>
          <p:grpSpPr>
            <a:xfrm>
              <a:off x="8153280" y="1752480"/>
              <a:ext cx="609840" cy="1828800"/>
              <a:chOff x="8153280" y="1752480"/>
              <a:chExt cx="609840" cy="1828800"/>
            </a:xfrm>
          </p:grpSpPr>
          <p:sp>
            <p:nvSpPr>
              <p:cNvPr id="2131" name=""/>
              <p:cNvSpPr/>
              <p:nvPr/>
            </p:nvSpPr>
            <p:spPr>
              <a:xfrm flipH="1" flipV="1">
                <a:off x="8153280" y="2666880"/>
                <a:ext cx="609840" cy="914400"/>
              </a:xfrm>
              <a:prstGeom prst="line">
                <a:avLst/>
              </a:prstGeom>
              <a:ln w="57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>
                <a:off x="8153280" y="1752480"/>
                <a:ext cx="609840" cy="914400"/>
              </a:xfrm>
              <a:prstGeom prst="line">
                <a:avLst/>
              </a:prstGeom>
              <a:ln w="57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3" name=""/>
          <p:cNvSpPr txBox="1"/>
          <p:nvPr/>
        </p:nvSpPr>
        <p:spPr>
          <a:xfrm>
            <a:off x="2819520" y="4419720"/>
            <a:ext cx="4038480" cy="22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הבא ראשון - קרב ראשון</a:t>
            </a:r>
            <a:endParaRPr b="0" lang="en-US" sz="2400" spc="1" strike="noStrike">
              <a:ln w="19080">
                <a:solidFill>
                  <a:srgbClr val="33cccc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1371600" y="4191120"/>
            <a:ext cx="4210200" cy="181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והבא אחרון - קרב אחרון</a:t>
            </a:r>
            <a:endParaRPr b="0" lang="en-US" sz="2400" spc="1" strike="noStrike">
              <a:ln w="19080">
                <a:solidFill>
                  <a:srgbClr val="33cccc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533520" y="228600"/>
            <a:ext cx="7848360" cy="1371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572000" y="62485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(רמב“ם הלכות תמידין ומוספין פרק ט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666880" y="6094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200400" y="533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ובלשוננו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9" name=""/>
          <p:cNvGrpSpPr/>
          <p:nvPr/>
        </p:nvGrpSpPr>
        <p:grpSpPr>
          <a:xfrm>
            <a:off x="-4038480" y="1981080"/>
            <a:ext cx="11353680" cy="1560600"/>
            <a:chOff x="-4038480" y="1981080"/>
            <a:chExt cx="11353680" cy="1560600"/>
          </a:xfrm>
        </p:grpSpPr>
        <p:sp>
          <p:nvSpPr>
            <p:cNvPr id="2140" name=""/>
            <p:cNvSpPr txBox="1"/>
            <p:nvPr/>
          </p:nvSpPr>
          <p:spPr>
            <a:xfrm>
              <a:off x="1523880" y="2133720"/>
              <a:ext cx="5791320" cy="10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First  In  First  Ou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141" name=""/>
            <p:cNvSpPr txBox="1"/>
            <p:nvPr/>
          </p:nvSpPr>
          <p:spPr>
            <a:xfrm>
              <a:off x="-4038480" y="1981080"/>
              <a:ext cx="4038480" cy="156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FIFO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3848040" cy="5478480"/>
          </a:xfrm>
          <a:prstGeom prst="rect">
            <a:avLst/>
          </a:prstGeom>
          <a:ln w="0">
            <a:noFill/>
          </a:ln>
        </p:spPr>
      </p:pic>
      <p:sp>
        <p:nvSpPr>
          <p:cNvPr id="2143" name=""/>
          <p:cNvSpPr/>
          <p:nvPr/>
        </p:nvSpPr>
        <p:spPr>
          <a:xfrm>
            <a:off x="457200" y="533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c66ff"/>
                </a:solidFill>
                <a:latin typeface="Cricket"/>
                <a:cs typeface="Dbs-David"/>
              </a:rPr>
              <a:t>כשירצה אדם לחלק מכספו לצדקה, למי ייתן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2666880" y="1447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Dbs-David"/>
              </a:rPr>
              <a:t>יקדים פרנסת </a:t>
            </a:r>
            <a:r>
              <a:rPr b="1" lang="he-IL" sz="2800" spc="-1" strike="noStrike">
                <a:solidFill>
                  <a:srgbClr val="9900ff"/>
                </a:solidFill>
                <a:latin typeface="Times New Roman"/>
                <a:cs typeface="Dbs-David"/>
              </a:rPr>
              <a:t>אביו ואמו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Dbs-David"/>
              </a:rPr>
              <a:t> ל</a:t>
            </a:r>
            <a:r>
              <a:rPr b="1" lang="he-IL" sz="2800" spc="-1" strike="noStrike">
                <a:solidFill>
                  <a:srgbClr val="9966ff"/>
                </a:solidFill>
                <a:latin typeface="Times New Roman"/>
                <a:cs typeface="Dbs-David"/>
              </a:rPr>
              <a:t>בני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666880" y="19810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Dbs-David"/>
              </a:rPr>
              <a:t>ואחר ה</a:t>
            </a:r>
            <a:r>
              <a:rPr b="1" lang="he-IL" sz="2800" spc="-1" strike="noStrike">
                <a:solidFill>
                  <a:srgbClr val="9966ff"/>
                </a:solidFill>
                <a:latin typeface="Times New Roman"/>
                <a:cs typeface="Dbs-David"/>
              </a:rPr>
              <a:t>בנים,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Dbs-David"/>
              </a:rPr>
              <a:t> </a:t>
            </a:r>
            <a:r>
              <a:rPr b="1" lang="he-IL" sz="2800" spc="-1" strike="noStrike">
                <a:solidFill>
                  <a:srgbClr val="9900cc"/>
                </a:solidFill>
                <a:latin typeface="Times New Roman"/>
                <a:cs typeface="Dbs-David"/>
              </a:rPr>
              <a:t>אחי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666880" y="25146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Dbs-David"/>
              </a:rPr>
              <a:t>ואחר </a:t>
            </a:r>
            <a:r>
              <a:rPr b="1" lang="he-IL" sz="2800" spc="-1" strike="noStrike">
                <a:solidFill>
                  <a:srgbClr val="9900cc"/>
                </a:solidFill>
                <a:latin typeface="Times New Roman"/>
                <a:cs typeface="Dbs-David"/>
              </a:rPr>
              <a:t>אחיו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Dbs-David"/>
              </a:rPr>
              <a:t>, </a:t>
            </a:r>
            <a:r>
              <a:rPr b="1" lang="he-IL" sz="2800" spc="-1" strike="noStrike">
                <a:solidFill>
                  <a:srgbClr val="cc00ff"/>
                </a:solidFill>
                <a:latin typeface="Times New Roman"/>
                <a:cs typeface="Dbs-David"/>
              </a:rPr>
              <a:t>הקרוב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2666880" y="30481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Dbs-David"/>
              </a:rPr>
              <a:t>ואחר </a:t>
            </a:r>
            <a:r>
              <a:rPr b="1" lang="he-IL" sz="2800" spc="-1" strike="noStrike">
                <a:solidFill>
                  <a:srgbClr val="cc00ff"/>
                </a:solidFill>
                <a:latin typeface="Times New Roman"/>
                <a:cs typeface="Dbs-David"/>
              </a:rPr>
              <a:t>הקרובים אליו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Dbs-David"/>
              </a:rPr>
              <a:t>, </a:t>
            </a:r>
            <a:r>
              <a:rPr b="1" lang="he-IL" sz="2800" spc="-1" strike="noStrike">
                <a:solidFill>
                  <a:srgbClr val="800080"/>
                </a:solidFill>
                <a:latin typeface="Times New Roman"/>
                <a:cs typeface="Dbs-David"/>
              </a:rPr>
              <a:t>שכני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666880" y="35812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Dbs-David"/>
              </a:rPr>
              <a:t>ואחר</a:t>
            </a:r>
            <a:r>
              <a:rPr b="1" lang="he-IL" sz="2800" spc="-1" strike="noStrike">
                <a:solidFill>
                  <a:srgbClr val="800080"/>
                </a:solidFill>
                <a:latin typeface="Times New Roman"/>
                <a:ea typeface="Dbs-David"/>
              </a:rPr>
              <a:t> שכניו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Dbs-David"/>
              </a:rPr>
              <a:t>, </a:t>
            </a:r>
            <a:r>
              <a:rPr b="1" lang="he-IL" sz="2800" spc="-1" strike="noStrike">
                <a:solidFill>
                  <a:srgbClr val="cc00cc"/>
                </a:solidFill>
                <a:latin typeface="Times New Roman"/>
                <a:cs typeface="Dbs-David"/>
              </a:rPr>
              <a:t>אנשי עיר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2362320" y="41148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  <a:cs typeface="Dbs-David"/>
              </a:rPr>
              <a:t>ואחר </a:t>
            </a:r>
            <a:r>
              <a:rPr b="1" lang="he-IL" sz="2800" spc="-1" strike="noStrike">
                <a:solidFill>
                  <a:srgbClr val="cc00cc"/>
                </a:solidFill>
                <a:latin typeface="Times New Roman"/>
                <a:cs typeface="Dbs-David"/>
              </a:rPr>
              <a:t>אנשי עירו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Dbs-David"/>
              </a:rPr>
              <a:t>, </a:t>
            </a:r>
            <a:r>
              <a:rPr b="1" lang="he-IL" sz="2800" spc="-1" strike="noStrike">
                <a:solidFill>
                  <a:srgbClr val="9966ff"/>
                </a:solidFill>
                <a:latin typeface="Times New Roman"/>
                <a:cs typeface="Dbs-David"/>
              </a:rPr>
              <a:t>שבויי שאר הארצות</a:t>
            </a:r>
            <a:r>
              <a:rPr b="1" lang="he-IL" sz="2800" spc="-1" strike="noStrike">
                <a:solidFill>
                  <a:srgbClr val="000000"/>
                </a:solidFill>
                <a:latin typeface="Times New Roman"/>
                <a:ea typeface="Dbs-David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0" y="5119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9900ff"/>
                </a:solidFill>
                <a:latin typeface="Times New Roman"/>
                <a:cs typeface="Dbs-David"/>
              </a:rPr>
              <a:t>אבל אם התדפקו על דלתו … הפושט ידו נותנים לו‏‏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-228600" y="62485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[טור, יורה דעה, הלכות צדקה רנ”א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b38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 txBox="1"/>
          <p:nvPr/>
        </p:nvSpPr>
        <p:spPr>
          <a:xfrm rot="19973400">
            <a:off x="2428560" y="1835280"/>
            <a:ext cx="4800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מחסנית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3333cc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000000"/>
                </a:solidFill>
                <a:latin typeface="Times New Roman"/>
              </a:rPr>
              <a:t>חולה אנוש שרצה להוריש מרכושו לאחרים ואמר</a:t>
            </a:r>
            <a:r>
              <a:rPr b="0" i="1" lang="he-I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4" name=""/>
          <p:cNvGrpSpPr/>
          <p:nvPr/>
        </p:nvGrpSpPr>
        <p:grpSpPr>
          <a:xfrm>
            <a:off x="533520" y="3375000"/>
            <a:ext cx="3352320" cy="2034360"/>
            <a:chOff x="533520" y="3375000"/>
            <a:chExt cx="3352320" cy="2034360"/>
          </a:xfrm>
        </p:grpSpPr>
        <p:sp>
          <p:nvSpPr>
            <p:cNvPr id="2155" name=""/>
            <p:cNvSpPr/>
            <p:nvPr/>
          </p:nvSpPr>
          <p:spPr>
            <a:xfrm>
              <a:off x="555120" y="3387600"/>
              <a:ext cx="914040" cy="1257120"/>
            </a:xfrm>
            <a:custGeom>
              <a:avLst/>
              <a:gdLst/>
              <a:ahLst/>
              <a:rect l="l" t="t" r="r" b="b"/>
              <a:pathLst>
                <a:path w="1125" h="1681">
                  <a:moveTo>
                    <a:pt x="1090" y="384"/>
                  </a:moveTo>
                  <a:lnTo>
                    <a:pt x="1113" y="41"/>
                  </a:lnTo>
                  <a:lnTo>
                    <a:pt x="1103" y="6"/>
                  </a:lnTo>
                  <a:lnTo>
                    <a:pt x="1051" y="0"/>
                  </a:lnTo>
                  <a:lnTo>
                    <a:pt x="998" y="29"/>
                  </a:lnTo>
                  <a:lnTo>
                    <a:pt x="831" y="172"/>
                  </a:lnTo>
                  <a:lnTo>
                    <a:pt x="815" y="172"/>
                  </a:lnTo>
                  <a:lnTo>
                    <a:pt x="694" y="240"/>
                  </a:lnTo>
                  <a:lnTo>
                    <a:pt x="677" y="246"/>
                  </a:lnTo>
                  <a:lnTo>
                    <a:pt x="579" y="310"/>
                  </a:lnTo>
                  <a:lnTo>
                    <a:pt x="562" y="316"/>
                  </a:lnTo>
                  <a:lnTo>
                    <a:pt x="345" y="534"/>
                  </a:lnTo>
                  <a:lnTo>
                    <a:pt x="246" y="608"/>
                  </a:lnTo>
                  <a:lnTo>
                    <a:pt x="230" y="608"/>
                  </a:lnTo>
                  <a:lnTo>
                    <a:pt x="51" y="774"/>
                  </a:lnTo>
                  <a:lnTo>
                    <a:pt x="0" y="844"/>
                  </a:lnTo>
                  <a:lnTo>
                    <a:pt x="12" y="889"/>
                  </a:lnTo>
                  <a:lnTo>
                    <a:pt x="86" y="1010"/>
                  </a:lnTo>
                  <a:lnTo>
                    <a:pt x="102" y="1096"/>
                  </a:lnTo>
                  <a:lnTo>
                    <a:pt x="127" y="1320"/>
                  </a:lnTo>
                  <a:lnTo>
                    <a:pt x="166" y="1474"/>
                  </a:lnTo>
                  <a:lnTo>
                    <a:pt x="207" y="1681"/>
                  </a:lnTo>
                  <a:lnTo>
                    <a:pt x="246" y="1607"/>
                  </a:lnTo>
                  <a:lnTo>
                    <a:pt x="230" y="1612"/>
                  </a:lnTo>
                  <a:lnTo>
                    <a:pt x="361" y="1480"/>
                  </a:lnTo>
                  <a:lnTo>
                    <a:pt x="402" y="1441"/>
                  </a:lnTo>
                  <a:lnTo>
                    <a:pt x="1125" y="844"/>
                  </a:lnTo>
                  <a:lnTo>
                    <a:pt x="1090" y="38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35840" y="3665160"/>
              <a:ext cx="1064160" cy="939960"/>
            </a:xfrm>
            <a:custGeom>
              <a:avLst/>
              <a:gdLst/>
              <a:ahLst/>
              <a:rect l="l" t="t" r="r" b="b"/>
              <a:pathLst>
                <a:path w="1310" h="1257">
                  <a:moveTo>
                    <a:pt x="1310" y="530"/>
                  </a:moveTo>
                  <a:lnTo>
                    <a:pt x="1238" y="456"/>
                  </a:lnTo>
                  <a:lnTo>
                    <a:pt x="1209" y="319"/>
                  </a:lnTo>
                  <a:lnTo>
                    <a:pt x="1176" y="204"/>
                  </a:lnTo>
                  <a:lnTo>
                    <a:pt x="1137" y="146"/>
                  </a:lnTo>
                  <a:lnTo>
                    <a:pt x="1010" y="21"/>
                  </a:lnTo>
                  <a:lnTo>
                    <a:pt x="977" y="0"/>
                  </a:lnTo>
                  <a:lnTo>
                    <a:pt x="850" y="5"/>
                  </a:lnTo>
                  <a:lnTo>
                    <a:pt x="766" y="44"/>
                  </a:lnTo>
                  <a:lnTo>
                    <a:pt x="677" y="101"/>
                  </a:lnTo>
                  <a:lnTo>
                    <a:pt x="597" y="185"/>
                  </a:lnTo>
                  <a:lnTo>
                    <a:pt x="552" y="234"/>
                  </a:lnTo>
                  <a:lnTo>
                    <a:pt x="416" y="327"/>
                  </a:lnTo>
                  <a:lnTo>
                    <a:pt x="271" y="415"/>
                  </a:lnTo>
                  <a:lnTo>
                    <a:pt x="160" y="491"/>
                  </a:lnTo>
                  <a:lnTo>
                    <a:pt x="92" y="545"/>
                  </a:lnTo>
                  <a:lnTo>
                    <a:pt x="80" y="549"/>
                  </a:lnTo>
                  <a:lnTo>
                    <a:pt x="8" y="694"/>
                  </a:lnTo>
                  <a:lnTo>
                    <a:pt x="0" y="727"/>
                  </a:lnTo>
                  <a:lnTo>
                    <a:pt x="57" y="850"/>
                  </a:lnTo>
                  <a:lnTo>
                    <a:pt x="115" y="961"/>
                  </a:lnTo>
                  <a:lnTo>
                    <a:pt x="184" y="1072"/>
                  </a:lnTo>
                  <a:lnTo>
                    <a:pt x="271" y="1161"/>
                  </a:lnTo>
                  <a:lnTo>
                    <a:pt x="390" y="1257"/>
                  </a:lnTo>
                  <a:lnTo>
                    <a:pt x="425" y="1210"/>
                  </a:lnTo>
                  <a:lnTo>
                    <a:pt x="412" y="1218"/>
                  </a:lnTo>
                  <a:lnTo>
                    <a:pt x="521" y="1076"/>
                  </a:lnTo>
                  <a:lnTo>
                    <a:pt x="612" y="1037"/>
                  </a:lnTo>
                  <a:lnTo>
                    <a:pt x="685" y="912"/>
                  </a:lnTo>
                  <a:lnTo>
                    <a:pt x="774" y="801"/>
                  </a:lnTo>
                  <a:lnTo>
                    <a:pt x="868" y="762"/>
                  </a:lnTo>
                  <a:lnTo>
                    <a:pt x="911" y="699"/>
                  </a:lnTo>
                  <a:lnTo>
                    <a:pt x="973" y="641"/>
                  </a:lnTo>
                  <a:lnTo>
                    <a:pt x="1076" y="590"/>
                  </a:lnTo>
                  <a:lnTo>
                    <a:pt x="1221" y="479"/>
                  </a:lnTo>
                  <a:lnTo>
                    <a:pt x="1248" y="473"/>
                  </a:lnTo>
                  <a:lnTo>
                    <a:pt x="1310" y="5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948600" y="3860280"/>
              <a:ext cx="333720" cy="304200"/>
            </a:xfrm>
            <a:custGeom>
              <a:avLst/>
              <a:gdLst/>
              <a:ahLst/>
              <a:rect l="l" t="t" r="r" b="b"/>
              <a:pathLst>
                <a:path w="411" h="407">
                  <a:moveTo>
                    <a:pt x="39" y="35"/>
                  </a:moveTo>
                  <a:lnTo>
                    <a:pt x="89" y="4"/>
                  </a:lnTo>
                  <a:lnTo>
                    <a:pt x="138" y="0"/>
                  </a:lnTo>
                  <a:lnTo>
                    <a:pt x="185" y="21"/>
                  </a:lnTo>
                  <a:lnTo>
                    <a:pt x="220" y="56"/>
                  </a:lnTo>
                  <a:lnTo>
                    <a:pt x="239" y="88"/>
                  </a:lnTo>
                  <a:lnTo>
                    <a:pt x="247" y="123"/>
                  </a:lnTo>
                  <a:lnTo>
                    <a:pt x="257" y="132"/>
                  </a:lnTo>
                  <a:lnTo>
                    <a:pt x="288" y="123"/>
                  </a:lnTo>
                  <a:lnTo>
                    <a:pt x="327" y="84"/>
                  </a:lnTo>
                  <a:lnTo>
                    <a:pt x="354" y="66"/>
                  </a:lnTo>
                  <a:lnTo>
                    <a:pt x="384" y="62"/>
                  </a:lnTo>
                  <a:lnTo>
                    <a:pt x="407" y="84"/>
                  </a:lnTo>
                  <a:lnTo>
                    <a:pt x="411" y="111"/>
                  </a:lnTo>
                  <a:lnTo>
                    <a:pt x="399" y="138"/>
                  </a:lnTo>
                  <a:lnTo>
                    <a:pt x="362" y="150"/>
                  </a:lnTo>
                  <a:lnTo>
                    <a:pt x="319" y="173"/>
                  </a:lnTo>
                  <a:lnTo>
                    <a:pt x="284" y="199"/>
                  </a:lnTo>
                  <a:lnTo>
                    <a:pt x="269" y="275"/>
                  </a:lnTo>
                  <a:lnTo>
                    <a:pt x="249" y="360"/>
                  </a:lnTo>
                  <a:lnTo>
                    <a:pt x="230" y="386"/>
                  </a:lnTo>
                  <a:lnTo>
                    <a:pt x="200" y="403"/>
                  </a:lnTo>
                  <a:lnTo>
                    <a:pt x="189" y="407"/>
                  </a:lnTo>
                  <a:lnTo>
                    <a:pt x="150" y="403"/>
                  </a:lnTo>
                  <a:lnTo>
                    <a:pt x="107" y="382"/>
                  </a:lnTo>
                  <a:lnTo>
                    <a:pt x="58" y="341"/>
                  </a:lnTo>
                  <a:lnTo>
                    <a:pt x="35" y="288"/>
                  </a:lnTo>
                  <a:lnTo>
                    <a:pt x="15" y="245"/>
                  </a:lnTo>
                  <a:lnTo>
                    <a:pt x="0" y="177"/>
                  </a:lnTo>
                  <a:lnTo>
                    <a:pt x="0" y="111"/>
                  </a:lnTo>
                  <a:lnTo>
                    <a:pt x="23" y="62"/>
                  </a:lnTo>
                  <a:lnTo>
                    <a:pt x="3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120680" y="4169160"/>
              <a:ext cx="657000" cy="371520"/>
            </a:xfrm>
            <a:custGeom>
              <a:avLst/>
              <a:gdLst/>
              <a:ahLst/>
              <a:rect l="l" t="t" r="r" b="b"/>
              <a:pathLst>
                <a:path w="809" h="497">
                  <a:moveTo>
                    <a:pt x="23" y="33"/>
                  </a:moveTo>
                  <a:lnTo>
                    <a:pt x="47" y="14"/>
                  </a:lnTo>
                  <a:lnTo>
                    <a:pt x="80" y="0"/>
                  </a:lnTo>
                  <a:lnTo>
                    <a:pt x="119" y="0"/>
                  </a:lnTo>
                  <a:lnTo>
                    <a:pt x="168" y="14"/>
                  </a:lnTo>
                  <a:lnTo>
                    <a:pt x="230" y="45"/>
                  </a:lnTo>
                  <a:lnTo>
                    <a:pt x="285" y="84"/>
                  </a:lnTo>
                  <a:lnTo>
                    <a:pt x="329" y="113"/>
                  </a:lnTo>
                  <a:lnTo>
                    <a:pt x="378" y="144"/>
                  </a:lnTo>
                  <a:lnTo>
                    <a:pt x="444" y="160"/>
                  </a:lnTo>
                  <a:lnTo>
                    <a:pt x="532" y="181"/>
                  </a:lnTo>
                  <a:lnTo>
                    <a:pt x="643" y="199"/>
                  </a:lnTo>
                  <a:lnTo>
                    <a:pt x="711" y="209"/>
                  </a:lnTo>
                  <a:lnTo>
                    <a:pt x="774" y="230"/>
                  </a:lnTo>
                  <a:lnTo>
                    <a:pt x="797" y="252"/>
                  </a:lnTo>
                  <a:lnTo>
                    <a:pt x="809" y="296"/>
                  </a:lnTo>
                  <a:lnTo>
                    <a:pt x="809" y="337"/>
                  </a:lnTo>
                  <a:lnTo>
                    <a:pt x="797" y="378"/>
                  </a:lnTo>
                  <a:lnTo>
                    <a:pt x="776" y="406"/>
                  </a:lnTo>
                  <a:lnTo>
                    <a:pt x="739" y="439"/>
                  </a:lnTo>
                  <a:lnTo>
                    <a:pt x="682" y="468"/>
                  </a:lnTo>
                  <a:lnTo>
                    <a:pt x="614" y="482"/>
                  </a:lnTo>
                  <a:lnTo>
                    <a:pt x="532" y="493"/>
                  </a:lnTo>
                  <a:lnTo>
                    <a:pt x="448" y="497"/>
                  </a:lnTo>
                  <a:lnTo>
                    <a:pt x="372" y="487"/>
                  </a:lnTo>
                  <a:lnTo>
                    <a:pt x="298" y="480"/>
                  </a:lnTo>
                  <a:lnTo>
                    <a:pt x="228" y="452"/>
                  </a:lnTo>
                  <a:lnTo>
                    <a:pt x="162" y="417"/>
                  </a:lnTo>
                  <a:lnTo>
                    <a:pt x="119" y="372"/>
                  </a:lnTo>
                  <a:lnTo>
                    <a:pt x="76" y="308"/>
                  </a:lnTo>
                  <a:lnTo>
                    <a:pt x="39" y="246"/>
                  </a:lnTo>
                  <a:lnTo>
                    <a:pt x="16" y="183"/>
                  </a:lnTo>
                  <a:lnTo>
                    <a:pt x="0" y="121"/>
                  </a:lnTo>
                  <a:lnTo>
                    <a:pt x="6" y="74"/>
                  </a:lnTo>
                  <a:lnTo>
                    <a:pt x="16" y="49"/>
                  </a:lnTo>
                  <a:lnTo>
                    <a:pt x="6" y="55"/>
                  </a:lnTo>
                  <a:lnTo>
                    <a:pt x="2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054080" y="4006080"/>
              <a:ext cx="757080" cy="651240"/>
            </a:xfrm>
            <a:custGeom>
              <a:avLst/>
              <a:gdLst/>
              <a:ahLst/>
              <a:rect l="l" t="t" r="r" b="b"/>
              <a:pathLst>
                <a:path w="932" h="871">
                  <a:moveTo>
                    <a:pt x="844" y="0"/>
                  </a:moveTo>
                  <a:lnTo>
                    <a:pt x="702" y="123"/>
                  </a:lnTo>
                  <a:lnTo>
                    <a:pt x="591" y="177"/>
                  </a:lnTo>
                  <a:lnTo>
                    <a:pt x="507" y="234"/>
                  </a:lnTo>
                  <a:lnTo>
                    <a:pt x="478" y="310"/>
                  </a:lnTo>
                  <a:lnTo>
                    <a:pt x="421" y="331"/>
                  </a:lnTo>
                  <a:lnTo>
                    <a:pt x="289" y="456"/>
                  </a:lnTo>
                  <a:lnTo>
                    <a:pt x="236" y="544"/>
                  </a:lnTo>
                  <a:lnTo>
                    <a:pt x="222" y="575"/>
                  </a:lnTo>
                  <a:lnTo>
                    <a:pt x="115" y="622"/>
                  </a:lnTo>
                  <a:lnTo>
                    <a:pt x="0" y="791"/>
                  </a:lnTo>
                  <a:lnTo>
                    <a:pt x="150" y="871"/>
                  </a:lnTo>
                  <a:lnTo>
                    <a:pt x="137" y="871"/>
                  </a:lnTo>
                  <a:lnTo>
                    <a:pt x="176" y="774"/>
                  </a:lnTo>
                  <a:lnTo>
                    <a:pt x="267" y="690"/>
                  </a:lnTo>
                  <a:lnTo>
                    <a:pt x="374" y="610"/>
                  </a:lnTo>
                  <a:lnTo>
                    <a:pt x="394" y="526"/>
                  </a:lnTo>
                  <a:lnTo>
                    <a:pt x="480" y="442"/>
                  </a:lnTo>
                  <a:lnTo>
                    <a:pt x="519" y="376"/>
                  </a:lnTo>
                  <a:lnTo>
                    <a:pt x="515" y="331"/>
                  </a:lnTo>
                  <a:lnTo>
                    <a:pt x="626" y="306"/>
                  </a:lnTo>
                  <a:lnTo>
                    <a:pt x="661" y="249"/>
                  </a:lnTo>
                  <a:lnTo>
                    <a:pt x="741" y="191"/>
                  </a:lnTo>
                  <a:lnTo>
                    <a:pt x="856" y="132"/>
                  </a:lnTo>
                  <a:lnTo>
                    <a:pt x="932" y="70"/>
                  </a:lnTo>
                  <a:lnTo>
                    <a:pt x="871" y="35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78600" y="4058280"/>
              <a:ext cx="3190320" cy="1337400"/>
            </a:xfrm>
            <a:custGeom>
              <a:avLst/>
              <a:gdLst/>
              <a:ahLst/>
              <a:rect l="l" t="t" r="r" b="b"/>
              <a:pathLst>
                <a:path w="3926" h="1788">
                  <a:moveTo>
                    <a:pt x="252" y="550"/>
                  </a:moveTo>
                  <a:lnTo>
                    <a:pt x="447" y="719"/>
                  </a:lnTo>
                  <a:lnTo>
                    <a:pt x="474" y="715"/>
                  </a:lnTo>
                  <a:lnTo>
                    <a:pt x="606" y="780"/>
                  </a:lnTo>
                  <a:lnTo>
                    <a:pt x="636" y="692"/>
                  </a:lnTo>
                  <a:lnTo>
                    <a:pt x="727" y="616"/>
                  </a:lnTo>
                  <a:lnTo>
                    <a:pt x="831" y="546"/>
                  </a:lnTo>
                  <a:lnTo>
                    <a:pt x="846" y="478"/>
                  </a:lnTo>
                  <a:lnTo>
                    <a:pt x="903" y="396"/>
                  </a:lnTo>
                  <a:lnTo>
                    <a:pt x="973" y="324"/>
                  </a:lnTo>
                  <a:lnTo>
                    <a:pt x="965" y="263"/>
                  </a:lnTo>
                  <a:lnTo>
                    <a:pt x="1094" y="240"/>
                  </a:lnTo>
                  <a:lnTo>
                    <a:pt x="1092" y="228"/>
                  </a:lnTo>
                  <a:lnTo>
                    <a:pt x="1103" y="205"/>
                  </a:lnTo>
                  <a:lnTo>
                    <a:pt x="1137" y="170"/>
                  </a:lnTo>
                  <a:lnTo>
                    <a:pt x="1213" y="117"/>
                  </a:lnTo>
                  <a:lnTo>
                    <a:pt x="1333" y="49"/>
                  </a:lnTo>
                  <a:lnTo>
                    <a:pt x="1390" y="0"/>
                  </a:lnTo>
                  <a:lnTo>
                    <a:pt x="1528" y="45"/>
                  </a:lnTo>
                  <a:lnTo>
                    <a:pt x="1811" y="84"/>
                  </a:lnTo>
                  <a:lnTo>
                    <a:pt x="2320" y="164"/>
                  </a:lnTo>
                  <a:lnTo>
                    <a:pt x="2750" y="228"/>
                  </a:lnTo>
                  <a:lnTo>
                    <a:pt x="3236" y="310"/>
                  </a:lnTo>
                  <a:lnTo>
                    <a:pt x="3413" y="324"/>
                  </a:lnTo>
                  <a:lnTo>
                    <a:pt x="3643" y="337"/>
                  </a:lnTo>
                  <a:lnTo>
                    <a:pt x="3684" y="363"/>
                  </a:lnTo>
                  <a:lnTo>
                    <a:pt x="3723" y="405"/>
                  </a:lnTo>
                  <a:lnTo>
                    <a:pt x="3740" y="454"/>
                  </a:lnTo>
                  <a:lnTo>
                    <a:pt x="3811" y="741"/>
                  </a:lnTo>
                  <a:lnTo>
                    <a:pt x="3842" y="819"/>
                  </a:lnTo>
                  <a:lnTo>
                    <a:pt x="3926" y="998"/>
                  </a:lnTo>
                  <a:lnTo>
                    <a:pt x="3918" y="1041"/>
                  </a:lnTo>
                  <a:lnTo>
                    <a:pt x="3881" y="1068"/>
                  </a:lnTo>
                  <a:lnTo>
                    <a:pt x="3824" y="1068"/>
                  </a:lnTo>
                  <a:lnTo>
                    <a:pt x="3740" y="1072"/>
                  </a:lnTo>
                  <a:lnTo>
                    <a:pt x="3700" y="1099"/>
                  </a:lnTo>
                  <a:lnTo>
                    <a:pt x="3666" y="1156"/>
                  </a:lnTo>
                  <a:lnTo>
                    <a:pt x="3657" y="1228"/>
                  </a:lnTo>
                  <a:lnTo>
                    <a:pt x="3655" y="1240"/>
                  </a:lnTo>
                  <a:lnTo>
                    <a:pt x="3643" y="1308"/>
                  </a:lnTo>
                  <a:lnTo>
                    <a:pt x="3625" y="1335"/>
                  </a:lnTo>
                  <a:lnTo>
                    <a:pt x="3501" y="1347"/>
                  </a:lnTo>
                  <a:lnTo>
                    <a:pt x="3456" y="1382"/>
                  </a:lnTo>
                  <a:lnTo>
                    <a:pt x="3448" y="1423"/>
                  </a:lnTo>
                  <a:lnTo>
                    <a:pt x="3417" y="1519"/>
                  </a:lnTo>
                  <a:lnTo>
                    <a:pt x="3386" y="1554"/>
                  </a:lnTo>
                  <a:lnTo>
                    <a:pt x="3337" y="1577"/>
                  </a:lnTo>
                  <a:lnTo>
                    <a:pt x="3240" y="1618"/>
                  </a:lnTo>
                  <a:lnTo>
                    <a:pt x="3191" y="1731"/>
                  </a:lnTo>
                  <a:lnTo>
                    <a:pt x="3169" y="1760"/>
                  </a:lnTo>
                  <a:lnTo>
                    <a:pt x="3111" y="1788"/>
                  </a:lnTo>
                  <a:lnTo>
                    <a:pt x="3010" y="1788"/>
                  </a:lnTo>
                  <a:lnTo>
                    <a:pt x="2957" y="1741"/>
                  </a:lnTo>
                  <a:lnTo>
                    <a:pt x="2895" y="1680"/>
                  </a:lnTo>
                  <a:lnTo>
                    <a:pt x="2842" y="1676"/>
                  </a:lnTo>
                  <a:lnTo>
                    <a:pt x="2801" y="1684"/>
                  </a:lnTo>
                  <a:lnTo>
                    <a:pt x="2659" y="1719"/>
                  </a:lnTo>
                  <a:lnTo>
                    <a:pt x="2608" y="1706"/>
                  </a:lnTo>
                  <a:lnTo>
                    <a:pt x="2559" y="1684"/>
                  </a:lnTo>
                  <a:lnTo>
                    <a:pt x="2474" y="1618"/>
                  </a:lnTo>
                  <a:lnTo>
                    <a:pt x="2444" y="1618"/>
                  </a:lnTo>
                  <a:lnTo>
                    <a:pt x="2337" y="1645"/>
                  </a:lnTo>
                  <a:lnTo>
                    <a:pt x="2290" y="1639"/>
                  </a:lnTo>
                  <a:lnTo>
                    <a:pt x="2205" y="1577"/>
                  </a:lnTo>
                  <a:lnTo>
                    <a:pt x="2177" y="1585"/>
                  </a:lnTo>
                  <a:lnTo>
                    <a:pt x="2084" y="1612"/>
                  </a:lnTo>
                  <a:lnTo>
                    <a:pt x="2045" y="1585"/>
                  </a:lnTo>
                  <a:lnTo>
                    <a:pt x="1988" y="1501"/>
                  </a:lnTo>
                  <a:lnTo>
                    <a:pt x="1949" y="1503"/>
                  </a:lnTo>
                  <a:lnTo>
                    <a:pt x="1797" y="1573"/>
                  </a:lnTo>
                  <a:lnTo>
                    <a:pt x="1739" y="1565"/>
                  </a:lnTo>
                  <a:lnTo>
                    <a:pt x="1663" y="1493"/>
                  </a:lnTo>
                  <a:lnTo>
                    <a:pt x="1608" y="1480"/>
                  </a:lnTo>
                  <a:lnTo>
                    <a:pt x="1548" y="1507"/>
                  </a:lnTo>
                  <a:lnTo>
                    <a:pt x="1452" y="1569"/>
                  </a:lnTo>
                  <a:lnTo>
                    <a:pt x="1409" y="1561"/>
                  </a:lnTo>
                  <a:lnTo>
                    <a:pt x="1351" y="1501"/>
                  </a:lnTo>
                  <a:lnTo>
                    <a:pt x="1318" y="1474"/>
                  </a:lnTo>
                  <a:lnTo>
                    <a:pt x="1271" y="1476"/>
                  </a:lnTo>
                  <a:lnTo>
                    <a:pt x="1183" y="1511"/>
                  </a:lnTo>
                  <a:lnTo>
                    <a:pt x="1103" y="1501"/>
                  </a:lnTo>
                  <a:lnTo>
                    <a:pt x="1031" y="1448"/>
                  </a:lnTo>
                  <a:lnTo>
                    <a:pt x="708" y="1439"/>
                  </a:lnTo>
                  <a:lnTo>
                    <a:pt x="682" y="1417"/>
                  </a:lnTo>
                  <a:lnTo>
                    <a:pt x="640" y="1365"/>
                  </a:lnTo>
                  <a:lnTo>
                    <a:pt x="583" y="1365"/>
                  </a:lnTo>
                  <a:lnTo>
                    <a:pt x="505" y="1409"/>
                  </a:lnTo>
                  <a:lnTo>
                    <a:pt x="437" y="1400"/>
                  </a:lnTo>
                  <a:lnTo>
                    <a:pt x="410" y="1374"/>
                  </a:lnTo>
                  <a:lnTo>
                    <a:pt x="367" y="1316"/>
                  </a:lnTo>
                  <a:lnTo>
                    <a:pt x="291" y="1316"/>
                  </a:lnTo>
                  <a:lnTo>
                    <a:pt x="275" y="1320"/>
                  </a:lnTo>
                  <a:lnTo>
                    <a:pt x="221" y="1335"/>
                  </a:lnTo>
                  <a:lnTo>
                    <a:pt x="137" y="1390"/>
                  </a:lnTo>
                  <a:lnTo>
                    <a:pt x="80" y="1419"/>
                  </a:lnTo>
                  <a:lnTo>
                    <a:pt x="45" y="1386"/>
                  </a:lnTo>
                  <a:lnTo>
                    <a:pt x="22" y="1304"/>
                  </a:lnTo>
                  <a:lnTo>
                    <a:pt x="14" y="1144"/>
                  </a:lnTo>
                  <a:lnTo>
                    <a:pt x="4" y="1148"/>
                  </a:lnTo>
                  <a:lnTo>
                    <a:pt x="0" y="984"/>
                  </a:lnTo>
                  <a:lnTo>
                    <a:pt x="35" y="838"/>
                  </a:lnTo>
                  <a:lnTo>
                    <a:pt x="22" y="838"/>
                  </a:lnTo>
                  <a:lnTo>
                    <a:pt x="98" y="684"/>
                  </a:lnTo>
                  <a:lnTo>
                    <a:pt x="199" y="585"/>
                  </a:lnTo>
                  <a:lnTo>
                    <a:pt x="252" y="55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1" name=""/>
            <p:cNvGrpSpPr/>
            <p:nvPr/>
          </p:nvGrpSpPr>
          <p:grpSpPr>
            <a:xfrm>
              <a:off x="533520" y="3375000"/>
              <a:ext cx="3352320" cy="2034360"/>
              <a:chOff x="533520" y="3375000"/>
              <a:chExt cx="3352320" cy="2034360"/>
            </a:xfrm>
          </p:grpSpPr>
          <p:sp>
            <p:nvSpPr>
              <p:cNvPr id="2162" name=""/>
              <p:cNvSpPr/>
              <p:nvPr/>
            </p:nvSpPr>
            <p:spPr>
              <a:xfrm>
                <a:off x="718560" y="4006080"/>
                <a:ext cx="452520" cy="615960"/>
              </a:xfrm>
              <a:custGeom>
                <a:avLst/>
                <a:gdLst/>
                <a:ahLst/>
                <a:rect l="l" t="t" r="r" b="b"/>
                <a:pathLst>
                  <a:path w="557" h="824">
                    <a:moveTo>
                      <a:pt x="0" y="251"/>
                    </a:moveTo>
                    <a:lnTo>
                      <a:pt x="57" y="134"/>
                    </a:lnTo>
                    <a:lnTo>
                      <a:pt x="121" y="58"/>
                    </a:lnTo>
                    <a:lnTo>
                      <a:pt x="207" y="0"/>
                    </a:lnTo>
                    <a:lnTo>
                      <a:pt x="197" y="0"/>
                    </a:lnTo>
                    <a:lnTo>
                      <a:pt x="218" y="13"/>
                    </a:lnTo>
                    <a:lnTo>
                      <a:pt x="220" y="41"/>
                    </a:lnTo>
                    <a:lnTo>
                      <a:pt x="211" y="41"/>
                    </a:lnTo>
                    <a:lnTo>
                      <a:pt x="138" y="99"/>
                    </a:lnTo>
                    <a:lnTo>
                      <a:pt x="92" y="173"/>
                    </a:lnTo>
                    <a:lnTo>
                      <a:pt x="51" y="251"/>
                    </a:lnTo>
                    <a:lnTo>
                      <a:pt x="51" y="273"/>
                    </a:lnTo>
                    <a:lnTo>
                      <a:pt x="92" y="384"/>
                    </a:lnTo>
                    <a:lnTo>
                      <a:pt x="144" y="468"/>
                    </a:lnTo>
                    <a:lnTo>
                      <a:pt x="185" y="542"/>
                    </a:lnTo>
                    <a:lnTo>
                      <a:pt x="246" y="631"/>
                    </a:lnTo>
                    <a:lnTo>
                      <a:pt x="312" y="692"/>
                    </a:lnTo>
                    <a:lnTo>
                      <a:pt x="378" y="739"/>
                    </a:lnTo>
                    <a:lnTo>
                      <a:pt x="396" y="752"/>
                    </a:lnTo>
                    <a:lnTo>
                      <a:pt x="419" y="750"/>
                    </a:lnTo>
                    <a:lnTo>
                      <a:pt x="448" y="727"/>
                    </a:lnTo>
                    <a:lnTo>
                      <a:pt x="483" y="663"/>
                    </a:lnTo>
                    <a:lnTo>
                      <a:pt x="515" y="608"/>
                    </a:lnTo>
                    <a:lnTo>
                      <a:pt x="536" y="602"/>
                    </a:lnTo>
                    <a:lnTo>
                      <a:pt x="552" y="616"/>
                    </a:lnTo>
                    <a:lnTo>
                      <a:pt x="557" y="647"/>
                    </a:lnTo>
                    <a:lnTo>
                      <a:pt x="530" y="680"/>
                    </a:lnTo>
                    <a:lnTo>
                      <a:pt x="485" y="737"/>
                    </a:lnTo>
                    <a:lnTo>
                      <a:pt x="450" y="801"/>
                    </a:lnTo>
                    <a:lnTo>
                      <a:pt x="431" y="820"/>
                    </a:lnTo>
                    <a:lnTo>
                      <a:pt x="407" y="824"/>
                    </a:lnTo>
                    <a:lnTo>
                      <a:pt x="398" y="824"/>
                    </a:lnTo>
                    <a:lnTo>
                      <a:pt x="320" y="752"/>
                    </a:lnTo>
                    <a:lnTo>
                      <a:pt x="240" y="676"/>
                    </a:lnTo>
                    <a:lnTo>
                      <a:pt x="195" y="624"/>
                    </a:lnTo>
                    <a:lnTo>
                      <a:pt x="154" y="563"/>
                    </a:lnTo>
                    <a:lnTo>
                      <a:pt x="92" y="462"/>
                    </a:lnTo>
                    <a:lnTo>
                      <a:pt x="53" y="388"/>
                    </a:lnTo>
                    <a:lnTo>
                      <a:pt x="12" y="288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162440" y="4218480"/>
                <a:ext cx="891360" cy="447840"/>
              </a:xfrm>
              <a:custGeom>
                <a:avLst/>
                <a:gdLst/>
                <a:ahLst/>
                <a:rect l="l" t="t" r="r" b="b"/>
                <a:pathLst>
                  <a:path w="1097" h="599">
                    <a:moveTo>
                      <a:pt x="310" y="26"/>
                    </a:moveTo>
                    <a:lnTo>
                      <a:pt x="436" y="14"/>
                    </a:lnTo>
                    <a:lnTo>
                      <a:pt x="573" y="0"/>
                    </a:lnTo>
                    <a:lnTo>
                      <a:pt x="660" y="2"/>
                    </a:lnTo>
                    <a:lnTo>
                      <a:pt x="727" y="24"/>
                    </a:lnTo>
                    <a:lnTo>
                      <a:pt x="803" y="65"/>
                    </a:lnTo>
                    <a:lnTo>
                      <a:pt x="861" y="94"/>
                    </a:lnTo>
                    <a:lnTo>
                      <a:pt x="924" y="113"/>
                    </a:lnTo>
                    <a:lnTo>
                      <a:pt x="998" y="121"/>
                    </a:lnTo>
                    <a:lnTo>
                      <a:pt x="1085" y="127"/>
                    </a:lnTo>
                    <a:lnTo>
                      <a:pt x="1097" y="135"/>
                    </a:lnTo>
                    <a:lnTo>
                      <a:pt x="1074" y="143"/>
                    </a:lnTo>
                    <a:lnTo>
                      <a:pt x="966" y="141"/>
                    </a:lnTo>
                    <a:lnTo>
                      <a:pt x="867" y="127"/>
                    </a:lnTo>
                    <a:lnTo>
                      <a:pt x="785" y="100"/>
                    </a:lnTo>
                    <a:lnTo>
                      <a:pt x="690" y="55"/>
                    </a:lnTo>
                    <a:lnTo>
                      <a:pt x="596" y="30"/>
                    </a:lnTo>
                    <a:lnTo>
                      <a:pt x="464" y="43"/>
                    </a:lnTo>
                    <a:lnTo>
                      <a:pt x="399" y="63"/>
                    </a:lnTo>
                    <a:lnTo>
                      <a:pt x="409" y="92"/>
                    </a:lnTo>
                    <a:lnTo>
                      <a:pt x="413" y="121"/>
                    </a:lnTo>
                    <a:lnTo>
                      <a:pt x="384" y="152"/>
                    </a:lnTo>
                    <a:lnTo>
                      <a:pt x="321" y="207"/>
                    </a:lnTo>
                    <a:lnTo>
                      <a:pt x="288" y="242"/>
                    </a:lnTo>
                    <a:lnTo>
                      <a:pt x="271" y="267"/>
                    </a:lnTo>
                    <a:lnTo>
                      <a:pt x="265" y="301"/>
                    </a:lnTo>
                    <a:lnTo>
                      <a:pt x="259" y="340"/>
                    </a:lnTo>
                    <a:lnTo>
                      <a:pt x="208" y="371"/>
                    </a:lnTo>
                    <a:lnTo>
                      <a:pt x="202" y="375"/>
                    </a:lnTo>
                    <a:lnTo>
                      <a:pt x="99" y="451"/>
                    </a:lnTo>
                    <a:lnTo>
                      <a:pt x="58" y="507"/>
                    </a:lnTo>
                    <a:lnTo>
                      <a:pt x="45" y="552"/>
                    </a:lnTo>
                    <a:lnTo>
                      <a:pt x="37" y="587"/>
                    </a:lnTo>
                    <a:lnTo>
                      <a:pt x="17" y="599"/>
                    </a:lnTo>
                    <a:lnTo>
                      <a:pt x="0" y="587"/>
                    </a:lnTo>
                    <a:lnTo>
                      <a:pt x="0" y="558"/>
                    </a:lnTo>
                    <a:lnTo>
                      <a:pt x="13" y="490"/>
                    </a:lnTo>
                    <a:lnTo>
                      <a:pt x="64" y="429"/>
                    </a:lnTo>
                    <a:lnTo>
                      <a:pt x="126" y="382"/>
                    </a:lnTo>
                    <a:lnTo>
                      <a:pt x="195" y="342"/>
                    </a:lnTo>
                    <a:lnTo>
                      <a:pt x="218" y="308"/>
                    </a:lnTo>
                    <a:lnTo>
                      <a:pt x="230" y="264"/>
                    </a:lnTo>
                    <a:lnTo>
                      <a:pt x="249" y="219"/>
                    </a:lnTo>
                    <a:lnTo>
                      <a:pt x="298" y="168"/>
                    </a:lnTo>
                    <a:lnTo>
                      <a:pt x="341" y="123"/>
                    </a:lnTo>
                    <a:lnTo>
                      <a:pt x="349" y="92"/>
                    </a:lnTo>
                    <a:lnTo>
                      <a:pt x="335" y="55"/>
                    </a:lnTo>
                    <a:lnTo>
                      <a:pt x="3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233000" y="3978360"/>
                <a:ext cx="540360" cy="473400"/>
              </a:xfrm>
              <a:custGeom>
                <a:avLst/>
                <a:gdLst/>
                <a:ahLst/>
                <a:rect l="l" t="t" r="r" b="b"/>
                <a:pathLst>
                  <a:path w="665" h="633">
                    <a:moveTo>
                      <a:pt x="230" y="345"/>
                    </a:moveTo>
                    <a:lnTo>
                      <a:pt x="184" y="356"/>
                    </a:lnTo>
                    <a:lnTo>
                      <a:pt x="125" y="403"/>
                    </a:lnTo>
                    <a:lnTo>
                      <a:pt x="61" y="470"/>
                    </a:lnTo>
                    <a:lnTo>
                      <a:pt x="18" y="532"/>
                    </a:lnTo>
                    <a:lnTo>
                      <a:pt x="0" y="598"/>
                    </a:lnTo>
                    <a:lnTo>
                      <a:pt x="28" y="633"/>
                    </a:lnTo>
                    <a:lnTo>
                      <a:pt x="41" y="614"/>
                    </a:lnTo>
                    <a:lnTo>
                      <a:pt x="57" y="555"/>
                    </a:lnTo>
                    <a:lnTo>
                      <a:pt x="86" y="499"/>
                    </a:lnTo>
                    <a:lnTo>
                      <a:pt x="143" y="438"/>
                    </a:lnTo>
                    <a:lnTo>
                      <a:pt x="188" y="388"/>
                    </a:lnTo>
                    <a:lnTo>
                      <a:pt x="219" y="374"/>
                    </a:lnTo>
                    <a:lnTo>
                      <a:pt x="293" y="366"/>
                    </a:lnTo>
                    <a:lnTo>
                      <a:pt x="291" y="316"/>
                    </a:lnTo>
                    <a:lnTo>
                      <a:pt x="320" y="271"/>
                    </a:lnTo>
                    <a:lnTo>
                      <a:pt x="402" y="218"/>
                    </a:lnTo>
                    <a:lnTo>
                      <a:pt x="488" y="179"/>
                    </a:lnTo>
                    <a:lnTo>
                      <a:pt x="562" y="123"/>
                    </a:lnTo>
                    <a:lnTo>
                      <a:pt x="632" y="72"/>
                    </a:lnTo>
                    <a:lnTo>
                      <a:pt x="665" y="37"/>
                    </a:lnTo>
                    <a:lnTo>
                      <a:pt x="661" y="0"/>
                    </a:lnTo>
                    <a:lnTo>
                      <a:pt x="626" y="21"/>
                    </a:lnTo>
                    <a:lnTo>
                      <a:pt x="540" y="99"/>
                    </a:lnTo>
                    <a:lnTo>
                      <a:pt x="466" y="150"/>
                    </a:lnTo>
                    <a:lnTo>
                      <a:pt x="406" y="181"/>
                    </a:lnTo>
                    <a:lnTo>
                      <a:pt x="328" y="218"/>
                    </a:lnTo>
                    <a:lnTo>
                      <a:pt x="281" y="257"/>
                    </a:lnTo>
                    <a:lnTo>
                      <a:pt x="254" y="300"/>
                    </a:lnTo>
                    <a:lnTo>
                      <a:pt x="240" y="349"/>
                    </a:lnTo>
                    <a:lnTo>
                      <a:pt x="230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545120" y="4041360"/>
                <a:ext cx="293040" cy="193680"/>
              </a:xfrm>
              <a:custGeom>
                <a:avLst/>
                <a:gdLst/>
                <a:ahLst/>
                <a:rect l="l" t="t" r="r" b="b"/>
                <a:pathLst>
                  <a:path w="361" h="259">
                    <a:moveTo>
                      <a:pt x="0" y="255"/>
                    </a:moveTo>
                    <a:lnTo>
                      <a:pt x="34" y="202"/>
                    </a:lnTo>
                    <a:lnTo>
                      <a:pt x="88" y="159"/>
                    </a:lnTo>
                    <a:lnTo>
                      <a:pt x="178" y="107"/>
                    </a:lnTo>
                    <a:lnTo>
                      <a:pt x="264" y="58"/>
                    </a:lnTo>
                    <a:lnTo>
                      <a:pt x="324" y="0"/>
                    </a:lnTo>
                    <a:lnTo>
                      <a:pt x="361" y="15"/>
                    </a:lnTo>
                    <a:lnTo>
                      <a:pt x="283" y="85"/>
                    </a:lnTo>
                    <a:lnTo>
                      <a:pt x="178" y="140"/>
                    </a:lnTo>
                    <a:lnTo>
                      <a:pt x="98" y="193"/>
                    </a:lnTo>
                    <a:lnTo>
                      <a:pt x="63" y="226"/>
                    </a:lnTo>
                    <a:lnTo>
                      <a:pt x="47" y="259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185840" y="3652920"/>
                <a:ext cx="577440" cy="373320"/>
              </a:xfrm>
              <a:custGeom>
                <a:avLst/>
                <a:gdLst/>
                <a:ahLst/>
                <a:rect l="l" t="t" r="r" b="b"/>
                <a:pathLst>
                  <a:path w="711" h="499">
                    <a:moveTo>
                      <a:pt x="647" y="240"/>
                    </a:moveTo>
                    <a:lnTo>
                      <a:pt x="672" y="339"/>
                    </a:lnTo>
                    <a:lnTo>
                      <a:pt x="694" y="400"/>
                    </a:lnTo>
                    <a:lnTo>
                      <a:pt x="711" y="466"/>
                    </a:lnTo>
                    <a:lnTo>
                      <a:pt x="665" y="499"/>
                    </a:lnTo>
                    <a:lnTo>
                      <a:pt x="655" y="390"/>
                    </a:lnTo>
                    <a:lnTo>
                      <a:pt x="637" y="300"/>
                    </a:lnTo>
                    <a:lnTo>
                      <a:pt x="604" y="226"/>
                    </a:lnTo>
                    <a:lnTo>
                      <a:pt x="561" y="168"/>
                    </a:lnTo>
                    <a:lnTo>
                      <a:pt x="511" y="123"/>
                    </a:lnTo>
                    <a:lnTo>
                      <a:pt x="452" y="57"/>
                    </a:lnTo>
                    <a:lnTo>
                      <a:pt x="423" y="41"/>
                    </a:lnTo>
                    <a:lnTo>
                      <a:pt x="343" y="41"/>
                    </a:lnTo>
                    <a:lnTo>
                      <a:pt x="271" y="51"/>
                    </a:lnTo>
                    <a:lnTo>
                      <a:pt x="205" y="82"/>
                    </a:lnTo>
                    <a:lnTo>
                      <a:pt x="150" y="125"/>
                    </a:lnTo>
                    <a:lnTo>
                      <a:pt x="88" y="195"/>
                    </a:lnTo>
                    <a:lnTo>
                      <a:pt x="14" y="255"/>
                    </a:lnTo>
                    <a:lnTo>
                      <a:pt x="0" y="253"/>
                    </a:lnTo>
                    <a:lnTo>
                      <a:pt x="18" y="218"/>
                    </a:lnTo>
                    <a:lnTo>
                      <a:pt x="80" y="160"/>
                    </a:lnTo>
                    <a:lnTo>
                      <a:pt x="134" y="103"/>
                    </a:lnTo>
                    <a:lnTo>
                      <a:pt x="189" y="60"/>
                    </a:lnTo>
                    <a:lnTo>
                      <a:pt x="240" y="29"/>
                    </a:lnTo>
                    <a:lnTo>
                      <a:pt x="310" y="8"/>
                    </a:lnTo>
                    <a:lnTo>
                      <a:pt x="392" y="0"/>
                    </a:lnTo>
                    <a:lnTo>
                      <a:pt x="448" y="6"/>
                    </a:lnTo>
                    <a:lnTo>
                      <a:pt x="479" y="23"/>
                    </a:lnTo>
                    <a:lnTo>
                      <a:pt x="528" y="80"/>
                    </a:lnTo>
                    <a:lnTo>
                      <a:pt x="552" y="115"/>
                    </a:lnTo>
                    <a:lnTo>
                      <a:pt x="610" y="168"/>
                    </a:lnTo>
                    <a:lnTo>
                      <a:pt x="637" y="203"/>
                    </a:lnTo>
                    <a:lnTo>
                      <a:pt x="647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33520" y="3375000"/>
                <a:ext cx="940680" cy="1294560"/>
              </a:xfrm>
              <a:custGeom>
                <a:avLst/>
                <a:gdLst/>
                <a:ahLst/>
                <a:rect l="l" t="t" r="r" b="b"/>
                <a:pathLst>
                  <a:path w="1158" h="1731">
                    <a:moveTo>
                      <a:pt x="1150" y="384"/>
                    </a:moveTo>
                    <a:lnTo>
                      <a:pt x="1158" y="25"/>
                    </a:lnTo>
                    <a:lnTo>
                      <a:pt x="1142" y="9"/>
                    </a:lnTo>
                    <a:lnTo>
                      <a:pt x="1113" y="0"/>
                    </a:lnTo>
                    <a:lnTo>
                      <a:pt x="1074" y="0"/>
                    </a:lnTo>
                    <a:lnTo>
                      <a:pt x="1045" y="13"/>
                    </a:lnTo>
                    <a:lnTo>
                      <a:pt x="963" y="68"/>
                    </a:lnTo>
                    <a:lnTo>
                      <a:pt x="912" y="117"/>
                    </a:lnTo>
                    <a:lnTo>
                      <a:pt x="844" y="175"/>
                    </a:lnTo>
                    <a:lnTo>
                      <a:pt x="834" y="175"/>
                    </a:lnTo>
                    <a:lnTo>
                      <a:pt x="735" y="236"/>
                    </a:lnTo>
                    <a:lnTo>
                      <a:pt x="645" y="284"/>
                    </a:lnTo>
                    <a:lnTo>
                      <a:pt x="581" y="329"/>
                    </a:lnTo>
                    <a:lnTo>
                      <a:pt x="476" y="421"/>
                    </a:lnTo>
                    <a:lnTo>
                      <a:pt x="339" y="551"/>
                    </a:lnTo>
                    <a:lnTo>
                      <a:pt x="281" y="600"/>
                    </a:lnTo>
                    <a:lnTo>
                      <a:pt x="205" y="662"/>
                    </a:lnTo>
                    <a:lnTo>
                      <a:pt x="99" y="752"/>
                    </a:lnTo>
                    <a:lnTo>
                      <a:pt x="16" y="834"/>
                    </a:lnTo>
                    <a:lnTo>
                      <a:pt x="0" y="863"/>
                    </a:lnTo>
                    <a:lnTo>
                      <a:pt x="4" y="885"/>
                    </a:lnTo>
                    <a:lnTo>
                      <a:pt x="0" y="896"/>
                    </a:lnTo>
                    <a:lnTo>
                      <a:pt x="23" y="933"/>
                    </a:lnTo>
                    <a:lnTo>
                      <a:pt x="82" y="1013"/>
                    </a:lnTo>
                    <a:lnTo>
                      <a:pt x="99" y="1054"/>
                    </a:lnTo>
                    <a:lnTo>
                      <a:pt x="109" y="1105"/>
                    </a:lnTo>
                    <a:lnTo>
                      <a:pt x="121" y="1204"/>
                    </a:lnTo>
                    <a:lnTo>
                      <a:pt x="140" y="1335"/>
                    </a:lnTo>
                    <a:lnTo>
                      <a:pt x="156" y="1421"/>
                    </a:lnTo>
                    <a:lnTo>
                      <a:pt x="185" y="1542"/>
                    </a:lnTo>
                    <a:lnTo>
                      <a:pt x="201" y="1635"/>
                    </a:lnTo>
                    <a:lnTo>
                      <a:pt x="205" y="1686"/>
                    </a:lnTo>
                    <a:lnTo>
                      <a:pt x="199" y="1717"/>
                    </a:lnTo>
                    <a:lnTo>
                      <a:pt x="230" y="1731"/>
                    </a:lnTo>
                    <a:lnTo>
                      <a:pt x="253" y="1711"/>
                    </a:lnTo>
                    <a:lnTo>
                      <a:pt x="253" y="1633"/>
                    </a:lnTo>
                    <a:lnTo>
                      <a:pt x="224" y="1491"/>
                    </a:lnTo>
                    <a:lnTo>
                      <a:pt x="191" y="1372"/>
                    </a:lnTo>
                    <a:lnTo>
                      <a:pt x="177" y="1263"/>
                    </a:lnTo>
                    <a:lnTo>
                      <a:pt x="166" y="1134"/>
                    </a:lnTo>
                    <a:lnTo>
                      <a:pt x="148" y="1043"/>
                    </a:lnTo>
                    <a:lnTo>
                      <a:pt x="131" y="994"/>
                    </a:lnTo>
                    <a:lnTo>
                      <a:pt x="90" y="943"/>
                    </a:lnTo>
                    <a:lnTo>
                      <a:pt x="62" y="896"/>
                    </a:lnTo>
                    <a:lnTo>
                      <a:pt x="58" y="863"/>
                    </a:lnTo>
                    <a:lnTo>
                      <a:pt x="64" y="838"/>
                    </a:lnTo>
                    <a:lnTo>
                      <a:pt x="84" y="816"/>
                    </a:lnTo>
                    <a:lnTo>
                      <a:pt x="195" y="723"/>
                    </a:lnTo>
                    <a:lnTo>
                      <a:pt x="314" y="627"/>
                    </a:lnTo>
                    <a:lnTo>
                      <a:pt x="403" y="551"/>
                    </a:lnTo>
                    <a:lnTo>
                      <a:pt x="499" y="456"/>
                    </a:lnTo>
                    <a:lnTo>
                      <a:pt x="610" y="356"/>
                    </a:lnTo>
                    <a:lnTo>
                      <a:pt x="659" y="319"/>
                    </a:lnTo>
                    <a:lnTo>
                      <a:pt x="717" y="290"/>
                    </a:lnTo>
                    <a:lnTo>
                      <a:pt x="797" y="243"/>
                    </a:lnTo>
                    <a:lnTo>
                      <a:pt x="877" y="197"/>
                    </a:lnTo>
                    <a:lnTo>
                      <a:pt x="943" y="144"/>
                    </a:lnTo>
                    <a:lnTo>
                      <a:pt x="1010" y="87"/>
                    </a:lnTo>
                    <a:lnTo>
                      <a:pt x="1074" y="48"/>
                    </a:lnTo>
                    <a:lnTo>
                      <a:pt x="1101" y="41"/>
                    </a:lnTo>
                    <a:lnTo>
                      <a:pt x="1119" y="48"/>
                    </a:lnTo>
                    <a:lnTo>
                      <a:pt x="1125" y="58"/>
                    </a:lnTo>
                    <a:lnTo>
                      <a:pt x="1113" y="284"/>
                    </a:lnTo>
                    <a:lnTo>
                      <a:pt x="1107" y="405"/>
                    </a:lnTo>
                    <a:lnTo>
                      <a:pt x="1150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8" name=""/>
              <p:cNvGrpSpPr/>
              <p:nvPr/>
            </p:nvGrpSpPr>
            <p:grpSpPr>
              <a:xfrm>
                <a:off x="666720" y="4001400"/>
                <a:ext cx="3219120" cy="1407960"/>
                <a:chOff x="666720" y="4001400"/>
                <a:chExt cx="3219120" cy="1407960"/>
              </a:xfrm>
            </p:grpSpPr>
            <p:grpSp>
              <p:nvGrpSpPr>
                <p:cNvPr id="2169" name=""/>
                <p:cNvGrpSpPr/>
                <p:nvPr/>
              </p:nvGrpSpPr>
              <p:grpSpPr>
                <a:xfrm>
                  <a:off x="666720" y="4288320"/>
                  <a:ext cx="3219120" cy="1121040"/>
                  <a:chOff x="666720" y="4288320"/>
                  <a:chExt cx="3219120" cy="1121040"/>
                </a:xfrm>
              </p:grpSpPr>
              <p:sp>
                <p:nvSpPr>
                  <p:cNvPr id="2170" name=""/>
                  <p:cNvSpPr/>
                  <p:nvPr/>
                </p:nvSpPr>
                <p:spPr>
                  <a:xfrm>
                    <a:off x="1432800" y="4752000"/>
                    <a:ext cx="149184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6" h="150">
                        <a:moveTo>
                          <a:pt x="12" y="0"/>
                        </a:moveTo>
                        <a:lnTo>
                          <a:pt x="478" y="27"/>
                        </a:lnTo>
                        <a:lnTo>
                          <a:pt x="932" y="56"/>
                        </a:lnTo>
                        <a:lnTo>
                          <a:pt x="1423" y="84"/>
                        </a:lnTo>
                        <a:lnTo>
                          <a:pt x="1799" y="103"/>
                        </a:lnTo>
                        <a:lnTo>
                          <a:pt x="1836" y="113"/>
                        </a:lnTo>
                        <a:lnTo>
                          <a:pt x="1836" y="129"/>
                        </a:lnTo>
                        <a:lnTo>
                          <a:pt x="1822" y="150"/>
                        </a:lnTo>
                        <a:lnTo>
                          <a:pt x="1768" y="150"/>
                        </a:lnTo>
                        <a:lnTo>
                          <a:pt x="1495" y="123"/>
                        </a:lnTo>
                        <a:lnTo>
                          <a:pt x="1142" y="101"/>
                        </a:lnTo>
                        <a:lnTo>
                          <a:pt x="721" y="78"/>
                        </a:lnTo>
                        <a:lnTo>
                          <a:pt x="351" y="49"/>
                        </a:lnTo>
                        <a:lnTo>
                          <a:pt x="341" y="49"/>
                        </a:lnTo>
                        <a:lnTo>
                          <a:pt x="41" y="27"/>
                        </a:lnTo>
                        <a:lnTo>
                          <a:pt x="29" y="27"/>
                        </a:lnTo>
                        <a:lnTo>
                          <a:pt x="6" y="21"/>
                        </a:lnTo>
                        <a:lnTo>
                          <a:pt x="0" y="1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3061440" y="4900680"/>
                    <a:ext cx="78840" cy="2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353">
                        <a:moveTo>
                          <a:pt x="80" y="335"/>
                        </a:moveTo>
                        <a:lnTo>
                          <a:pt x="35" y="156"/>
                        </a:lnTo>
                        <a:lnTo>
                          <a:pt x="0" y="60"/>
                        </a:lnTo>
                        <a:lnTo>
                          <a:pt x="0" y="25"/>
                        </a:lnTo>
                        <a:lnTo>
                          <a:pt x="15" y="0"/>
                        </a:lnTo>
                        <a:lnTo>
                          <a:pt x="37" y="0"/>
                        </a:lnTo>
                        <a:lnTo>
                          <a:pt x="58" y="43"/>
                        </a:lnTo>
                        <a:lnTo>
                          <a:pt x="74" y="146"/>
                        </a:lnTo>
                        <a:lnTo>
                          <a:pt x="97" y="312"/>
                        </a:lnTo>
                        <a:lnTo>
                          <a:pt x="97" y="353"/>
                        </a:lnTo>
                        <a:lnTo>
                          <a:pt x="85" y="353"/>
                        </a:lnTo>
                        <a:lnTo>
                          <a:pt x="80" y="3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72" name=""/>
                  <p:cNvGrpSpPr/>
                  <p:nvPr/>
                </p:nvGrpSpPr>
                <p:grpSpPr>
                  <a:xfrm>
                    <a:off x="666720" y="4451400"/>
                    <a:ext cx="2523600" cy="957960"/>
                    <a:chOff x="666720" y="4451400"/>
                    <a:chExt cx="2523600" cy="957960"/>
                  </a:xfrm>
                </p:grpSpPr>
                <p:sp>
                  <p:nvSpPr>
                    <p:cNvPr id="2173" name=""/>
                    <p:cNvSpPr/>
                    <p:nvPr/>
                  </p:nvSpPr>
                  <p:spPr>
                    <a:xfrm>
                      <a:off x="666720" y="4451400"/>
                      <a:ext cx="1430280" cy="79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0" h="1067">
                          <a:moveTo>
                            <a:pt x="48" y="246"/>
                          </a:moveTo>
                          <a:lnTo>
                            <a:pt x="109" y="143"/>
                          </a:lnTo>
                          <a:lnTo>
                            <a:pt x="163" y="86"/>
                          </a:lnTo>
                          <a:lnTo>
                            <a:pt x="224" y="24"/>
                          </a:lnTo>
                          <a:lnTo>
                            <a:pt x="249" y="0"/>
                          </a:lnTo>
                          <a:lnTo>
                            <a:pt x="284" y="43"/>
                          </a:lnTo>
                          <a:lnTo>
                            <a:pt x="275" y="45"/>
                          </a:lnTo>
                          <a:lnTo>
                            <a:pt x="163" y="150"/>
                          </a:lnTo>
                          <a:lnTo>
                            <a:pt x="156" y="156"/>
                          </a:lnTo>
                          <a:lnTo>
                            <a:pt x="103" y="254"/>
                          </a:lnTo>
                          <a:lnTo>
                            <a:pt x="99" y="265"/>
                          </a:lnTo>
                          <a:lnTo>
                            <a:pt x="58" y="363"/>
                          </a:lnTo>
                          <a:lnTo>
                            <a:pt x="37" y="476"/>
                          </a:lnTo>
                          <a:lnTo>
                            <a:pt x="41" y="577"/>
                          </a:lnTo>
                          <a:lnTo>
                            <a:pt x="52" y="685"/>
                          </a:lnTo>
                          <a:lnTo>
                            <a:pt x="60" y="774"/>
                          </a:lnTo>
                          <a:lnTo>
                            <a:pt x="70" y="827"/>
                          </a:lnTo>
                          <a:lnTo>
                            <a:pt x="99" y="866"/>
                          </a:lnTo>
                          <a:lnTo>
                            <a:pt x="121" y="866"/>
                          </a:lnTo>
                          <a:lnTo>
                            <a:pt x="156" y="852"/>
                          </a:lnTo>
                          <a:lnTo>
                            <a:pt x="224" y="809"/>
                          </a:lnTo>
                          <a:lnTo>
                            <a:pt x="290" y="780"/>
                          </a:lnTo>
                          <a:lnTo>
                            <a:pt x="345" y="770"/>
                          </a:lnTo>
                          <a:lnTo>
                            <a:pt x="397" y="776"/>
                          </a:lnTo>
                          <a:lnTo>
                            <a:pt x="419" y="805"/>
                          </a:lnTo>
                          <a:lnTo>
                            <a:pt x="442" y="839"/>
                          </a:lnTo>
                          <a:lnTo>
                            <a:pt x="466" y="856"/>
                          </a:lnTo>
                          <a:lnTo>
                            <a:pt x="499" y="866"/>
                          </a:lnTo>
                          <a:lnTo>
                            <a:pt x="553" y="850"/>
                          </a:lnTo>
                          <a:lnTo>
                            <a:pt x="606" y="823"/>
                          </a:lnTo>
                          <a:lnTo>
                            <a:pt x="639" y="821"/>
                          </a:lnTo>
                          <a:lnTo>
                            <a:pt x="678" y="833"/>
                          </a:lnTo>
                          <a:lnTo>
                            <a:pt x="709" y="872"/>
                          </a:lnTo>
                          <a:lnTo>
                            <a:pt x="742" y="895"/>
                          </a:lnTo>
                          <a:lnTo>
                            <a:pt x="770" y="901"/>
                          </a:lnTo>
                          <a:lnTo>
                            <a:pt x="927" y="901"/>
                          </a:lnTo>
                          <a:lnTo>
                            <a:pt x="1031" y="897"/>
                          </a:lnTo>
                          <a:lnTo>
                            <a:pt x="1039" y="901"/>
                          </a:lnTo>
                          <a:lnTo>
                            <a:pt x="1083" y="909"/>
                          </a:lnTo>
                          <a:lnTo>
                            <a:pt x="1122" y="948"/>
                          </a:lnTo>
                          <a:lnTo>
                            <a:pt x="1161" y="967"/>
                          </a:lnTo>
                          <a:lnTo>
                            <a:pt x="1218" y="967"/>
                          </a:lnTo>
                          <a:lnTo>
                            <a:pt x="1226" y="967"/>
                          </a:lnTo>
                          <a:lnTo>
                            <a:pt x="1288" y="940"/>
                          </a:lnTo>
                          <a:lnTo>
                            <a:pt x="1345" y="938"/>
                          </a:lnTo>
                          <a:lnTo>
                            <a:pt x="1391" y="961"/>
                          </a:lnTo>
                          <a:lnTo>
                            <a:pt x="1419" y="1006"/>
                          </a:lnTo>
                          <a:lnTo>
                            <a:pt x="1442" y="1024"/>
                          </a:lnTo>
                          <a:lnTo>
                            <a:pt x="1467" y="1024"/>
                          </a:lnTo>
                          <a:lnTo>
                            <a:pt x="1522" y="989"/>
                          </a:lnTo>
                          <a:lnTo>
                            <a:pt x="1598" y="946"/>
                          </a:lnTo>
                          <a:lnTo>
                            <a:pt x="1623" y="940"/>
                          </a:lnTo>
                          <a:lnTo>
                            <a:pt x="1656" y="940"/>
                          </a:lnTo>
                          <a:lnTo>
                            <a:pt x="1695" y="959"/>
                          </a:lnTo>
                          <a:lnTo>
                            <a:pt x="1760" y="1022"/>
                          </a:lnTo>
                          <a:lnTo>
                            <a:pt x="1656" y="977"/>
                          </a:lnTo>
                          <a:lnTo>
                            <a:pt x="1615" y="981"/>
                          </a:lnTo>
                          <a:lnTo>
                            <a:pt x="1576" y="1004"/>
                          </a:lnTo>
                          <a:lnTo>
                            <a:pt x="1514" y="1041"/>
                          </a:lnTo>
                          <a:lnTo>
                            <a:pt x="1477" y="1063"/>
                          </a:lnTo>
                          <a:lnTo>
                            <a:pt x="1467" y="1067"/>
                          </a:lnTo>
                          <a:lnTo>
                            <a:pt x="1448" y="1063"/>
                          </a:lnTo>
                          <a:lnTo>
                            <a:pt x="1413" y="1057"/>
                          </a:lnTo>
                          <a:lnTo>
                            <a:pt x="1378" y="1022"/>
                          </a:lnTo>
                          <a:lnTo>
                            <a:pt x="1350" y="983"/>
                          </a:lnTo>
                          <a:lnTo>
                            <a:pt x="1329" y="977"/>
                          </a:lnTo>
                          <a:lnTo>
                            <a:pt x="1300" y="971"/>
                          </a:lnTo>
                          <a:lnTo>
                            <a:pt x="1263" y="987"/>
                          </a:lnTo>
                          <a:lnTo>
                            <a:pt x="1206" y="1006"/>
                          </a:lnTo>
                          <a:lnTo>
                            <a:pt x="1173" y="1010"/>
                          </a:lnTo>
                          <a:lnTo>
                            <a:pt x="1132" y="1006"/>
                          </a:lnTo>
                          <a:lnTo>
                            <a:pt x="1103" y="987"/>
                          </a:lnTo>
                          <a:lnTo>
                            <a:pt x="1064" y="959"/>
                          </a:lnTo>
                          <a:lnTo>
                            <a:pt x="1035" y="938"/>
                          </a:lnTo>
                          <a:lnTo>
                            <a:pt x="994" y="936"/>
                          </a:lnTo>
                          <a:lnTo>
                            <a:pt x="764" y="942"/>
                          </a:lnTo>
                          <a:lnTo>
                            <a:pt x="729" y="940"/>
                          </a:lnTo>
                          <a:lnTo>
                            <a:pt x="697" y="920"/>
                          </a:lnTo>
                          <a:lnTo>
                            <a:pt x="686" y="903"/>
                          </a:lnTo>
                          <a:lnTo>
                            <a:pt x="662" y="868"/>
                          </a:lnTo>
                          <a:lnTo>
                            <a:pt x="635" y="866"/>
                          </a:lnTo>
                          <a:lnTo>
                            <a:pt x="604" y="868"/>
                          </a:lnTo>
                          <a:lnTo>
                            <a:pt x="553" y="891"/>
                          </a:lnTo>
                          <a:lnTo>
                            <a:pt x="495" y="903"/>
                          </a:lnTo>
                          <a:lnTo>
                            <a:pt x="466" y="895"/>
                          </a:lnTo>
                          <a:lnTo>
                            <a:pt x="432" y="885"/>
                          </a:lnTo>
                          <a:lnTo>
                            <a:pt x="405" y="860"/>
                          </a:lnTo>
                          <a:lnTo>
                            <a:pt x="374" y="815"/>
                          </a:lnTo>
                          <a:lnTo>
                            <a:pt x="347" y="805"/>
                          </a:lnTo>
                          <a:lnTo>
                            <a:pt x="310" y="809"/>
                          </a:lnTo>
                          <a:lnTo>
                            <a:pt x="259" y="829"/>
                          </a:lnTo>
                          <a:lnTo>
                            <a:pt x="175" y="868"/>
                          </a:lnTo>
                          <a:lnTo>
                            <a:pt x="115" y="913"/>
                          </a:lnTo>
                          <a:lnTo>
                            <a:pt x="82" y="913"/>
                          </a:lnTo>
                          <a:lnTo>
                            <a:pt x="64" y="891"/>
                          </a:lnTo>
                          <a:lnTo>
                            <a:pt x="35" y="839"/>
                          </a:lnTo>
                          <a:lnTo>
                            <a:pt x="19" y="788"/>
                          </a:lnTo>
                          <a:lnTo>
                            <a:pt x="13" y="708"/>
                          </a:lnTo>
                          <a:lnTo>
                            <a:pt x="0" y="540"/>
                          </a:lnTo>
                          <a:lnTo>
                            <a:pt x="2" y="437"/>
                          </a:lnTo>
                          <a:lnTo>
                            <a:pt x="17" y="355"/>
                          </a:lnTo>
                          <a:lnTo>
                            <a:pt x="41" y="269"/>
                          </a:lnTo>
                          <a:lnTo>
                            <a:pt x="48" y="24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4" name=""/>
                    <p:cNvSpPr/>
                    <p:nvPr/>
                  </p:nvSpPr>
                  <p:spPr>
                    <a:xfrm>
                      <a:off x="2001600" y="5164920"/>
                      <a:ext cx="1188720" cy="24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3" h="327">
                          <a:moveTo>
                            <a:pt x="43" y="11"/>
                          </a:moveTo>
                          <a:lnTo>
                            <a:pt x="128" y="74"/>
                          </a:lnTo>
                          <a:lnTo>
                            <a:pt x="152" y="81"/>
                          </a:lnTo>
                          <a:lnTo>
                            <a:pt x="191" y="74"/>
                          </a:lnTo>
                          <a:lnTo>
                            <a:pt x="253" y="44"/>
                          </a:lnTo>
                          <a:lnTo>
                            <a:pt x="327" y="13"/>
                          </a:lnTo>
                          <a:lnTo>
                            <a:pt x="358" y="5"/>
                          </a:lnTo>
                          <a:lnTo>
                            <a:pt x="390" y="7"/>
                          </a:lnTo>
                          <a:lnTo>
                            <a:pt x="409" y="35"/>
                          </a:lnTo>
                          <a:lnTo>
                            <a:pt x="432" y="78"/>
                          </a:lnTo>
                          <a:lnTo>
                            <a:pt x="458" y="103"/>
                          </a:lnTo>
                          <a:lnTo>
                            <a:pt x="481" y="107"/>
                          </a:lnTo>
                          <a:lnTo>
                            <a:pt x="506" y="101"/>
                          </a:lnTo>
                          <a:lnTo>
                            <a:pt x="516" y="103"/>
                          </a:lnTo>
                          <a:lnTo>
                            <a:pt x="569" y="74"/>
                          </a:lnTo>
                          <a:lnTo>
                            <a:pt x="592" y="68"/>
                          </a:lnTo>
                          <a:lnTo>
                            <a:pt x="614" y="78"/>
                          </a:lnTo>
                          <a:lnTo>
                            <a:pt x="643" y="109"/>
                          </a:lnTo>
                          <a:lnTo>
                            <a:pt x="672" y="142"/>
                          </a:lnTo>
                          <a:lnTo>
                            <a:pt x="699" y="148"/>
                          </a:lnTo>
                          <a:lnTo>
                            <a:pt x="736" y="148"/>
                          </a:lnTo>
                          <a:lnTo>
                            <a:pt x="822" y="122"/>
                          </a:lnTo>
                          <a:lnTo>
                            <a:pt x="859" y="120"/>
                          </a:lnTo>
                          <a:lnTo>
                            <a:pt x="887" y="126"/>
                          </a:lnTo>
                          <a:lnTo>
                            <a:pt x="896" y="132"/>
                          </a:lnTo>
                          <a:lnTo>
                            <a:pt x="966" y="196"/>
                          </a:lnTo>
                          <a:lnTo>
                            <a:pt x="988" y="204"/>
                          </a:lnTo>
                          <a:lnTo>
                            <a:pt x="1027" y="218"/>
                          </a:lnTo>
                          <a:lnTo>
                            <a:pt x="1066" y="218"/>
                          </a:lnTo>
                          <a:lnTo>
                            <a:pt x="1204" y="177"/>
                          </a:lnTo>
                          <a:lnTo>
                            <a:pt x="1255" y="173"/>
                          </a:lnTo>
                          <a:lnTo>
                            <a:pt x="1309" y="189"/>
                          </a:lnTo>
                          <a:lnTo>
                            <a:pt x="1350" y="245"/>
                          </a:lnTo>
                          <a:lnTo>
                            <a:pt x="1391" y="261"/>
                          </a:lnTo>
                          <a:lnTo>
                            <a:pt x="1440" y="263"/>
                          </a:lnTo>
                          <a:lnTo>
                            <a:pt x="1463" y="280"/>
                          </a:lnTo>
                          <a:lnTo>
                            <a:pt x="1463" y="286"/>
                          </a:lnTo>
                          <a:lnTo>
                            <a:pt x="1434" y="313"/>
                          </a:lnTo>
                          <a:lnTo>
                            <a:pt x="1389" y="327"/>
                          </a:lnTo>
                          <a:lnTo>
                            <a:pt x="1325" y="296"/>
                          </a:lnTo>
                          <a:lnTo>
                            <a:pt x="1286" y="257"/>
                          </a:lnTo>
                          <a:lnTo>
                            <a:pt x="1257" y="224"/>
                          </a:lnTo>
                          <a:lnTo>
                            <a:pt x="1226" y="212"/>
                          </a:lnTo>
                          <a:lnTo>
                            <a:pt x="1181" y="218"/>
                          </a:lnTo>
                          <a:lnTo>
                            <a:pt x="1091" y="247"/>
                          </a:lnTo>
                          <a:lnTo>
                            <a:pt x="1050" y="261"/>
                          </a:lnTo>
                          <a:lnTo>
                            <a:pt x="1015" y="257"/>
                          </a:lnTo>
                          <a:lnTo>
                            <a:pt x="1005" y="257"/>
                          </a:lnTo>
                          <a:lnTo>
                            <a:pt x="970" y="251"/>
                          </a:lnTo>
                          <a:lnTo>
                            <a:pt x="937" y="239"/>
                          </a:lnTo>
                          <a:lnTo>
                            <a:pt x="906" y="206"/>
                          </a:lnTo>
                          <a:lnTo>
                            <a:pt x="861" y="165"/>
                          </a:lnTo>
                          <a:lnTo>
                            <a:pt x="832" y="159"/>
                          </a:lnTo>
                          <a:lnTo>
                            <a:pt x="797" y="161"/>
                          </a:lnTo>
                          <a:lnTo>
                            <a:pt x="701" y="187"/>
                          </a:lnTo>
                          <a:lnTo>
                            <a:pt x="670" y="181"/>
                          </a:lnTo>
                          <a:lnTo>
                            <a:pt x="637" y="165"/>
                          </a:lnTo>
                          <a:lnTo>
                            <a:pt x="604" y="142"/>
                          </a:lnTo>
                          <a:lnTo>
                            <a:pt x="579" y="120"/>
                          </a:lnTo>
                          <a:lnTo>
                            <a:pt x="561" y="115"/>
                          </a:lnTo>
                          <a:lnTo>
                            <a:pt x="493" y="144"/>
                          </a:lnTo>
                          <a:lnTo>
                            <a:pt x="446" y="148"/>
                          </a:lnTo>
                          <a:lnTo>
                            <a:pt x="419" y="136"/>
                          </a:lnTo>
                          <a:lnTo>
                            <a:pt x="397" y="113"/>
                          </a:lnTo>
                          <a:lnTo>
                            <a:pt x="364" y="58"/>
                          </a:lnTo>
                          <a:lnTo>
                            <a:pt x="341" y="39"/>
                          </a:lnTo>
                          <a:lnTo>
                            <a:pt x="323" y="46"/>
                          </a:lnTo>
                          <a:lnTo>
                            <a:pt x="312" y="52"/>
                          </a:lnTo>
                          <a:lnTo>
                            <a:pt x="181" y="101"/>
                          </a:lnTo>
                          <a:lnTo>
                            <a:pt x="128" y="103"/>
                          </a:lnTo>
                          <a:lnTo>
                            <a:pt x="93" y="91"/>
                          </a:lnTo>
                          <a:lnTo>
                            <a:pt x="58" y="64"/>
                          </a:lnTo>
                          <a:lnTo>
                            <a:pt x="0" y="0"/>
                          </a:lnTo>
                          <a:lnTo>
                            <a:pt x="43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5" name=""/>
                  <p:cNvSpPr/>
                  <p:nvPr/>
                </p:nvSpPr>
                <p:spPr>
                  <a:xfrm>
                    <a:off x="3124800" y="4489560"/>
                    <a:ext cx="36072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8">
                        <a:moveTo>
                          <a:pt x="23" y="394"/>
                        </a:moveTo>
                        <a:lnTo>
                          <a:pt x="122" y="265"/>
                        </a:lnTo>
                        <a:lnTo>
                          <a:pt x="230" y="150"/>
                        </a:lnTo>
                        <a:lnTo>
                          <a:pt x="339" y="53"/>
                        </a:lnTo>
                        <a:lnTo>
                          <a:pt x="421" y="0"/>
                        </a:lnTo>
                        <a:lnTo>
                          <a:pt x="440" y="0"/>
                        </a:lnTo>
                        <a:lnTo>
                          <a:pt x="444" y="25"/>
                        </a:lnTo>
                        <a:lnTo>
                          <a:pt x="352" y="88"/>
                        </a:lnTo>
                        <a:lnTo>
                          <a:pt x="265" y="173"/>
                        </a:lnTo>
                        <a:lnTo>
                          <a:pt x="167" y="265"/>
                        </a:lnTo>
                        <a:lnTo>
                          <a:pt x="74" y="380"/>
                        </a:lnTo>
                        <a:lnTo>
                          <a:pt x="25" y="448"/>
                        </a:lnTo>
                        <a:lnTo>
                          <a:pt x="0" y="448"/>
                        </a:lnTo>
                        <a:lnTo>
                          <a:pt x="5" y="423"/>
                        </a:lnTo>
                        <a:lnTo>
                          <a:pt x="23" y="3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3249720" y="4288320"/>
                    <a:ext cx="636120" cy="10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783" h="1435">
                        <a:moveTo>
                          <a:pt x="263" y="1113"/>
                        </a:moveTo>
                        <a:lnTo>
                          <a:pt x="237" y="1197"/>
                        </a:lnTo>
                        <a:lnTo>
                          <a:pt x="214" y="1222"/>
                        </a:lnTo>
                        <a:lnTo>
                          <a:pt x="183" y="1244"/>
                        </a:lnTo>
                        <a:lnTo>
                          <a:pt x="144" y="1257"/>
                        </a:lnTo>
                        <a:lnTo>
                          <a:pt x="91" y="1265"/>
                        </a:lnTo>
                        <a:lnTo>
                          <a:pt x="62" y="1279"/>
                        </a:lnTo>
                        <a:lnTo>
                          <a:pt x="42" y="1318"/>
                        </a:lnTo>
                        <a:lnTo>
                          <a:pt x="39" y="1324"/>
                        </a:lnTo>
                        <a:lnTo>
                          <a:pt x="0" y="1417"/>
                        </a:lnTo>
                        <a:lnTo>
                          <a:pt x="13" y="1435"/>
                        </a:lnTo>
                        <a:lnTo>
                          <a:pt x="48" y="1433"/>
                        </a:lnTo>
                        <a:lnTo>
                          <a:pt x="68" y="1398"/>
                        </a:lnTo>
                        <a:lnTo>
                          <a:pt x="105" y="1314"/>
                        </a:lnTo>
                        <a:lnTo>
                          <a:pt x="140" y="1296"/>
                        </a:lnTo>
                        <a:lnTo>
                          <a:pt x="185" y="1279"/>
                        </a:lnTo>
                        <a:lnTo>
                          <a:pt x="230" y="1261"/>
                        </a:lnTo>
                        <a:lnTo>
                          <a:pt x="259" y="1234"/>
                        </a:lnTo>
                        <a:lnTo>
                          <a:pt x="282" y="1197"/>
                        </a:lnTo>
                        <a:lnTo>
                          <a:pt x="292" y="1136"/>
                        </a:lnTo>
                        <a:lnTo>
                          <a:pt x="304" y="1090"/>
                        </a:lnTo>
                        <a:lnTo>
                          <a:pt x="321" y="1066"/>
                        </a:lnTo>
                        <a:lnTo>
                          <a:pt x="352" y="1049"/>
                        </a:lnTo>
                        <a:lnTo>
                          <a:pt x="413" y="1047"/>
                        </a:lnTo>
                        <a:lnTo>
                          <a:pt x="461" y="1043"/>
                        </a:lnTo>
                        <a:lnTo>
                          <a:pt x="485" y="1027"/>
                        </a:lnTo>
                        <a:lnTo>
                          <a:pt x="502" y="1008"/>
                        </a:lnTo>
                        <a:lnTo>
                          <a:pt x="512" y="963"/>
                        </a:lnTo>
                        <a:lnTo>
                          <a:pt x="518" y="871"/>
                        </a:lnTo>
                        <a:lnTo>
                          <a:pt x="528" y="830"/>
                        </a:lnTo>
                        <a:lnTo>
                          <a:pt x="551" y="797"/>
                        </a:lnTo>
                        <a:lnTo>
                          <a:pt x="586" y="772"/>
                        </a:lnTo>
                        <a:lnTo>
                          <a:pt x="617" y="768"/>
                        </a:lnTo>
                        <a:lnTo>
                          <a:pt x="668" y="784"/>
                        </a:lnTo>
                        <a:lnTo>
                          <a:pt x="715" y="786"/>
                        </a:lnTo>
                        <a:lnTo>
                          <a:pt x="752" y="768"/>
                        </a:lnTo>
                        <a:lnTo>
                          <a:pt x="779" y="731"/>
                        </a:lnTo>
                        <a:lnTo>
                          <a:pt x="783" y="694"/>
                        </a:lnTo>
                        <a:lnTo>
                          <a:pt x="773" y="659"/>
                        </a:lnTo>
                        <a:lnTo>
                          <a:pt x="748" y="608"/>
                        </a:lnTo>
                        <a:lnTo>
                          <a:pt x="707" y="532"/>
                        </a:lnTo>
                        <a:lnTo>
                          <a:pt x="668" y="435"/>
                        </a:lnTo>
                        <a:lnTo>
                          <a:pt x="643" y="355"/>
                        </a:lnTo>
                        <a:lnTo>
                          <a:pt x="617" y="240"/>
                        </a:lnTo>
                        <a:lnTo>
                          <a:pt x="588" y="113"/>
                        </a:lnTo>
                        <a:lnTo>
                          <a:pt x="553" y="55"/>
                        </a:lnTo>
                        <a:lnTo>
                          <a:pt x="512" y="14"/>
                        </a:lnTo>
                        <a:lnTo>
                          <a:pt x="477" y="2"/>
                        </a:lnTo>
                        <a:lnTo>
                          <a:pt x="434" y="0"/>
                        </a:lnTo>
                        <a:lnTo>
                          <a:pt x="362" y="2"/>
                        </a:lnTo>
                        <a:lnTo>
                          <a:pt x="202" y="14"/>
                        </a:lnTo>
                        <a:lnTo>
                          <a:pt x="432" y="43"/>
                        </a:lnTo>
                        <a:lnTo>
                          <a:pt x="493" y="60"/>
                        </a:lnTo>
                        <a:lnTo>
                          <a:pt x="528" y="88"/>
                        </a:lnTo>
                        <a:lnTo>
                          <a:pt x="547" y="129"/>
                        </a:lnTo>
                        <a:lnTo>
                          <a:pt x="563" y="181"/>
                        </a:lnTo>
                        <a:lnTo>
                          <a:pt x="582" y="283"/>
                        </a:lnTo>
                        <a:lnTo>
                          <a:pt x="608" y="390"/>
                        </a:lnTo>
                        <a:lnTo>
                          <a:pt x="633" y="462"/>
                        </a:lnTo>
                        <a:lnTo>
                          <a:pt x="666" y="534"/>
                        </a:lnTo>
                        <a:lnTo>
                          <a:pt x="719" y="641"/>
                        </a:lnTo>
                        <a:lnTo>
                          <a:pt x="748" y="688"/>
                        </a:lnTo>
                        <a:lnTo>
                          <a:pt x="742" y="717"/>
                        </a:lnTo>
                        <a:lnTo>
                          <a:pt x="719" y="739"/>
                        </a:lnTo>
                        <a:lnTo>
                          <a:pt x="686" y="745"/>
                        </a:lnTo>
                        <a:lnTo>
                          <a:pt x="615" y="737"/>
                        </a:lnTo>
                        <a:lnTo>
                          <a:pt x="569" y="739"/>
                        </a:lnTo>
                        <a:lnTo>
                          <a:pt x="530" y="766"/>
                        </a:lnTo>
                        <a:lnTo>
                          <a:pt x="506" y="797"/>
                        </a:lnTo>
                        <a:lnTo>
                          <a:pt x="491" y="832"/>
                        </a:lnTo>
                        <a:lnTo>
                          <a:pt x="477" y="883"/>
                        </a:lnTo>
                        <a:lnTo>
                          <a:pt x="467" y="969"/>
                        </a:lnTo>
                        <a:lnTo>
                          <a:pt x="461" y="998"/>
                        </a:lnTo>
                        <a:lnTo>
                          <a:pt x="434" y="1014"/>
                        </a:lnTo>
                        <a:lnTo>
                          <a:pt x="358" y="1012"/>
                        </a:lnTo>
                        <a:lnTo>
                          <a:pt x="313" y="1031"/>
                        </a:lnTo>
                        <a:lnTo>
                          <a:pt x="278" y="1070"/>
                        </a:lnTo>
                        <a:lnTo>
                          <a:pt x="263" y="11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7" name=""/>
                <p:cNvSpPr/>
                <p:nvPr/>
              </p:nvSpPr>
              <p:spPr>
                <a:xfrm>
                  <a:off x="1726200" y="4001400"/>
                  <a:ext cx="1913040" cy="311760"/>
                </a:xfrm>
                <a:custGeom>
                  <a:avLst/>
                  <a:gdLst/>
                  <a:ahLst/>
                  <a:rect l="l" t="t" r="r" b="b"/>
                  <a:pathLst>
                    <a:path w="2354" h="417">
                      <a:moveTo>
                        <a:pt x="2251" y="390"/>
                      </a:moveTo>
                      <a:lnTo>
                        <a:pt x="1929" y="368"/>
                      </a:lnTo>
                      <a:lnTo>
                        <a:pt x="1645" y="325"/>
                      </a:lnTo>
                      <a:lnTo>
                        <a:pt x="1272" y="257"/>
                      </a:lnTo>
                      <a:lnTo>
                        <a:pt x="988" y="212"/>
                      </a:lnTo>
                      <a:lnTo>
                        <a:pt x="559" y="150"/>
                      </a:lnTo>
                      <a:lnTo>
                        <a:pt x="265" y="113"/>
                      </a:lnTo>
                      <a:lnTo>
                        <a:pt x="99" y="62"/>
                      </a:lnTo>
                      <a:lnTo>
                        <a:pt x="44" y="0"/>
                      </a:lnTo>
                      <a:lnTo>
                        <a:pt x="9" y="35"/>
                      </a:lnTo>
                      <a:lnTo>
                        <a:pt x="0" y="39"/>
                      </a:lnTo>
                      <a:lnTo>
                        <a:pt x="83" y="84"/>
                      </a:lnTo>
                      <a:lnTo>
                        <a:pt x="171" y="119"/>
                      </a:lnTo>
                      <a:lnTo>
                        <a:pt x="300" y="150"/>
                      </a:lnTo>
                      <a:lnTo>
                        <a:pt x="481" y="177"/>
                      </a:lnTo>
                      <a:lnTo>
                        <a:pt x="771" y="218"/>
                      </a:lnTo>
                      <a:lnTo>
                        <a:pt x="1029" y="257"/>
                      </a:lnTo>
                      <a:lnTo>
                        <a:pt x="1276" y="292"/>
                      </a:lnTo>
                      <a:lnTo>
                        <a:pt x="1559" y="341"/>
                      </a:lnTo>
                      <a:lnTo>
                        <a:pt x="1857" y="396"/>
                      </a:lnTo>
                      <a:lnTo>
                        <a:pt x="2036" y="417"/>
                      </a:lnTo>
                      <a:lnTo>
                        <a:pt x="2286" y="417"/>
                      </a:lnTo>
                      <a:lnTo>
                        <a:pt x="2354" y="413"/>
                      </a:lnTo>
                      <a:lnTo>
                        <a:pt x="2251" y="3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8" name=""/>
            <p:cNvSpPr/>
            <p:nvPr/>
          </p:nvSpPr>
          <p:spPr>
            <a:xfrm>
              <a:off x="1097280" y="4235040"/>
              <a:ext cx="637920" cy="331920"/>
            </a:xfrm>
            <a:custGeom>
              <a:avLst/>
              <a:gdLst/>
              <a:ahLst/>
              <a:rect l="l" t="t" r="r" b="b"/>
              <a:pathLst>
                <a:path w="785" h="444">
                  <a:moveTo>
                    <a:pt x="2" y="37"/>
                  </a:moveTo>
                  <a:lnTo>
                    <a:pt x="19" y="2"/>
                  </a:lnTo>
                  <a:lnTo>
                    <a:pt x="43" y="0"/>
                  </a:lnTo>
                  <a:lnTo>
                    <a:pt x="82" y="0"/>
                  </a:lnTo>
                  <a:lnTo>
                    <a:pt x="121" y="31"/>
                  </a:lnTo>
                  <a:lnTo>
                    <a:pt x="146" y="99"/>
                  </a:lnTo>
                  <a:lnTo>
                    <a:pt x="162" y="173"/>
                  </a:lnTo>
                  <a:lnTo>
                    <a:pt x="179" y="224"/>
                  </a:lnTo>
                  <a:lnTo>
                    <a:pt x="203" y="259"/>
                  </a:lnTo>
                  <a:lnTo>
                    <a:pt x="232" y="275"/>
                  </a:lnTo>
                  <a:lnTo>
                    <a:pt x="277" y="271"/>
                  </a:lnTo>
                  <a:lnTo>
                    <a:pt x="392" y="263"/>
                  </a:lnTo>
                  <a:lnTo>
                    <a:pt x="542" y="277"/>
                  </a:lnTo>
                  <a:lnTo>
                    <a:pt x="594" y="290"/>
                  </a:lnTo>
                  <a:lnTo>
                    <a:pt x="635" y="284"/>
                  </a:lnTo>
                  <a:lnTo>
                    <a:pt x="698" y="242"/>
                  </a:lnTo>
                  <a:lnTo>
                    <a:pt x="727" y="236"/>
                  </a:lnTo>
                  <a:lnTo>
                    <a:pt x="746" y="242"/>
                  </a:lnTo>
                  <a:lnTo>
                    <a:pt x="750" y="277"/>
                  </a:lnTo>
                  <a:lnTo>
                    <a:pt x="715" y="298"/>
                  </a:lnTo>
                  <a:lnTo>
                    <a:pt x="657" y="306"/>
                  </a:lnTo>
                  <a:lnTo>
                    <a:pt x="659" y="320"/>
                  </a:lnTo>
                  <a:lnTo>
                    <a:pt x="709" y="347"/>
                  </a:lnTo>
                  <a:lnTo>
                    <a:pt x="781" y="380"/>
                  </a:lnTo>
                  <a:lnTo>
                    <a:pt x="785" y="403"/>
                  </a:lnTo>
                  <a:lnTo>
                    <a:pt x="766" y="425"/>
                  </a:lnTo>
                  <a:lnTo>
                    <a:pt x="733" y="421"/>
                  </a:lnTo>
                  <a:lnTo>
                    <a:pt x="703" y="403"/>
                  </a:lnTo>
                  <a:lnTo>
                    <a:pt x="664" y="357"/>
                  </a:lnTo>
                  <a:lnTo>
                    <a:pt x="645" y="357"/>
                  </a:lnTo>
                  <a:lnTo>
                    <a:pt x="639" y="384"/>
                  </a:lnTo>
                  <a:lnTo>
                    <a:pt x="647" y="431"/>
                  </a:lnTo>
                  <a:lnTo>
                    <a:pt x="631" y="444"/>
                  </a:lnTo>
                  <a:lnTo>
                    <a:pt x="596" y="435"/>
                  </a:lnTo>
                  <a:lnTo>
                    <a:pt x="577" y="413"/>
                  </a:lnTo>
                  <a:lnTo>
                    <a:pt x="579" y="374"/>
                  </a:lnTo>
                  <a:lnTo>
                    <a:pt x="594" y="345"/>
                  </a:lnTo>
                  <a:lnTo>
                    <a:pt x="571" y="323"/>
                  </a:lnTo>
                  <a:lnTo>
                    <a:pt x="491" y="318"/>
                  </a:lnTo>
                  <a:lnTo>
                    <a:pt x="399" y="320"/>
                  </a:lnTo>
                  <a:lnTo>
                    <a:pt x="314" y="327"/>
                  </a:lnTo>
                  <a:lnTo>
                    <a:pt x="243" y="333"/>
                  </a:lnTo>
                  <a:lnTo>
                    <a:pt x="191" y="335"/>
                  </a:lnTo>
                  <a:lnTo>
                    <a:pt x="162" y="323"/>
                  </a:lnTo>
                  <a:lnTo>
                    <a:pt x="127" y="300"/>
                  </a:lnTo>
                  <a:lnTo>
                    <a:pt x="99" y="263"/>
                  </a:lnTo>
                  <a:lnTo>
                    <a:pt x="64" y="214"/>
                  </a:lnTo>
                  <a:lnTo>
                    <a:pt x="35" y="173"/>
                  </a:lnTo>
                  <a:lnTo>
                    <a:pt x="12" y="125"/>
                  </a:lnTo>
                  <a:lnTo>
                    <a:pt x="2" y="88"/>
                  </a:lnTo>
                  <a:lnTo>
                    <a:pt x="0" y="64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9" name=""/>
          <p:cNvGrpSpPr/>
          <p:nvPr/>
        </p:nvGrpSpPr>
        <p:grpSpPr>
          <a:xfrm>
            <a:off x="1143000" y="1143000"/>
            <a:ext cx="6934320" cy="3836880"/>
            <a:chOff x="1143000" y="1143000"/>
            <a:chExt cx="6934320" cy="3836880"/>
          </a:xfrm>
        </p:grpSpPr>
        <p:sp>
          <p:nvSpPr>
            <p:cNvPr id="2180" name=""/>
            <p:cNvSpPr/>
            <p:nvPr/>
          </p:nvSpPr>
          <p:spPr>
            <a:xfrm>
              <a:off x="5181480" y="3584520"/>
              <a:ext cx="2895840" cy="1395360"/>
            </a:xfrm>
            <a:prstGeom prst="wedgeEllipseCallout">
              <a:avLst>
                <a:gd name="adj1" fmla="val -179277"/>
                <a:gd name="adj2" fmla="val -30625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4f4f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תנו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זוז לפלונ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648320" y="1492200"/>
              <a:ext cx="2971800" cy="1465200"/>
            </a:xfrm>
            <a:prstGeom prst="wedgeEllipseCallout">
              <a:avLst>
                <a:gd name="adj1" fmla="val -158171"/>
                <a:gd name="adj2" fmla="val 10486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4f4f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תנו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זוז לפלונ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143000" y="1143000"/>
              <a:ext cx="2971800" cy="1046160"/>
            </a:xfrm>
            <a:prstGeom prst="wedgeEllipseCallout">
              <a:avLst>
                <a:gd name="adj1" fmla="val -43268"/>
                <a:gd name="adj2" fmla="val 19013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4f4f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תנו 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זוז לפלונ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3" name=""/>
          <p:cNvSpPr/>
          <p:nvPr/>
        </p:nvSpPr>
        <p:spPr>
          <a:xfrm>
            <a:off x="152280" y="5410080"/>
            <a:ext cx="883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משתמע מדבריו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שאין</a:t>
            </a: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 בכוונתו שמי שהוזכר ראשון הוא שיקבל ראשון, אלא לכולם עדיפות שווה ואין אחד שקודם לחבר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4" name=""/>
          <p:cNvGrpSpPr/>
          <p:nvPr/>
        </p:nvGrpSpPr>
        <p:grpSpPr>
          <a:xfrm>
            <a:off x="6400800" y="3048120"/>
            <a:ext cx="1566720" cy="1755000"/>
            <a:chOff x="6400800" y="3048120"/>
            <a:chExt cx="1566720" cy="1755000"/>
          </a:xfrm>
        </p:grpSpPr>
        <p:sp>
          <p:nvSpPr>
            <p:cNvPr id="2185" name=""/>
            <p:cNvSpPr/>
            <p:nvPr/>
          </p:nvSpPr>
          <p:spPr>
            <a:xfrm>
              <a:off x="6400800" y="3048120"/>
              <a:ext cx="1566720" cy="121896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50000">
                  <a:srgbClr val="f2b63e"/>
                </a:gs>
                <a:gs pos="100000">
                  <a:srgbClr val="fbe4ae"/>
                </a:gs>
              </a:gsLst>
              <a:lin ang="135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162920" y="3048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629400" y="4343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8" name=""/>
          <p:cNvGrpSpPr/>
          <p:nvPr/>
        </p:nvGrpSpPr>
        <p:grpSpPr>
          <a:xfrm>
            <a:off x="3352680" y="2590920"/>
            <a:ext cx="2405160" cy="3202920"/>
            <a:chOff x="3352680" y="2590920"/>
            <a:chExt cx="2405160" cy="3202920"/>
          </a:xfrm>
        </p:grpSpPr>
        <p:sp>
          <p:nvSpPr>
            <p:cNvPr id="2189" name=""/>
            <p:cNvSpPr/>
            <p:nvPr/>
          </p:nvSpPr>
          <p:spPr>
            <a:xfrm>
              <a:off x="3352680" y="2590920"/>
              <a:ext cx="2405160" cy="259056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50000">
                  <a:srgbClr val="f2b63e"/>
                </a:gs>
                <a:gs pos="100000">
                  <a:srgbClr val="fbe4ae"/>
                </a:gs>
              </a:gsLst>
              <a:lin ang="135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495680" y="25909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14800" y="53341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846000" y="3132000"/>
            <a:ext cx="1871640" cy="2204280"/>
            <a:chOff x="846000" y="3132000"/>
            <a:chExt cx="1871640" cy="2204280"/>
          </a:xfrm>
        </p:grpSpPr>
        <p:sp>
          <p:nvSpPr>
            <p:cNvPr id="2193" name=""/>
            <p:cNvSpPr/>
            <p:nvPr/>
          </p:nvSpPr>
          <p:spPr>
            <a:xfrm>
              <a:off x="846000" y="3132000"/>
              <a:ext cx="1871640" cy="165564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50000">
                  <a:srgbClr val="f2b63e"/>
                </a:gs>
                <a:gs pos="100000">
                  <a:srgbClr val="fbe4ae"/>
                </a:gs>
              </a:gsLst>
              <a:lin ang="135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752480" y="32004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371600" y="48765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e88a00"/>
                </a:solidFill>
                <a:latin typeface="Times New Roman"/>
              </a:rPr>
              <a:t>לפיכך- אם התברר שהוא בעל  חוב,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כיון שכולם קיבלו בעדיפות שווה,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גובה מכולם ביחס ישר לסכום שכל אחד קיבל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838080" y="2362320"/>
            <a:ext cx="7010640" cy="2971800"/>
            <a:chOff x="838080" y="2362320"/>
            <a:chExt cx="7010640" cy="2971800"/>
          </a:xfrm>
        </p:grpSpPr>
        <p:grpSp>
          <p:nvGrpSpPr>
            <p:cNvPr id="2198" name=""/>
            <p:cNvGrpSpPr/>
            <p:nvPr/>
          </p:nvGrpSpPr>
          <p:grpSpPr>
            <a:xfrm>
              <a:off x="6248520" y="2819520"/>
              <a:ext cx="1600200" cy="1600200"/>
              <a:chOff x="6248520" y="2819520"/>
              <a:chExt cx="1600200" cy="1600200"/>
            </a:xfrm>
          </p:grpSpPr>
          <p:sp>
            <p:nvSpPr>
              <p:cNvPr id="2199" name=""/>
              <p:cNvSpPr/>
              <p:nvPr/>
            </p:nvSpPr>
            <p:spPr>
              <a:xfrm>
                <a:off x="7086600" y="35053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248520" y="2819520"/>
                <a:ext cx="914400" cy="1600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1" name=""/>
            <p:cNvGrpSpPr/>
            <p:nvPr/>
          </p:nvGrpSpPr>
          <p:grpSpPr>
            <a:xfrm>
              <a:off x="3352680" y="2362320"/>
              <a:ext cx="2133720" cy="2971800"/>
              <a:chOff x="3352680" y="2362320"/>
              <a:chExt cx="2133720" cy="2971800"/>
            </a:xfrm>
          </p:grpSpPr>
          <p:sp>
            <p:nvSpPr>
              <p:cNvPr id="2202" name=""/>
              <p:cNvSpPr/>
              <p:nvPr/>
            </p:nvSpPr>
            <p:spPr>
              <a:xfrm>
                <a:off x="4495680" y="403884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352680" y="2362320"/>
                <a:ext cx="1143000" cy="2971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"/>
            <p:cNvGrpSpPr/>
            <p:nvPr/>
          </p:nvGrpSpPr>
          <p:grpSpPr>
            <a:xfrm>
              <a:off x="838080" y="3048120"/>
              <a:ext cx="1676520" cy="1828800"/>
              <a:chOff x="838080" y="3048120"/>
              <a:chExt cx="1676520" cy="1828800"/>
            </a:xfrm>
          </p:grpSpPr>
          <p:sp>
            <p:nvSpPr>
              <p:cNvPr id="2205" name=""/>
              <p:cNvSpPr/>
              <p:nvPr/>
            </p:nvSpPr>
            <p:spPr>
              <a:xfrm>
                <a:off x="1676520" y="39625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838080" y="3048120"/>
                <a:ext cx="914400" cy="182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7" name=""/>
          <p:cNvSpPr/>
          <p:nvPr/>
        </p:nvSpPr>
        <p:spPr>
          <a:xfrm>
            <a:off x="304920" y="54864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000000"/>
                </a:solidFill>
                <a:latin typeface="Times New Roman"/>
              </a:rPr>
              <a:t>אבל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724280" y="838080"/>
            <a:ext cx="3353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אם אמר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952520" y="40381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תנו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זוז לפלו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0" name=""/>
          <p:cNvGrpSpPr/>
          <p:nvPr/>
        </p:nvGrpSpPr>
        <p:grpSpPr>
          <a:xfrm>
            <a:off x="1066680" y="3962520"/>
            <a:ext cx="1422360" cy="917280"/>
            <a:chOff x="1066680" y="3962520"/>
            <a:chExt cx="1422360" cy="917280"/>
          </a:xfrm>
        </p:grpSpPr>
        <p:sp>
          <p:nvSpPr>
            <p:cNvPr id="2211" name=""/>
            <p:cNvSpPr/>
            <p:nvPr/>
          </p:nvSpPr>
          <p:spPr>
            <a:xfrm>
              <a:off x="1066680" y="3962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50000">
                  <a:srgbClr val="f2b63e"/>
                </a:gs>
                <a:gs pos="100000">
                  <a:srgbClr val="fbe4ae"/>
                </a:gs>
              </a:gsLst>
              <a:lin ang="135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390320" y="4319640"/>
              <a:ext cx="7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762120" y="1295280"/>
            <a:ext cx="1981080" cy="3733560"/>
            <a:chOff x="762120" y="1295280"/>
            <a:chExt cx="1981080" cy="3733560"/>
          </a:xfrm>
        </p:grpSpPr>
        <p:sp>
          <p:nvSpPr>
            <p:cNvPr id="2214" name=""/>
            <p:cNvSpPr/>
            <p:nvPr/>
          </p:nvSpPr>
          <p:spPr>
            <a:xfrm>
              <a:off x="762120" y="1371240"/>
              <a:ext cx="0" cy="365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62120" y="502884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43200" y="1295280"/>
              <a:ext cx="0" cy="37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1066680" y="2819520"/>
            <a:ext cx="1422360" cy="917280"/>
            <a:chOff x="1066680" y="2819520"/>
            <a:chExt cx="1422360" cy="917280"/>
          </a:xfrm>
        </p:grpSpPr>
        <p:sp>
          <p:nvSpPr>
            <p:cNvPr id="2218" name=""/>
            <p:cNvSpPr/>
            <p:nvPr/>
          </p:nvSpPr>
          <p:spPr>
            <a:xfrm>
              <a:off x="1066680" y="2819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50000">
                  <a:srgbClr val="f2b63e"/>
                </a:gs>
                <a:gs pos="100000">
                  <a:srgbClr val="fbe4ae"/>
                </a:gs>
              </a:gsLst>
              <a:lin ang="135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447920" y="3124080"/>
              <a:ext cx="7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1066680" y="3962520"/>
            <a:ext cx="1422360" cy="917280"/>
            <a:chOff x="1066680" y="3962520"/>
            <a:chExt cx="1422360" cy="917280"/>
          </a:xfrm>
        </p:grpSpPr>
        <p:sp>
          <p:nvSpPr>
            <p:cNvPr id="2221" name=""/>
            <p:cNvSpPr/>
            <p:nvPr/>
          </p:nvSpPr>
          <p:spPr>
            <a:xfrm>
              <a:off x="1066680" y="3962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solidFill>
              <a:srgbClr val="fbfffe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390320" y="4319640"/>
              <a:ext cx="7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1143000" y="1676520"/>
            <a:ext cx="1422360" cy="917280"/>
            <a:chOff x="1143000" y="1676520"/>
            <a:chExt cx="1422360" cy="917280"/>
          </a:xfrm>
        </p:grpSpPr>
        <p:sp>
          <p:nvSpPr>
            <p:cNvPr id="2224" name=""/>
            <p:cNvSpPr/>
            <p:nvPr/>
          </p:nvSpPr>
          <p:spPr>
            <a:xfrm>
              <a:off x="1143000" y="1676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50000">
                  <a:srgbClr val="f2b63e"/>
                </a:gs>
                <a:gs pos="100000">
                  <a:srgbClr val="fbe4ae"/>
                </a:gs>
              </a:gsLst>
              <a:lin ang="135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514520" y="2037960"/>
              <a:ext cx="7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1066680" y="2819520"/>
            <a:ext cx="1422360" cy="917280"/>
            <a:chOff x="1066680" y="2819520"/>
            <a:chExt cx="1422360" cy="917280"/>
          </a:xfrm>
        </p:grpSpPr>
        <p:sp>
          <p:nvSpPr>
            <p:cNvPr id="2227" name=""/>
            <p:cNvSpPr/>
            <p:nvPr/>
          </p:nvSpPr>
          <p:spPr>
            <a:xfrm>
              <a:off x="1066680" y="2819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447560" y="3124080"/>
              <a:ext cx="7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9" name=""/>
          <p:cNvSpPr txBox="1"/>
          <p:nvPr/>
        </p:nvSpPr>
        <p:spPr>
          <a:xfrm>
            <a:off x="914400" y="5562720"/>
            <a:ext cx="757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2b63e"/>
                    </a:gs>
                    <a:gs pos="100000">
                      <a:srgbClr val="f8dea9"/>
                    </a:gs>
                  </a:gsLst>
                  <a:lin ang="5400000"/>
                </a:gradFill>
                <a:latin typeface="Arial"/>
              </a:rPr>
              <a:t>מי שהוזכר ראשון, מקבל ראשו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2b63e"/>
                  </a:gs>
                  <a:gs pos="100000">
                    <a:srgbClr val="f8dea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3657600" y="281952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ואחריו -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תנו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לפלו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124080" y="1828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ואחריו -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לפלונ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flipH="1" flipV="1">
            <a:off x="6400800" y="335232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 flipV="1">
            <a:off x="5486400" y="220932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 rot="20445000">
            <a:off x="1294920" y="1371240"/>
            <a:ext cx="62485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d6b19c"/>
                    </a:gs>
                  </a:gsLst>
                  <a:lin ang="5400000"/>
                </a:gradFill>
                <a:effectLst>
                  <a:outerShdw dist="162651" dir="18517212" blurRad="0" rotWithShape="0">
                    <a:srgbClr val="808080"/>
                  </a:outerShdw>
                </a:effectLst>
                <a:latin typeface="Arial"/>
              </a:rPr>
              <a:t>לפיכך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effectLst>
                <a:outerShdw dist="162651" dir="18517212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428640" y="533160"/>
            <a:ext cx="5257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Times New Roman"/>
              </a:rPr>
              <a:t>אם התברר שהוא בעל חוב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ואם אין לו מספיק בכדי לפרוע את החו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7" name=""/>
          <p:cNvGrpSpPr/>
          <p:nvPr/>
        </p:nvGrpSpPr>
        <p:grpSpPr>
          <a:xfrm>
            <a:off x="1066680" y="3962520"/>
            <a:ext cx="1422360" cy="917280"/>
            <a:chOff x="1066680" y="3962520"/>
            <a:chExt cx="1422360" cy="917280"/>
          </a:xfrm>
        </p:grpSpPr>
        <p:sp>
          <p:nvSpPr>
            <p:cNvPr id="2238" name=""/>
            <p:cNvSpPr/>
            <p:nvPr/>
          </p:nvSpPr>
          <p:spPr>
            <a:xfrm>
              <a:off x="1066680" y="3962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50000">
                  <a:srgbClr val="f2b63e"/>
                </a:gs>
                <a:gs pos="100000">
                  <a:srgbClr val="fbe4ae"/>
                </a:gs>
              </a:gsLst>
              <a:lin ang="135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390320" y="4319640"/>
              <a:ext cx="7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762120" y="1295280"/>
            <a:ext cx="1981080" cy="3733560"/>
            <a:chOff x="762120" y="1295280"/>
            <a:chExt cx="1981080" cy="3733560"/>
          </a:xfrm>
        </p:grpSpPr>
        <p:sp>
          <p:nvSpPr>
            <p:cNvPr id="2241" name=""/>
            <p:cNvSpPr/>
            <p:nvPr/>
          </p:nvSpPr>
          <p:spPr>
            <a:xfrm>
              <a:off x="762120" y="1371240"/>
              <a:ext cx="0" cy="365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62120" y="502884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743200" y="1295280"/>
              <a:ext cx="0" cy="37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4" name=""/>
          <p:cNvGrpSpPr/>
          <p:nvPr/>
        </p:nvGrpSpPr>
        <p:grpSpPr>
          <a:xfrm>
            <a:off x="1066680" y="2819520"/>
            <a:ext cx="1422360" cy="917280"/>
            <a:chOff x="1066680" y="2819520"/>
            <a:chExt cx="1422360" cy="917280"/>
          </a:xfrm>
        </p:grpSpPr>
        <p:sp>
          <p:nvSpPr>
            <p:cNvPr id="2245" name=""/>
            <p:cNvSpPr/>
            <p:nvPr/>
          </p:nvSpPr>
          <p:spPr>
            <a:xfrm>
              <a:off x="1066680" y="2819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50000">
                  <a:srgbClr val="f2b63e"/>
                </a:gs>
                <a:gs pos="100000">
                  <a:srgbClr val="fbe4ae"/>
                </a:gs>
              </a:gsLst>
              <a:lin ang="135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447920" y="3124080"/>
              <a:ext cx="7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7" name=""/>
          <p:cNvGrpSpPr/>
          <p:nvPr/>
        </p:nvGrpSpPr>
        <p:grpSpPr>
          <a:xfrm>
            <a:off x="1066680" y="3962520"/>
            <a:ext cx="1422360" cy="917280"/>
            <a:chOff x="1066680" y="3962520"/>
            <a:chExt cx="1422360" cy="917280"/>
          </a:xfrm>
        </p:grpSpPr>
        <p:sp>
          <p:nvSpPr>
            <p:cNvPr id="2248" name=""/>
            <p:cNvSpPr/>
            <p:nvPr/>
          </p:nvSpPr>
          <p:spPr>
            <a:xfrm>
              <a:off x="1066680" y="3962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solidFill>
              <a:srgbClr val="fbfffe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390320" y="4319640"/>
              <a:ext cx="7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1143000" y="1676520"/>
            <a:ext cx="1422360" cy="917280"/>
            <a:chOff x="1143000" y="1676520"/>
            <a:chExt cx="1422360" cy="917280"/>
          </a:xfrm>
        </p:grpSpPr>
        <p:sp>
          <p:nvSpPr>
            <p:cNvPr id="2251" name=""/>
            <p:cNvSpPr/>
            <p:nvPr/>
          </p:nvSpPr>
          <p:spPr>
            <a:xfrm>
              <a:off x="1143000" y="1676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50000">
                  <a:srgbClr val="f2b63e"/>
                </a:gs>
                <a:gs pos="100000">
                  <a:srgbClr val="fbe4ae"/>
                </a:gs>
              </a:gsLst>
              <a:lin ang="135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514520" y="2037960"/>
              <a:ext cx="7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1066680" y="2819520"/>
            <a:ext cx="1422360" cy="917280"/>
            <a:chOff x="1066680" y="2819520"/>
            <a:chExt cx="1422360" cy="917280"/>
          </a:xfrm>
        </p:grpSpPr>
        <p:sp>
          <p:nvSpPr>
            <p:cNvPr id="2254" name=""/>
            <p:cNvSpPr/>
            <p:nvPr/>
          </p:nvSpPr>
          <p:spPr>
            <a:xfrm>
              <a:off x="1066680" y="2819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447560" y="3124080"/>
              <a:ext cx="7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6" name=""/>
          <p:cNvSpPr/>
          <p:nvPr/>
        </p:nvSpPr>
        <p:spPr>
          <a:xfrm>
            <a:off x="4343400" y="2590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גובה משלפני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419720" y="129528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גובה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מהאחרו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666880" y="312408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ואם אין גם בסכום זה מספיק לפרעון החו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886200" y="41148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גובה משלפני פניו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04920" y="5715000"/>
            <a:ext cx="35049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000000"/>
                </a:solidFill>
                <a:latin typeface="Times New Roman"/>
              </a:rPr>
              <a:t>ע”פ: שו”ע , חושן משפ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000000"/>
                </a:solidFill>
                <a:latin typeface="Times New Roman"/>
              </a:rPr>
              <a:t> סימן רנ”ג סעיף ט’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rot="1419600">
            <a:off x="1143000" y="1447560"/>
            <a:ext cx="53352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990720" y="1600200"/>
            <a:ext cx="1600200" cy="114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1066680" y="2819520"/>
            <a:ext cx="1422360" cy="917280"/>
            <a:chOff x="1066680" y="2819520"/>
            <a:chExt cx="1422360" cy="917280"/>
          </a:xfrm>
        </p:grpSpPr>
        <p:sp>
          <p:nvSpPr>
            <p:cNvPr id="2264" name=""/>
            <p:cNvSpPr/>
            <p:nvPr/>
          </p:nvSpPr>
          <p:spPr>
            <a:xfrm>
              <a:off x="1066680" y="2819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50000">
                  <a:srgbClr val="f2b63e"/>
                </a:gs>
                <a:gs pos="100000">
                  <a:srgbClr val="fbe4ae"/>
                </a:gs>
              </a:gsLst>
              <a:lin ang="135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447920" y="3124080"/>
              <a:ext cx="7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6" name=""/>
          <p:cNvSpPr/>
          <p:nvPr/>
        </p:nvSpPr>
        <p:spPr>
          <a:xfrm rot="1419600">
            <a:off x="990720" y="2590920"/>
            <a:ext cx="533160" cy="1066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990720" y="2666880"/>
            <a:ext cx="1600200" cy="1143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1066680" y="3962520"/>
            <a:ext cx="1422360" cy="917280"/>
            <a:chOff x="1066680" y="3962520"/>
            <a:chExt cx="1422360" cy="917280"/>
          </a:xfrm>
        </p:grpSpPr>
        <p:sp>
          <p:nvSpPr>
            <p:cNvPr id="2269" name=""/>
            <p:cNvSpPr/>
            <p:nvPr/>
          </p:nvSpPr>
          <p:spPr>
            <a:xfrm>
              <a:off x="1066680" y="3962520"/>
              <a:ext cx="1422360" cy="917280"/>
            </a:xfrm>
            <a:custGeom>
              <a:avLst/>
              <a:gdLst/>
              <a:ahLst/>
              <a:rect l="l" t="t" r="r" b="b"/>
              <a:pathLst>
                <a:path w="2358" h="2086">
                  <a:moveTo>
                    <a:pt x="285" y="22"/>
                  </a:moveTo>
                  <a:lnTo>
                    <a:pt x="670" y="95"/>
                  </a:lnTo>
                  <a:lnTo>
                    <a:pt x="663" y="0"/>
                  </a:lnTo>
                  <a:lnTo>
                    <a:pt x="1122" y="109"/>
                  </a:lnTo>
                  <a:lnTo>
                    <a:pt x="1122" y="0"/>
                  </a:lnTo>
                  <a:lnTo>
                    <a:pt x="1610" y="0"/>
                  </a:lnTo>
                  <a:lnTo>
                    <a:pt x="1602" y="103"/>
                  </a:lnTo>
                  <a:lnTo>
                    <a:pt x="2196" y="0"/>
                  </a:lnTo>
                  <a:lnTo>
                    <a:pt x="1478" y="586"/>
                  </a:lnTo>
                  <a:lnTo>
                    <a:pt x="1547" y="592"/>
                  </a:lnTo>
                  <a:lnTo>
                    <a:pt x="1628" y="607"/>
                  </a:lnTo>
                  <a:lnTo>
                    <a:pt x="1717" y="630"/>
                  </a:lnTo>
                  <a:lnTo>
                    <a:pt x="1802" y="660"/>
                  </a:lnTo>
                  <a:lnTo>
                    <a:pt x="1893" y="698"/>
                  </a:lnTo>
                  <a:lnTo>
                    <a:pt x="1969" y="735"/>
                  </a:lnTo>
                  <a:lnTo>
                    <a:pt x="2049" y="788"/>
                  </a:lnTo>
                  <a:lnTo>
                    <a:pt x="2120" y="843"/>
                  </a:lnTo>
                  <a:lnTo>
                    <a:pt x="2174" y="894"/>
                  </a:lnTo>
                  <a:lnTo>
                    <a:pt x="2227" y="953"/>
                  </a:lnTo>
                  <a:lnTo>
                    <a:pt x="2273" y="1021"/>
                  </a:lnTo>
                  <a:lnTo>
                    <a:pt x="2312" y="1098"/>
                  </a:lnTo>
                  <a:lnTo>
                    <a:pt x="2338" y="1169"/>
                  </a:lnTo>
                  <a:lnTo>
                    <a:pt x="2354" y="1236"/>
                  </a:lnTo>
                  <a:lnTo>
                    <a:pt x="2358" y="1325"/>
                  </a:lnTo>
                  <a:lnTo>
                    <a:pt x="2354" y="1418"/>
                  </a:lnTo>
                  <a:lnTo>
                    <a:pt x="2335" y="1492"/>
                  </a:lnTo>
                  <a:lnTo>
                    <a:pt x="2313" y="1557"/>
                  </a:lnTo>
                  <a:lnTo>
                    <a:pt x="2285" y="1617"/>
                  </a:lnTo>
                  <a:lnTo>
                    <a:pt x="2240" y="1683"/>
                  </a:lnTo>
                  <a:lnTo>
                    <a:pt x="2181" y="1756"/>
                  </a:lnTo>
                  <a:lnTo>
                    <a:pt x="2105" y="1831"/>
                  </a:lnTo>
                  <a:lnTo>
                    <a:pt x="2016" y="1895"/>
                  </a:lnTo>
                  <a:lnTo>
                    <a:pt x="1926" y="1946"/>
                  </a:lnTo>
                  <a:lnTo>
                    <a:pt x="1847" y="1981"/>
                  </a:lnTo>
                  <a:lnTo>
                    <a:pt x="1771" y="2012"/>
                  </a:lnTo>
                  <a:lnTo>
                    <a:pt x="1695" y="2036"/>
                  </a:lnTo>
                  <a:lnTo>
                    <a:pt x="1614" y="2056"/>
                  </a:lnTo>
                  <a:lnTo>
                    <a:pt x="1544" y="2069"/>
                  </a:lnTo>
                  <a:lnTo>
                    <a:pt x="1443" y="2080"/>
                  </a:lnTo>
                  <a:lnTo>
                    <a:pt x="1363" y="2086"/>
                  </a:lnTo>
                  <a:lnTo>
                    <a:pt x="957" y="2086"/>
                  </a:lnTo>
                  <a:lnTo>
                    <a:pt x="874" y="2080"/>
                  </a:lnTo>
                  <a:lnTo>
                    <a:pt x="774" y="2063"/>
                  </a:lnTo>
                  <a:lnTo>
                    <a:pt x="649" y="2033"/>
                  </a:lnTo>
                  <a:lnTo>
                    <a:pt x="521" y="1990"/>
                  </a:lnTo>
                  <a:lnTo>
                    <a:pt x="398" y="1932"/>
                  </a:lnTo>
                  <a:lnTo>
                    <a:pt x="290" y="1861"/>
                  </a:lnTo>
                  <a:lnTo>
                    <a:pt x="213" y="1794"/>
                  </a:lnTo>
                  <a:lnTo>
                    <a:pt x="149" y="1729"/>
                  </a:lnTo>
                  <a:lnTo>
                    <a:pt x="90" y="1647"/>
                  </a:lnTo>
                  <a:lnTo>
                    <a:pt x="46" y="1556"/>
                  </a:lnTo>
                  <a:lnTo>
                    <a:pt x="25" y="1490"/>
                  </a:lnTo>
                  <a:lnTo>
                    <a:pt x="8" y="1424"/>
                  </a:lnTo>
                  <a:lnTo>
                    <a:pt x="0" y="1357"/>
                  </a:lnTo>
                  <a:lnTo>
                    <a:pt x="4" y="1295"/>
                  </a:lnTo>
                  <a:lnTo>
                    <a:pt x="18" y="1200"/>
                  </a:lnTo>
                  <a:lnTo>
                    <a:pt x="49" y="1102"/>
                  </a:lnTo>
                  <a:lnTo>
                    <a:pt x="99" y="1002"/>
                  </a:lnTo>
                  <a:lnTo>
                    <a:pt x="172" y="911"/>
                  </a:lnTo>
                  <a:lnTo>
                    <a:pt x="249" y="835"/>
                  </a:lnTo>
                  <a:lnTo>
                    <a:pt x="348" y="756"/>
                  </a:lnTo>
                  <a:lnTo>
                    <a:pt x="452" y="700"/>
                  </a:lnTo>
                  <a:lnTo>
                    <a:pt x="586" y="644"/>
                  </a:lnTo>
                  <a:lnTo>
                    <a:pt x="733" y="605"/>
                  </a:lnTo>
                  <a:lnTo>
                    <a:pt x="824" y="587"/>
                  </a:lnTo>
                  <a:lnTo>
                    <a:pt x="285" y="22"/>
                  </a:ln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50000">
                  <a:srgbClr val="f2b63e"/>
                </a:gs>
                <a:gs pos="100000">
                  <a:srgbClr val="fbe4ae"/>
                </a:gs>
              </a:gsLst>
              <a:lin ang="135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390320" y="4319640"/>
              <a:ext cx="7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1" name=""/>
          <p:cNvSpPr/>
          <p:nvPr/>
        </p:nvSpPr>
        <p:spPr>
          <a:xfrm rot="1419600">
            <a:off x="990720" y="3733920"/>
            <a:ext cx="533160" cy="1066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14800" y="11430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utumn"/>
                <a:cs typeface="Arial (Hebrew)"/>
              </a:rPr>
              <a:t>משה קבל תורה מסינ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90720" y="1295280"/>
            <a:ext cx="3319200" cy="1724040"/>
            <a:chOff x="990720" y="1295280"/>
            <a:chExt cx="3319200" cy="1724040"/>
          </a:xfrm>
        </p:grpSpPr>
        <p:sp>
          <p:nvSpPr>
            <p:cNvPr id="47" name=""/>
            <p:cNvSpPr/>
            <p:nvPr/>
          </p:nvSpPr>
          <p:spPr>
            <a:xfrm>
              <a:off x="990720" y="1295280"/>
              <a:ext cx="3319200" cy="1724040"/>
            </a:xfrm>
            <a:custGeom>
              <a:avLst/>
              <a:gdLst/>
              <a:ahLst/>
              <a:rect l="l" t="t" r="r" b="b"/>
              <a:pathLst>
                <a:path w="2091" h="1086">
                  <a:moveTo>
                    <a:pt x="0" y="1086"/>
                  </a:moveTo>
                  <a:lnTo>
                    <a:pt x="96" y="947"/>
                  </a:lnTo>
                  <a:lnTo>
                    <a:pt x="217" y="839"/>
                  </a:lnTo>
                  <a:lnTo>
                    <a:pt x="351" y="801"/>
                  </a:lnTo>
                  <a:lnTo>
                    <a:pt x="389" y="659"/>
                  </a:lnTo>
                  <a:lnTo>
                    <a:pt x="503" y="543"/>
                  </a:lnTo>
                  <a:lnTo>
                    <a:pt x="656" y="543"/>
                  </a:lnTo>
                  <a:lnTo>
                    <a:pt x="731" y="492"/>
                  </a:lnTo>
                  <a:lnTo>
                    <a:pt x="782" y="364"/>
                  </a:lnTo>
                  <a:lnTo>
                    <a:pt x="898" y="225"/>
                  </a:lnTo>
                  <a:lnTo>
                    <a:pt x="960" y="32"/>
                  </a:lnTo>
                  <a:lnTo>
                    <a:pt x="1075" y="57"/>
                  </a:lnTo>
                  <a:lnTo>
                    <a:pt x="1209" y="0"/>
                  </a:lnTo>
                  <a:lnTo>
                    <a:pt x="1247" y="70"/>
                  </a:lnTo>
                  <a:lnTo>
                    <a:pt x="1320" y="123"/>
                  </a:lnTo>
                  <a:lnTo>
                    <a:pt x="1382" y="264"/>
                  </a:lnTo>
                  <a:lnTo>
                    <a:pt x="1507" y="343"/>
                  </a:lnTo>
                  <a:lnTo>
                    <a:pt x="1570" y="485"/>
                  </a:lnTo>
                  <a:lnTo>
                    <a:pt x="1709" y="562"/>
                  </a:lnTo>
                  <a:lnTo>
                    <a:pt x="1741" y="735"/>
                  </a:lnTo>
                  <a:lnTo>
                    <a:pt x="1997" y="921"/>
                  </a:lnTo>
                  <a:lnTo>
                    <a:pt x="2091" y="1086"/>
                  </a:lnTo>
                  <a:lnTo>
                    <a:pt x="0" y="108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2985840" y="1487160"/>
              <a:ext cx="767520" cy="1197000"/>
              <a:chOff x="2985840" y="1487160"/>
              <a:chExt cx="767520" cy="1197000"/>
            </a:xfrm>
          </p:grpSpPr>
          <p:sp>
            <p:nvSpPr>
              <p:cNvPr id="49" name=""/>
              <p:cNvSpPr/>
              <p:nvPr/>
            </p:nvSpPr>
            <p:spPr>
              <a:xfrm>
                <a:off x="2985840" y="1487160"/>
                <a:ext cx="221760" cy="400320"/>
              </a:xfrm>
              <a:custGeom>
                <a:avLst/>
                <a:gdLst/>
                <a:ahLst/>
                <a:rect l="l" t="t" r="r" b="b"/>
                <a:pathLst>
                  <a:path w="140" h="252">
                    <a:moveTo>
                      <a:pt x="63" y="0"/>
                    </a:moveTo>
                    <a:lnTo>
                      <a:pt x="46" y="95"/>
                    </a:lnTo>
                    <a:lnTo>
                      <a:pt x="63" y="142"/>
                    </a:lnTo>
                    <a:lnTo>
                      <a:pt x="16" y="189"/>
                    </a:lnTo>
                    <a:lnTo>
                      <a:pt x="0" y="252"/>
                    </a:lnTo>
                    <a:lnTo>
                      <a:pt x="77" y="235"/>
                    </a:lnTo>
                    <a:lnTo>
                      <a:pt x="77" y="205"/>
                    </a:lnTo>
                    <a:lnTo>
                      <a:pt x="140" y="235"/>
                    </a:lnTo>
                    <a:lnTo>
                      <a:pt x="125" y="142"/>
                    </a:lnTo>
                    <a:lnTo>
                      <a:pt x="63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134880" y="1833480"/>
                <a:ext cx="347040" cy="452520"/>
              </a:xfrm>
              <a:custGeom>
                <a:avLst/>
                <a:gdLst/>
                <a:ahLst/>
                <a:rect l="l" t="t" r="r" b="b"/>
                <a:pathLst>
                  <a:path w="219" h="285">
                    <a:moveTo>
                      <a:pt x="156" y="0"/>
                    </a:moveTo>
                    <a:lnTo>
                      <a:pt x="219" y="143"/>
                    </a:lnTo>
                    <a:lnTo>
                      <a:pt x="156" y="159"/>
                    </a:lnTo>
                    <a:lnTo>
                      <a:pt x="94" y="237"/>
                    </a:lnTo>
                    <a:lnTo>
                      <a:pt x="46" y="191"/>
                    </a:lnTo>
                    <a:lnTo>
                      <a:pt x="0" y="285"/>
                    </a:lnTo>
                    <a:lnTo>
                      <a:pt x="0" y="143"/>
                    </a:lnTo>
                    <a:lnTo>
                      <a:pt x="94" y="128"/>
                    </a:lnTo>
                    <a:lnTo>
                      <a:pt x="109" y="34"/>
                    </a:lnTo>
                    <a:lnTo>
                      <a:pt x="156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07760" y="2185920"/>
                <a:ext cx="345600" cy="498240"/>
              </a:xfrm>
              <a:custGeom>
                <a:avLst/>
                <a:gdLst/>
                <a:ahLst/>
                <a:rect l="l" t="t" r="r" b="b"/>
                <a:pathLst>
                  <a:path w="218" h="314">
                    <a:moveTo>
                      <a:pt x="186" y="0"/>
                    </a:moveTo>
                    <a:lnTo>
                      <a:pt x="93" y="31"/>
                    </a:lnTo>
                    <a:lnTo>
                      <a:pt x="93" y="142"/>
                    </a:lnTo>
                    <a:lnTo>
                      <a:pt x="30" y="126"/>
                    </a:lnTo>
                    <a:lnTo>
                      <a:pt x="0" y="219"/>
                    </a:lnTo>
                    <a:lnTo>
                      <a:pt x="78" y="236"/>
                    </a:lnTo>
                    <a:lnTo>
                      <a:pt x="123" y="314"/>
                    </a:lnTo>
                    <a:lnTo>
                      <a:pt x="172" y="219"/>
                    </a:lnTo>
                    <a:lnTo>
                      <a:pt x="218" y="254"/>
                    </a:lnTo>
                    <a:lnTo>
                      <a:pt x="218" y="174"/>
                    </a:lnTo>
                    <a:lnTo>
                      <a:pt x="186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" name=""/>
          <p:cNvGrpSpPr/>
          <p:nvPr/>
        </p:nvGrpSpPr>
        <p:grpSpPr>
          <a:xfrm>
            <a:off x="2286000" y="380880"/>
            <a:ext cx="914400" cy="963720"/>
            <a:chOff x="2286000" y="380880"/>
            <a:chExt cx="914400" cy="963720"/>
          </a:xfrm>
        </p:grpSpPr>
        <p:sp>
          <p:nvSpPr>
            <p:cNvPr id="53" name=""/>
            <p:cNvSpPr/>
            <p:nvPr/>
          </p:nvSpPr>
          <p:spPr>
            <a:xfrm>
              <a:off x="2286000" y="380880"/>
              <a:ext cx="914400" cy="963720"/>
            </a:xfrm>
            <a:custGeom>
              <a:avLst/>
              <a:gdLst/>
              <a:ahLst/>
              <a:rect l="l" t="t" r="r" b="b"/>
              <a:pathLst>
                <a:path w="2099" h="2270">
                  <a:moveTo>
                    <a:pt x="2099" y="2270"/>
                  </a:moveTo>
                  <a:lnTo>
                    <a:pt x="2099" y="529"/>
                  </a:lnTo>
                  <a:lnTo>
                    <a:pt x="2095" y="476"/>
                  </a:lnTo>
                  <a:lnTo>
                    <a:pt x="2087" y="424"/>
                  </a:lnTo>
                  <a:lnTo>
                    <a:pt x="2075" y="374"/>
                  </a:lnTo>
                  <a:lnTo>
                    <a:pt x="2058" y="325"/>
                  </a:lnTo>
                  <a:lnTo>
                    <a:pt x="2035" y="279"/>
                  </a:lnTo>
                  <a:lnTo>
                    <a:pt x="2009" y="234"/>
                  </a:lnTo>
                  <a:lnTo>
                    <a:pt x="1978" y="193"/>
                  </a:lnTo>
                  <a:lnTo>
                    <a:pt x="1945" y="157"/>
                  </a:lnTo>
                  <a:lnTo>
                    <a:pt x="1909" y="122"/>
                  </a:lnTo>
                  <a:lnTo>
                    <a:pt x="1868" y="91"/>
                  </a:lnTo>
                  <a:lnTo>
                    <a:pt x="1825" y="65"/>
                  </a:lnTo>
                  <a:lnTo>
                    <a:pt x="1779" y="42"/>
                  </a:lnTo>
                  <a:lnTo>
                    <a:pt x="1730" y="25"/>
                  </a:lnTo>
                  <a:lnTo>
                    <a:pt x="1682" y="11"/>
                  </a:lnTo>
                  <a:lnTo>
                    <a:pt x="1629" y="3"/>
                  </a:lnTo>
                  <a:lnTo>
                    <a:pt x="1575" y="0"/>
                  </a:lnTo>
                  <a:lnTo>
                    <a:pt x="1521" y="3"/>
                  </a:lnTo>
                  <a:lnTo>
                    <a:pt x="1468" y="11"/>
                  </a:lnTo>
                  <a:lnTo>
                    <a:pt x="1418" y="25"/>
                  </a:lnTo>
                  <a:lnTo>
                    <a:pt x="1370" y="42"/>
                  </a:lnTo>
                  <a:lnTo>
                    <a:pt x="1325" y="65"/>
                  </a:lnTo>
                  <a:lnTo>
                    <a:pt x="1280" y="91"/>
                  </a:lnTo>
                  <a:lnTo>
                    <a:pt x="1240" y="122"/>
                  </a:lnTo>
                  <a:lnTo>
                    <a:pt x="1203" y="157"/>
                  </a:lnTo>
                  <a:lnTo>
                    <a:pt x="1168" y="193"/>
                  </a:lnTo>
                  <a:lnTo>
                    <a:pt x="1137" y="234"/>
                  </a:lnTo>
                  <a:lnTo>
                    <a:pt x="1110" y="279"/>
                  </a:lnTo>
                  <a:lnTo>
                    <a:pt x="1088" y="325"/>
                  </a:lnTo>
                  <a:lnTo>
                    <a:pt x="1071" y="374"/>
                  </a:lnTo>
                  <a:lnTo>
                    <a:pt x="1057" y="424"/>
                  </a:lnTo>
                  <a:lnTo>
                    <a:pt x="1050" y="476"/>
                  </a:lnTo>
                  <a:lnTo>
                    <a:pt x="1046" y="529"/>
                  </a:lnTo>
                  <a:lnTo>
                    <a:pt x="1044" y="476"/>
                  </a:lnTo>
                  <a:lnTo>
                    <a:pt x="1036" y="424"/>
                  </a:lnTo>
                  <a:lnTo>
                    <a:pt x="1022" y="374"/>
                  </a:lnTo>
                  <a:lnTo>
                    <a:pt x="1005" y="325"/>
                  </a:lnTo>
                  <a:lnTo>
                    <a:pt x="984" y="279"/>
                  </a:lnTo>
                  <a:lnTo>
                    <a:pt x="956" y="234"/>
                  </a:lnTo>
                  <a:lnTo>
                    <a:pt x="927" y="193"/>
                  </a:lnTo>
                  <a:lnTo>
                    <a:pt x="893" y="157"/>
                  </a:lnTo>
                  <a:lnTo>
                    <a:pt x="856" y="122"/>
                  </a:lnTo>
                  <a:lnTo>
                    <a:pt x="815" y="91"/>
                  </a:lnTo>
                  <a:lnTo>
                    <a:pt x="772" y="65"/>
                  </a:lnTo>
                  <a:lnTo>
                    <a:pt x="728" y="42"/>
                  </a:lnTo>
                  <a:lnTo>
                    <a:pt x="679" y="25"/>
                  </a:lnTo>
                  <a:lnTo>
                    <a:pt x="629" y="11"/>
                  </a:lnTo>
                  <a:lnTo>
                    <a:pt x="576" y="3"/>
                  </a:lnTo>
                  <a:lnTo>
                    <a:pt x="524" y="0"/>
                  </a:lnTo>
                  <a:lnTo>
                    <a:pt x="470" y="3"/>
                  </a:lnTo>
                  <a:lnTo>
                    <a:pt x="417" y="11"/>
                  </a:lnTo>
                  <a:lnTo>
                    <a:pt x="367" y="25"/>
                  </a:lnTo>
                  <a:lnTo>
                    <a:pt x="319" y="42"/>
                  </a:lnTo>
                  <a:lnTo>
                    <a:pt x="274" y="65"/>
                  </a:lnTo>
                  <a:lnTo>
                    <a:pt x="229" y="91"/>
                  </a:lnTo>
                  <a:lnTo>
                    <a:pt x="191" y="122"/>
                  </a:lnTo>
                  <a:lnTo>
                    <a:pt x="154" y="157"/>
                  </a:lnTo>
                  <a:lnTo>
                    <a:pt x="119" y="193"/>
                  </a:lnTo>
                  <a:lnTo>
                    <a:pt x="90" y="234"/>
                  </a:lnTo>
                  <a:lnTo>
                    <a:pt x="63" y="279"/>
                  </a:lnTo>
                  <a:lnTo>
                    <a:pt x="41" y="325"/>
                  </a:lnTo>
                  <a:lnTo>
                    <a:pt x="24" y="374"/>
                  </a:lnTo>
                  <a:lnTo>
                    <a:pt x="10" y="424"/>
                  </a:lnTo>
                  <a:lnTo>
                    <a:pt x="2" y="476"/>
                  </a:lnTo>
                  <a:lnTo>
                    <a:pt x="0" y="529"/>
                  </a:lnTo>
                  <a:lnTo>
                    <a:pt x="0" y="2270"/>
                  </a:lnTo>
                  <a:lnTo>
                    <a:pt x="2099" y="2270"/>
                  </a:lnTo>
                  <a:close/>
                </a:path>
              </a:pathLst>
            </a:cu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09160" y="607320"/>
              <a:ext cx="81720" cy="88200"/>
            </a:xfrm>
            <a:custGeom>
              <a:avLst/>
              <a:gdLst/>
              <a:ahLst/>
              <a:rect l="l" t="t" r="r" b="b"/>
              <a:pathLst>
                <a:path w="188" h="209">
                  <a:moveTo>
                    <a:pt x="188" y="209"/>
                  </a:moveTo>
                  <a:lnTo>
                    <a:pt x="0" y="0"/>
                  </a:lnTo>
                  <a:lnTo>
                    <a:pt x="6" y="209"/>
                  </a:lnTo>
                  <a:lnTo>
                    <a:pt x="188" y="209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58840" y="615240"/>
              <a:ext cx="41040" cy="43200"/>
            </a:xfrm>
            <a:custGeom>
              <a:avLst/>
              <a:gdLst/>
              <a:ahLst/>
              <a:rect l="l" t="t" r="r" b="b"/>
              <a:pathLst>
                <a:path w="95" h="101">
                  <a:moveTo>
                    <a:pt x="0" y="101"/>
                  </a:moveTo>
                  <a:lnTo>
                    <a:pt x="95" y="0"/>
                  </a:lnTo>
                  <a:lnTo>
                    <a:pt x="0" y="101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9160" y="837360"/>
              <a:ext cx="79920" cy="720"/>
            </a:xfrm>
            <a:custGeom>
              <a:avLst/>
              <a:gdLst/>
              <a:ahLst/>
              <a:rect l="l" t="t" r="r" b="b"/>
              <a:pathLst>
                <a:path w="182" h="0">
                  <a:moveTo>
                    <a:pt x="182" y="0"/>
                  </a:moveTo>
                  <a:lnTo>
                    <a:pt x="0" y="0"/>
                  </a:lnTo>
                  <a:lnTo>
                    <a:pt x="182" y="0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11680" y="751680"/>
              <a:ext cx="63360" cy="85680"/>
            </a:xfrm>
            <a:custGeom>
              <a:avLst/>
              <a:gdLst/>
              <a:ahLst/>
              <a:rect l="l" t="t" r="r" b="b"/>
              <a:pathLst>
                <a:path w="145" h="201">
                  <a:moveTo>
                    <a:pt x="145" y="201"/>
                  </a:moveTo>
                  <a:lnTo>
                    <a:pt x="145" y="0"/>
                  </a:lnTo>
                  <a:lnTo>
                    <a:pt x="0" y="0"/>
                  </a:lnTo>
                  <a:lnTo>
                    <a:pt x="145" y="201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28240" y="891000"/>
              <a:ext cx="27720" cy="85680"/>
            </a:xfrm>
            <a:custGeom>
              <a:avLst/>
              <a:gdLst/>
              <a:ahLst/>
              <a:rect l="l" t="t" r="r" b="b"/>
              <a:pathLst>
                <a:path w="64" h="202">
                  <a:moveTo>
                    <a:pt x="64" y="202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64" y="202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20320" y="942120"/>
              <a:ext cx="35640" cy="345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0"/>
                  </a:moveTo>
                  <a:lnTo>
                    <a:pt x="0" y="81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66760" y="1032840"/>
              <a:ext cx="720" cy="83160"/>
            </a:xfrm>
            <a:custGeom>
              <a:avLst/>
              <a:gdLst/>
              <a:ahLst/>
              <a:rect l="l" t="t" r="r" b="b"/>
              <a:pathLst>
                <a:path w="0" h="196">
                  <a:moveTo>
                    <a:pt x="0" y="196"/>
                  </a:move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120" y="1032840"/>
              <a:ext cx="91440" cy="720"/>
            </a:xfrm>
            <a:custGeom>
              <a:avLst/>
              <a:gdLst/>
              <a:ahLst/>
              <a:rect l="l" t="t" r="r" b="b"/>
              <a:pathLst>
                <a:path w="209" h="0">
                  <a:moveTo>
                    <a:pt x="209" y="0"/>
                  </a:moveTo>
                  <a:lnTo>
                    <a:pt x="0" y="0"/>
                  </a:lnTo>
                  <a:lnTo>
                    <a:pt x="209" y="0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14200" y="1169640"/>
              <a:ext cx="72000" cy="85680"/>
            </a:xfrm>
            <a:custGeom>
              <a:avLst/>
              <a:gdLst/>
              <a:ahLst/>
              <a:rect l="l" t="t" r="r" b="b"/>
              <a:pathLst>
                <a:path w="165" h="201">
                  <a:moveTo>
                    <a:pt x="165" y="201"/>
                  </a:moveTo>
                  <a:lnTo>
                    <a:pt x="165" y="0"/>
                  </a:lnTo>
                  <a:lnTo>
                    <a:pt x="0" y="0"/>
                  </a:lnTo>
                  <a:lnTo>
                    <a:pt x="165" y="201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11680" y="1220400"/>
              <a:ext cx="720" cy="34560"/>
            </a:xfrm>
            <a:custGeom>
              <a:avLst/>
              <a:gdLst/>
              <a:ahLst/>
              <a:rect l="l" t="t" r="r" b="b"/>
              <a:pathLst>
                <a:path w="0" h="81">
                  <a:moveTo>
                    <a:pt x="0" y="81"/>
                  </a:moveTo>
                  <a:lnTo>
                    <a:pt x="0" y="0"/>
                  </a:lnTo>
                  <a:lnTo>
                    <a:pt x="0" y="81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78600" y="610920"/>
              <a:ext cx="21600" cy="82080"/>
            </a:xfrm>
            <a:custGeom>
              <a:avLst/>
              <a:gdLst/>
              <a:ahLst/>
              <a:rect l="l" t="t" r="r" b="b"/>
              <a:pathLst>
                <a:path w="50" h="194">
                  <a:moveTo>
                    <a:pt x="50" y="194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50" y="194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00200" y="751680"/>
              <a:ext cx="720" cy="85680"/>
            </a:xfrm>
            <a:custGeom>
              <a:avLst/>
              <a:gdLst/>
              <a:ahLst/>
              <a:rect l="l" t="t" r="r" b="b"/>
              <a:pathLst>
                <a:path w="0" h="201">
                  <a:moveTo>
                    <a:pt x="0" y="201"/>
                  </a:moveTo>
                  <a:lnTo>
                    <a:pt x="0" y="0"/>
                  </a:lnTo>
                  <a:lnTo>
                    <a:pt x="0" y="201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81120" y="751680"/>
              <a:ext cx="35640" cy="72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81" y="0"/>
                  </a:move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62040" y="891000"/>
              <a:ext cx="71280" cy="85680"/>
            </a:xfrm>
            <a:prstGeom prst="rect">
              <a:avLst/>
            </a:prstGeom>
            <a:noFill/>
            <a:ln w="42840">
              <a:solidFill>
                <a:srgbClr val="5900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62040" y="1032840"/>
              <a:ext cx="73800" cy="83160"/>
            </a:xfrm>
            <a:custGeom>
              <a:avLst/>
              <a:gdLst/>
              <a:ahLst/>
              <a:rect l="l" t="t" r="r" b="b"/>
              <a:pathLst>
                <a:path w="171" h="196">
                  <a:moveTo>
                    <a:pt x="0" y="0"/>
                  </a:moveTo>
                  <a:lnTo>
                    <a:pt x="0" y="196"/>
                  </a:lnTo>
                  <a:lnTo>
                    <a:pt x="171" y="196"/>
                  </a:lnTo>
                  <a:lnTo>
                    <a:pt x="171" y="0"/>
                  </a:lnTo>
                  <a:lnTo>
                    <a:pt x="101" y="6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96600" y="1177200"/>
              <a:ext cx="720" cy="32040"/>
            </a:xfrm>
            <a:custGeom>
              <a:avLst/>
              <a:gdLst/>
              <a:ahLst/>
              <a:rect l="l" t="t" r="r" b="b"/>
              <a:pathLst>
                <a:path w="0" h="76">
                  <a:moveTo>
                    <a:pt x="0" y="0"/>
                  </a:move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284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0" y="417960"/>
              <a:ext cx="864720" cy="909360"/>
            </a:xfrm>
            <a:custGeom>
              <a:avLst/>
              <a:gdLst/>
              <a:ahLst/>
              <a:rect l="l" t="t" r="r" b="b"/>
              <a:pathLst>
                <a:path w="1983" h="2142">
                  <a:moveTo>
                    <a:pt x="1983" y="2142"/>
                  </a:moveTo>
                  <a:lnTo>
                    <a:pt x="1983" y="496"/>
                  </a:lnTo>
                  <a:lnTo>
                    <a:pt x="1982" y="446"/>
                  </a:lnTo>
                  <a:lnTo>
                    <a:pt x="1974" y="395"/>
                  </a:lnTo>
                  <a:lnTo>
                    <a:pt x="1962" y="349"/>
                  </a:lnTo>
                  <a:lnTo>
                    <a:pt x="1945" y="302"/>
                  </a:lnTo>
                  <a:lnTo>
                    <a:pt x="1925" y="259"/>
                  </a:lnTo>
                  <a:lnTo>
                    <a:pt x="1900" y="217"/>
                  </a:lnTo>
                  <a:lnTo>
                    <a:pt x="1871" y="180"/>
                  </a:lnTo>
                  <a:lnTo>
                    <a:pt x="1840" y="143"/>
                  </a:lnTo>
                  <a:lnTo>
                    <a:pt x="1805" y="112"/>
                  </a:lnTo>
                  <a:lnTo>
                    <a:pt x="1766" y="83"/>
                  </a:lnTo>
                  <a:lnTo>
                    <a:pt x="1726" y="58"/>
                  </a:lnTo>
                  <a:lnTo>
                    <a:pt x="1681" y="39"/>
                  </a:lnTo>
                  <a:lnTo>
                    <a:pt x="1636" y="21"/>
                  </a:lnTo>
                  <a:lnTo>
                    <a:pt x="1588" y="9"/>
                  </a:lnTo>
                  <a:lnTo>
                    <a:pt x="1537" y="2"/>
                  </a:lnTo>
                  <a:lnTo>
                    <a:pt x="1487" y="0"/>
                  </a:lnTo>
                  <a:lnTo>
                    <a:pt x="1437" y="4"/>
                  </a:lnTo>
                  <a:lnTo>
                    <a:pt x="1388" y="15"/>
                  </a:lnTo>
                  <a:lnTo>
                    <a:pt x="1340" y="35"/>
                  </a:lnTo>
                  <a:lnTo>
                    <a:pt x="1295" y="60"/>
                  </a:lnTo>
                  <a:lnTo>
                    <a:pt x="1250" y="93"/>
                  </a:lnTo>
                  <a:lnTo>
                    <a:pt x="1210" y="130"/>
                  </a:lnTo>
                  <a:lnTo>
                    <a:pt x="1171" y="170"/>
                  </a:lnTo>
                  <a:lnTo>
                    <a:pt x="1136" y="217"/>
                  </a:lnTo>
                  <a:lnTo>
                    <a:pt x="1103" y="265"/>
                  </a:lnTo>
                  <a:lnTo>
                    <a:pt x="1076" y="316"/>
                  </a:lnTo>
                  <a:lnTo>
                    <a:pt x="1051" y="370"/>
                  </a:lnTo>
                  <a:lnTo>
                    <a:pt x="1029" y="424"/>
                  </a:lnTo>
                  <a:lnTo>
                    <a:pt x="1012" y="480"/>
                  </a:lnTo>
                  <a:lnTo>
                    <a:pt x="998" y="535"/>
                  </a:lnTo>
                  <a:lnTo>
                    <a:pt x="991" y="589"/>
                  </a:lnTo>
                  <a:lnTo>
                    <a:pt x="989" y="641"/>
                  </a:lnTo>
                  <a:lnTo>
                    <a:pt x="987" y="589"/>
                  </a:lnTo>
                  <a:lnTo>
                    <a:pt x="979" y="535"/>
                  </a:lnTo>
                  <a:lnTo>
                    <a:pt x="967" y="480"/>
                  </a:lnTo>
                  <a:lnTo>
                    <a:pt x="950" y="424"/>
                  </a:lnTo>
                  <a:lnTo>
                    <a:pt x="929" y="370"/>
                  </a:lnTo>
                  <a:lnTo>
                    <a:pt x="905" y="316"/>
                  </a:lnTo>
                  <a:lnTo>
                    <a:pt x="876" y="265"/>
                  </a:lnTo>
                  <a:lnTo>
                    <a:pt x="845" y="217"/>
                  </a:lnTo>
                  <a:lnTo>
                    <a:pt x="810" y="170"/>
                  </a:lnTo>
                  <a:lnTo>
                    <a:pt x="772" y="130"/>
                  </a:lnTo>
                  <a:lnTo>
                    <a:pt x="731" y="93"/>
                  </a:lnTo>
                  <a:lnTo>
                    <a:pt x="688" y="60"/>
                  </a:lnTo>
                  <a:lnTo>
                    <a:pt x="644" y="35"/>
                  </a:lnTo>
                  <a:lnTo>
                    <a:pt x="597" y="15"/>
                  </a:lnTo>
                  <a:lnTo>
                    <a:pt x="549" y="4"/>
                  </a:lnTo>
                  <a:lnTo>
                    <a:pt x="498" y="0"/>
                  </a:lnTo>
                  <a:lnTo>
                    <a:pt x="446" y="2"/>
                  </a:lnTo>
                  <a:lnTo>
                    <a:pt x="397" y="9"/>
                  </a:lnTo>
                  <a:lnTo>
                    <a:pt x="349" y="21"/>
                  </a:lnTo>
                  <a:lnTo>
                    <a:pt x="302" y="39"/>
                  </a:lnTo>
                  <a:lnTo>
                    <a:pt x="260" y="58"/>
                  </a:lnTo>
                  <a:lnTo>
                    <a:pt x="219" y="83"/>
                  </a:lnTo>
                  <a:lnTo>
                    <a:pt x="180" y="112"/>
                  </a:lnTo>
                  <a:lnTo>
                    <a:pt x="145" y="143"/>
                  </a:lnTo>
                  <a:lnTo>
                    <a:pt x="112" y="180"/>
                  </a:lnTo>
                  <a:lnTo>
                    <a:pt x="85" y="217"/>
                  </a:lnTo>
                  <a:lnTo>
                    <a:pt x="60" y="259"/>
                  </a:lnTo>
                  <a:lnTo>
                    <a:pt x="39" y="302"/>
                  </a:lnTo>
                  <a:lnTo>
                    <a:pt x="23" y="349"/>
                  </a:lnTo>
                  <a:lnTo>
                    <a:pt x="9" y="395"/>
                  </a:lnTo>
                  <a:lnTo>
                    <a:pt x="2" y="446"/>
                  </a:lnTo>
                  <a:lnTo>
                    <a:pt x="0" y="496"/>
                  </a:lnTo>
                  <a:lnTo>
                    <a:pt x="0" y="2142"/>
                  </a:lnTo>
                  <a:lnTo>
                    <a:pt x="1983" y="2142"/>
                  </a:lnTo>
                </a:path>
              </a:pathLst>
            </a:custGeom>
            <a:noFill/>
            <a:ln w="9360">
              <a:solidFill>
                <a:srgbClr val="5900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791320" y="2590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utumn"/>
                <a:cs typeface="Arial (Hebrew)"/>
              </a:rPr>
              <a:t>ומסרה ליהוש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4038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utumn"/>
                <a:cs typeface="Arial (Hebrew)"/>
              </a:rPr>
              <a:t>וזקנים לנביא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95288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utumn"/>
                <a:cs typeface="Arial (Hebrew)"/>
              </a:rPr>
              <a:t>ונביאים מסרוה לאנשי כנסת הגדול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3276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utumn"/>
                <a:cs typeface="Arial (Hebrew)"/>
              </a:rPr>
              <a:t>ויהושע לזקני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095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[אבות, א’, א’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533200" y="1929960"/>
            <a:ext cx="1059480" cy="1090080"/>
            <a:chOff x="5533200" y="1929960"/>
            <a:chExt cx="1059480" cy="1090080"/>
          </a:xfrm>
        </p:grpSpPr>
        <p:sp>
          <p:nvSpPr>
            <p:cNvPr id="77" name=""/>
            <p:cNvSpPr/>
            <p:nvPr/>
          </p:nvSpPr>
          <p:spPr>
            <a:xfrm rot="19864200">
              <a:off x="5726880" y="2250720"/>
              <a:ext cx="647640" cy="413280"/>
            </a:xfrm>
            <a:prstGeom prst="rect">
              <a:avLst/>
            </a:prstGeom>
            <a:solidFill>
              <a:srgbClr val="f2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864200">
              <a:off x="5772960" y="2396160"/>
              <a:ext cx="27720" cy="413280"/>
            </a:xfrm>
            <a:prstGeom prst="rect">
              <a:avLst/>
            </a:prstGeom>
            <a:solidFill>
              <a:srgbClr val="a6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864200">
              <a:off x="5776560" y="2394000"/>
              <a:ext cx="29880" cy="413280"/>
            </a:xfrm>
            <a:prstGeom prst="rect">
              <a:avLst/>
            </a:prstGeom>
            <a:solidFill>
              <a:srgbClr val="b29d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9864200">
              <a:off x="5783400" y="2390760"/>
              <a:ext cx="27720" cy="413280"/>
            </a:xfrm>
            <a:prstGeom prst="rect">
              <a:avLst/>
            </a:prstGeom>
            <a:solidFill>
              <a:srgbClr val="bf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864200">
              <a:off x="5787000" y="2388240"/>
              <a:ext cx="29880" cy="413280"/>
            </a:xfrm>
            <a:prstGeom prst="rect">
              <a:avLst/>
            </a:prstGeom>
            <a:solidFill>
              <a:srgbClr val="cc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864200">
              <a:off x="5793480" y="2385000"/>
              <a:ext cx="28440" cy="413280"/>
            </a:xfrm>
            <a:prstGeom prst="rect">
              <a:avLst/>
            </a:prstGeom>
            <a:solidFill>
              <a:srgbClr val="d9d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9864200">
              <a:off x="5797440" y="2382480"/>
              <a:ext cx="29520" cy="413280"/>
            </a:xfrm>
            <a:prstGeom prst="rect">
              <a:avLst/>
            </a:prstGeom>
            <a:solidFill>
              <a:srgbClr val="e5e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9864200">
              <a:off x="5804640" y="2378880"/>
              <a:ext cx="27720" cy="413280"/>
            </a:xfrm>
            <a:prstGeom prst="rect">
              <a:avLst/>
            </a:prstGeom>
            <a:solidFill>
              <a:srgbClr val="f2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9864200">
              <a:off x="6304320" y="2106360"/>
              <a:ext cx="23400" cy="411120"/>
            </a:xfrm>
            <a:prstGeom prst="rect">
              <a:avLst/>
            </a:prstGeom>
            <a:solidFill>
              <a:srgbClr val="a6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9864200">
              <a:off x="6298920" y="2109600"/>
              <a:ext cx="23400" cy="411120"/>
            </a:xfrm>
            <a:prstGeom prst="rect">
              <a:avLst/>
            </a:prstGeom>
            <a:solidFill>
              <a:srgbClr val="b29d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9864200">
              <a:off x="6295320" y="2111040"/>
              <a:ext cx="24120" cy="411120"/>
            </a:xfrm>
            <a:prstGeom prst="rect">
              <a:avLst/>
            </a:prstGeom>
            <a:solidFill>
              <a:srgbClr val="bf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9864200">
              <a:off x="6291360" y="2113560"/>
              <a:ext cx="21960" cy="411120"/>
            </a:xfrm>
            <a:prstGeom prst="rect">
              <a:avLst/>
            </a:prstGeom>
            <a:solidFill>
              <a:srgbClr val="cc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9864200">
              <a:off x="6286680" y="2116080"/>
              <a:ext cx="23400" cy="411120"/>
            </a:xfrm>
            <a:prstGeom prst="rect">
              <a:avLst/>
            </a:prstGeom>
            <a:solidFill>
              <a:srgbClr val="d9d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864200">
              <a:off x="6283080" y="2117880"/>
              <a:ext cx="24120" cy="411120"/>
            </a:xfrm>
            <a:prstGeom prst="rect">
              <a:avLst/>
            </a:prstGeom>
            <a:solidFill>
              <a:srgbClr val="e5e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9864200">
              <a:off x="6277680" y="2120760"/>
              <a:ext cx="24120" cy="411120"/>
            </a:xfrm>
            <a:prstGeom prst="rect">
              <a:avLst/>
            </a:prstGeom>
            <a:solidFill>
              <a:srgbClr val="f2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9864200">
              <a:off x="5724000" y="2252880"/>
              <a:ext cx="646920" cy="4122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864200">
              <a:off x="5715720" y="2367000"/>
              <a:ext cx="23400" cy="529560"/>
            </a:xfrm>
            <a:custGeom>
              <a:avLst/>
              <a:gdLst/>
              <a:ahLst/>
              <a:rect l="l" t="t" r="r" b="b"/>
              <a:pathLst>
                <a:path w="34" h="760">
                  <a:moveTo>
                    <a:pt x="20" y="0"/>
                  </a:moveTo>
                  <a:lnTo>
                    <a:pt x="34" y="0"/>
                  </a:lnTo>
                  <a:lnTo>
                    <a:pt x="34" y="760"/>
                  </a:lnTo>
                  <a:lnTo>
                    <a:pt x="17" y="760"/>
                  </a:lnTo>
                  <a:lnTo>
                    <a:pt x="0" y="76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9864200">
              <a:off x="5806800" y="2816640"/>
              <a:ext cx="54000" cy="12600"/>
            </a:xfrm>
            <a:custGeom>
              <a:avLst/>
              <a:gdLst/>
              <a:ahLst/>
              <a:rect l="l" t="t" r="r" b="b"/>
              <a:pathLst>
                <a:path w="78" h="18">
                  <a:moveTo>
                    <a:pt x="72" y="18"/>
                  </a:moveTo>
                  <a:lnTo>
                    <a:pt x="78" y="15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8" y="3"/>
                  </a:lnTo>
                  <a:lnTo>
                    <a:pt x="72" y="0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5"/>
                  </a:lnTo>
                  <a:lnTo>
                    <a:pt x="9" y="18"/>
                  </a:lnTo>
                  <a:lnTo>
                    <a:pt x="72" y="18"/>
                  </a:lnTo>
                  <a:lnTo>
                    <a:pt x="7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94040" y="2403000"/>
              <a:ext cx="256320" cy="4633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9864200">
              <a:off x="5569560" y="2370240"/>
              <a:ext cx="40320" cy="2556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29" y="37"/>
                  </a:moveTo>
                  <a:lnTo>
                    <a:pt x="40" y="34"/>
                  </a:lnTo>
                  <a:lnTo>
                    <a:pt x="49" y="31"/>
                  </a:lnTo>
                  <a:lnTo>
                    <a:pt x="55" y="26"/>
                  </a:lnTo>
                  <a:lnTo>
                    <a:pt x="58" y="20"/>
                  </a:lnTo>
                  <a:lnTo>
                    <a:pt x="55" y="11"/>
                  </a:lnTo>
                  <a:lnTo>
                    <a:pt x="49" y="5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9" y="5"/>
                  </a:lnTo>
                  <a:lnTo>
                    <a:pt x="3" y="11"/>
                  </a:lnTo>
                  <a:lnTo>
                    <a:pt x="0" y="20"/>
                  </a:lnTo>
                  <a:lnTo>
                    <a:pt x="3" y="26"/>
                  </a:lnTo>
                  <a:lnTo>
                    <a:pt x="9" y="31"/>
                  </a:lnTo>
                  <a:lnTo>
                    <a:pt x="17" y="34"/>
                  </a:lnTo>
                  <a:lnTo>
                    <a:pt x="29" y="3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9864200">
              <a:off x="5556240" y="2379240"/>
              <a:ext cx="104400" cy="75960"/>
            </a:xfrm>
            <a:custGeom>
              <a:avLst/>
              <a:gdLst/>
              <a:ahLst/>
              <a:rect l="l" t="t" r="r" b="b"/>
              <a:pathLst>
                <a:path w="150" h="109">
                  <a:moveTo>
                    <a:pt x="75" y="109"/>
                  </a:moveTo>
                  <a:lnTo>
                    <a:pt x="147" y="66"/>
                  </a:lnTo>
                  <a:lnTo>
                    <a:pt x="150" y="14"/>
                  </a:lnTo>
                  <a:lnTo>
                    <a:pt x="75" y="0"/>
                  </a:lnTo>
                  <a:lnTo>
                    <a:pt x="0" y="14"/>
                  </a:lnTo>
                  <a:lnTo>
                    <a:pt x="3" y="66"/>
                  </a:lnTo>
                  <a:lnTo>
                    <a:pt x="75" y="109"/>
                  </a:lnTo>
                  <a:lnTo>
                    <a:pt x="75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9864200">
              <a:off x="5575320" y="2407320"/>
              <a:ext cx="25560" cy="1584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0" y="23"/>
                  </a:moveTo>
                  <a:lnTo>
                    <a:pt x="37" y="0"/>
                  </a:lnTo>
                  <a:lnTo>
                    <a:pt x="31" y="0"/>
                  </a:lnTo>
                  <a:lnTo>
                    <a:pt x="20" y="14"/>
                  </a:lnTo>
                  <a:lnTo>
                    <a:pt x="5" y="0"/>
                  </a:lnTo>
                  <a:lnTo>
                    <a:pt x="0" y="0"/>
                  </a:lnTo>
                  <a:lnTo>
                    <a:pt x="20" y="23"/>
                  </a:lnTo>
                  <a:lnTo>
                    <a:pt x="2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9864200">
              <a:off x="5592240" y="2397600"/>
              <a:ext cx="26280" cy="1584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21" y="23"/>
                  </a:moveTo>
                  <a:lnTo>
                    <a:pt x="38" y="0"/>
                  </a:lnTo>
                  <a:lnTo>
                    <a:pt x="32" y="0"/>
                  </a:lnTo>
                  <a:lnTo>
                    <a:pt x="21" y="14"/>
                  </a:lnTo>
                  <a:lnTo>
                    <a:pt x="9" y="0"/>
                  </a:lnTo>
                  <a:lnTo>
                    <a:pt x="0" y="0"/>
                  </a:lnTo>
                  <a:lnTo>
                    <a:pt x="21" y="23"/>
                  </a:lnTo>
                  <a:lnTo>
                    <a:pt x="2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9864200">
              <a:off x="5611680" y="2386800"/>
              <a:ext cx="26280" cy="1584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20" y="23"/>
                  </a:moveTo>
                  <a:lnTo>
                    <a:pt x="38" y="0"/>
                  </a:lnTo>
                  <a:lnTo>
                    <a:pt x="32" y="0"/>
                  </a:lnTo>
                  <a:lnTo>
                    <a:pt x="20" y="14"/>
                  </a:lnTo>
                  <a:lnTo>
                    <a:pt x="6" y="0"/>
                  </a:lnTo>
                  <a:lnTo>
                    <a:pt x="0" y="0"/>
                  </a:lnTo>
                  <a:lnTo>
                    <a:pt x="20" y="23"/>
                  </a:lnTo>
                  <a:lnTo>
                    <a:pt x="2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9864200">
              <a:off x="5630040" y="2378520"/>
              <a:ext cx="19800" cy="1584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9" y="6"/>
                  </a:moveTo>
                  <a:lnTo>
                    <a:pt x="20" y="14"/>
                  </a:lnTo>
                  <a:lnTo>
                    <a:pt x="9" y="0"/>
                  </a:lnTo>
                  <a:lnTo>
                    <a:pt x="0" y="0"/>
                  </a:lnTo>
                  <a:lnTo>
                    <a:pt x="20" y="23"/>
                  </a:lnTo>
                  <a:lnTo>
                    <a:pt x="29" y="14"/>
                  </a:lnTo>
                  <a:lnTo>
                    <a:pt x="29" y="6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566680" y="2396880"/>
              <a:ext cx="88200" cy="478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9864200">
              <a:off x="5555880" y="2418120"/>
              <a:ext cx="25560" cy="1584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0" y="23"/>
                  </a:moveTo>
                  <a:lnTo>
                    <a:pt x="37" y="0"/>
                  </a:lnTo>
                  <a:lnTo>
                    <a:pt x="35" y="0"/>
                  </a:lnTo>
                  <a:lnTo>
                    <a:pt x="20" y="14"/>
                  </a:lnTo>
                  <a:lnTo>
                    <a:pt x="9" y="0"/>
                  </a:lnTo>
                  <a:lnTo>
                    <a:pt x="0" y="0"/>
                  </a:lnTo>
                  <a:lnTo>
                    <a:pt x="20" y="23"/>
                  </a:lnTo>
                  <a:lnTo>
                    <a:pt x="2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9864200">
              <a:off x="5558040" y="2349000"/>
              <a:ext cx="40320" cy="262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29" y="38"/>
                  </a:moveTo>
                  <a:lnTo>
                    <a:pt x="40" y="38"/>
                  </a:lnTo>
                  <a:lnTo>
                    <a:pt x="49" y="35"/>
                  </a:lnTo>
                  <a:lnTo>
                    <a:pt x="55" y="29"/>
                  </a:lnTo>
                  <a:lnTo>
                    <a:pt x="58" y="20"/>
                  </a:lnTo>
                  <a:lnTo>
                    <a:pt x="55" y="15"/>
                  </a:lnTo>
                  <a:lnTo>
                    <a:pt x="49" y="9"/>
                  </a:lnTo>
                  <a:lnTo>
                    <a:pt x="40" y="3"/>
                  </a:lnTo>
                  <a:lnTo>
                    <a:pt x="29" y="0"/>
                  </a:lnTo>
                  <a:lnTo>
                    <a:pt x="17" y="3"/>
                  </a:lnTo>
                  <a:lnTo>
                    <a:pt x="9" y="9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3" y="29"/>
                  </a:lnTo>
                  <a:lnTo>
                    <a:pt x="9" y="35"/>
                  </a:lnTo>
                  <a:lnTo>
                    <a:pt x="17" y="38"/>
                  </a:lnTo>
                  <a:lnTo>
                    <a:pt x="29" y="38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9864200">
              <a:off x="5554440" y="2342880"/>
              <a:ext cx="33840" cy="972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23" y="14"/>
                  </a:moveTo>
                  <a:lnTo>
                    <a:pt x="40" y="14"/>
                  </a:lnTo>
                  <a:lnTo>
                    <a:pt x="46" y="11"/>
                  </a:lnTo>
                  <a:lnTo>
                    <a:pt x="49" y="8"/>
                  </a:lnTo>
                  <a:lnTo>
                    <a:pt x="40" y="3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6" y="3"/>
                  </a:lnTo>
                  <a:lnTo>
                    <a:pt x="0" y="8"/>
                  </a:lnTo>
                  <a:lnTo>
                    <a:pt x="6" y="14"/>
                  </a:lnTo>
                  <a:lnTo>
                    <a:pt x="23" y="14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9864200">
              <a:off x="5550840" y="2337120"/>
              <a:ext cx="33840" cy="82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23" y="12"/>
                  </a:moveTo>
                  <a:lnTo>
                    <a:pt x="40" y="9"/>
                  </a:lnTo>
                  <a:lnTo>
                    <a:pt x="46" y="9"/>
                  </a:lnTo>
                  <a:lnTo>
                    <a:pt x="49" y="3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6" y="0"/>
                  </a:lnTo>
                  <a:lnTo>
                    <a:pt x="0" y="3"/>
                  </a:lnTo>
                  <a:lnTo>
                    <a:pt x="6" y="9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864200">
              <a:off x="5546880" y="2328480"/>
              <a:ext cx="33840" cy="115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23" y="17"/>
                  </a:moveTo>
                  <a:lnTo>
                    <a:pt x="40" y="14"/>
                  </a:lnTo>
                  <a:lnTo>
                    <a:pt x="49" y="8"/>
                  </a:lnTo>
                  <a:lnTo>
                    <a:pt x="46" y="5"/>
                  </a:lnTo>
                  <a:lnTo>
                    <a:pt x="40" y="2"/>
                  </a:lnTo>
                  <a:lnTo>
                    <a:pt x="23" y="0"/>
                  </a:lnTo>
                  <a:lnTo>
                    <a:pt x="6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6" y="14"/>
                  </a:lnTo>
                  <a:lnTo>
                    <a:pt x="14" y="14"/>
                  </a:lnTo>
                  <a:lnTo>
                    <a:pt x="23" y="17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9864200">
              <a:off x="5533920" y="2321640"/>
              <a:ext cx="50040" cy="9360"/>
            </a:xfrm>
            <a:custGeom>
              <a:avLst/>
              <a:gdLst/>
              <a:ahLst/>
              <a:rect l="l" t="t" r="r" b="b"/>
              <a:pathLst>
                <a:path w="72" h="14">
                  <a:moveTo>
                    <a:pt x="35" y="14"/>
                  </a:moveTo>
                  <a:lnTo>
                    <a:pt x="49" y="14"/>
                  </a:lnTo>
                  <a:lnTo>
                    <a:pt x="61" y="14"/>
                  </a:lnTo>
                  <a:lnTo>
                    <a:pt x="69" y="12"/>
                  </a:lnTo>
                  <a:lnTo>
                    <a:pt x="72" y="9"/>
                  </a:lnTo>
                  <a:lnTo>
                    <a:pt x="61" y="3"/>
                  </a:lnTo>
                  <a:lnTo>
                    <a:pt x="49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4"/>
                  </a:lnTo>
                  <a:lnTo>
                    <a:pt x="23" y="14"/>
                  </a:lnTo>
                  <a:lnTo>
                    <a:pt x="35" y="14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9864200">
              <a:off x="5540400" y="2317680"/>
              <a:ext cx="33840" cy="1008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23" y="15"/>
                  </a:moveTo>
                  <a:lnTo>
                    <a:pt x="40" y="12"/>
                  </a:lnTo>
                  <a:lnTo>
                    <a:pt x="46" y="9"/>
                  </a:lnTo>
                  <a:lnTo>
                    <a:pt x="49" y="6"/>
                  </a:lnTo>
                  <a:lnTo>
                    <a:pt x="40" y="3"/>
                  </a:lnTo>
                  <a:lnTo>
                    <a:pt x="23" y="0"/>
                  </a:lnTo>
                  <a:lnTo>
                    <a:pt x="6" y="3"/>
                  </a:lnTo>
                  <a:lnTo>
                    <a:pt x="0" y="6"/>
                  </a:lnTo>
                  <a:lnTo>
                    <a:pt x="6" y="12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9864200">
              <a:off x="5545080" y="2307600"/>
              <a:ext cx="12240" cy="11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7"/>
                  </a:moveTo>
                  <a:lnTo>
                    <a:pt x="15" y="17"/>
                  </a:lnTo>
                  <a:lnTo>
                    <a:pt x="18" y="12"/>
                  </a:lnTo>
                  <a:lnTo>
                    <a:pt x="15" y="3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12"/>
                  </a:lnTo>
                  <a:lnTo>
                    <a:pt x="3" y="17"/>
                  </a:lnTo>
                  <a:lnTo>
                    <a:pt x="9" y="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9864200">
              <a:off x="5542560" y="2283840"/>
              <a:ext cx="3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9864200">
              <a:off x="5542560" y="2283480"/>
              <a:ext cx="18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9864200">
              <a:off x="5540040" y="2302560"/>
              <a:ext cx="13680" cy="216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9" y="3"/>
                  </a:moveTo>
                  <a:lnTo>
                    <a:pt x="20" y="3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9864200">
              <a:off x="5537520" y="2297520"/>
              <a:ext cx="13680" cy="39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9" y="6"/>
                  </a:moveTo>
                  <a:lnTo>
                    <a:pt x="20" y="3"/>
                  </a:lnTo>
                  <a:lnTo>
                    <a:pt x="9" y="0"/>
                  </a:lnTo>
                  <a:lnTo>
                    <a:pt x="0" y="3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864200">
              <a:off x="5535000" y="2293920"/>
              <a:ext cx="13680" cy="180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9" y="3"/>
                  </a:moveTo>
                  <a:lnTo>
                    <a:pt x="18" y="3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864200">
              <a:off x="5532840" y="2290320"/>
              <a:ext cx="13680" cy="180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9" y="3"/>
                  </a:moveTo>
                  <a:lnTo>
                    <a:pt x="20" y="3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9864200">
              <a:off x="5532840" y="2286000"/>
              <a:ext cx="1008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6" y="3"/>
                  </a:moveTo>
                  <a:lnTo>
                    <a:pt x="12" y="3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9864200">
              <a:off x="5565960" y="2365560"/>
              <a:ext cx="7560" cy="39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lnTo>
                    <a:pt x="8" y="6"/>
                  </a:lnTo>
                  <a:lnTo>
                    <a:pt x="11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864200">
              <a:off x="5575680" y="2381040"/>
              <a:ext cx="7560" cy="82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9864200">
              <a:off x="5549400" y="2397960"/>
              <a:ext cx="41760" cy="1152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14"/>
                  </a:moveTo>
                  <a:lnTo>
                    <a:pt x="60" y="0"/>
                  </a:lnTo>
                  <a:lnTo>
                    <a:pt x="11" y="1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864200">
              <a:off x="5542200" y="2331720"/>
              <a:ext cx="3960" cy="3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9864200">
              <a:off x="5542560" y="2323080"/>
              <a:ext cx="9360" cy="39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6"/>
                  </a:moveTo>
                  <a:lnTo>
                    <a:pt x="3" y="3"/>
                  </a:lnTo>
                  <a:lnTo>
                    <a:pt x="14" y="0"/>
                  </a:lnTo>
                  <a:lnTo>
                    <a:pt x="11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9864200">
              <a:off x="5548680" y="2310480"/>
              <a:ext cx="1800" cy="39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6"/>
                  </a:moveTo>
                  <a:lnTo>
                    <a:pt x="3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9864200">
              <a:off x="5674680" y="2428200"/>
              <a:ext cx="108360" cy="413280"/>
            </a:xfrm>
            <a:custGeom>
              <a:avLst/>
              <a:gdLst/>
              <a:ahLst/>
              <a:rect l="l" t="t" r="r" b="b"/>
              <a:pathLst>
                <a:path w="156" h="593">
                  <a:moveTo>
                    <a:pt x="144" y="593"/>
                  </a:moveTo>
                  <a:lnTo>
                    <a:pt x="153" y="590"/>
                  </a:lnTo>
                  <a:lnTo>
                    <a:pt x="156" y="585"/>
                  </a:lnTo>
                  <a:lnTo>
                    <a:pt x="156" y="9"/>
                  </a:lnTo>
                  <a:lnTo>
                    <a:pt x="153" y="3"/>
                  </a:lnTo>
                  <a:lnTo>
                    <a:pt x="144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9"/>
                  </a:lnTo>
                  <a:lnTo>
                    <a:pt x="0" y="585"/>
                  </a:lnTo>
                  <a:lnTo>
                    <a:pt x="6" y="590"/>
                  </a:lnTo>
                  <a:lnTo>
                    <a:pt x="12" y="593"/>
                  </a:lnTo>
                  <a:lnTo>
                    <a:pt x="144" y="593"/>
                  </a:lnTo>
                  <a:lnTo>
                    <a:pt x="144" y="593"/>
                  </a:lnTo>
                  <a:close/>
                </a:path>
              </a:pathLst>
            </a:custGeom>
            <a:solidFill>
              <a:srgbClr val="ccb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9864200">
              <a:off x="5674680" y="2428200"/>
              <a:ext cx="108360" cy="413280"/>
            </a:xfrm>
            <a:custGeom>
              <a:avLst/>
              <a:gdLst/>
              <a:ahLst/>
              <a:rect l="l" t="t" r="r" b="b"/>
              <a:pathLst>
                <a:path w="156" h="593">
                  <a:moveTo>
                    <a:pt x="144" y="593"/>
                  </a:moveTo>
                  <a:lnTo>
                    <a:pt x="153" y="590"/>
                  </a:lnTo>
                  <a:lnTo>
                    <a:pt x="156" y="585"/>
                  </a:lnTo>
                  <a:lnTo>
                    <a:pt x="156" y="9"/>
                  </a:lnTo>
                  <a:lnTo>
                    <a:pt x="153" y="3"/>
                  </a:lnTo>
                  <a:lnTo>
                    <a:pt x="144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9"/>
                  </a:lnTo>
                  <a:lnTo>
                    <a:pt x="0" y="585"/>
                  </a:lnTo>
                  <a:lnTo>
                    <a:pt x="6" y="590"/>
                  </a:lnTo>
                  <a:lnTo>
                    <a:pt x="12" y="593"/>
                  </a:lnTo>
                  <a:lnTo>
                    <a:pt x="144" y="593"/>
                  </a:lnTo>
                  <a:lnTo>
                    <a:pt x="144" y="593"/>
                  </a:lnTo>
                  <a:close/>
                </a:path>
              </a:pathLst>
            </a:custGeom>
            <a:solidFill>
              <a:srgbClr val="ccb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864200">
              <a:off x="5674680" y="2428200"/>
              <a:ext cx="108360" cy="413280"/>
            </a:xfrm>
            <a:custGeom>
              <a:avLst/>
              <a:gdLst/>
              <a:ahLst/>
              <a:rect l="l" t="t" r="r" b="b"/>
              <a:pathLst>
                <a:path w="156" h="593">
                  <a:moveTo>
                    <a:pt x="144" y="593"/>
                  </a:moveTo>
                  <a:lnTo>
                    <a:pt x="153" y="590"/>
                  </a:lnTo>
                  <a:lnTo>
                    <a:pt x="156" y="585"/>
                  </a:lnTo>
                  <a:lnTo>
                    <a:pt x="156" y="9"/>
                  </a:lnTo>
                  <a:lnTo>
                    <a:pt x="153" y="3"/>
                  </a:lnTo>
                  <a:lnTo>
                    <a:pt x="144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9"/>
                  </a:lnTo>
                  <a:lnTo>
                    <a:pt x="0" y="585"/>
                  </a:lnTo>
                  <a:lnTo>
                    <a:pt x="6" y="590"/>
                  </a:lnTo>
                  <a:lnTo>
                    <a:pt x="12" y="593"/>
                  </a:lnTo>
                  <a:lnTo>
                    <a:pt x="144" y="593"/>
                  </a:lnTo>
                  <a:lnTo>
                    <a:pt x="144" y="593"/>
                  </a:lnTo>
                  <a:close/>
                </a:path>
              </a:pathLst>
            </a:custGeom>
            <a:solidFill>
              <a:srgbClr val="ccb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864200">
              <a:off x="5676840" y="2428560"/>
              <a:ext cx="104400" cy="413280"/>
            </a:xfrm>
            <a:custGeom>
              <a:avLst/>
              <a:gdLst/>
              <a:ahLst/>
              <a:rect l="l" t="t" r="r" b="b"/>
              <a:pathLst>
                <a:path w="150" h="593">
                  <a:moveTo>
                    <a:pt x="12" y="0"/>
                  </a:moveTo>
                  <a:lnTo>
                    <a:pt x="135" y="0"/>
                  </a:lnTo>
                  <a:lnTo>
                    <a:pt x="144" y="3"/>
                  </a:lnTo>
                  <a:lnTo>
                    <a:pt x="150" y="9"/>
                  </a:lnTo>
                  <a:lnTo>
                    <a:pt x="150" y="585"/>
                  </a:lnTo>
                  <a:lnTo>
                    <a:pt x="144" y="590"/>
                  </a:lnTo>
                  <a:lnTo>
                    <a:pt x="135" y="593"/>
                  </a:lnTo>
                  <a:lnTo>
                    <a:pt x="12" y="593"/>
                  </a:lnTo>
                  <a:lnTo>
                    <a:pt x="3" y="590"/>
                  </a:lnTo>
                  <a:lnTo>
                    <a:pt x="0" y="585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fb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9864200">
              <a:off x="5679000" y="2428920"/>
              <a:ext cx="97920" cy="413280"/>
            </a:xfrm>
            <a:custGeom>
              <a:avLst/>
              <a:gdLst/>
              <a:ahLst/>
              <a:rect l="l" t="t" r="r" b="b"/>
              <a:pathLst>
                <a:path w="141" h="593">
                  <a:moveTo>
                    <a:pt x="14" y="0"/>
                  </a:moveTo>
                  <a:lnTo>
                    <a:pt x="127" y="0"/>
                  </a:lnTo>
                  <a:lnTo>
                    <a:pt x="138" y="3"/>
                  </a:lnTo>
                  <a:lnTo>
                    <a:pt x="141" y="9"/>
                  </a:lnTo>
                  <a:lnTo>
                    <a:pt x="141" y="585"/>
                  </a:lnTo>
                  <a:lnTo>
                    <a:pt x="138" y="590"/>
                  </a:lnTo>
                  <a:lnTo>
                    <a:pt x="127" y="593"/>
                  </a:lnTo>
                  <a:lnTo>
                    <a:pt x="14" y="593"/>
                  </a:lnTo>
                  <a:lnTo>
                    <a:pt x="3" y="590"/>
                  </a:lnTo>
                  <a:lnTo>
                    <a:pt x="0" y="585"/>
                  </a:lnTo>
                  <a:lnTo>
                    <a:pt x="0" y="9"/>
                  </a:lnTo>
                  <a:lnTo>
                    <a:pt x="3" y="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3b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9864200">
              <a:off x="5681520" y="2430000"/>
              <a:ext cx="89640" cy="413280"/>
            </a:xfrm>
            <a:custGeom>
              <a:avLst/>
              <a:gdLst/>
              <a:ahLst/>
              <a:rect l="l" t="t" r="r" b="b"/>
              <a:pathLst>
                <a:path w="129" h="593">
                  <a:moveTo>
                    <a:pt x="11" y="0"/>
                  </a:moveTo>
                  <a:lnTo>
                    <a:pt x="121" y="0"/>
                  </a:lnTo>
                  <a:lnTo>
                    <a:pt x="126" y="3"/>
                  </a:lnTo>
                  <a:lnTo>
                    <a:pt x="129" y="9"/>
                  </a:lnTo>
                  <a:lnTo>
                    <a:pt x="129" y="585"/>
                  </a:lnTo>
                  <a:lnTo>
                    <a:pt x="126" y="590"/>
                  </a:lnTo>
                  <a:lnTo>
                    <a:pt x="121" y="593"/>
                  </a:lnTo>
                  <a:lnTo>
                    <a:pt x="11" y="593"/>
                  </a:lnTo>
                  <a:lnTo>
                    <a:pt x="3" y="590"/>
                  </a:lnTo>
                  <a:lnTo>
                    <a:pt x="0" y="585"/>
                  </a:lnTo>
                  <a:lnTo>
                    <a:pt x="0" y="9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6c4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9864200">
              <a:off x="5684040" y="2430360"/>
              <a:ext cx="83880" cy="413280"/>
            </a:xfrm>
            <a:custGeom>
              <a:avLst/>
              <a:gdLst/>
              <a:ahLst/>
              <a:rect l="l" t="t" r="r" b="b"/>
              <a:pathLst>
                <a:path w="121" h="593">
                  <a:moveTo>
                    <a:pt x="11" y="0"/>
                  </a:moveTo>
                  <a:lnTo>
                    <a:pt x="112" y="0"/>
                  </a:lnTo>
                  <a:lnTo>
                    <a:pt x="118" y="3"/>
                  </a:lnTo>
                  <a:lnTo>
                    <a:pt x="121" y="9"/>
                  </a:lnTo>
                  <a:lnTo>
                    <a:pt x="121" y="585"/>
                  </a:lnTo>
                  <a:lnTo>
                    <a:pt x="118" y="590"/>
                  </a:lnTo>
                  <a:lnTo>
                    <a:pt x="112" y="593"/>
                  </a:lnTo>
                  <a:lnTo>
                    <a:pt x="11" y="593"/>
                  </a:lnTo>
                  <a:lnTo>
                    <a:pt x="3" y="590"/>
                  </a:lnTo>
                  <a:lnTo>
                    <a:pt x="0" y="585"/>
                  </a:lnTo>
                  <a:lnTo>
                    <a:pt x="0" y="9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a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9864200">
              <a:off x="5685480" y="2430360"/>
              <a:ext cx="79920" cy="413280"/>
            </a:xfrm>
            <a:custGeom>
              <a:avLst/>
              <a:gdLst/>
              <a:ahLst/>
              <a:rect l="l" t="t" r="r" b="b"/>
              <a:pathLst>
                <a:path w="115" h="593">
                  <a:moveTo>
                    <a:pt x="11" y="0"/>
                  </a:moveTo>
                  <a:lnTo>
                    <a:pt x="103" y="0"/>
                  </a:lnTo>
                  <a:lnTo>
                    <a:pt x="112" y="3"/>
                  </a:lnTo>
                  <a:lnTo>
                    <a:pt x="115" y="9"/>
                  </a:lnTo>
                  <a:lnTo>
                    <a:pt x="115" y="585"/>
                  </a:lnTo>
                  <a:lnTo>
                    <a:pt x="112" y="590"/>
                  </a:lnTo>
                  <a:lnTo>
                    <a:pt x="103" y="593"/>
                  </a:lnTo>
                  <a:lnTo>
                    <a:pt x="11" y="593"/>
                  </a:lnTo>
                  <a:lnTo>
                    <a:pt x="2" y="590"/>
                  </a:lnTo>
                  <a:lnTo>
                    <a:pt x="0" y="585"/>
                  </a:lnTo>
                  <a:lnTo>
                    <a:pt x="0" y="9"/>
                  </a:lnTo>
                  <a:lnTo>
                    <a:pt x="2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c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9864200">
              <a:off x="5686920" y="2431080"/>
              <a:ext cx="74520" cy="413280"/>
            </a:xfrm>
            <a:custGeom>
              <a:avLst/>
              <a:gdLst/>
              <a:ahLst/>
              <a:rect l="l" t="t" r="r" b="b"/>
              <a:pathLst>
                <a:path w="107" h="593">
                  <a:moveTo>
                    <a:pt x="12" y="0"/>
                  </a:moveTo>
                  <a:lnTo>
                    <a:pt x="95" y="0"/>
                  </a:lnTo>
                  <a:lnTo>
                    <a:pt x="104" y="3"/>
                  </a:lnTo>
                  <a:lnTo>
                    <a:pt x="107" y="9"/>
                  </a:lnTo>
                  <a:lnTo>
                    <a:pt x="107" y="585"/>
                  </a:lnTo>
                  <a:lnTo>
                    <a:pt x="104" y="590"/>
                  </a:lnTo>
                  <a:lnTo>
                    <a:pt x="95" y="593"/>
                  </a:lnTo>
                  <a:lnTo>
                    <a:pt x="12" y="593"/>
                  </a:lnTo>
                  <a:lnTo>
                    <a:pt x="3" y="590"/>
                  </a:lnTo>
                  <a:lnTo>
                    <a:pt x="0" y="585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1d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864200">
              <a:off x="5689440" y="2431440"/>
              <a:ext cx="68040" cy="413280"/>
            </a:xfrm>
            <a:custGeom>
              <a:avLst/>
              <a:gdLst/>
              <a:ahLst/>
              <a:rect l="l" t="t" r="r" b="b"/>
              <a:pathLst>
                <a:path w="98" h="593">
                  <a:moveTo>
                    <a:pt x="12" y="0"/>
                  </a:moveTo>
                  <a:lnTo>
                    <a:pt x="87" y="0"/>
                  </a:lnTo>
                  <a:lnTo>
                    <a:pt x="95" y="3"/>
                  </a:lnTo>
                  <a:lnTo>
                    <a:pt x="98" y="9"/>
                  </a:lnTo>
                  <a:lnTo>
                    <a:pt x="98" y="585"/>
                  </a:lnTo>
                  <a:lnTo>
                    <a:pt x="95" y="590"/>
                  </a:lnTo>
                  <a:lnTo>
                    <a:pt x="87" y="593"/>
                  </a:lnTo>
                  <a:lnTo>
                    <a:pt x="12" y="593"/>
                  </a:lnTo>
                  <a:lnTo>
                    <a:pt x="6" y="590"/>
                  </a:lnTo>
                  <a:lnTo>
                    <a:pt x="0" y="585"/>
                  </a:lnTo>
                  <a:lnTo>
                    <a:pt x="0" y="9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4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9864200">
              <a:off x="5691600" y="2431800"/>
              <a:ext cx="61920" cy="413280"/>
            </a:xfrm>
            <a:custGeom>
              <a:avLst/>
              <a:gdLst/>
              <a:ahLst/>
              <a:rect l="l" t="t" r="r" b="b"/>
              <a:pathLst>
                <a:path w="89" h="593">
                  <a:moveTo>
                    <a:pt x="12" y="0"/>
                  </a:moveTo>
                  <a:lnTo>
                    <a:pt x="78" y="0"/>
                  </a:lnTo>
                  <a:lnTo>
                    <a:pt x="87" y="3"/>
                  </a:lnTo>
                  <a:lnTo>
                    <a:pt x="89" y="9"/>
                  </a:lnTo>
                  <a:lnTo>
                    <a:pt x="89" y="585"/>
                  </a:lnTo>
                  <a:lnTo>
                    <a:pt x="87" y="590"/>
                  </a:lnTo>
                  <a:lnTo>
                    <a:pt x="78" y="593"/>
                  </a:lnTo>
                  <a:lnTo>
                    <a:pt x="12" y="593"/>
                  </a:lnTo>
                  <a:lnTo>
                    <a:pt x="3" y="590"/>
                  </a:lnTo>
                  <a:lnTo>
                    <a:pt x="0" y="585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8e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9864200">
              <a:off x="5693760" y="2432160"/>
              <a:ext cx="56520" cy="413280"/>
            </a:xfrm>
            <a:custGeom>
              <a:avLst/>
              <a:gdLst/>
              <a:ahLst/>
              <a:rect l="l" t="t" r="r" b="b"/>
              <a:pathLst>
                <a:path w="81" h="593">
                  <a:moveTo>
                    <a:pt x="12" y="0"/>
                  </a:moveTo>
                  <a:lnTo>
                    <a:pt x="69" y="0"/>
                  </a:lnTo>
                  <a:lnTo>
                    <a:pt x="78" y="3"/>
                  </a:lnTo>
                  <a:lnTo>
                    <a:pt x="81" y="9"/>
                  </a:lnTo>
                  <a:lnTo>
                    <a:pt x="81" y="585"/>
                  </a:lnTo>
                  <a:lnTo>
                    <a:pt x="78" y="590"/>
                  </a:lnTo>
                  <a:lnTo>
                    <a:pt x="69" y="593"/>
                  </a:lnTo>
                  <a:lnTo>
                    <a:pt x="12" y="593"/>
                  </a:lnTo>
                  <a:lnTo>
                    <a:pt x="3" y="590"/>
                  </a:lnTo>
                  <a:lnTo>
                    <a:pt x="0" y="585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be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864200">
              <a:off x="5695920" y="2432520"/>
              <a:ext cx="50040" cy="413280"/>
            </a:xfrm>
            <a:custGeom>
              <a:avLst/>
              <a:gdLst/>
              <a:ahLst/>
              <a:rect l="l" t="t" r="r" b="b"/>
              <a:pathLst>
                <a:path w="72" h="593">
                  <a:moveTo>
                    <a:pt x="11" y="0"/>
                  </a:moveTo>
                  <a:lnTo>
                    <a:pt x="63" y="0"/>
                  </a:lnTo>
                  <a:lnTo>
                    <a:pt x="69" y="3"/>
                  </a:lnTo>
                  <a:lnTo>
                    <a:pt x="72" y="9"/>
                  </a:lnTo>
                  <a:lnTo>
                    <a:pt x="72" y="585"/>
                  </a:lnTo>
                  <a:lnTo>
                    <a:pt x="69" y="590"/>
                  </a:lnTo>
                  <a:lnTo>
                    <a:pt x="63" y="593"/>
                  </a:lnTo>
                  <a:lnTo>
                    <a:pt x="11" y="593"/>
                  </a:lnTo>
                  <a:lnTo>
                    <a:pt x="3" y="590"/>
                  </a:lnTo>
                  <a:lnTo>
                    <a:pt x="0" y="585"/>
                  </a:lnTo>
                  <a:lnTo>
                    <a:pt x="0" y="9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9864200">
              <a:off x="5698440" y="2433600"/>
              <a:ext cx="43560" cy="413280"/>
            </a:xfrm>
            <a:custGeom>
              <a:avLst/>
              <a:gdLst/>
              <a:ahLst/>
              <a:rect l="l" t="t" r="r" b="b"/>
              <a:pathLst>
                <a:path w="63" h="593">
                  <a:moveTo>
                    <a:pt x="52" y="593"/>
                  </a:moveTo>
                  <a:lnTo>
                    <a:pt x="60" y="590"/>
                  </a:lnTo>
                  <a:lnTo>
                    <a:pt x="63" y="585"/>
                  </a:lnTo>
                  <a:lnTo>
                    <a:pt x="63" y="9"/>
                  </a:lnTo>
                  <a:lnTo>
                    <a:pt x="60" y="3"/>
                  </a:lnTo>
                  <a:lnTo>
                    <a:pt x="52" y="0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9"/>
                  </a:lnTo>
                  <a:lnTo>
                    <a:pt x="0" y="585"/>
                  </a:lnTo>
                  <a:lnTo>
                    <a:pt x="3" y="590"/>
                  </a:lnTo>
                  <a:lnTo>
                    <a:pt x="8" y="593"/>
                  </a:lnTo>
                  <a:lnTo>
                    <a:pt x="52" y="593"/>
                  </a:lnTo>
                  <a:lnTo>
                    <a:pt x="52" y="593"/>
                  </a:lnTo>
                  <a:close/>
                </a:path>
              </a:pathLst>
            </a:custGeom>
            <a:solidFill>
              <a:srgbClr val="f2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9864200">
              <a:off x="5674680" y="2428200"/>
              <a:ext cx="108360" cy="413280"/>
            </a:xfrm>
            <a:custGeom>
              <a:avLst/>
              <a:gdLst/>
              <a:ahLst/>
              <a:rect l="l" t="t" r="r" b="b"/>
              <a:pathLst>
                <a:path w="156" h="593">
                  <a:moveTo>
                    <a:pt x="144" y="593"/>
                  </a:moveTo>
                  <a:lnTo>
                    <a:pt x="153" y="590"/>
                  </a:lnTo>
                  <a:lnTo>
                    <a:pt x="156" y="585"/>
                  </a:lnTo>
                  <a:lnTo>
                    <a:pt x="156" y="9"/>
                  </a:lnTo>
                  <a:lnTo>
                    <a:pt x="153" y="3"/>
                  </a:lnTo>
                  <a:lnTo>
                    <a:pt x="144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9"/>
                  </a:lnTo>
                  <a:lnTo>
                    <a:pt x="0" y="585"/>
                  </a:lnTo>
                  <a:lnTo>
                    <a:pt x="6" y="590"/>
                  </a:lnTo>
                  <a:lnTo>
                    <a:pt x="12" y="593"/>
                  </a:lnTo>
                  <a:lnTo>
                    <a:pt x="144" y="593"/>
                  </a:lnTo>
                  <a:lnTo>
                    <a:pt x="144" y="59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9864200">
              <a:off x="5803200" y="2829600"/>
              <a:ext cx="104400" cy="68040"/>
            </a:xfrm>
            <a:custGeom>
              <a:avLst/>
              <a:gdLst/>
              <a:ahLst/>
              <a:rect l="l" t="t" r="r" b="b"/>
              <a:pathLst>
                <a:path w="150" h="98">
                  <a:moveTo>
                    <a:pt x="75" y="0"/>
                  </a:moveTo>
                  <a:lnTo>
                    <a:pt x="147" y="32"/>
                  </a:lnTo>
                  <a:lnTo>
                    <a:pt x="150" y="84"/>
                  </a:lnTo>
                  <a:lnTo>
                    <a:pt x="75" y="98"/>
                  </a:lnTo>
                  <a:lnTo>
                    <a:pt x="0" y="84"/>
                  </a:lnTo>
                  <a:lnTo>
                    <a:pt x="3" y="32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864200">
              <a:off x="5830560" y="2869200"/>
              <a:ext cx="25560" cy="1584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0" y="0"/>
                  </a:moveTo>
                  <a:lnTo>
                    <a:pt x="37" y="23"/>
                  </a:lnTo>
                  <a:lnTo>
                    <a:pt x="31" y="23"/>
                  </a:lnTo>
                  <a:lnTo>
                    <a:pt x="20" y="12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864200">
              <a:off x="5847480" y="2859480"/>
              <a:ext cx="26280" cy="1584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21" y="0"/>
                  </a:moveTo>
                  <a:lnTo>
                    <a:pt x="38" y="23"/>
                  </a:lnTo>
                  <a:lnTo>
                    <a:pt x="32" y="23"/>
                  </a:lnTo>
                  <a:lnTo>
                    <a:pt x="21" y="12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9864200">
              <a:off x="5867280" y="2848680"/>
              <a:ext cx="26280" cy="1584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20" y="0"/>
                  </a:moveTo>
                  <a:lnTo>
                    <a:pt x="38" y="23"/>
                  </a:lnTo>
                  <a:lnTo>
                    <a:pt x="32" y="23"/>
                  </a:lnTo>
                  <a:lnTo>
                    <a:pt x="20" y="12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864200">
              <a:off x="5885280" y="2840400"/>
              <a:ext cx="19800" cy="1584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9" y="20"/>
                  </a:moveTo>
                  <a:lnTo>
                    <a:pt x="20" y="12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20" y="0"/>
                  </a:lnTo>
                  <a:lnTo>
                    <a:pt x="29" y="12"/>
                  </a:lnTo>
                  <a:lnTo>
                    <a:pt x="29" y="20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810760" y="2838240"/>
              <a:ext cx="87840" cy="478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807880" y="2833560"/>
              <a:ext cx="88200" cy="47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864200">
              <a:off x="5811120" y="2880000"/>
              <a:ext cx="25560" cy="1584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0" y="0"/>
                  </a:moveTo>
                  <a:lnTo>
                    <a:pt x="37" y="23"/>
                  </a:lnTo>
                  <a:lnTo>
                    <a:pt x="35" y="23"/>
                  </a:lnTo>
                  <a:lnTo>
                    <a:pt x="20" y="12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864200">
              <a:off x="5931000" y="3004920"/>
              <a:ext cx="12240" cy="12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9" y="0"/>
                  </a:moveTo>
                  <a:lnTo>
                    <a:pt x="15" y="3"/>
                  </a:lnTo>
                  <a:lnTo>
                    <a:pt x="18" y="9"/>
                  </a:lnTo>
                  <a:lnTo>
                    <a:pt x="15" y="15"/>
                  </a:lnTo>
                  <a:lnTo>
                    <a:pt x="9" y="18"/>
                  </a:lnTo>
                  <a:lnTo>
                    <a:pt x="3" y="15"/>
                  </a:lnTo>
                  <a:lnTo>
                    <a:pt x="0" y="9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864200">
              <a:off x="5904360" y="2968920"/>
              <a:ext cx="40320" cy="3960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29" y="57"/>
                  </a:moveTo>
                  <a:lnTo>
                    <a:pt x="40" y="55"/>
                  </a:lnTo>
                  <a:lnTo>
                    <a:pt x="49" y="49"/>
                  </a:lnTo>
                  <a:lnTo>
                    <a:pt x="55" y="40"/>
                  </a:lnTo>
                  <a:lnTo>
                    <a:pt x="58" y="29"/>
                  </a:lnTo>
                  <a:lnTo>
                    <a:pt x="55" y="17"/>
                  </a:lnTo>
                  <a:lnTo>
                    <a:pt x="49" y="8"/>
                  </a:lnTo>
                  <a:lnTo>
                    <a:pt x="40" y="3"/>
                  </a:lnTo>
                  <a:lnTo>
                    <a:pt x="29" y="0"/>
                  </a:lnTo>
                  <a:lnTo>
                    <a:pt x="17" y="3"/>
                  </a:lnTo>
                  <a:lnTo>
                    <a:pt x="9" y="8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3" y="40"/>
                  </a:lnTo>
                  <a:lnTo>
                    <a:pt x="9" y="49"/>
                  </a:lnTo>
                  <a:lnTo>
                    <a:pt x="17" y="55"/>
                  </a:lnTo>
                  <a:lnTo>
                    <a:pt x="29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9864200">
              <a:off x="5850720" y="2883240"/>
              <a:ext cx="42480" cy="1584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29" y="23"/>
                  </a:moveTo>
                  <a:lnTo>
                    <a:pt x="43" y="23"/>
                  </a:lnTo>
                  <a:lnTo>
                    <a:pt x="52" y="20"/>
                  </a:lnTo>
                  <a:lnTo>
                    <a:pt x="58" y="17"/>
                  </a:lnTo>
                  <a:lnTo>
                    <a:pt x="61" y="11"/>
                  </a:lnTo>
                  <a:lnTo>
                    <a:pt x="58" y="5"/>
                  </a:lnTo>
                  <a:lnTo>
                    <a:pt x="52" y="3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9" y="3"/>
                  </a:lnTo>
                  <a:lnTo>
                    <a:pt x="3" y="5"/>
                  </a:lnTo>
                  <a:lnTo>
                    <a:pt x="0" y="11"/>
                  </a:lnTo>
                  <a:lnTo>
                    <a:pt x="3" y="17"/>
                  </a:lnTo>
                  <a:lnTo>
                    <a:pt x="9" y="20"/>
                  </a:lnTo>
                  <a:lnTo>
                    <a:pt x="17" y="23"/>
                  </a:lnTo>
                  <a:lnTo>
                    <a:pt x="29" y="23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9864200">
              <a:off x="5806080" y="2851920"/>
              <a:ext cx="32040" cy="1800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23"/>
                  </a:moveTo>
                  <a:lnTo>
                    <a:pt x="46" y="0"/>
                  </a:lnTo>
                  <a:lnTo>
                    <a:pt x="46" y="6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864200">
              <a:off x="5898240" y="2971440"/>
              <a:ext cx="5400" cy="3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3" y="6"/>
                  </a:moveTo>
                  <a:lnTo>
                    <a:pt x="8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9864200">
              <a:off x="5907600" y="2981880"/>
              <a:ext cx="9360" cy="7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5" y="12"/>
                  </a:moveTo>
                  <a:lnTo>
                    <a:pt x="11" y="9"/>
                  </a:lnTo>
                  <a:lnTo>
                    <a:pt x="14" y="6"/>
                  </a:lnTo>
                  <a:lnTo>
                    <a:pt x="11" y="3"/>
                  </a:lnTo>
                  <a:lnTo>
                    <a:pt x="5" y="0"/>
                  </a:lnTo>
                  <a:lnTo>
                    <a:pt x="0" y="6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9864200">
              <a:off x="5892120" y="2957400"/>
              <a:ext cx="42480" cy="180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29" y="26"/>
                  </a:moveTo>
                  <a:lnTo>
                    <a:pt x="43" y="23"/>
                  </a:lnTo>
                  <a:lnTo>
                    <a:pt x="52" y="23"/>
                  </a:lnTo>
                  <a:lnTo>
                    <a:pt x="58" y="17"/>
                  </a:lnTo>
                  <a:lnTo>
                    <a:pt x="61" y="11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9" y="3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"/>
                  </a:lnTo>
                  <a:lnTo>
                    <a:pt x="9" y="23"/>
                  </a:lnTo>
                  <a:lnTo>
                    <a:pt x="17" y="23"/>
                  </a:lnTo>
                  <a:lnTo>
                    <a:pt x="29" y="26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864200">
              <a:off x="5863680" y="2905920"/>
              <a:ext cx="42480" cy="180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29" y="26"/>
                  </a:moveTo>
                  <a:lnTo>
                    <a:pt x="43" y="26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1" y="15"/>
                  </a:lnTo>
                  <a:lnTo>
                    <a:pt x="58" y="9"/>
                  </a:lnTo>
                  <a:lnTo>
                    <a:pt x="52" y="6"/>
                  </a:lnTo>
                  <a:lnTo>
                    <a:pt x="43" y="3"/>
                  </a:lnTo>
                  <a:lnTo>
                    <a:pt x="29" y="0"/>
                  </a:lnTo>
                  <a:lnTo>
                    <a:pt x="17" y="3"/>
                  </a:lnTo>
                  <a:lnTo>
                    <a:pt x="9" y="6"/>
                  </a:lnTo>
                  <a:lnTo>
                    <a:pt x="3" y="9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9" y="23"/>
                  </a:lnTo>
                  <a:lnTo>
                    <a:pt x="17" y="26"/>
                  </a:lnTo>
                  <a:lnTo>
                    <a:pt x="29" y="26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9864200">
              <a:off x="5876280" y="2937600"/>
              <a:ext cx="54000" cy="21960"/>
            </a:xfrm>
            <a:custGeom>
              <a:avLst/>
              <a:gdLst/>
              <a:ahLst/>
              <a:rect l="l" t="t" r="r" b="b"/>
              <a:pathLst>
                <a:path w="78" h="32">
                  <a:moveTo>
                    <a:pt x="38" y="32"/>
                  </a:moveTo>
                  <a:lnTo>
                    <a:pt x="55" y="32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78" y="17"/>
                  </a:lnTo>
                  <a:lnTo>
                    <a:pt x="75" y="9"/>
                  </a:lnTo>
                  <a:lnTo>
                    <a:pt x="67" y="6"/>
                  </a:lnTo>
                  <a:lnTo>
                    <a:pt x="55" y="0"/>
                  </a:lnTo>
                  <a:lnTo>
                    <a:pt x="38" y="0"/>
                  </a:lnTo>
                  <a:lnTo>
                    <a:pt x="23" y="0"/>
                  </a:lnTo>
                  <a:lnTo>
                    <a:pt x="12" y="6"/>
                  </a:lnTo>
                  <a:lnTo>
                    <a:pt x="3" y="9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12" y="26"/>
                  </a:lnTo>
                  <a:lnTo>
                    <a:pt x="23" y="32"/>
                  </a:lnTo>
                  <a:lnTo>
                    <a:pt x="38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864200">
              <a:off x="5866560" y="2920680"/>
              <a:ext cx="52200" cy="2196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38" y="32"/>
                  </a:moveTo>
                  <a:lnTo>
                    <a:pt x="52" y="29"/>
                  </a:lnTo>
                  <a:lnTo>
                    <a:pt x="64" y="26"/>
                  </a:lnTo>
                  <a:lnTo>
                    <a:pt x="72" y="20"/>
                  </a:lnTo>
                  <a:lnTo>
                    <a:pt x="75" y="15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52" y="3"/>
                  </a:lnTo>
                  <a:lnTo>
                    <a:pt x="38" y="0"/>
                  </a:lnTo>
                  <a:lnTo>
                    <a:pt x="23" y="3"/>
                  </a:lnTo>
                  <a:lnTo>
                    <a:pt x="12" y="6"/>
                  </a:lnTo>
                  <a:lnTo>
                    <a:pt x="3" y="9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12" y="26"/>
                  </a:lnTo>
                  <a:lnTo>
                    <a:pt x="23" y="29"/>
                  </a:lnTo>
                  <a:lnTo>
                    <a:pt x="38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864200">
              <a:off x="5874840" y="2936880"/>
              <a:ext cx="6120" cy="54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0" y="3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9864200">
              <a:off x="5882400" y="2954160"/>
              <a:ext cx="8280" cy="61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6" y="9"/>
                  </a:move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9864200">
              <a:off x="5869800" y="2919240"/>
              <a:ext cx="5400" cy="54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8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9864200">
              <a:off x="5856480" y="2893680"/>
              <a:ext cx="42480" cy="1584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29" y="23"/>
                  </a:moveTo>
                  <a:lnTo>
                    <a:pt x="43" y="23"/>
                  </a:lnTo>
                  <a:lnTo>
                    <a:pt x="52" y="20"/>
                  </a:lnTo>
                  <a:lnTo>
                    <a:pt x="58" y="17"/>
                  </a:lnTo>
                  <a:lnTo>
                    <a:pt x="61" y="11"/>
                  </a:lnTo>
                  <a:lnTo>
                    <a:pt x="58" y="6"/>
                  </a:lnTo>
                  <a:lnTo>
                    <a:pt x="52" y="3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7"/>
                  </a:lnTo>
                  <a:lnTo>
                    <a:pt x="9" y="20"/>
                  </a:lnTo>
                  <a:lnTo>
                    <a:pt x="17" y="23"/>
                  </a:lnTo>
                  <a:lnTo>
                    <a:pt x="29" y="23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18680" y="2854800"/>
              <a:ext cx="91440" cy="500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9864200">
              <a:off x="6354360" y="2013840"/>
              <a:ext cx="23400" cy="529560"/>
            </a:xfrm>
            <a:custGeom>
              <a:avLst/>
              <a:gdLst/>
              <a:ahLst/>
              <a:rect l="l" t="t" r="r" b="b"/>
              <a:pathLst>
                <a:path w="34" h="760">
                  <a:moveTo>
                    <a:pt x="20" y="0"/>
                  </a:moveTo>
                  <a:lnTo>
                    <a:pt x="34" y="0"/>
                  </a:lnTo>
                  <a:lnTo>
                    <a:pt x="34" y="760"/>
                  </a:lnTo>
                  <a:lnTo>
                    <a:pt x="17" y="760"/>
                  </a:lnTo>
                  <a:lnTo>
                    <a:pt x="0" y="7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864200">
              <a:off x="6446880" y="2464560"/>
              <a:ext cx="55440" cy="10440"/>
            </a:xfrm>
            <a:custGeom>
              <a:avLst/>
              <a:gdLst/>
              <a:ahLst/>
              <a:rect l="l" t="t" r="r" b="b"/>
              <a:pathLst>
                <a:path w="80" h="15">
                  <a:moveTo>
                    <a:pt x="72" y="15"/>
                  </a:moveTo>
                  <a:lnTo>
                    <a:pt x="78" y="15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78" y="3"/>
                  </a:lnTo>
                  <a:lnTo>
                    <a:pt x="72" y="0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5"/>
                  </a:lnTo>
                  <a:lnTo>
                    <a:pt x="8" y="15"/>
                  </a:lnTo>
                  <a:lnTo>
                    <a:pt x="72" y="15"/>
                  </a:lnTo>
                  <a:lnTo>
                    <a:pt x="7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35920" y="2050920"/>
              <a:ext cx="256320" cy="4633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9864200">
              <a:off x="6314040" y="2075400"/>
              <a:ext cx="108360" cy="415440"/>
            </a:xfrm>
            <a:custGeom>
              <a:avLst/>
              <a:gdLst/>
              <a:ahLst/>
              <a:rect l="l" t="t" r="r" b="b"/>
              <a:pathLst>
                <a:path w="156" h="596">
                  <a:moveTo>
                    <a:pt x="147" y="596"/>
                  </a:moveTo>
                  <a:lnTo>
                    <a:pt x="153" y="593"/>
                  </a:lnTo>
                  <a:lnTo>
                    <a:pt x="156" y="585"/>
                  </a:lnTo>
                  <a:lnTo>
                    <a:pt x="156" y="12"/>
                  </a:lnTo>
                  <a:lnTo>
                    <a:pt x="153" y="3"/>
                  </a:lnTo>
                  <a:lnTo>
                    <a:pt x="147" y="0"/>
                  </a:lnTo>
                  <a:lnTo>
                    <a:pt x="15" y="0"/>
                  </a:lnTo>
                  <a:lnTo>
                    <a:pt x="6" y="3"/>
                  </a:lnTo>
                  <a:lnTo>
                    <a:pt x="0" y="12"/>
                  </a:lnTo>
                  <a:lnTo>
                    <a:pt x="0" y="585"/>
                  </a:lnTo>
                  <a:lnTo>
                    <a:pt x="6" y="593"/>
                  </a:lnTo>
                  <a:lnTo>
                    <a:pt x="15" y="596"/>
                  </a:lnTo>
                  <a:lnTo>
                    <a:pt x="147" y="596"/>
                  </a:lnTo>
                  <a:lnTo>
                    <a:pt x="147" y="596"/>
                  </a:lnTo>
                  <a:close/>
                </a:path>
              </a:pathLst>
            </a:custGeom>
            <a:solidFill>
              <a:srgbClr val="ccb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9864200">
              <a:off x="6314040" y="2075400"/>
              <a:ext cx="108360" cy="415440"/>
            </a:xfrm>
            <a:custGeom>
              <a:avLst/>
              <a:gdLst/>
              <a:ahLst/>
              <a:rect l="l" t="t" r="r" b="b"/>
              <a:pathLst>
                <a:path w="156" h="596">
                  <a:moveTo>
                    <a:pt x="147" y="596"/>
                  </a:moveTo>
                  <a:lnTo>
                    <a:pt x="153" y="593"/>
                  </a:lnTo>
                  <a:lnTo>
                    <a:pt x="156" y="585"/>
                  </a:lnTo>
                  <a:lnTo>
                    <a:pt x="156" y="12"/>
                  </a:lnTo>
                  <a:lnTo>
                    <a:pt x="153" y="3"/>
                  </a:lnTo>
                  <a:lnTo>
                    <a:pt x="147" y="0"/>
                  </a:lnTo>
                  <a:lnTo>
                    <a:pt x="15" y="0"/>
                  </a:lnTo>
                  <a:lnTo>
                    <a:pt x="6" y="3"/>
                  </a:lnTo>
                  <a:lnTo>
                    <a:pt x="0" y="12"/>
                  </a:lnTo>
                  <a:lnTo>
                    <a:pt x="0" y="585"/>
                  </a:lnTo>
                  <a:lnTo>
                    <a:pt x="6" y="593"/>
                  </a:lnTo>
                  <a:lnTo>
                    <a:pt x="15" y="596"/>
                  </a:lnTo>
                  <a:lnTo>
                    <a:pt x="147" y="596"/>
                  </a:lnTo>
                  <a:lnTo>
                    <a:pt x="147" y="596"/>
                  </a:lnTo>
                  <a:close/>
                </a:path>
              </a:pathLst>
            </a:custGeom>
            <a:solidFill>
              <a:srgbClr val="ccb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9864200">
              <a:off x="6314040" y="2075400"/>
              <a:ext cx="108360" cy="415440"/>
            </a:xfrm>
            <a:custGeom>
              <a:avLst/>
              <a:gdLst/>
              <a:ahLst/>
              <a:rect l="l" t="t" r="r" b="b"/>
              <a:pathLst>
                <a:path w="156" h="596">
                  <a:moveTo>
                    <a:pt x="147" y="596"/>
                  </a:moveTo>
                  <a:lnTo>
                    <a:pt x="153" y="593"/>
                  </a:lnTo>
                  <a:lnTo>
                    <a:pt x="156" y="585"/>
                  </a:lnTo>
                  <a:lnTo>
                    <a:pt x="156" y="12"/>
                  </a:lnTo>
                  <a:lnTo>
                    <a:pt x="153" y="3"/>
                  </a:lnTo>
                  <a:lnTo>
                    <a:pt x="147" y="0"/>
                  </a:lnTo>
                  <a:lnTo>
                    <a:pt x="15" y="0"/>
                  </a:lnTo>
                  <a:lnTo>
                    <a:pt x="6" y="3"/>
                  </a:lnTo>
                  <a:lnTo>
                    <a:pt x="0" y="12"/>
                  </a:lnTo>
                  <a:lnTo>
                    <a:pt x="0" y="585"/>
                  </a:lnTo>
                  <a:lnTo>
                    <a:pt x="6" y="593"/>
                  </a:lnTo>
                  <a:lnTo>
                    <a:pt x="15" y="596"/>
                  </a:lnTo>
                  <a:lnTo>
                    <a:pt x="147" y="596"/>
                  </a:lnTo>
                  <a:lnTo>
                    <a:pt x="147" y="596"/>
                  </a:lnTo>
                  <a:close/>
                </a:path>
              </a:pathLst>
            </a:custGeom>
            <a:solidFill>
              <a:srgbClr val="ccb2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864200">
              <a:off x="6316560" y="2075760"/>
              <a:ext cx="102240" cy="415440"/>
            </a:xfrm>
            <a:custGeom>
              <a:avLst/>
              <a:gdLst/>
              <a:ahLst/>
              <a:rect l="l" t="t" r="r" b="b"/>
              <a:pathLst>
                <a:path w="147" h="596">
                  <a:moveTo>
                    <a:pt x="15" y="0"/>
                  </a:moveTo>
                  <a:lnTo>
                    <a:pt x="139" y="0"/>
                  </a:lnTo>
                  <a:lnTo>
                    <a:pt x="144" y="3"/>
                  </a:lnTo>
                  <a:lnTo>
                    <a:pt x="147" y="12"/>
                  </a:lnTo>
                  <a:lnTo>
                    <a:pt x="147" y="585"/>
                  </a:lnTo>
                  <a:lnTo>
                    <a:pt x="144" y="593"/>
                  </a:lnTo>
                  <a:lnTo>
                    <a:pt x="139" y="596"/>
                  </a:lnTo>
                  <a:lnTo>
                    <a:pt x="15" y="596"/>
                  </a:lnTo>
                  <a:lnTo>
                    <a:pt x="3" y="593"/>
                  </a:lnTo>
                  <a:lnTo>
                    <a:pt x="0" y="585"/>
                  </a:lnTo>
                  <a:lnTo>
                    <a:pt x="0" y="12"/>
                  </a:lnTo>
                  <a:lnTo>
                    <a:pt x="3" y="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fb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864200">
              <a:off x="6318720" y="2075760"/>
              <a:ext cx="97920" cy="415440"/>
            </a:xfrm>
            <a:custGeom>
              <a:avLst/>
              <a:gdLst/>
              <a:ahLst/>
              <a:rect l="l" t="t" r="r" b="b"/>
              <a:pathLst>
                <a:path w="141" h="596">
                  <a:moveTo>
                    <a:pt x="12" y="0"/>
                  </a:moveTo>
                  <a:lnTo>
                    <a:pt x="127" y="0"/>
                  </a:lnTo>
                  <a:lnTo>
                    <a:pt x="136" y="3"/>
                  </a:lnTo>
                  <a:lnTo>
                    <a:pt x="141" y="12"/>
                  </a:lnTo>
                  <a:lnTo>
                    <a:pt x="141" y="585"/>
                  </a:lnTo>
                  <a:lnTo>
                    <a:pt x="136" y="593"/>
                  </a:lnTo>
                  <a:lnTo>
                    <a:pt x="127" y="596"/>
                  </a:lnTo>
                  <a:lnTo>
                    <a:pt x="12" y="596"/>
                  </a:lnTo>
                  <a:lnTo>
                    <a:pt x="3" y="593"/>
                  </a:lnTo>
                  <a:lnTo>
                    <a:pt x="0" y="585"/>
                  </a:lnTo>
                  <a:lnTo>
                    <a:pt x="0" y="12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3b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864200">
              <a:off x="6322680" y="2075760"/>
              <a:ext cx="90360" cy="415440"/>
            </a:xfrm>
            <a:custGeom>
              <a:avLst/>
              <a:gdLst/>
              <a:ahLst/>
              <a:rect l="l" t="t" r="r" b="b"/>
              <a:pathLst>
                <a:path w="130" h="596">
                  <a:moveTo>
                    <a:pt x="9" y="0"/>
                  </a:moveTo>
                  <a:lnTo>
                    <a:pt x="118" y="0"/>
                  </a:lnTo>
                  <a:lnTo>
                    <a:pt x="127" y="3"/>
                  </a:lnTo>
                  <a:lnTo>
                    <a:pt x="130" y="12"/>
                  </a:lnTo>
                  <a:lnTo>
                    <a:pt x="130" y="585"/>
                  </a:lnTo>
                  <a:lnTo>
                    <a:pt x="127" y="593"/>
                  </a:lnTo>
                  <a:lnTo>
                    <a:pt x="118" y="596"/>
                  </a:lnTo>
                  <a:lnTo>
                    <a:pt x="9" y="596"/>
                  </a:lnTo>
                  <a:lnTo>
                    <a:pt x="3" y="593"/>
                  </a:lnTo>
                  <a:lnTo>
                    <a:pt x="0" y="585"/>
                  </a:lnTo>
                  <a:lnTo>
                    <a:pt x="0" y="12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6c4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864200">
              <a:off x="6324840" y="2076480"/>
              <a:ext cx="82080" cy="415440"/>
            </a:xfrm>
            <a:custGeom>
              <a:avLst/>
              <a:gdLst/>
              <a:ahLst/>
              <a:rect l="l" t="t" r="r" b="b"/>
              <a:pathLst>
                <a:path w="118" h="596">
                  <a:moveTo>
                    <a:pt x="8" y="0"/>
                  </a:moveTo>
                  <a:lnTo>
                    <a:pt x="109" y="0"/>
                  </a:lnTo>
                  <a:lnTo>
                    <a:pt x="115" y="3"/>
                  </a:lnTo>
                  <a:lnTo>
                    <a:pt x="118" y="12"/>
                  </a:lnTo>
                  <a:lnTo>
                    <a:pt x="118" y="585"/>
                  </a:lnTo>
                  <a:lnTo>
                    <a:pt x="115" y="593"/>
                  </a:lnTo>
                  <a:lnTo>
                    <a:pt x="109" y="596"/>
                  </a:lnTo>
                  <a:lnTo>
                    <a:pt x="8" y="596"/>
                  </a:lnTo>
                  <a:lnTo>
                    <a:pt x="3" y="593"/>
                  </a:lnTo>
                  <a:lnTo>
                    <a:pt x="0" y="585"/>
                  </a:lnTo>
                  <a:lnTo>
                    <a:pt x="0" y="12"/>
                  </a:lnTo>
                  <a:lnTo>
                    <a:pt x="3" y="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a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864200">
              <a:off x="6327000" y="2076480"/>
              <a:ext cx="77760" cy="415440"/>
            </a:xfrm>
            <a:custGeom>
              <a:avLst/>
              <a:gdLst/>
              <a:ahLst/>
              <a:rect l="l" t="t" r="r" b="b"/>
              <a:pathLst>
                <a:path w="112" h="596">
                  <a:moveTo>
                    <a:pt x="8" y="0"/>
                  </a:moveTo>
                  <a:lnTo>
                    <a:pt x="101" y="0"/>
                  </a:lnTo>
                  <a:lnTo>
                    <a:pt x="109" y="3"/>
                  </a:lnTo>
                  <a:lnTo>
                    <a:pt x="112" y="12"/>
                  </a:lnTo>
                  <a:lnTo>
                    <a:pt x="112" y="585"/>
                  </a:lnTo>
                  <a:lnTo>
                    <a:pt x="109" y="593"/>
                  </a:lnTo>
                  <a:lnTo>
                    <a:pt x="101" y="596"/>
                  </a:lnTo>
                  <a:lnTo>
                    <a:pt x="8" y="596"/>
                  </a:lnTo>
                  <a:lnTo>
                    <a:pt x="3" y="593"/>
                  </a:lnTo>
                  <a:lnTo>
                    <a:pt x="0" y="585"/>
                  </a:lnTo>
                  <a:lnTo>
                    <a:pt x="0" y="12"/>
                  </a:lnTo>
                  <a:lnTo>
                    <a:pt x="3" y="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dc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9864200">
              <a:off x="6327360" y="2077560"/>
              <a:ext cx="73440" cy="415440"/>
            </a:xfrm>
            <a:custGeom>
              <a:avLst/>
              <a:gdLst/>
              <a:ahLst/>
              <a:rect l="l" t="t" r="r" b="b"/>
              <a:pathLst>
                <a:path w="106" h="596">
                  <a:moveTo>
                    <a:pt x="11" y="0"/>
                  </a:moveTo>
                  <a:lnTo>
                    <a:pt x="95" y="0"/>
                  </a:lnTo>
                  <a:lnTo>
                    <a:pt x="103" y="3"/>
                  </a:lnTo>
                  <a:lnTo>
                    <a:pt x="106" y="12"/>
                  </a:lnTo>
                  <a:lnTo>
                    <a:pt x="106" y="585"/>
                  </a:lnTo>
                  <a:lnTo>
                    <a:pt x="103" y="593"/>
                  </a:lnTo>
                  <a:lnTo>
                    <a:pt x="95" y="596"/>
                  </a:lnTo>
                  <a:lnTo>
                    <a:pt x="11" y="596"/>
                  </a:lnTo>
                  <a:lnTo>
                    <a:pt x="3" y="593"/>
                  </a:lnTo>
                  <a:lnTo>
                    <a:pt x="0" y="585"/>
                  </a:lnTo>
                  <a:lnTo>
                    <a:pt x="0" y="12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1d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9864200">
              <a:off x="6329520" y="2077920"/>
              <a:ext cx="68040" cy="415440"/>
            </a:xfrm>
            <a:custGeom>
              <a:avLst/>
              <a:gdLst/>
              <a:ahLst/>
              <a:rect l="l" t="t" r="r" b="b"/>
              <a:pathLst>
                <a:path w="98" h="596">
                  <a:moveTo>
                    <a:pt x="11" y="0"/>
                  </a:moveTo>
                  <a:lnTo>
                    <a:pt x="86" y="0"/>
                  </a:lnTo>
                  <a:lnTo>
                    <a:pt x="95" y="3"/>
                  </a:lnTo>
                  <a:lnTo>
                    <a:pt x="98" y="12"/>
                  </a:lnTo>
                  <a:lnTo>
                    <a:pt x="98" y="585"/>
                  </a:lnTo>
                  <a:lnTo>
                    <a:pt x="95" y="593"/>
                  </a:lnTo>
                  <a:lnTo>
                    <a:pt x="86" y="596"/>
                  </a:lnTo>
                  <a:lnTo>
                    <a:pt x="11" y="596"/>
                  </a:lnTo>
                  <a:lnTo>
                    <a:pt x="2" y="593"/>
                  </a:lnTo>
                  <a:lnTo>
                    <a:pt x="0" y="585"/>
                  </a:lnTo>
                  <a:lnTo>
                    <a:pt x="0" y="12"/>
                  </a:lnTo>
                  <a:lnTo>
                    <a:pt x="2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4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864200">
              <a:off x="6331320" y="2078640"/>
              <a:ext cx="62280" cy="415440"/>
            </a:xfrm>
            <a:custGeom>
              <a:avLst/>
              <a:gdLst/>
              <a:ahLst/>
              <a:rect l="l" t="t" r="r" b="b"/>
              <a:pathLst>
                <a:path w="90" h="596">
                  <a:moveTo>
                    <a:pt x="12" y="0"/>
                  </a:moveTo>
                  <a:lnTo>
                    <a:pt x="78" y="0"/>
                  </a:lnTo>
                  <a:lnTo>
                    <a:pt x="87" y="3"/>
                  </a:lnTo>
                  <a:lnTo>
                    <a:pt x="90" y="12"/>
                  </a:lnTo>
                  <a:lnTo>
                    <a:pt x="90" y="585"/>
                  </a:lnTo>
                  <a:lnTo>
                    <a:pt x="87" y="593"/>
                  </a:lnTo>
                  <a:lnTo>
                    <a:pt x="78" y="596"/>
                  </a:lnTo>
                  <a:lnTo>
                    <a:pt x="12" y="596"/>
                  </a:lnTo>
                  <a:lnTo>
                    <a:pt x="3" y="593"/>
                  </a:lnTo>
                  <a:lnTo>
                    <a:pt x="0" y="585"/>
                  </a:lnTo>
                  <a:lnTo>
                    <a:pt x="0" y="12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8e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9864200">
              <a:off x="6333480" y="2078280"/>
              <a:ext cx="58320" cy="415440"/>
            </a:xfrm>
            <a:custGeom>
              <a:avLst/>
              <a:gdLst/>
              <a:ahLst/>
              <a:rect l="l" t="t" r="r" b="b"/>
              <a:pathLst>
                <a:path w="84" h="596">
                  <a:moveTo>
                    <a:pt x="9" y="0"/>
                  </a:moveTo>
                  <a:lnTo>
                    <a:pt x="69" y="0"/>
                  </a:lnTo>
                  <a:lnTo>
                    <a:pt x="78" y="3"/>
                  </a:lnTo>
                  <a:lnTo>
                    <a:pt x="84" y="12"/>
                  </a:lnTo>
                  <a:lnTo>
                    <a:pt x="84" y="585"/>
                  </a:lnTo>
                  <a:lnTo>
                    <a:pt x="78" y="593"/>
                  </a:lnTo>
                  <a:lnTo>
                    <a:pt x="69" y="596"/>
                  </a:lnTo>
                  <a:lnTo>
                    <a:pt x="9" y="596"/>
                  </a:lnTo>
                  <a:lnTo>
                    <a:pt x="3" y="593"/>
                  </a:lnTo>
                  <a:lnTo>
                    <a:pt x="0" y="585"/>
                  </a:lnTo>
                  <a:lnTo>
                    <a:pt x="0" y="12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be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864200">
              <a:off x="6335280" y="2079720"/>
              <a:ext cx="50040" cy="415440"/>
            </a:xfrm>
            <a:custGeom>
              <a:avLst/>
              <a:gdLst/>
              <a:ahLst/>
              <a:rect l="l" t="t" r="r" b="b"/>
              <a:pathLst>
                <a:path w="72" h="596">
                  <a:moveTo>
                    <a:pt x="12" y="0"/>
                  </a:moveTo>
                  <a:lnTo>
                    <a:pt x="64" y="0"/>
                  </a:lnTo>
                  <a:lnTo>
                    <a:pt x="69" y="3"/>
                  </a:lnTo>
                  <a:lnTo>
                    <a:pt x="72" y="12"/>
                  </a:lnTo>
                  <a:lnTo>
                    <a:pt x="72" y="585"/>
                  </a:lnTo>
                  <a:lnTo>
                    <a:pt x="69" y="593"/>
                  </a:lnTo>
                  <a:lnTo>
                    <a:pt x="64" y="596"/>
                  </a:lnTo>
                  <a:lnTo>
                    <a:pt x="12" y="596"/>
                  </a:lnTo>
                  <a:lnTo>
                    <a:pt x="3" y="593"/>
                  </a:lnTo>
                  <a:lnTo>
                    <a:pt x="0" y="585"/>
                  </a:lnTo>
                  <a:lnTo>
                    <a:pt x="0" y="12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9864200">
              <a:off x="6337800" y="2080080"/>
              <a:ext cx="43560" cy="415440"/>
            </a:xfrm>
            <a:custGeom>
              <a:avLst/>
              <a:gdLst/>
              <a:ahLst/>
              <a:rect l="l" t="t" r="r" b="b"/>
              <a:pathLst>
                <a:path w="63" h="596">
                  <a:moveTo>
                    <a:pt x="55" y="596"/>
                  </a:moveTo>
                  <a:lnTo>
                    <a:pt x="61" y="593"/>
                  </a:lnTo>
                  <a:lnTo>
                    <a:pt x="63" y="585"/>
                  </a:lnTo>
                  <a:lnTo>
                    <a:pt x="63" y="12"/>
                  </a:lnTo>
                  <a:lnTo>
                    <a:pt x="61" y="3"/>
                  </a:lnTo>
                  <a:lnTo>
                    <a:pt x="55" y="0"/>
                  </a:lnTo>
                  <a:lnTo>
                    <a:pt x="12" y="0"/>
                  </a:lnTo>
                  <a:lnTo>
                    <a:pt x="3" y="3"/>
                  </a:lnTo>
                  <a:lnTo>
                    <a:pt x="0" y="12"/>
                  </a:lnTo>
                  <a:lnTo>
                    <a:pt x="0" y="585"/>
                  </a:lnTo>
                  <a:lnTo>
                    <a:pt x="3" y="593"/>
                  </a:lnTo>
                  <a:lnTo>
                    <a:pt x="12" y="596"/>
                  </a:lnTo>
                  <a:lnTo>
                    <a:pt x="55" y="596"/>
                  </a:lnTo>
                  <a:lnTo>
                    <a:pt x="55" y="596"/>
                  </a:lnTo>
                  <a:close/>
                </a:path>
              </a:pathLst>
            </a:custGeom>
            <a:solidFill>
              <a:srgbClr val="f2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9864200">
              <a:off x="6314040" y="2075400"/>
              <a:ext cx="108360" cy="415440"/>
            </a:xfrm>
            <a:custGeom>
              <a:avLst/>
              <a:gdLst/>
              <a:ahLst/>
              <a:rect l="l" t="t" r="r" b="b"/>
              <a:pathLst>
                <a:path w="156" h="596">
                  <a:moveTo>
                    <a:pt x="147" y="596"/>
                  </a:moveTo>
                  <a:lnTo>
                    <a:pt x="153" y="593"/>
                  </a:lnTo>
                  <a:lnTo>
                    <a:pt x="156" y="585"/>
                  </a:lnTo>
                  <a:lnTo>
                    <a:pt x="156" y="12"/>
                  </a:lnTo>
                  <a:lnTo>
                    <a:pt x="153" y="3"/>
                  </a:lnTo>
                  <a:lnTo>
                    <a:pt x="147" y="0"/>
                  </a:lnTo>
                  <a:lnTo>
                    <a:pt x="15" y="0"/>
                  </a:lnTo>
                  <a:lnTo>
                    <a:pt x="6" y="3"/>
                  </a:lnTo>
                  <a:lnTo>
                    <a:pt x="0" y="12"/>
                  </a:lnTo>
                  <a:lnTo>
                    <a:pt x="0" y="585"/>
                  </a:lnTo>
                  <a:lnTo>
                    <a:pt x="6" y="593"/>
                  </a:lnTo>
                  <a:lnTo>
                    <a:pt x="15" y="596"/>
                  </a:lnTo>
                  <a:lnTo>
                    <a:pt x="147" y="596"/>
                  </a:lnTo>
                  <a:lnTo>
                    <a:pt x="147" y="59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864200">
              <a:off x="6211440" y="2017800"/>
              <a:ext cx="40320" cy="2556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29" y="37"/>
                  </a:moveTo>
                  <a:lnTo>
                    <a:pt x="41" y="34"/>
                  </a:lnTo>
                  <a:lnTo>
                    <a:pt x="49" y="28"/>
                  </a:lnTo>
                  <a:lnTo>
                    <a:pt x="55" y="23"/>
                  </a:lnTo>
                  <a:lnTo>
                    <a:pt x="58" y="17"/>
                  </a:lnTo>
                  <a:lnTo>
                    <a:pt x="55" y="8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9" y="2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9" y="28"/>
                  </a:lnTo>
                  <a:lnTo>
                    <a:pt x="18" y="34"/>
                  </a:lnTo>
                  <a:lnTo>
                    <a:pt x="29" y="3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9864200">
              <a:off x="6197760" y="2027160"/>
              <a:ext cx="104400" cy="73800"/>
            </a:xfrm>
            <a:custGeom>
              <a:avLst/>
              <a:gdLst/>
              <a:ahLst/>
              <a:rect l="l" t="t" r="r" b="b"/>
              <a:pathLst>
                <a:path w="150" h="106">
                  <a:moveTo>
                    <a:pt x="75" y="106"/>
                  </a:moveTo>
                  <a:lnTo>
                    <a:pt x="144" y="63"/>
                  </a:lnTo>
                  <a:lnTo>
                    <a:pt x="150" y="11"/>
                  </a:lnTo>
                  <a:lnTo>
                    <a:pt x="75" y="0"/>
                  </a:lnTo>
                  <a:lnTo>
                    <a:pt x="0" y="11"/>
                  </a:lnTo>
                  <a:lnTo>
                    <a:pt x="3" y="63"/>
                  </a:lnTo>
                  <a:lnTo>
                    <a:pt x="75" y="106"/>
                  </a:lnTo>
                  <a:lnTo>
                    <a:pt x="75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9864200">
              <a:off x="6215040" y="2055240"/>
              <a:ext cx="27720" cy="1584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0" y="23"/>
                  </a:moveTo>
                  <a:lnTo>
                    <a:pt x="40" y="0"/>
                  </a:lnTo>
                  <a:lnTo>
                    <a:pt x="32" y="0"/>
                  </a:lnTo>
                  <a:lnTo>
                    <a:pt x="20" y="11"/>
                  </a:lnTo>
                  <a:lnTo>
                    <a:pt x="9" y="0"/>
                  </a:lnTo>
                  <a:lnTo>
                    <a:pt x="0" y="0"/>
                  </a:lnTo>
                  <a:lnTo>
                    <a:pt x="20" y="23"/>
                  </a:lnTo>
                  <a:lnTo>
                    <a:pt x="2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9864200">
              <a:off x="6234840" y="2045160"/>
              <a:ext cx="25560" cy="1584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0" y="23"/>
                  </a:moveTo>
                  <a:lnTo>
                    <a:pt x="37" y="0"/>
                  </a:lnTo>
                  <a:lnTo>
                    <a:pt x="28" y="0"/>
                  </a:lnTo>
                  <a:lnTo>
                    <a:pt x="20" y="11"/>
                  </a:lnTo>
                  <a:lnTo>
                    <a:pt x="8" y="0"/>
                  </a:lnTo>
                  <a:lnTo>
                    <a:pt x="0" y="0"/>
                  </a:lnTo>
                  <a:lnTo>
                    <a:pt x="20" y="23"/>
                  </a:lnTo>
                  <a:lnTo>
                    <a:pt x="2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9864200">
              <a:off x="6251760" y="2035440"/>
              <a:ext cx="26280" cy="1584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21" y="23"/>
                  </a:moveTo>
                  <a:lnTo>
                    <a:pt x="38" y="0"/>
                  </a:lnTo>
                  <a:lnTo>
                    <a:pt x="32" y="0"/>
                  </a:lnTo>
                  <a:lnTo>
                    <a:pt x="21" y="11"/>
                  </a:lnTo>
                  <a:lnTo>
                    <a:pt x="9" y="0"/>
                  </a:lnTo>
                  <a:lnTo>
                    <a:pt x="0" y="0"/>
                  </a:lnTo>
                  <a:lnTo>
                    <a:pt x="21" y="23"/>
                  </a:lnTo>
                  <a:lnTo>
                    <a:pt x="2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9864200">
              <a:off x="6271560" y="2026800"/>
              <a:ext cx="18000" cy="1584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3"/>
                  </a:moveTo>
                  <a:lnTo>
                    <a:pt x="20" y="11"/>
                  </a:lnTo>
                  <a:lnTo>
                    <a:pt x="6" y="0"/>
                  </a:lnTo>
                  <a:lnTo>
                    <a:pt x="0" y="0"/>
                  </a:lnTo>
                  <a:lnTo>
                    <a:pt x="20" y="23"/>
                  </a:lnTo>
                  <a:lnTo>
                    <a:pt x="26" y="11"/>
                  </a:lnTo>
                  <a:lnTo>
                    <a:pt x="26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207480" y="2043720"/>
              <a:ext cx="86400" cy="4680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9864200">
              <a:off x="6197760" y="2065680"/>
              <a:ext cx="26280" cy="1584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20" y="23"/>
                  </a:moveTo>
                  <a:lnTo>
                    <a:pt x="38" y="0"/>
                  </a:lnTo>
                  <a:lnTo>
                    <a:pt x="29" y="0"/>
                  </a:lnTo>
                  <a:lnTo>
                    <a:pt x="20" y="11"/>
                  </a:lnTo>
                  <a:lnTo>
                    <a:pt x="9" y="0"/>
                  </a:lnTo>
                  <a:lnTo>
                    <a:pt x="0" y="0"/>
                  </a:lnTo>
                  <a:lnTo>
                    <a:pt x="20" y="23"/>
                  </a:lnTo>
                  <a:lnTo>
                    <a:pt x="2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9864200">
              <a:off x="6199920" y="1996560"/>
              <a:ext cx="40320" cy="2556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29" y="37"/>
                  </a:moveTo>
                  <a:lnTo>
                    <a:pt x="41" y="37"/>
                  </a:lnTo>
                  <a:lnTo>
                    <a:pt x="49" y="32"/>
                  </a:lnTo>
                  <a:lnTo>
                    <a:pt x="55" y="26"/>
                  </a:lnTo>
                  <a:lnTo>
                    <a:pt x="58" y="17"/>
                  </a:lnTo>
                  <a:lnTo>
                    <a:pt x="55" y="12"/>
                  </a:lnTo>
                  <a:lnTo>
                    <a:pt x="49" y="6"/>
                  </a:lnTo>
                  <a:lnTo>
                    <a:pt x="41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6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9" y="32"/>
                  </a:lnTo>
                  <a:lnTo>
                    <a:pt x="18" y="37"/>
                  </a:lnTo>
                  <a:lnTo>
                    <a:pt x="29" y="3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9864200">
              <a:off x="6194160" y="1991160"/>
              <a:ext cx="33840" cy="972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26" y="14"/>
                  </a:moveTo>
                  <a:lnTo>
                    <a:pt x="43" y="11"/>
                  </a:lnTo>
                  <a:lnTo>
                    <a:pt x="49" y="8"/>
                  </a:lnTo>
                  <a:lnTo>
                    <a:pt x="43" y="2"/>
                  </a:lnTo>
                  <a:lnTo>
                    <a:pt x="26" y="0"/>
                  </a:lnTo>
                  <a:lnTo>
                    <a:pt x="9" y="2"/>
                  </a:lnTo>
                  <a:lnTo>
                    <a:pt x="3" y="2"/>
                  </a:lnTo>
                  <a:lnTo>
                    <a:pt x="0" y="8"/>
                  </a:lnTo>
                  <a:lnTo>
                    <a:pt x="9" y="11"/>
                  </a:lnTo>
                  <a:lnTo>
                    <a:pt x="17" y="14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9864200">
              <a:off x="6190200" y="1983960"/>
              <a:ext cx="33840" cy="972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26" y="14"/>
                  </a:moveTo>
                  <a:lnTo>
                    <a:pt x="43" y="12"/>
                  </a:lnTo>
                  <a:lnTo>
                    <a:pt x="49" y="6"/>
                  </a:lnTo>
                  <a:lnTo>
                    <a:pt x="43" y="0"/>
                  </a:lnTo>
                  <a:lnTo>
                    <a:pt x="26" y="0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9" y="12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9864200">
              <a:off x="6185880" y="1975320"/>
              <a:ext cx="33840" cy="1152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26" y="17"/>
                  </a:moveTo>
                  <a:lnTo>
                    <a:pt x="43" y="14"/>
                  </a:lnTo>
                  <a:lnTo>
                    <a:pt x="49" y="8"/>
                  </a:lnTo>
                  <a:lnTo>
                    <a:pt x="43" y="2"/>
                  </a:lnTo>
                  <a:lnTo>
                    <a:pt x="35" y="2"/>
                  </a:lnTo>
                  <a:lnTo>
                    <a:pt x="26" y="0"/>
                  </a:lnTo>
                  <a:lnTo>
                    <a:pt x="9" y="2"/>
                  </a:lnTo>
                  <a:lnTo>
                    <a:pt x="0" y="8"/>
                  </a:lnTo>
                  <a:lnTo>
                    <a:pt x="9" y="14"/>
                  </a:lnTo>
                  <a:lnTo>
                    <a:pt x="26" y="17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9864200">
              <a:off x="6174720" y="1969920"/>
              <a:ext cx="50040" cy="9360"/>
            </a:xfrm>
            <a:custGeom>
              <a:avLst/>
              <a:gdLst/>
              <a:ahLst/>
              <a:rect l="l" t="t" r="r" b="b"/>
              <a:pathLst>
                <a:path w="72" h="14">
                  <a:moveTo>
                    <a:pt x="37" y="14"/>
                  </a:moveTo>
                  <a:lnTo>
                    <a:pt x="51" y="14"/>
                  </a:lnTo>
                  <a:lnTo>
                    <a:pt x="60" y="11"/>
                  </a:lnTo>
                  <a:lnTo>
                    <a:pt x="72" y="6"/>
                  </a:lnTo>
                  <a:lnTo>
                    <a:pt x="69" y="3"/>
                  </a:lnTo>
                  <a:lnTo>
                    <a:pt x="60" y="0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11" y="11"/>
                  </a:lnTo>
                  <a:lnTo>
                    <a:pt x="23" y="14"/>
                  </a:lnTo>
                  <a:lnTo>
                    <a:pt x="37" y="14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9864200">
              <a:off x="6179400" y="1964520"/>
              <a:ext cx="33840" cy="1008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26" y="15"/>
                  </a:moveTo>
                  <a:lnTo>
                    <a:pt x="43" y="12"/>
                  </a:lnTo>
                  <a:lnTo>
                    <a:pt x="49" y="9"/>
                  </a:lnTo>
                  <a:lnTo>
                    <a:pt x="43" y="3"/>
                  </a:lnTo>
                  <a:lnTo>
                    <a:pt x="26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9"/>
                  </a:lnTo>
                  <a:lnTo>
                    <a:pt x="9" y="12"/>
                  </a:lnTo>
                  <a:lnTo>
                    <a:pt x="17" y="15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864200">
              <a:off x="6186600" y="1955520"/>
              <a:ext cx="12240" cy="97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9" y="14"/>
                  </a:moveTo>
                  <a:lnTo>
                    <a:pt x="15" y="14"/>
                  </a:lnTo>
                  <a:lnTo>
                    <a:pt x="18" y="9"/>
                  </a:lnTo>
                  <a:lnTo>
                    <a:pt x="15" y="3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9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9864200">
              <a:off x="6181560" y="1930320"/>
              <a:ext cx="1800" cy="277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64200">
              <a:off x="6183720" y="1929240"/>
              <a:ext cx="21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9864200">
              <a:off x="6180480" y="1947960"/>
              <a:ext cx="14400" cy="216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9" y="3"/>
                  </a:moveTo>
                  <a:lnTo>
                    <a:pt x="15" y="3"/>
                  </a:lnTo>
                  <a:lnTo>
                    <a:pt x="21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864200">
              <a:off x="6178680" y="1944720"/>
              <a:ext cx="14400" cy="216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9" y="3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9864200">
              <a:off x="6176520" y="1939320"/>
              <a:ext cx="14400" cy="39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9" y="6"/>
                  </a:moveTo>
                  <a:lnTo>
                    <a:pt x="21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864200">
              <a:off x="6173640" y="1936080"/>
              <a:ext cx="14400" cy="18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9" y="3"/>
                  </a:moveTo>
                  <a:lnTo>
                    <a:pt x="15" y="3"/>
                  </a:lnTo>
                  <a:lnTo>
                    <a:pt x="21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9864200">
              <a:off x="6171840" y="1932480"/>
              <a:ext cx="12240" cy="18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9" y="3"/>
                  </a:moveTo>
                  <a:lnTo>
                    <a:pt x="18" y="3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9864200">
              <a:off x="6203520" y="2012760"/>
              <a:ext cx="10080" cy="61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9" y="9"/>
                  </a:moveTo>
                  <a:lnTo>
                    <a:pt x="15" y="3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9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864200">
              <a:off x="6213600" y="2030040"/>
              <a:ext cx="10080" cy="82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9" y="12"/>
                  </a:moveTo>
                  <a:lnTo>
                    <a:pt x="15" y="6"/>
                  </a:lnTo>
                  <a:lnTo>
                    <a:pt x="9" y="0"/>
                  </a:lnTo>
                  <a:lnTo>
                    <a:pt x="3" y="3"/>
                  </a:lnTo>
                  <a:lnTo>
                    <a:pt x="0" y="6"/>
                  </a:lnTo>
                  <a:lnTo>
                    <a:pt x="9" y="12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864200">
              <a:off x="6188760" y="2046600"/>
              <a:ext cx="43560" cy="972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0" y="11"/>
                  </a:moveTo>
                  <a:lnTo>
                    <a:pt x="63" y="0"/>
                  </a:lnTo>
                  <a:lnTo>
                    <a:pt x="9" y="14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9864200">
              <a:off x="6183360" y="1979640"/>
              <a:ext cx="396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9864200">
              <a:off x="6181920" y="1971000"/>
              <a:ext cx="11520" cy="21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3"/>
                  </a:moveTo>
                  <a:lnTo>
                    <a:pt x="6" y="3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9864200">
              <a:off x="6187680" y="1959480"/>
              <a:ext cx="180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9864200">
              <a:off x="6444720" y="2477520"/>
              <a:ext cx="104400" cy="66240"/>
            </a:xfrm>
            <a:custGeom>
              <a:avLst/>
              <a:gdLst/>
              <a:ahLst/>
              <a:rect l="l" t="t" r="r" b="b"/>
              <a:pathLst>
                <a:path w="150" h="95">
                  <a:moveTo>
                    <a:pt x="75" y="0"/>
                  </a:moveTo>
                  <a:lnTo>
                    <a:pt x="144" y="29"/>
                  </a:lnTo>
                  <a:lnTo>
                    <a:pt x="150" y="81"/>
                  </a:lnTo>
                  <a:lnTo>
                    <a:pt x="75" y="95"/>
                  </a:lnTo>
                  <a:lnTo>
                    <a:pt x="0" y="81"/>
                  </a:lnTo>
                  <a:lnTo>
                    <a:pt x="3" y="29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9864200">
              <a:off x="6469920" y="2515320"/>
              <a:ext cx="27720" cy="180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20" y="0"/>
                  </a:moveTo>
                  <a:lnTo>
                    <a:pt x="40" y="26"/>
                  </a:lnTo>
                  <a:lnTo>
                    <a:pt x="32" y="26"/>
                  </a:lnTo>
                  <a:lnTo>
                    <a:pt x="20" y="12"/>
                  </a:lnTo>
                  <a:lnTo>
                    <a:pt x="9" y="26"/>
                  </a:lnTo>
                  <a:lnTo>
                    <a:pt x="0" y="2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9864200">
              <a:off x="6489360" y="2504880"/>
              <a:ext cx="25560" cy="1800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0" y="0"/>
                  </a:moveTo>
                  <a:lnTo>
                    <a:pt x="37" y="26"/>
                  </a:lnTo>
                  <a:lnTo>
                    <a:pt x="28" y="26"/>
                  </a:lnTo>
                  <a:lnTo>
                    <a:pt x="20" y="12"/>
                  </a:lnTo>
                  <a:lnTo>
                    <a:pt x="8" y="26"/>
                  </a:lnTo>
                  <a:lnTo>
                    <a:pt x="0" y="2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9864200">
              <a:off x="6506280" y="2495520"/>
              <a:ext cx="26280" cy="1800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21" y="0"/>
                  </a:moveTo>
                  <a:lnTo>
                    <a:pt x="38" y="26"/>
                  </a:lnTo>
                  <a:lnTo>
                    <a:pt x="32" y="26"/>
                  </a:lnTo>
                  <a:lnTo>
                    <a:pt x="21" y="12"/>
                  </a:lnTo>
                  <a:lnTo>
                    <a:pt x="9" y="26"/>
                  </a:lnTo>
                  <a:lnTo>
                    <a:pt x="0" y="2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9864200">
              <a:off x="6526440" y="2486520"/>
              <a:ext cx="18000" cy="180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0"/>
                  </a:moveTo>
                  <a:lnTo>
                    <a:pt x="20" y="12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20" y="0"/>
                  </a:lnTo>
                  <a:lnTo>
                    <a:pt x="26" y="12"/>
                  </a:lnTo>
                  <a:lnTo>
                    <a:pt x="26" y="2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451560" y="2485080"/>
              <a:ext cx="86040" cy="4680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448680" y="2480400"/>
              <a:ext cx="86040" cy="464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9864200">
              <a:off x="6452280" y="2525400"/>
              <a:ext cx="26280" cy="1800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20" y="0"/>
                  </a:moveTo>
                  <a:lnTo>
                    <a:pt x="38" y="26"/>
                  </a:lnTo>
                  <a:lnTo>
                    <a:pt x="29" y="26"/>
                  </a:lnTo>
                  <a:lnTo>
                    <a:pt x="20" y="12"/>
                  </a:lnTo>
                  <a:lnTo>
                    <a:pt x="9" y="26"/>
                  </a:lnTo>
                  <a:lnTo>
                    <a:pt x="0" y="2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9864200">
              <a:off x="6572160" y="2653200"/>
              <a:ext cx="12240" cy="100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0"/>
                  </a:moveTo>
                  <a:lnTo>
                    <a:pt x="15" y="3"/>
                  </a:lnTo>
                  <a:lnTo>
                    <a:pt x="18" y="6"/>
                  </a:lnTo>
                  <a:lnTo>
                    <a:pt x="15" y="12"/>
                  </a:lnTo>
                  <a:lnTo>
                    <a:pt x="9" y="15"/>
                  </a:lnTo>
                  <a:lnTo>
                    <a:pt x="3" y="12"/>
                  </a:lnTo>
                  <a:lnTo>
                    <a:pt x="0" y="6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9864200">
              <a:off x="6545160" y="2614680"/>
              <a:ext cx="40320" cy="3960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29" y="57"/>
                  </a:moveTo>
                  <a:lnTo>
                    <a:pt x="41" y="55"/>
                  </a:lnTo>
                  <a:lnTo>
                    <a:pt x="49" y="49"/>
                  </a:lnTo>
                  <a:lnTo>
                    <a:pt x="55" y="40"/>
                  </a:lnTo>
                  <a:lnTo>
                    <a:pt x="58" y="29"/>
                  </a:lnTo>
                  <a:lnTo>
                    <a:pt x="55" y="20"/>
                  </a:lnTo>
                  <a:lnTo>
                    <a:pt x="49" y="8"/>
                  </a:lnTo>
                  <a:lnTo>
                    <a:pt x="41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9" y="49"/>
                  </a:lnTo>
                  <a:lnTo>
                    <a:pt x="18" y="55"/>
                  </a:lnTo>
                  <a:lnTo>
                    <a:pt x="29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9864200">
              <a:off x="6491520" y="2529000"/>
              <a:ext cx="42480" cy="1584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29" y="23"/>
                  </a:moveTo>
                  <a:lnTo>
                    <a:pt x="41" y="23"/>
                  </a:lnTo>
                  <a:lnTo>
                    <a:pt x="49" y="20"/>
                  </a:lnTo>
                  <a:lnTo>
                    <a:pt x="58" y="17"/>
                  </a:lnTo>
                  <a:lnTo>
                    <a:pt x="61" y="11"/>
                  </a:lnTo>
                  <a:lnTo>
                    <a:pt x="58" y="5"/>
                  </a:lnTo>
                  <a:lnTo>
                    <a:pt x="49" y="3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9" y="3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9" y="20"/>
                  </a:lnTo>
                  <a:lnTo>
                    <a:pt x="18" y="23"/>
                  </a:lnTo>
                  <a:lnTo>
                    <a:pt x="29" y="23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9864200">
              <a:off x="6447240" y="2499120"/>
              <a:ext cx="31680" cy="158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0"/>
                  </a:moveTo>
                  <a:lnTo>
                    <a:pt x="46" y="0"/>
                  </a:lnTo>
                  <a:lnTo>
                    <a:pt x="46" y="3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9864200">
              <a:off x="6537960" y="2617920"/>
              <a:ext cx="612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9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0" y="3"/>
                  </a:lnTo>
                  <a:lnTo>
                    <a:pt x="6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9864200">
              <a:off x="6548400" y="2627640"/>
              <a:ext cx="9720" cy="7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12"/>
                  </a:moveTo>
                  <a:lnTo>
                    <a:pt x="11" y="9"/>
                  </a:lnTo>
                  <a:lnTo>
                    <a:pt x="14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864200">
              <a:off x="6534000" y="2604960"/>
              <a:ext cx="42480" cy="172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29" y="25"/>
                  </a:moveTo>
                  <a:lnTo>
                    <a:pt x="41" y="23"/>
                  </a:lnTo>
                  <a:lnTo>
                    <a:pt x="49" y="20"/>
                  </a:lnTo>
                  <a:lnTo>
                    <a:pt x="58" y="17"/>
                  </a:lnTo>
                  <a:lnTo>
                    <a:pt x="61" y="11"/>
                  </a:lnTo>
                  <a:lnTo>
                    <a:pt x="58" y="8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9" y="2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9" y="20"/>
                  </a:lnTo>
                  <a:lnTo>
                    <a:pt x="18" y="23"/>
                  </a:lnTo>
                  <a:lnTo>
                    <a:pt x="29" y="25"/>
                  </a:lnTo>
                  <a:lnTo>
                    <a:pt x="2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9864200">
              <a:off x="6504480" y="2551680"/>
              <a:ext cx="42480" cy="180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29" y="26"/>
                  </a:moveTo>
                  <a:lnTo>
                    <a:pt x="41" y="26"/>
                  </a:lnTo>
                  <a:lnTo>
                    <a:pt x="49" y="23"/>
                  </a:lnTo>
                  <a:lnTo>
                    <a:pt x="58" y="20"/>
                  </a:lnTo>
                  <a:lnTo>
                    <a:pt x="61" y="15"/>
                  </a:lnTo>
                  <a:lnTo>
                    <a:pt x="58" y="9"/>
                  </a:lnTo>
                  <a:lnTo>
                    <a:pt x="49" y="6"/>
                  </a:lnTo>
                  <a:lnTo>
                    <a:pt x="41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6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9" y="23"/>
                  </a:lnTo>
                  <a:lnTo>
                    <a:pt x="18" y="26"/>
                  </a:lnTo>
                  <a:lnTo>
                    <a:pt x="29" y="26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9864200">
              <a:off x="6516000" y="2583720"/>
              <a:ext cx="55440" cy="2412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40" y="35"/>
                  </a:moveTo>
                  <a:lnTo>
                    <a:pt x="57" y="32"/>
                  </a:lnTo>
                  <a:lnTo>
                    <a:pt x="69" y="29"/>
                  </a:lnTo>
                  <a:lnTo>
                    <a:pt x="78" y="23"/>
                  </a:lnTo>
                  <a:lnTo>
                    <a:pt x="80" y="17"/>
                  </a:lnTo>
                  <a:lnTo>
                    <a:pt x="78" y="9"/>
                  </a:lnTo>
                  <a:lnTo>
                    <a:pt x="69" y="6"/>
                  </a:lnTo>
                  <a:lnTo>
                    <a:pt x="57" y="0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6"/>
                  </a:lnTo>
                  <a:lnTo>
                    <a:pt x="3" y="9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11" y="29"/>
                  </a:lnTo>
                  <a:lnTo>
                    <a:pt x="26" y="32"/>
                  </a:lnTo>
                  <a:lnTo>
                    <a:pt x="40" y="35"/>
                  </a:lnTo>
                  <a:lnTo>
                    <a:pt x="4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9864200">
              <a:off x="6508080" y="2566440"/>
              <a:ext cx="50040" cy="21960"/>
            </a:xfrm>
            <a:custGeom>
              <a:avLst/>
              <a:gdLst/>
              <a:ahLst/>
              <a:rect l="l" t="t" r="r" b="b"/>
              <a:pathLst>
                <a:path w="72" h="32">
                  <a:moveTo>
                    <a:pt x="37" y="32"/>
                  </a:moveTo>
                  <a:lnTo>
                    <a:pt x="51" y="29"/>
                  </a:lnTo>
                  <a:lnTo>
                    <a:pt x="63" y="26"/>
                  </a:lnTo>
                  <a:lnTo>
                    <a:pt x="69" y="23"/>
                  </a:lnTo>
                  <a:lnTo>
                    <a:pt x="72" y="15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1" y="3"/>
                  </a:lnTo>
                  <a:lnTo>
                    <a:pt x="37" y="0"/>
                  </a:lnTo>
                  <a:lnTo>
                    <a:pt x="23" y="3"/>
                  </a:lnTo>
                  <a:lnTo>
                    <a:pt x="11" y="6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3" y="23"/>
                  </a:lnTo>
                  <a:lnTo>
                    <a:pt x="11" y="26"/>
                  </a:lnTo>
                  <a:lnTo>
                    <a:pt x="23" y="29"/>
                  </a:lnTo>
                  <a:lnTo>
                    <a:pt x="37" y="32"/>
                  </a:lnTo>
                  <a:lnTo>
                    <a:pt x="3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864200">
              <a:off x="6516360" y="2584800"/>
              <a:ext cx="6120" cy="3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3" y="5"/>
                  </a:moveTo>
                  <a:lnTo>
                    <a:pt x="9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9864200">
              <a:off x="6523920" y="2600640"/>
              <a:ext cx="6120" cy="8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12"/>
                  </a:moveTo>
                  <a:lnTo>
                    <a:pt x="9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9864200">
              <a:off x="6509160" y="2567520"/>
              <a:ext cx="6120" cy="3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6" y="5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0" y="3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9864200">
              <a:off x="6497640" y="2539440"/>
              <a:ext cx="42480" cy="1800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29" y="26"/>
                  </a:moveTo>
                  <a:lnTo>
                    <a:pt x="41" y="26"/>
                  </a:lnTo>
                  <a:lnTo>
                    <a:pt x="49" y="23"/>
                  </a:lnTo>
                  <a:lnTo>
                    <a:pt x="58" y="17"/>
                  </a:lnTo>
                  <a:lnTo>
                    <a:pt x="61" y="14"/>
                  </a:lnTo>
                  <a:lnTo>
                    <a:pt x="58" y="9"/>
                  </a:lnTo>
                  <a:lnTo>
                    <a:pt x="49" y="6"/>
                  </a:lnTo>
                  <a:lnTo>
                    <a:pt x="41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9" y="23"/>
                  </a:lnTo>
                  <a:lnTo>
                    <a:pt x="18" y="26"/>
                  </a:lnTo>
                  <a:lnTo>
                    <a:pt x="29" y="26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460560" y="2503440"/>
              <a:ext cx="89640" cy="493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086000" y="1663560"/>
            <a:ext cx="2818440" cy="2118240"/>
            <a:chOff x="4086000" y="1663560"/>
            <a:chExt cx="2818440" cy="2118240"/>
          </a:xfrm>
        </p:grpSpPr>
        <p:grpSp>
          <p:nvGrpSpPr>
            <p:cNvPr id="232" name=""/>
            <p:cNvGrpSpPr/>
            <p:nvPr/>
          </p:nvGrpSpPr>
          <p:grpSpPr>
            <a:xfrm>
              <a:off x="4086000" y="2692440"/>
              <a:ext cx="1058760" cy="1089360"/>
              <a:chOff x="4086000" y="2692440"/>
              <a:chExt cx="1058760" cy="1089360"/>
            </a:xfrm>
          </p:grpSpPr>
          <p:sp>
            <p:nvSpPr>
              <p:cNvPr id="233" name=""/>
              <p:cNvSpPr/>
              <p:nvPr/>
            </p:nvSpPr>
            <p:spPr>
              <a:xfrm rot="19864200">
                <a:off x="4279680" y="3012480"/>
                <a:ext cx="647280" cy="413280"/>
              </a:xfrm>
              <a:prstGeom prst="rect">
                <a:avLst/>
              </a:pr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9864200">
                <a:off x="4325400" y="3158280"/>
                <a:ext cx="27720" cy="413280"/>
              </a:xfrm>
              <a:prstGeom prst="rect">
                <a:avLst/>
              </a:prstGeom>
              <a:solidFill>
                <a:srgbClr val="a6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864200">
                <a:off x="4329360" y="3156120"/>
                <a:ext cx="29880" cy="413280"/>
              </a:xfrm>
              <a:prstGeom prst="rect">
                <a:avLst/>
              </a:prstGeom>
              <a:solidFill>
                <a:srgbClr val="b29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9864200">
                <a:off x="4335840" y="3152520"/>
                <a:ext cx="27720" cy="413280"/>
              </a:xfrm>
              <a:prstGeom prst="rect">
                <a:avLst/>
              </a:prstGeom>
              <a:solidFill>
                <a:srgbClr val="bfa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864200">
                <a:off x="4339440" y="3150360"/>
                <a:ext cx="29880" cy="413280"/>
              </a:xfrm>
              <a:prstGeom prst="rect">
                <a:avLst/>
              </a:prstGeom>
              <a:solidFill>
                <a:srgbClr val="cc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9864200">
                <a:off x="4346280" y="3146760"/>
                <a:ext cx="28440" cy="413280"/>
              </a:xfrm>
              <a:prstGeom prst="rect">
                <a:avLst/>
              </a:prstGeom>
              <a:solidFill>
                <a:srgbClr val="d9d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9864200">
                <a:off x="4349880" y="3144600"/>
                <a:ext cx="29520" cy="413280"/>
              </a:xfrm>
              <a:prstGeom prst="rect">
                <a:avLst/>
              </a:prstGeom>
              <a:solidFill>
                <a:srgbClr val="e5e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9864200">
                <a:off x="4357080" y="3141000"/>
                <a:ext cx="27720" cy="413280"/>
              </a:xfrm>
              <a:prstGeom prst="rect">
                <a:avLst/>
              </a:pr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9864200">
                <a:off x="4856760" y="2868480"/>
                <a:ext cx="23400" cy="411120"/>
              </a:xfrm>
              <a:prstGeom prst="rect">
                <a:avLst/>
              </a:prstGeom>
              <a:solidFill>
                <a:srgbClr val="a6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9864200">
                <a:off x="4851360" y="2871720"/>
                <a:ext cx="23400" cy="411120"/>
              </a:xfrm>
              <a:prstGeom prst="rect">
                <a:avLst/>
              </a:prstGeom>
              <a:solidFill>
                <a:srgbClr val="b29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9864200">
                <a:off x="4847760" y="2873520"/>
                <a:ext cx="24120" cy="411120"/>
              </a:xfrm>
              <a:prstGeom prst="rect">
                <a:avLst/>
              </a:prstGeom>
              <a:solidFill>
                <a:srgbClr val="bfa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9864200">
                <a:off x="4843800" y="2875680"/>
                <a:ext cx="21960" cy="411120"/>
              </a:xfrm>
              <a:prstGeom prst="rect">
                <a:avLst/>
              </a:prstGeom>
              <a:solidFill>
                <a:srgbClr val="cc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9864200">
                <a:off x="4839120" y="2878560"/>
                <a:ext cx="23400" cy="411120"/>
              </a:xfrm>
              <a:prstGeom prst="rect">
                <a:avLst/>
              </a:prstGeom>
              <a:solidFill>
                <a:srgbClr val="d9d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9864200">
                <a:off x="4835520" y="2880000"/>
                <a:ext cx="24120" cy="411120"/>
              </a:xfrm>
              <a:prstGeom prst="rect">
                <a:avLst/>
              </a:prstGeom>
              <a:solidFill>
                <a:srgbClr val="e5e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9864200">
                <a:off x="4830120" y="2883240"/>
                <a:ext cx="24120" cy="411120"/>
              </a:xfrm>
              <a:prstGeom prst="rect">
                <a:avLst/>
              </a:pr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9864200">
                <a:off x="4276440" y="3015360"/>
                <a:ext cx="646560" cy="4118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9864200">
                <a:off x="4267800" y="3129120"/>
                <a:ext cx="23400" cy="529560"/>
              </a:xfrm>
              <a:custGeom>
                <a:avLst/>
                <a:gdLst/>
                <a:ahLst/>
                <a:rect l="l" t="t" r="r" b="b"/>
                <a:pathLst>
                  <a:path w="34" h="760">
                    <a:moveTo>
                      <a:pt x="20" y="0"/>
                    </a:moveTo>
                    <a:lnTo>
                      <a:pt x="34" y="0"/>
                    </a:lnTo>
                    <a:lnTo>
                      <a:pt x="34" y="760"/>
                    </a:lnTo>
                    <a:lnTo>
                      <a:pt x="17" y="760"/>
                    </a:lnTo>
                    <a:lnTo>
                      <a:pt x="0" y="76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9864200">
                <a:off x="4359600" y="357876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72" y="18"/>
                    </a:moveTo>
                    <a:lnTo>
                      <a:pt x="78" y="15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8" y="3"/>
                    </a:lnTo>
                    <a:lnTo>
                      <a:pt x="72" y="0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9" y="18"/>
                    </a:lnTo>
                    <a:lnTo>
                      <a:pt x="72" y="18"/>
                    </a:lnTo>
                    <a:lnTo>
                      <a:pt x="7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46480" y="3165120"/>
                <a:ext cx="256680" cy="4633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9864200">
                <a:off x="4122360" y="3132360"/>
                <a:ext cx="40320" cy="2556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29" y="37"/>
                    </a:moveTo>
                    <a:lnTo>
                      <a:pt x="40" y="34"/>
                    </a:lnTo>
                    <a:lnTo>
                      <a:pt x="49" y="31"/>
                    </a:lnTo>
                    <a:lnTo>
                      <a:pt x="55" y="26"/>
                    </a:lnTo>
                    <a:lnTo>
                      <a:pt x="58" y="20"/>
                    </a:lnTo>
                    <a:lnTo>
                      <a:pt x="55" y="11"/>
                    </a:lnTo>
                    <a:lnTo>
                      <a:pt x="49" y="5"/>
                    </a:lnTo>
                    <a:lnTo>
                      <a:pt x="40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5"/>
                    </a:lnTo>
                    <a:lnTo>
                      <a:pt x="3" y="11"/>
                    </a:lnTo>
                    <a:lnTo>
                      <a:pt x="0" y="20"/>
                    </a:lnTo>
                    <a:lnTo>
                      <a:pt x="3" y="26"/>
                    </a:lnTo>
                    <a:lnTo>
                      <a:pt x="9" y="31"/>
                    </a:lnTo>
                    <a:lnTo>
                      <a:pt x="17" y="34"/>
                    </a:lnTo>
                    <a:lnTo>
                      <a:pt x="29" y="37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9864200">
                <a:off x="4109040" y="3141000"/>
                <a:ext cx="104040" cy="75960"/>
              </a:xfrm>
              <a:custGeom>
                <a:avLst/>
                <a:gdLst/>
                <a:ahLst/>
                <a:rect l="l" t="t" r="r" b="b"/>
                <a:pathLst>
                  <a:path w="150" h="109">
                    <a:moveTo>
                      <a:pt x="75" y="109"/>
                    </a:moveTo>
                    <a:lnTo>
                      <a:pt x="147" y="66"/>
                    </a:lnTo>
                    <a:lnTo>
                      <a:pt x="150" y="14"/>
                    </a:lnTo>
                    <a:lnTo>
                      <a:pt x="75" y="0"/>
                    </a:lnTo>
                    <a:lnTo>
                      <a:pt x="0" y="14"/>
                    </a:lnTo>
                    <a:lnTo>
                      <a:pt x="3" y="66"/>
                    </a:lnTo>
                    <a:lnTo>
                      <a:pt x="75" y="109"/>
                    </a:lnTo>
                    <a:lnTo>
                      <a:pt x="7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9864200">
                <a:off x="4127760" y="316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23"/>
                    </a:moveTo>
                    <a:lnTo>
                      <a:pt x="37" y="0"/>
                    </a:lnTo>
                    <a:lnTo>
                      <a:pt x="31" y="0"/>
                    </a:lnTo>
                    <a:lnTo>
                      <a:pt x="20" y="1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9864200">
                <a:off x="4145040" y="31597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1" y="23"/>
                    </a:moveTo>
                    <a:lnTo>
                      <a:pt x="38" y="0"/>
                    </a:lnTo>
                    <a:lnTo>
                      <a:pt x="32" y="0"/>
                    </a:lnTo>
                    <a:lnTo>
                      <a:pt x="21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1" y="23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9864200">
                <a:off x="4164480" y="31489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0" y="23"/>
                    </a:moveTo>
                    <a:lnTo>
                      <a:pt x="38" y="0"/>
                    </a:lnTo>
                    <a:lnTo>
                      <a:pt x="32" y="0"/>
                    </a:lnTo>
                    <a:lnTo>
                      <a:pt x="20" y="14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864200">
                <a:off x="4182480" y="3140640"/>
                <a:ext cx="19800" cy="1584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29" y="6"/>
                    </a:moveTo>
                    <a:lnTo>
                      <a:pt x="20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9" y="14"/>
                    </a:lnTo>
                    <a:lnTo>
                      <a:pt x="29" y="6"/>
                    </a:lnTo>
                    <a:lnTo>
                      <a:pt x="2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4119480" y="3159000"/>
                <a:ext cx="87840" cy="4788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864200">
                <a:off x="4108320" y="31802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23"/>
                    </a:moveTo>
                    <a:lnTo>
                      <a:pt x="37" y="0"/>
                    </a:lnTo>
                    <a:lnTo>
                      <a:pt x="35" y="0"/>
                    </a:lnTo>
                    <a:lnTo>
                      <a:pt x="20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864200">
                <a:off x="4110480" y="3111120"/>
                <a:ext cx="40320" cy="26280"/>
              </a:xfrm>
              <a:custGeom>
                <a:avLst/>
                <a:gdLst/>
                <a:ahLst/>
                <a:rect l="l" t="t" r="r" b="b"/>
                <a:pathLst>
                  <a:path w="58" h="38">
                    <a:moveTo>
                      <a:pt x="29" y="38"/>
                    </a:moveTo>
                    <a:lnTo>
                      <a:pt x="40" y="38"/>
                    </a:lnTo>
                    <a:lnTo>
                      <a:pt x="49" y="35"/>
                    </a:lnTo>
                    <a:lnTo>
                      <a:pt x="55" y="29"/>
                    </a:lnTo>
                    <a:lnTo>
                      <a:pt x="58" y="20"/>
                    </a:lnTo>
                    <a:lnTo>
                      <a:pt x="55" y="15"/>
                    </a:lnTo>
                    <a:lnTo>
                      <a:pt x="49" y="9"/>
                    </a:lnTo>
                    <a:lnTo>
                      <a:pt x="40" y="3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9" y="9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3" y="29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29" y="38"/>
                    </a:lnTo>
                    <a:lnTo>
                      <a:pt x="2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9864200">
                <a:off x="4106880" y="3104640"/>
                <a:ext cx="33840" cy="97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23" y="14"/>
                    </a:moveTo>
                    <a:lnTo>
                      <a:pt x="40" y="14"/>
                    </a:lnTo>
                    <a:lnTo>
                      <a:pt x="46" y="11"/>
                    </a:lnTo>
                    <a:lnTo>
                      <a:pt x="49" y="8"/>
                    </a:lnTo>
                    <a:lnTo>
                      <a:pt x="40" y="3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6" y="3"/>
                    </a:lnTo>
                    <a:lnTo>
                      <a:pt x="0" y="8"/>
                    </a:lnTo>
                    <a:lnTo>
                      <a:pt x="6" y="14"/>
                    </a:lnTo>
                    <a:lnTo>
                      <a:pt x="23" y="14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9864200">
                <a:off x="4103640" y="309924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23" y="12"/>
                    </a:moveTo>
                    <a:lnTo>
                      <a:pt x="40" y="9"/>
                    </a:lnTo>
                    <a:lnTo>
                      <a:pt x="46" y="9"/>
                    </a:lnTo>
                    <a:lnTo>
                      <a:pt x="49" y="3"/>
                    </a:lnTo>
                    <a:lnTo>
                      <a:pt x="40" y="0"/>
                    </a:lnTo>
                    <a:lnTo>
                      <a:pt x="23" y="0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9"/>
                    </a:lnTo>
                    <a:lnTo>
                      <a:pt x="23" y="12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864200">
                <a:off x="4099680" y="309060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23" y="17"/>
                    </a:moveTo>
                    <a:lnTo>
                      <a:pt x="40" y="14"/>
                    </a:lnTo>
                    <a:lnTo>
                      <a:pt x="49" y="8"/>
                    </a:lnTo>
                    <a:lnTo>
                      <a:pt x="46" y="5"/>
                    </a:lnTo>
                    <a:lnTo>
                      <a:pt x="40" y="2"/>
                    </a:lnTo>
                    <a:lnTo>
                      <a:pt x="23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6" y="14"/>
                    </a:lnTo>
                    <a:lnTo>
                      <a:pt x="14" y="14"/>
                    </a:lnTo>
                    <a:lnTo>
                      <a:pt x="23" y="17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864200">
                <a:off x="4086360" y="3083760"/>
                <a:ext cx="50040" cy="936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35" y="14"/>
                    </a:moveTo>
                    <a:lnTo>
                      <a:pt x="49" y="14"/>
                    </a:lnTo>
                    <a:lnTo>
                      <a:pt x="61" y="14"/>
                    </a:lnTo>
                    <a:lnTo>
                      <a:pt x="69" y="12"/>
                    </a:lnTo>
                    <a:lnTo>
                      <a:pt x="72" y="9"/>
                    </a:lnTo>
                    <a:lnTo>
                      <a:pt x="61" y="3"/>
                    </a:lnTo>
                    <a:lnTo>
                      <a:pt x="49" y="0"/>
                    </a:lnTo>
                    <a:lnTo>
                      <a:pt x="35" y="0"/>
                    </a:lnTo>
                    <a:lnTo>
                      <a:pt x="23" y="0"/>
                    </a:lnTo>
                    <a:lnTo>
                      <a:pt x="12" y="3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12" y="14"/>
                    </a:lnTo>
                    <a:lnTo>
                      <a:pt x="23" y="14"/>
                    </a:lnTo>
                    <a:lnTo>
                      <a:pt x="35" y="14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4200">
                <a:off x="4093200" y="3079440"/>
                <a:ext cx="33840" cy="1008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23" y="15"/>
                    </a:moveTo>
                    <a:lnTo>
                      <a:pt x="40" y="12"/>
                    </a:lnTo>
                    <a:lnTo>
                      <a:pt x="46" y="9"/>
                    </a:lnTo>
                    <a:lnTo>
                      <a:pt x="49" y="6"/>
                    </a:lnTo>
                    <a:lnTo>
                      <a:pt x="40" y="3"/>
                    </a:lnTo>
                    <a:lnTo>
                      <a:pt x="23" y="0"/>
                    </a:lnTo>
                    <a:lnTo>
                      <a:pt x="6" y="3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23" y="15"/>
                    </a:lnTo>
                    <a:lnTo>
                      <a:pt x="2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4200">
                <a:off x="4097520" y="3069720"/>
                <a:ext cx="12240" cy="11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9" y="17"/>
                    </a:moveTo>
                    <a:lnTo>
                      <a:pt x="15" y="17"/>
                    </a:lnTo>
                    <a:lnTo>
                      <a:pt x="18" y="12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12"/>
                    </a:lnTo>
                    <a:lnTo>
                      <a:pt x="3" y="17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864200">
                <a:off x="4095360" y="3045960"/>
                <a:ext cx="360" cy="27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864200">
                <a:off x="4095360" y="3045600"/>
                <a:ext cx="1800" cy="27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864200">
                <a:off x="4092480" y="3064680"/>
                <a:ext cx="13680" cy="21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9" y="3"/>
                    </a:moveTo>
                    <a:lnTo>
                      <a:pt x="20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864200">
                <a:off x="4089960" y="305964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9" y="6"/>
                    </a:moveTo>
                    <a:lnTo>
                      <a:pt x="20" y="3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9864200">
                <a:off x="4087440" y="305604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9" y="3"/>
                    </a:moveTo>
                    <a:lnTo>
                      <a:pt x="18" y="3"/>
                    </a:lnTo>
                    <a:lnTo>
                      <a:pt x="2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9864200">
                <a:off x="4085280" y="305208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9" y="3"/>
                    </a:moveTo>
                    <a:lnTo>
                      <a:pt x="20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9864200">
                <a:off x="4085640" y="3048120"/>
                <a:ext cx="10080" cy="180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6" y="3"/>
                    </a:moveTo>
                    <a:lnTo>
                      <a:pt x="12" y="3"/>
                    </a:lnTo>
                    <a:lnTo>
                      <a:pt x="15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9864200">
                <a:off x="4118400" y="3127320"/>
                <a:ext cx="7560" cy="3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3" y="6"/>
                    </a:moveTo>
                    <a:lnTo>
                      <a:pt x="8" y="6"/>
                    </a:lnTo>
                    <a:lnTo>
                      <a:pt x="11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9864200">
                <a:off x="4128480" y="314316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3" y="12"/>
                    </a:moveTo>
                    <a:lnTo>
                      <a:pt x="8" y="9"/>
                    </a:lnTo>
                    <a:lnTo>
                      <a:pt x="11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9864200">
                <a:off x="4102200" y="3160080"/>
                <a:ext cx="41760" cy="115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0" y="14"/>
                    </a:moveTo>
                    <a:lnTo>
                      <a:pt x="60" y="0"/>
                    </a:lnTo>
                    <a:lnTo>
                      <a:pt x="11" y="17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9864200">
                <a:off x="4094640" y="3093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9864200">
                <a:off x="4095360" y="3085200"/>
                <a:ext cx="9360" cy="39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3" y="3"/>
                    </a:lnTo>
                    <a:lnTo>
                      <a:pt x="14" y="0"/>
                    </a:lnTo>
                    <a:lnTo>
                      <a:pt x="11" y="3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864200">
                <a:off x="4101480" y="3072600"/>
                <a:ext cx="1800" cy="39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9864200">
                <a:off x="4227480" y="3190320"/>
                <a:ext cx="108360" cy="41328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9864200">
                <a:off x="4227480" y="3190320"/>
                <a:ext cx="108360" cy="41328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9864200">
                <a:off x="4227480" y="3190320"/>
                <a:ext cx="108360" cy="41328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9864200">
                <a:off x="4229280" y="3190680"/>
                <a:ext cx="104040" cy="413280"/>
              </a:xfrm>
              <a:custGeom>
                <a:avLst/>
                <a:gdLst/>
                <a:ahLst/>
                <a:rect l="l" t="t" r="r" b="b"/>
                <a:pathLst>
                  <a:path w="150" h="593">
                    <a:moveTo>
                      <a:pt x="12" y="0"/>
                    </a:moveTo>
                    <a:lnTo>
                      <a:pt x="135" y="0"/>
                    </a:lnTo>
                    <a:lnTo>
                      <a:pt x="144" y="3"/>
                    </a:lnTo>
                    <a:lnTo>
                      <a:pt x="150" y="9"/>
                    </a:lnTo>
                    <a:lnTo>
                      <a:pt x="150" y="585"/>
                    </a:lnTo>
                    <a:lnTo>
                      <a:pt x="144" y="590"/>
                    </a:lnTo>
                    <a:lnTo>
                      <a:pt x="135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fb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9864200">
                <a:off x="4231800" y="3191040"/>
                <a:ext cx="97920" cy="413280"/>
              </a:xfrm>
              <a:custGeom>
                <a:avLst/>
                <a:gdLst/>
                <a:ahLst/>
                <a:rect l="l" t="t" r="r" b="b"/>
                <a:pathLst>
                  <a:path w="141" h="593">
                    <a:moveTo>
                      <a:pt x="14" y="0"/>
                    </a:moveTo>
                    <a:lnTo>
                      <a:pt x="127" y="0"/>
                    </a:lnTo>
                    <a:lnTo>
                      <a:pt x="138" y="3"/>
                    </a:lnTo>
                    <a:lnTo>
                      <a:pt x="141" y="9"/>
                    </a:lnTo>
                    <a:lnTo>
                      <a:pt x="141" y="585"/>
                    </a:lnTo>
                    <a:lnTo>
                      <a:pt x="138" y="590"/>
                    </a:lnTo>
                    <a:lnTo>
                      <a:pt x="127" y="593"/>
                    </a:lnTo>
                    <a:lnTo>
                      <a:pt x="14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be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9864200">
                <a:off x="4234320" y="3192120"/>
                <a:ext cx="89640" cy="413280"/>
              </a:xfrm>
              <a:custGeom>
                <a:avLst/>
                <a:gdLst/>
                <a:ahLst/>
                <a:rect l="l" t="t" r="r" b="b"/>
                <a:pathLst>
                  <a:path w="129" h="593">
                    <a:moveTo>
                      <a:pt x="11" y="0"/>
                    </a:moveTo>
                    <a:lnTo>
                      <a:pt x="121" y="0"/>
                    </a:lnTo>
                    <a:lnTo>
                      <a:pt x="126" y="3"/>
                    </a:lnTo>
                    <a:lnTo>
                      <a:pt x="129" y="9"/>
                    </a:lnTo>
                    <a:lnTo>
                      <a:pt x="129" y="585"/>
                    </a:lnTo>
                    <a:lnTo>
                      <a:pt x="126" y="590"/>
                    </a:lnTo>
                    <a:lnTo>
                      <a:pt x="121" y="593"/>
                    </a:lnTo>
                    <a:lnTo>
                      <a:pt x="11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6c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9864200">
                <a:off x="4236480" y="3192480"/>
                <a:ext cx="83880" cy="413280"/>
              </a:xfrm>
              <a:custGeom>
                <a:avLst/>
                <a:gdLst/>
                <a:ahLst/>
                <a:rect l="l" t="t" r="r" b="b"/>
                <a:pathLst>
                  <a:path w="121" h="593">
                    <a:moveTo>
                      <a:pt x="11" y="0"/>
                    </a:moveTo>
                    <a:lnTo>
                      <a:pt x="112" y="0"/>
                    </a:lnTo>
                    <a:lnTo>
                      <a:pt x="118" y="3"/>
                    </a:lnTo>
                    <a:lnTo>
                      <a:pt x="121" y="9"/>
                    </a:lnTo>
                    <a:lnTo>
                      <a:pt x="121" y="585"/>
                    </a:lnTo>
                    <a:lnTo>
                      <a:pt x="118" y="590"/>
                    </a:lnTo>
                    <a:lnTo>
                      <a:pt x="112" y="593"/>
                    </a:lnTo>
                    <a:lnTo>
                      <a:pt x="11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a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9864200">
                <a:off x="4237920" y="3192480"/>
                <a:ext cx="79920" cy="413280"/>
              </a:xfrm>
              <a:custGeom>
                <a:avLst/>
                <a:gdLst/>
                <a:ahLst/>
                <a:rect l="l" t="t" r="r" b="b"/>
                <a:pathLst>
                  <a:path w="115" h="593">
                    <a:moveTo>
                      <a:pt x="11" y="0"/>
                    </a:moveTo>
                    <a:lnTo>
                      <a:pt x="103" y="0"/>
                    </a:lnTo>
                    <a:lnTo>
                      <a:pt x="112" y="3"/>
                    </a:lnTo>
                    <a:lnTo>
                      <a:pt x="115" y="9"/>
                    </a:lnTo>
                    <a:lnTo>
                      <a:pt x="115" y="585"/>
                    </a:lnTo>
                    <a:lnTo>
                      <a:pt x="112" y="590"/>
                    </a:lnTo>
                    <a:lnTo>
                      <a:pt x="103" y="593"/>
                    </a:lnTo>
                    <a:lnTo>
                      <a:pt x="11" y="593"/>
                    </a:lnTo>
                    <a:lnTo>
                      <a:pt x="2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c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9864200">
                <a:off x="4239720" y="3193200"/>
                <a:ext cx="74520" cy="413280"/>
              </a:xfrm>
              <a:custGeom>
                <a:avLst/>
                <a:gdLst/>
                <a:ahLst/>
                <a:rect l="l" t="t" r="r" b="b"/>
                <a:pathLst>
                  <a:path w="107" h="593">
                    <a:moveTo>
                      <a:pt x="12" y="0"/>
                    </a:moveTo>
                    <a:lnTo>
                      <a:pt x="95" y="0"/>
                    </a:lnTo>
                    <a:lnTo>
                      <a:pt x="104" y="3"/>
                    </a:lnTo>
                    <a:lnTo>
                      <a:pt x="107" y="9"/>
                    </a:lnTo>
                    <a:lnTo>
                      <a:pt x="107" y="585"/>
                    </a:lnTo>
                    <a:lnTo>
                      <a:pt x="104" y="590"/>
                    </a:lnTo>
                    <a:lnTo>
                      <a:pt x="95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1d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9864200">
                <a:off x="4241880" y="3193560"/>
                <a:ext cx="68040" cy="413280"/>
              </a:xfrm>
              <a:custGeom>
                <a:avLst/>
                <a:gdLst/>
                <a:ahLst/>
                <a:rect l="l" t="t" r="r" b="b"/>
                <a:pathLst>
                  <a:path w="98" h="593">
                    <a:moveTo>
                      <a:pt x="12" y="0"/>
                    </a:moveTo>
                    <a:lnTo>
                      <a:pt x="87" y="0"/>
                    </a:lnTo>
                    <a:lnTo>
                      <a:pt x="95" y="3"/>
                    </a:lnTo>
                    <a:lnTo>
                      <a:pt x="98" y="9"/>
                    </a:lnTo>
                    <a:lnTo>
                      <a:pt x="98" y="585"/>
                    </a:lnTo>
                    <a:lnTo>
                      <a:pt x="95" y="590"/>
                    </a:lnTo>
                    <a:lnTo>
                      <a:pt x="87" y="593"/>
                    </a:lnTo>
                    <a:lnTo>
                      <a:pt x="12" y="593"/>
                    </a:lnTo>
                    <a:lnTo>
                      <a:pt x="6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6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4d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9864200">
                <a:off x="4244040" y="3193920"/>
                <a:ext cx="61920" cy="413280"/>
              </a:xfrm>
              <a:custGeom>
                <a:avLst/>
                <a:gdLst/>
                <a:ahLst/>
                <a:rect l="l" t="t" r="r" b="b"/>
                <a:pathLst>
                  <a:path w="89" h="593">
                    <a:moveTo>
                      <a:pt x="12" y="0"/>
                    </a:moveTo>
                    <a:lnTo>
                      <a:pt x="78" y="0"/>
                    </a:lnTo>
                    <a:lnTo>
                      <a:pt x="87" y="3"/>
                    </a:lnTo>
                    <a:lnTo>
                      <a:pt x="89" y="9"/>
                    </a:lnTo>
                    <a:lnTo>
                      <a:pt x="89" y="585"/>
                    </a:lnTo>
                    <a:lnTo>
                      <a:pt x="87" y="590"/>
                    </a:lnTo>
                    <a:lnTo>
                      <a:pt x="78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8e1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9864200">
                <a:off x="4246560" y="3194280"/>
                <a:ext cx="56520" cy="413280"/>
              </a:xfrm>
              <a:custGeom>
                <a:avLst/>
                <a:gdLst/>
                <a:ahLst/>
                <a:rect l="l" t="t" r="r" b="b"/>
                <a:pathLst>
                  <a:path w="81" h="593">
                    <a:moveTo>
                      <a:pt x="12" y="0"/>
                    </a:moveTo>
                    <a:lnTo>
                      <a:pt x="69" y="0"/>
                    </a:lnTo>
                    <a:lnTo>
                      <a:pt x="78" y="3"/>
                    </a:lnTo>
                    <a:lnTo>
                      <a:pt x="81" y="9"/>
                    </a:lnTo>
                    <a:lnTo>
                      <a:pt x="81" y="585"/>
                    </a:lnTo>
                    <a:lnTo>
                      <a:pt x="78" y="590"/>
                    </a:lnTo>
                    <a:lnTo>
                      <a:pt x="69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be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9864200">
                <a:off x="4248720" y="3194640"/>
                <a:ext cx="50040" cy="413280"/>
              </a:xfrm>
              <a:custGeom>
                <a:avLst/>
                <a:gdLst/>
                <a:ahLst/>
                <a:rect l="l" t="t" r="r" b="b"/>
                <a:pathLst>
                  <a:path w="72" h="593">
                    <a:moveTo>
                      <a:pt x="11" y="0"/>
                    </a:moveTo>
                    <a:lnTo>
                      <a:pt x="63" y="0"/>
                    </a:lnTo>
                    <a:lnTo>
                      <a:pt x="69" y="3"/>
                    </a:lnTo>
                    <a:lnTo>
                      <a:pt x="72" y="9"/>
                    </a:lnTo>
                    <a:lnTo>
                      <a:pt x="72" y="585"/>
                    </a:lnTo>
                    <a:lnTo>
                      <a:pt x="69" y="590"/>
                    </a:lnTo>
                    <a:lnTo>
                      <a:pt x="63" y="593"/>
                    </a:lnTo>
                    <a:lnTo>
                      <a:pt x="11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c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9864200">
                <a:off x="4250880" y="3195720"/>
                <a:ext cx="43560" cy="413280"/>
              </a:xfrm>
              <a:custGeom>
                <a:avLst/>
                <a:gdLst/>
                <a:ahLst/>
                <a:rect l="l" t="t" r="r" b="b"/>
                <a:pathLst>
                  <a:path w="63" h="593">
                    <a:moveTo>
                      <a:pt x="52" y="593"/>
                    </a:moveTo>
                    <a:lnTo>
                      <a:pt x="60" y="590"/>
                    </a:lnTo>
                    <a:lnTo>
                      <a:pt x="63" y="585"/>
                    </a:lnTo>
                    <a:lnTo>
                      <a:pt x="63" y="9"/>
                    </a:lnTo>
                    <a:lnTo>
                      <a:pt x="60" y="3"/>
                    </a:lnTo>
                    <a:lnTo>
                      <a:pt x="52" y="0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3" y="590"/>
                    </a:lnTo>
                    <a:lnTo>
                      <a:pt x="8" y="593"/>
                    </a:lnTo>
                    <a:lnTo>
                      <a:pt x="52" y="593"/>
                    </a:lnTo>
                    <a:lnTo>
                      <a:pt x="52" y="593"/>
                    </a:lnTo>
                    <a:close/>
                  </a:path>
                </a:pathLst>
              </a:cu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9864200">
                <a:off x="4227480" y="3190320"/>
                <a:ext cx="108360" cy="41328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9864200">
                <a:off x="4355640" y="3591360"/>
                <a:ext cx="104040" cy="68040"/>
              </a:xfrm>
              <a:custGeom>
                <a:avLst/>
                <a:gdLst/>
                <a:ahLst/>
                <a:rect l="l" t="t" r="r" b="b"/>
                <a:pathLst>
                  <a:path w="150" h="98">
                    <a:moveTo>
                      <a:pt x="75" y="0"/>
                    </a:moveTo>
                    <a:lnTo>
                      <a:pt x="147" y="32"/>
                    </a:lnTo>
                    <a:lnTo>
                      <a:pt x="150" y="84"/>
                    </a:lnTo>
                    <a:lnTo>
                      <a:pt x="75" y="98"/>
                    </a:lnTo>
                    <a:lnTo>
                      <a:pt x="0" y="84"/>
                    </a:lnTo>
                    <a:lnTo>
                      <a:pt x="3" y="32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9864200">
                <a:off x="4383000" y="363096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0"/>
                    </a:moveTo>
                    <a:lnTo>
                      <a:pt x="37" y="23"/>
                    </a:lnTo>
                    <a:lnTo>
                      <a:pt x="31" y="23"/>
                    </a:lnTo>
                    <a:lnTo>
                      <a:pt x="20" y="12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9864200">
                <a:off x="4399920" y="362124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1" y="0"/>
                    </a:moveTo>
                    <a:lnTo>
                      <a:pt x="38" y="23"/>
                    </a:lnTo>
                    <a:lnTo>
                      <a:pt x="32" y="23"/>
                    </a:lnTo>
                    <a:lnTo>
                      <a:pt x="21" y="1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9864200">
                <a:off x="4419720" y="361044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0" y="0"/>
                    </a:moveTo>
                    <a:lnTo>
                      <a:pt x="38" y="23"/>
                    </a:lnTo>
                    <a:lnTo>
                      <a:pt x="32" y="23"/>
                    </a:lnTo>
                    <a:lnTo>
                      <a:pt x="20" y="12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9864200">
                <a:off x="4437720" y="3602160"/>
                <a:ext cx="19800" cy="1584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29" y="20"/>
                    </a:moveTo>
                    <a:lnTo>
                      <a:pt x="20" y="1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9" y="12"/>
                    </a:lnTo>
                    <a:lnTo>
                      <a:pt x="29" y="20"/>
                    </a:lnTo>
                    <a:lnTo>
                      <a:pt x="29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363200" y="3600000"/>
                <a:ext cx="87840" cy="4788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360680" y="3595680"/>
                <a:ext cx="87840" cy="475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9864200">
                <a:off x="4363560" y="364176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0"/>
                    </a:moveTo>
                    <a:lnTo>
                      <a:pt x="37" y="23"/>
                    </a:lnTo>
                    <a:lnTo>
                      <a:pt x="35" y="23"/>
                    </a:lnTo>
                    <a:lnTo>
                      <a:pt x="20" y="1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864200">
                <a:off x="4483440" y="376668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9" y="0"/>
                    </a:moveTo>
                    <a:lnTo>
                      <a:pt x="15" y="3"/>
                    </a:lnTo>
                    <a:lnTo>
                      <a:pt x="18" y="9"/>
                    </a:lnTo>
                    <a:lnTo>
                      <a:pt x="15" y="15"/>
                    </a:lnTo>
                    <a:lnTo>
                      <a:pt x="9" y="18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864200">
                <a:off x="4456800" y="3730680"/>
                <a:ext cx="40320" cy="3960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57"/>
                    </a:moveTo>
                    <a:lnTo>
                      <a:pt x="40" y="55"/>
                    </a:lnTo>
                    <a:lnTo>
                      <a:pt x="49" y="49"/>
                    </a:lnTo>
                    <a:lnTo>
                      <a:pt x="55" y="40"/>
                    </a:lnTo>
                    <a:lnTo>
                      <a:pt x="58" y="29"/>
                    </a:lnTo>
                    <a:lnTo>
                      <a:pt x="55" y="17"/>
                    </a:lnTo>
                    <a:lnTo>
                      <a:pt x="49" y="8"/>
                    </a:lnTo>
                    <a:lnTo>
                      <a:pt x="40" y="3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9" y="8"/>
                    </a:lnTo>
                    <a:lnTo>
                      <a:pt x="3" y="17"/>
                    </a:lnTo>
                    <a:lnTo>
                      <a:pt x="0" y="29"/>
                    </a:lnTo>
                    <a:lnTo>
                      <a:pt x="3" y="40"/>
                    </a:lnTo>
                    <a:lnTo>
                      <a:pt x="9" y="49"/>
                    </a:lnTo>
                    <a:lnTo>
                      <a:pt x="17" y="55"/>
                    </a:lnTo>
                    <a:lnTo>
                      <a:pt x="29" y="5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864200">
                <a:off x="4403160" y="3645360"/>
                <a:ext cx="42120" cy="158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29" y="23"/>
                    </a:moveTo>
                    <a:lnTo>
                      <a:pt x="43" y="23"/>
                    </a:lnTo>
                    <a:lnTo>
                      <a:pt x="52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5"/>
                    </a:lnTo>
                    <a:lnTo>
                      <a:pt x="52" y="3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3" y="5"/>
                    </a:lnTo>
                    <a:lnTo>
                      <a:pt x="0" y="11"/>
                    </a:lnTo>
                    <a:lnTo>
                      <a:pt x="3" y="17"/>
                    </a:lnTo>
                    <a:lnTo>
                      <a:pt x="9" y="20"/>
                    </a:lnTo>
                    <a:lnTo>
                      <a:pt x="17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864200">
                <a:off x="4358520" y="361368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23"/>
                    </a:moveTo>
                    <a:lnTo>
                      <a:pt x="46" y="0"/>
                    </a:lnTo>
                    <a:lnTo>
                      <a:pt x="46" y="6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864200">
                <a:off x="4450680" y="37332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6"/>
                    </a:moveTo>
                    <a:lnTo>
                      <a:pt x="8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864200">
                <a:off x="4460040" y="37436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5" y="12"/>
                    </a:moveTo>
                    <a:lnTo>
                      <a:pt x="11" y="9"/>
                    </a:lnTo>
                    <a:lnTo>
                      <a:pt x="14" y="6"/>
                    </a:lnTo>
                    <a:lnTo>
                      <a:pt x="11" y="3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864200">
                <a:off x="4444560" y="3719160"/>
                <a:ext cx="42120" cy="180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3" y="23"/>
                    </a:lnTo>
                    <a:lnTo>
                      <a:pt x="52" y="23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8"/>
                    </a:lnTo>
                    <a:lnTo>
                      <a:pt x="52" y="3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3" y="17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864200">
                <a:off x="4416120" y="3667680"/>
                <a:ext cx="42120" cy="180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3" y="26"/>
                    </a:lnTo>
                    <a:lnTo>
                      <a:pt x="52" y="23"/>
                    </a:lnTo>
                    <a:lnTo>
                      <a:pt x="58" y="20"/>
                    </a:lnTo>
                    <a:lnTo>
                      <a:pt x="61" y="15"/>
                    </a:lnTo>
                    <a:lnTo>
                      <a:pt x="58" y="9"/>
                    </a:lnTo>
                    <a:lnTo>
                      <a:pt x="52" y="6"/>
                    </a:lnTo>
                    <a:lnTo>
                      <a:pt x="43" y="3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9" y="6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9" y="23"/>
                    </a:lnTo>
                    <a:lnTo>
                      <a:pt x="17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864200">
                <a:off x="4428720" y="369936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78" h="32">
                    <a:moveTo>
                      <a:pt x="38" y="32"/>
                    </a:moveTo>
                    <a:lnTo>
                      <a:pt x="55" y="32"/>
                    </a:lnTo>
                    <a:lnTo>
                      <a:pt x="67" y="26"/>
                    </a:lnTo>
                    <a:lnTo>
                      <a:pt x="75" y="23"/>
                    </a:lnTo>
                    <a:lnTo>
                      <a:pt x="78" y="17"/>
                    </a:lnTo>
                    <a:lnTo>
                      <a:pt x="75" y="9"/>
                    </a:lnTo>
                    <a:lnTo>
                      <a:pt x="67" y="6"/>
                    </a:lnTo>
                    <a:lnTo>
                      <a:pt x="55" y="0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2" y="6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3" y="23"/>
                    </a:lnTo>
                    <a:lnTo>
                      <a:pt x="12" y="26"/>
                    </a:lnTo>
                    <a:lnTo>
                      <a:pt x="23" y="32"/>
                    </a:lnTo>
                    <a:lnTo>
                      <a:pt x="38" y="32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9864200">
                <a:off x="4419000" y="3682440"/>
                <a:ext cx="52200" cy="2196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52" y="29"/>
                    </a:lnTo>
                    <a:lnTo>
                      <a:pt x="64" y="26"/>
                    </a:lnTo>
                    <a:lnTo>
                      <a:pt x="72" y="20"/>
                    </a:lnTo>
                    <a:lnTo>
                      <a:pt x="75" y="15"/>
                    </a:lnTo>
                    <a:lnTo>
                      <a:pt x="72" y="9"/>
                    </a:lnTo>
                    <a:lnTo>
                      <a:pt x="64" y="6"/>
                    </a:lnTo>
                    <a:lnTo>
                      <a:pt x="52" y="3"/>
                    </a:lnTo>
                    <a:lnTo>
                      <a:pt x="38" y="0"/>
                    </a:lnTo>
                    <a:lnTo>
                      <a:pt x="23" y="3"/>
                    </a:lnTo>
                    <a:lnTo>
                      <a:pt x="12" y="6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2" y="26"/>
                    </a:lnTo>
                    <a:lnTo>
                      <a:pt x="23" y="29"/>
                    </a:lnTo>
                    <a:lnTo>
                      <a:pt x="38" y="32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864200">
                <a:off x="4427280" y="369864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6" y="8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9864200">
                <a:off x="4434840" y="371592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6" y="9"/>
                    </a:move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9864200">
                <a:off x="4422240" y="36810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8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9864200">
                <a:off x="4408920" y="3655800"/>
                <a:ext cx="42120" cy="158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29" y="23"/>
                    </a:moveTo>
                    <a:lnTo>
                      <a:pt x="43" y="23"/>
                    </a:lnTo>
                    <a:lnTo>
                      <a:pt x="52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6"/>
                    </a:lnTo>
                    <a:lnTo>
                      <a:pt x="52" y="3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3" y="6"/>
                    </a:lnTo>
                    <a:lnTo>
                      <a:pt x="0" y="11"/>
                    </a:lnTo>
                    <a:lnTo>
                      <a:pt x="3" y="17"/>
                    </a:lnTo>
                    <a:lnTo>
                      <a:pt x="9" y="20"/>
                    </a:lnTo>
                    <a:lnTo>
                      <a:pt x="17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371120" y="3616920"/>
                <a:ext cx="91440" cy="5004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9864200">
                <a:off x="4906440" y="2775960"/>
                <a:ext cx="23400" cy="529560"/>
              </a:xfrm>
              <a:custGeom>
                <a:avLst/>
                <a:gdLst/>
                <a:ahLst/>
                <a:rect l="l" t="t" r="r" b="b"/>
                <a:pathLst>
                  <a:path w="34" h="760">
                    <a:moveTo>
                      <a:pt x="20" y="0"/>
                    </a:moveTo>
                    <a:lnTo>
                      <a:pt x="34" y="0"/>
                    </a:lnTo>
                    <a:lnTo>
                      <a:pt x="34" y="760"/>
                    </a:lnTo>
                    <a:lnTo>
                      <a:pt x="17" y="760"/>
                    </a:lnTo>
                    <a:lnTo>
                      <a:pt x="0" y="76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864200">
                <a:off x="4998960" y="3226680"/>
                <a:ext cx="55440" cy="10440"/>
              </a:xfrm>
              <a:custGeom>
                <a:avLst/>
                <a:gdLst/>
                <a:ahLst/>
                <a:rect l="l" t="t" r="r" b="b"/>
                <a:pathLst>
                  <a:path w="80" h="15">
                    <a:moveTo>
                      <a:pt x="72" y="15"/>
                    </a:moveTo>
                    <a:lnTo>
                      <a:pt x="78" y="15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78" y="3"/>
                    </a:lnTo>
                    <a:lnTo>
                      <a:pt x="72" y="0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8" y="15"/>
                    </a:lnTo>
                    <a:lnTo>
                      <a:pt x="72" y="15"/>
                    </a:lnTo>
                    <a:lnTo>
                      <a:pt x="7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88000" y="2812680"/>
                <a:ext cx="256320" cy="4633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864200">
                <a:off x="4866480" y="2837520"/>
                <a:ext cx="108360" cy="41508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4200">
                <a:off x="4866480" y="2837520"/>
                <a:ext cx="108360" cy="41508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864200">
                <a:off x="4866480" y="2837520"/>
                <a:ext cx="108360" cy="41508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9864200">
                <a:off x="4868640" y="2837880"/>
                <a:ext cx="102240" cy="415080"/>
              </a:xfrm>
              <a:custGeom>
                <a:avLst/>
                <a:gdLst/>
                <a:ahLst/>
                <a:rect l="l" t="t" r="r" b="b"/>
                <a:pathLst>
                  <a:path w="147" h="596">
                    <a:moveTo>
                      <a:pt x="15" y="0"/>
                    </a:moveTo>
                    <a:lnTo>
                      <a:pt x="139" y="0"/>
                    </a:lnTo>
                    <a:lnTo>
                      <a:pt x="144" y="3"/>
                    </a:lnTo>
                    <a:lnTo>
                      <a:pt x="147" y="12"/>
                    </a:lnTo>
                    <a:lnTo>
                      <a:pt x="147" y="585"/>
                    </a:lnTo>
                    <a:lnTo>
                      <a:pt x="144" y="593"/>
                    </a:lnTo>
                    <a:lnTo>
                      <a:pt x="139" y="596"/>
                    </a:lnTo>
                    <a:lnTo>
                      <a:pt x="15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fb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9864200">
                <a:off x="4870800" y="2837880"/>
                <a:ext cx="97920" cy="415080"/>
              </a:xfrm>
              <a:custGeom>
                <a:avLst/>
                <a:gdLst/>
                <a:ahLst/>
                <a:rect l="l" t="t" r="r" b="b"/>
                <a:pathLst>
                  <a:path w="141" h="596">
                    <a:moveTo>
                      <a:pt x="12" y="0"/>
                    </a:moveTo>
                    <a:lnTo>
                      <a:pt x="127" y="0"/>
                    </a:lnTo>
                    <a:lnTo>
                      <a:pt x="136" y="3"/>
                    </a:lnTo>
                    <a:lnTo>
                      <a:pt x="141" y="12"/>
                    </a:lnTo>
                    <a:lnTo>
                      <a:pt x="141" y="585"/>
                    </a:lnTo>
                    <a:lnTo>
                      <a:pt x="136" y="593"/>
                    </a:lnTo>
                    <a:lnTo>
                      <a:pt x="127" y="596"/>
                    </a:lnTo>
                    <a:lnTo>
                      <a:pt x="12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3be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9864200">
                <a:off x="4875120" y="2837520"/>
                <a:ext cx="90360" cy="415080"/>
              </a:xfrm>
              <a:custGeom>
                <a:avLst/>
                <a:gdLst/>
                <a:ahLst/>
                <a:rect l="l" t="t" r="r" b="b"/>
                <a:pathLst>
                  <a:path w="130" h="596">
                    <a:moveTo>
                      <a:pt x="9" y="0"/>
                    </a:moveTo>
                    <a:lnTo>
                      <a:pt x="118" y="0"/>
                    </a:lnTo>
                    <a:lnTo>
                      <a:pt x="127" y="3"/>
                    </a:lnTo>
                    <a:lnTo>
                      <a:pt x="130" y="12"/>
                    </a:lnTo>
                    <a:lnTo>
                      <a:pt x="130" y="585"/>
                    </a:lnTo>
                    <a:lnTo>
                      <a:pt x="127" y="593"/>
                    </a:lnTo>
                    <a:lnTo>
                      <a:pt x="118" y="596"/>
                    </a:lnTo>
                    <a:lnTo>
                      <a:pt x="9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6c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9864200">
                <a:off x="4876920" y="2838600"/>
                <a:ext cx="82080" cy="415080"/>
              </a:xfrm>
              <a:custGeom>
                <a:avLst/>
                <a:gdLst/>
                <a:ahLst/>
                <a:rect l="l" t="t" r="r" b="b"/>
                <a:pathLst>
                  <a:path w="118" h="596">
                    <a:moveTo>
                      <a:pt x="8" y="0"/>
                    </a:moveTo>
                    <a:lnTo>
                      <a:pt x="109" y="0"/>
                    </a:lnTo>
                    <a:lnTo>
                      <a:pt x="115" y="3"/>
                    </a:lnTo>
                    <a:lnTo>
                      <a:pt x="118" y="12"/>
                    </a:lnTo>
                    <a:lnTo>
                      <a:pt x="118" y="585"/>
                    </a:lnTo>
                    <a:lnTo>
                      <a:pt x="115" y="593"/>
                    </a:lnTo>
                    <a:lnTo>
                      <a:pt x="109" y="596"/>
                    </a:lnTo>
                    <a:lnTo>
                      <a:pt x="8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a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9864200">
                <a:off x="4879440" y="2838600"/>
                <a:ext cx="77760" cy="415080"/>
              </a:xfrm>
              <a:custGeom>
                <a:avLst/>
                <a:gdLst/>
                <a:ahLst/>
                <a:rect l="l" t="t" r="r" b="b"/>
                <a:pathLst>
                  <a:path w="112" h="596">
                    <a:moveTo>
                      <a:pt x="8" y="0"/>
                    </a:moveTo>
                    <a:lnTo>
                      <a:pt x="101" y="0"/>
                    </a:lnTo>
                    <a:lnTo>
                      <a:pt x="109" y="3"/>
                    </a:lnTo>
                    <a:lnTo>
                      <a:pt x="112" y="12"/>
                    </a:lnTo>
                    <a:lnTo>
                      <a:pt x="112" y="585"/>
                    </a:lnTo>
                    <a:lnTo>
                      <a:pt x="109" y="593"/>
                    </a:lnTo>
                    <a:lnTo>
                      <a:pt x="101" y="596"/>
                    </a:lnTo>
                    <a:lnTo>
                      <a:pt x="8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dc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9864200">
                <a:off x="4879800" y="2839680"/>
                <a:ext cx="73440" cy="415080"/>
              </a:xfrm>
              <a:custGeom>
                <a:avLst/>
                <a:gdLst/>
                <a:ahLst/>
                <a:rect l="l" t="t" r="r" b="b"/>
                <a:pathLst>
                  <a:path w="106" h="596">
                    <a:moveTo>
                      <a:pt x="11" y="0"/>
                    </a:moveTo>
                    <a:lnTo>
                      <a:pt x="95" y="0"/>
                    </a:lnTo>
                    <a:lnTo>
                      <a:pt x="103" y="3"/>
                    </a:lnTo>
                    <a:lnTo>
                      <a:pt x="106" y="12"/>
                    </a:lnTo>
                    <a:lnTo>
                      <a:pt x="106" y="585"/>
                    </a:lnTo>
                    <a:lnTo>
                      <a:pt x="103" y="593"/>
                    </a:lnTo>
                    <a:lnTo>
                      <a:pt x="95" y="596"/>
                    </a:lnTo>
                    <a:lnTo>
                      <a:pt x="11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1d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9864200">
                <a:off x="4881960" y="2840040"/>
                <a:ext cx="68040" cy="415080"/>
              </a:xfrm>
              <a:custGeom>
                <a:avLst/>
                <a:gdLst/>
                <a:ahLst/>
                <a:rect l="l" t="t" r="r" b="b"/>
                <a:pathLst>
                  <a:path w="98" h="596">
                    <a:moveTo>
                      <a:pt x="11" y="0"/>
                    </a:moveTo>
                    <a:lnTo>
                      <a:pt x="86" y="0"/>
                    </a:lnTo>
                    <a:lnTo>
                      <a:pt x="95" y="3"/>
                    </a:lnTo>
                    <a:lnTo>
                      <a:pt x="98" y="12"/>
                    </a:lnTo>
                    <a:lnTo>
                      <a:pt x="98" y="585"/>
                    </a:lnTo>
                    <a:lnTo>
                      <a:pt x="95" y="593"/>
                    </a:lnTo>
                    <a:lnTo>
                      <a:pt x="86" y="596"/>
                    </a:lnTo>
                    <a:lnTo>
                      <a:pt x="11" y="596"/>
                    </a:lnTo>
                    <a:lnTo>
                      <a:pt x="2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4d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9864200">
                <a:off x="4883400" y="2840760"/>
                <a:ext cx="62280" cy="415080"/>
              </a:xfrm>
              <a:custGeom>
                <a:avLst/>
                <a:gdLst/>
                <a:ahLst/>
                <a:rect l="l" t="t" r="r" b="b"/>
                <a:pathLst>
                  <a:path w="90" h="596">
                    <a:moveTo>
                      <a:pt x="12" y="0"/>
                    </a:moveTo>
                    <a:lnTo>
                      <a:pt x="78" y="0"/>
                    </a:lnTo>
                    <a:lnTo>
                      <a:pt x="87" y="3"/>
                    </a:lnTo>
                    <a:lnTo>
                      <a:pt x="90" y="12"/>
                    </a:lnTo>
                    <a:lnTo>
                      <a:pt x="90" y="585"/>
                    </a:lnTo>
                    <a:lnTo>
                      <a:pt x="87" y="593"/>
                    </a:lnTo>
                    <a:lnTo>
                      <a:pt x="78" y="596"/>
                    </a:lnTo>
                    <a:lnTo>
                      <a:pt x="12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8e1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9864200">
                <a:off x="4885560" y="2840400"/>
                <a:ext cx="58320" cy="415080"/>
              </a:xfrm>
              <a:custGeom>
                <a:avLst/>
                <a:gdLst/>
                <a:ahLst/>
                <a:rect l="l" t="t" r="r" b="b"/>
                <a:pathLst>
                  <a:path w="84" h="596">
                    <a:moveTo>
                      <a:pt x="9" y="0"/>
                    </a:moveTo>
                    <a:lnTo>
                      <a:pt x="69" y="0"/>
                    </a:lnTo>
                    <a:lnTo>
                      <a:pt x="78" y="3"/>
                    </a:lnTo>
                    <a:lnTo>
                      <a:pt x="84" y="12"/>
                    </a:lnTo>
                    <a:lnTo>
                      <a:pt x="84" y="585"/>
                    </a:lnTo>
                    <a:lnTo>
                      <a:pt x="78" y="593"/>
                    </a:lnTo>
                    <a:lnTo>
                      <a:pt x="69" y="596"/>
                    </a:lnTo>
                    <a:lnTo>
                      <a:pt x="9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be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9864200">
                <a:off x="4887720" y="2841840"/>
                <a:ext cx="50040" cy="415080"/>
              </a:xfrm>
              <a:custGeom>
                <a:avLst/>
                <a:gdLst/>
                <a:ahLst/>
                <a:rect l="l" t="t" r="r" b="b"/>
                <a:pathLst>
                  <a:path w="72" h="596">
                    <a:moveTo>
                      <a:pt x="12" y="0"/>
                    </a:moveTo>
                    <a:lnTo>
                      <a:pt x="64" y="0"/>
                    </a:lnTo>
                    <a:lnTo>
                      <a:pt x="69" y="3"/>
                    </a:lnTo>
                    <a:lnTo>
                      <a:pt x="72" y="12"/>
                    </a:lnTo>
                    <a:lnTo>
                      <a:pt x="72" y="585"/>
                    </a:lnTo>
                    <a:lnTo>
                      <a:pt x="69" y="593"/>
                    </a:lnTo>
                    <a:lnTo>
                      <a:pt x="64" y="596"/>
                    </a:lnTo>
                    <a:lnTo>
                      <a:pt x="12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fec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9864200">
                <a:off x="4889880" y="2842200"/>
                <a:ext cx="43560" cy="415080"/>
              </a:xfrm>
              <a:custGeom>
                <a:avLst/>
                <a:gdLst/>
                <a:ahLst/>
                <a:rect l="l" t="t" r="r" b="b"/>
                <a:pathLst>
                  <a:path w="63" h="596">
                    <a:moveTo>
                      <a:pt x="55" y="596"/>
                    </a:moveTo>
                    <a:lnTo>
                      <a:pt x="61" y="593"/>
                    </a:lnTo>
                    <a:lnTo>
                      <a:pt x="63" y="585"/>
                    </a:lnTo>
                    <a:lnTo>
                      <a:pt x="63" y="12"/>
                    </a:lnTo>
                    <a:lnTo>
                      <a:pt x="61" y="3"/>
                    </a:lnTo>
                    <a:lnTo>
                      <a:pt x="55" y="0"/>
                    </a:lnTo>
                    <a:lnTo>
                      <a:pt x="12" y="0"/>
                    </a:lnTo>
                    <a:lnTo>
                      <a:pt x="3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3" y="593"/>
                    </a:lnTo>
                    <a:lnTo>
                      <a:pt x="12" y="596"/>
                    </a:lnTo>
                    <a:lnTo>
                      <a:pt x="55" y="596"/>
                    </a:lnTo>
                    <a:lnTo>
                      <a:pt x="55" y="596"/>
                    </a:lnTo>
                    <a:close/>
                  </a:path>
                </a:pathLst>
              </a:cu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9864200">
                <a:off x="4866480" y="2837520"/>
                <a:ext cx="108360" cy="41508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9864200">
                <a:off x="4763880" y="2779920"/>
                <a:ext cx="40320" cy="2556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29" y="37"/>
                    </a:moveTo>
                    <a:lnTo>
                      <a:pt x="41" y="34"/>
                    </a:lnTo>
                    <a:lnTo>
                      <a:pt x="49" y="28"/>
                    </a:lnTo>
                    <a:lnTo>
                      <a:pt x="55" y="23"/>
                    </a:lnTo>
                    <a:lnTo>
                      <a:pt x="58" y="17"/>
                    </a:lnTo>
                    <a:lnTo>
                      <a:pt x="55" y="8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9" y="28"/>
                    </a:lnTo>
                    <a:lnTo>
                      <a:pt x="18" y="34"/>
                    </a:lnTo>
                    <a:lnTo>
                      <a:pt x="29" y="37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9864200">
                <a:off x="4750200" y="2789280"/>
                <a:ext cx="104040" cy="73800"/>
              </a:xfrm>
              <a:custGeom>
                <a:avLst/>
                <a:gdLst/>
                <a:ahLst/>
                <a:rect l="l" t="t" r="r" b="b"/>
                <a:pathLst>
                  <a:path w="150" h="106">
                    <a:moveTo>
                      <a:pt x="75" y="106"/>
                    </a:moveTo>
                    <a:lnTo>
                      <a:pt x="144" y="63"/>
                    </a:lnTo>
                    <a:lnTo>
                      <a:pt x="150" y="11"/>
                    </a:lnTo>
                    <a:lnTo>
                      <a:pt x="75" y="0"/>
                    </a:lnTo>
                    <a:lnTo>
                      <a:pt x="0" y="11"/>
                    </a:lnTo>
                    <a:lnTo>
                      <a:pt x="3" y="63"/>
                    </a:lnTo>
                    <a:lnTo>
                      <a:pt x="75" y="106"/>
                    </a:lnTo>
                    <a:lnTo>
                      <a:pt x="75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9864200">
                <a:off x="4767120" y="2817360"/>
                <a:ext cx="27720" cy="1584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20" y="23"/>
                    </a:moveTo>
                    <a:lnTo>
                      <a:pt x="40" y="0"/>
                    </a:lnTo>
                    <a:lnTo>
                      <a:pt x="32" y="0"/>
                    </a:lnTo>
                    <a:lnTo>
                      <a:pt x="20" y="1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9864200">
                <a:off x="4786920" y="280728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23"/>
                    </a:moveTo>
                    <a:lnTo>
                      <a:pt x="37" y="0"/>
                    </a:lnTo>
                    <a:lnTo>
                      <a:pt x="28" y="0"/>
                    </a:lnTo>
                    <a:lnTo>
                      <a:pt x="20" y="1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9864200">
                <a:off x="4803840" y="279756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1" y="23"/>
                    </a:moveTo>
                    <a:lnTo>
                      <a:pt x="38" y="0"/>
                    </a:lnTo>
                    <a:lnTo>
                      <a:pt x="32" y="0"/>
                    </a:lnTo>
                    <a:lnTo>
                      <a:pt x="21" y="1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1" y="23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9864200">
                <a:off x="4824000" y="278892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6" y="3"/>
                    </a:moveTo>
                    <a:lnTo>
                      <a:pt x="20" y="1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6" y="11"/>
                    </a:lnTo>
                    <a:lnTo>
                      <a:pt x="26" y="3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4759920" y="2806200"/>
                <a:ext cx="86040" cy="4680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9864200">
                <a:off x="4749840" y="282744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0" y="23"/>
                    </a:moveTo>
                    <a:lnTo>
                      <a:pt x="38" y="0"/>
                    </a:lnTo>
                    <a:lnTo>
                      <a:pt x="29" y="0"/>
                    </a:lnTo>
                    <a:lnTo>
                      <a:pt x="20" y="1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864200">
                <a:off x="4752000" y="2758680"/>
                <a:ext cx="40320" cy="2556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29" y="37"/>
                    </a:moveTo>
                    <a:lnTo>
                      <a:pt x="41" y="37"/>
                    </a:lnTo>
                    <a:lnTo>
                      <a:pt x="49" y="32"/>
                    </a:lnTo>
                    <a:lnTo>
                      <a:pt x="55" y="26"/>
                    </a:lnTo>
                    <a:lnTo>
                      <a:pt x="58" y="17"/>
                    </a:lnTo>
                    <a:lnTo>
                      <a:pt x="55" y="12"/>
                    </a:lnTo>
                    <a:lnTo>
                      <a:pt x="49" y="6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6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9" y="32"/>
                    </a:lnTo>
                    <a:lnTo>
                      <a:pt x="18" y="37"/>
                    </a:lnTo>
                    <a:lnTo>
                      <a:pt x="29" y="37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9864200">
                <a:off x="4746600" y="2753280"/>
                <a:ext cx="33840" cy="97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26" y="14"/>
                    </a:moveTo>
                    <a:lnTo>
                      <a:pt x="43" y="11"/>
                    </a:lnTo>
                    <a:lnTo>
                      <a:pt x="49" y="8"/>
                    </a:lnTo>
                    <a:lnTo>
                      <a:pt x="43" y="2"/>
                    </a:lnTo>
                    <a:lnTo>
                      <a:pt x="26" y="0"/>
                    </a:lnTo>
                    <a:lnTo>
                      <a:pt x="9" y="2"/>
                    </a:lnTo>
                    <a:lnTo>
                      <a:pt x="3" y="2"/>
                    </a:lnTo>
                    <a:lnTo>
                      <a:pt x="0" y="8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864200">
                <a:off x="4742640" y="2746080"/>
                <a:ext cx="33840" cy="97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26" y="14"/>
                    </a:moveTo>
                    <a:lnTo>
                      <a:pt x="43" y="12"/>
                    </a:lnTo>
                    <a:lnTo>
                      <a:pt x="49" y="6"/>
                    </a:lnTo>
                    <a:lnTo>
                      <a:pt x="43" y="0"/>
                    </a:lnTo>
                    <a:lnTo>
                      <a:pt x="26" y="0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9" y="12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864200">
                <a:off x="4738320" y="273780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26" y="17"/>
                    </a:moveTo>
                    <a:lnTo>
                      <a:pt x="43" y="14"/>
                    </a:lnTo>
                    <a:lnTo>
                      <a:pt x="49" y="8"/>
                    </a:lnTo>
                    <a:lnTo>
                      <a:pt x="43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9" y="14"/>
                    </a:lnTo>
                    <a:lnTo>
                      <a:pt x="26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864200">
                <a:off x="4726800" y="2732040"/>
                <a:ext cx="50040" cy="936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37" y="14"/>
                    </a:moveTo>
                    <a:lnTo>
                      <a:pt x="51" y="14"/>
                    </a:lnTo>
                    <a:lnTo>
                      <a:pt x="60" y="11"/>
                    </a:lnTo>
                    <a:lnTo>
                      <a:pt x="72" y="6"/>
                    </a:lnTo>
                    <a:lnTo>
                      <a:pt x="69" y="3"/>
                    </a:lnTo>
                    <a:lnTo>
                      <a:pt x="60" y="0"/>
                    </a:lnTo>
                    <a:lnTo>
                      <a:pt x="37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11" y="11"/>
                    </a:lnTo>
                    <a:lnTo>
                      <a:pt x="23" y="14"/>
                    </a:lnTo>
                    <a:lnTo>
                      <a:pt x="37" y="14"/>
                    </a:lnTo>
                    <a:lnTo>
                      <a:pt x="3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864200">
                <a:off x="4731840" y="2726640"/>
                <a:ext cx="33840" cy="1008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26" y="15"/>
                    </a:moveTo>
                    <a:lnTo>
                      <a:pt x="43" y="12"/>
                    </a:lnTo>
                    <a:lnTo>
                      <a:pt x="49" y="9"/>
                    </a:lnTo>
                    <a:lnTo>
                      <a:pt x="43" y="3"/>
                    </a:lnTo>
                    <a:lnTo>
                      <a:pt x="26" y="0"/>
                    </a:lnTo>
                    <a:lnTo>
                      <a:pt x="9" y="3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9" y="12"/>
                    </a:lnTo>
                    <a:lnTo>
                      <a:pt x="17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64200">
                <a:off x="4739040" y="271764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9" y="14"/>
                    </a:moveTo>
                    <a:lnTo>
                      <a:pt x="15" y="14"/>
                    </a:lnTo>
                    <a:lnTo>
                      <a:pt x="18" y="9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3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64200">
                <a:off x="4734000" y="2692800"/>
                <a:ext cx="1800" cy="27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864200">
                <a:off x="4735800" y="2691720"/>
                <a:ext cx="2160" cy="27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864200">
                <a:off x="4732560" y="2710080"/>
                <a:ext cx="14400" cy="216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9" y="3"/>
                    </a:moveTo>
                    <a:lnTo>
                      <a:pt x="15" y="3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864200">
                <a:off x="4731120" y="2706840"/>
                <a:ext cx="14400" cy="216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9" y="3"/>
                    </a:moveTo>
                    <a:lnTo>
                      <a:pt x="15" y="3"/>
                    </a:lnTo>
                    <a:lnTo>
                      <a:pt x="21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864200">
                <a:off x="4728600" y="2701800"/>
                <a:ext cx="14400" cy="396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9" y="6"/>
                    </a:moveTo>
                    <a:lnTo>
                      <a:pt x="21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864200">
                <a:off x="4726080" y="269820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9" y="3"/>
                    </a:moveTo>
                    <a:lnTo>
                      <a:pt x="15" y="3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9864200">
                <a:off x="4724280" y="269496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9" y="3"/>
                    </a:moveTo>
                    <a:lnTo>
                      <a:pt x="18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9864200">
                <a:off x="4755600" y="277452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9"/>
                    </a:moveTo>
                    <a:lnTo>
                      <a:pt x="15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9864200">
                <a:off x="4766040" y="279216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9" y="12"/>
                    </a:moveTo>
                    <a:lnTo>
                      <a:pt x="15" y="6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864200">
                <a:off x="4741200" y="2809080"/>
                <a:ext cx="43560" cy="972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0" y="11"/>
                    </a:moveTo>
                    <a:lnTo>
                      <a:pt x="63" y="0"/>
                    </a:lnTo>
                    <a:lnTo>
                      <a:pt x="9" y="1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864200">
                <a:off x="4735800" y="27417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864200">
                <a:off x="4734360" y="2733120"/>
                <a:ext cx="1152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3"/>
                    </a:moveTo>
                    <a:lnTo>
                      <a:pt x="6" y="3"/>
                    </a:lnTo>
                    <a:lnTo>
                      <a:pt x="17" y="0"/>
                    </a:lnTo>
                    <a:lnTo>
                      <a:pt x="12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64200">
                <a:off x="4740120" y="27216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64200">
                <a:off x="4996800" y="3239280"/>
                <a:ext cx="104040" cy="6588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75" y="0"/>
                    </a:moveTo>
                    <a:lnTo>
                      <a:pt x="144" y="29"/>
                    </a:lnTo>
                    <a:lnTo>
                      <a:pt x="150" y="81"/>
                    </a:lnTo>
                    <a:lnTo>
                      <a:pt x="75" y="95"/>
                    </a:lnTo>
                    <a:lnTo>
                      <a:pt x="0" y="81"/>
                    </a:lnTo>
                    <a:lnTo>
                      <a:pt x="3" y="2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864200">
                <a:off x="5022000" y="327744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0" y="0"/>
                    </a:moveTo>
                    <a:lnTo>
                      <a:pt x="40" y="26"/>
                    </a:lnTo>
                    <a:lnTo>
                      <a:pt x="32" y="26"/>
                    </a:lnTo>
                    <a:lnTo>
                      <a:pt x="20" y="12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864200">
                <a:off x="5041440" y="3267000"/>
                <a:ext cx="25560" cy="180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20" y="0"/>
                    </a:moveTo>
                    <a:lnTo>
                      <a:pt x="37" y="26"/>
                    </a:lnTo>
                    <a:lnTo>
                      <a:pt x="28" y="26"/>
                    </a:lnTo>
                    <a:lnTo>
                      <a:pt x="20" y="12"/>
                    </a:lnTo>
                    <a:lnTo>
                      <a:pt x="8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864200">
                <a:off x="5058720" y="3257640"/>
                <a:ext cx="26280" cy="1800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1" y="0"/>
                    </a:moveTo>
                    <a:lnTo>
                      <a:pt x="38" y="26"/>
                    </a:lnTo>
                    <a:lnTo>
                      <a:pt x="32" y="26"/>
                    </a:lnTo>
                    <a:lnTo>
                      <a:pt x="21" y="12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864200">
                <a:off x="5078520" y="324864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20"/>
                    </a:moveTo>
                    <a:lnTo>
                      <a:pt x="20" y="12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6" y="12"/>
                    </a:lnTo>
                    <a:lnTo>
                      <a:pt x="26" y="20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5003640" y="3246840"/>
                <a:ext cx="86040" cy="4716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5001120" y="3242520"/>
                <a:ext cx="86040" cy="4680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9864200">
                <a:off x="5004360" y="3287520"/>
                <a:ext cx="26280" cy="1800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0" y="0"/>
                    </a:moveTo>
                    <a:lnTo>
                      <a:pt x="38" y="26"/>
                    </a:lnTo>
                    <a:lnTo>
                      <a:pt x="29" y="26"/>
                    </a:lnTo>
                    <a:lnTo>
                      <a:pt x="20" y="12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9864200">
                <a:off x="5124240" y="3414960"/>
                <a:ext cx="12240" cy="100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9" y="0"/>
                    </a:moveTo>
                    <a:lnTo>
                      <a:pt x="15" y="3"/>
                    </a:lnTo>
                    <a:lnTo>
                      <a:pt x="18" y="6"/>
                    </a:lnTo>
                    <a:lnTo>
                      <a:pt x="15" y="12"/>
                    </a:lnTo>
                    <a:lnTo>
                      <a:pt x="9" y="15"/>
                    </a:lnTo>
                    <a:lnTo>
                      <a:pt x="3" y="12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9864200">
                <a:off x="5097240" y="3376440"/>
                <a:ext cx="40320" cy="3960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57"/>
                    </a:moveTo>
                    <a:lnTo>
                      <a:pt x="41" y="55"/>
                    </a:lnTo>
                    <a:lnTo>
                      <a:pt x="49" y="49"/>
                    </a:lnTo>
                    <a:lnTo>
                      <a:pt x="55" y="40"/>
                    </a:lnTo>
                    <a:lnTo>
                      <a:pt x="58" y="29"/>
                    </a:lnTo>
                    <a:lnTo>
                      <a:pt x="55" y="20"/>
                    </a:lnTo>
                    <a:lnTo>
                      <a:pt x="49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8"/>
                    </a:lnTo>
                    <a:lnTo>
                      <a:pt x="0" y="20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9" y="49"/>
                    </a:lnTo>
                    <a:lnTo>
                      <a:pt x="18" y="55"/>
                    </a:lnTo>
                    <a:lnTo>
                      <a:pt x="29" y="5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9864200">
                <a:off x="5043960" y="3291480"/>
                <a:ext cx="42120" cy="158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29" y="23"/>
                    </a:moveTo>
                    <a:lnTo>
                      <a:pt x="41" y="23"/>
                    </a:lnTo>
                    <a:lnTo>
                      <a:pt x="49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5"/>
                    </a:lnTo>
                    <a:lnTo>
                      <a:pt x="49" y="3"/>
                    </a:lnTo>
                    <a:lnTo>
                      <a:pt x="41" y="0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9" y="3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9" y="20"/>
                    </a:lnTo>
                    <a:lnTo>
                      <a:pt x="18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9864200">
                <a:off x="4999320" y="326124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0" y="20"/>
                    </a:moveTo>
                    <a:lnTo>
                      <a:pt x="46" y="0"/>
                    </a:lnTo>
                    <a:lnTo>
                      <a:pt x="46" y="3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864200">
                <a:off x="5090040" y="33800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6" y="9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9864200">
                <a:off x="5100480" y="3389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12"/>
                    </a:moveTo>
                    <a:lnTo>
                      <a:pt x="11" y="9"/>
                    </a:lnTo>
                    <a:lnTo>
                      <a:pt x="14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9864200">
                <a:off x="5086080" y="3367080"/>
                <a:ext cx="42120" cy="17280"/>
              </a:xfrm>
              <a:custGeom>
                <a:avLst/>
                <a:gdLst/>
                <a:ahLst/>
                <a:rect l="l" t="t" r="r" b="b"/>
                <a:pathLst>
                  <a:path w="61" h="25">
                    <a:moveTo>
                      <a:pt x="29" y="25"/>
                    </a:moveTo>
                    <a:lnTo>
                      <a:pt x="41" y="23"/>
                    </a:lnTo>
                    <a:lnTo>
                      <a:pt x="49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8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9" y="20"/>
                    </a:lnTo>
                    <a:lnTo>
                      <a:pt x="18" y="23"/>
                    </a:lnTo>
                    <a:lnTo>
                      <a:pt x="29" y="25"/>
                    </a:lnTo>
                    <a:lnTo>
                      <a:pt x="2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9864200">
                <a:off x="5056560" y="3313800"/>
                <a:ext cx="42120" cy="180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1" y="26"/>
                    </a:lnTo>
                    <a:lnTo>
                      <a:pt x="49" y="23"/>
                    </a:lnTo>
                    <a:lnTo>
                      <a:pt x="58" y="20"/>
                    </a:lnTo>
                    <a:lnTo>
                      <a:pt x="61" y="15"/>
                    </a:lnTo>
                    <a:lnTo>
                      <a:pt x="58" y="9"/>
                    </a:lnTo>
                    <a:lnTo>
                      <a:pt x="49" y="6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9" y="23"/>
                    </a:lnTo>
                    <a:lnTo>
                      <a:pt x="18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9864200">
                <a:off x="5068440" y="3345480"/>
                <a:ext cx="55440" cy="24120"/>
              </a:xfrm>
              <a:custGeom>
                <a:avLst/>
                <a:gdLst/>
                <a:ahLst/>
                <a:rect l="l" t="t" r="r" b="b"/>
                <a:pathLst>
                  <a:path w="80" h="35">
                    <a:moveTo>
                      <a:pt x="40" y="35"/>
                    </a:moveTo>
                    <a:lnTo>
                      <a:pt x="57" y="32"/>
                    </a:lnTo>
                    <a:lnTo>
                      <a:pt x="69" y="29"/>
                    </a:lnTo>
                    <a:lnTo>
                      <a:pt x="78" y="23"/>
                    </a:lnTo>
                    <a:lnTo>
                      <a:pt x="80" y="17"/>
                    </a:lnTo>
                    <a:lnTo>
                      <a:pt x="78" y="9"/>
                    </a:lnTo>
                    <a:lnTo>
                      <a:pt x="69" y="6"/>
                    </a:lnTo>
                    <a:lnTo>
                      <a:pt x="57" y="0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11" y="6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3" y="23"/>
                    </a:lnTo>
                    <a:lnTo>
                      <a:pt x="11" y="29"/>
                    </a:lnTo>
                    <a:lnTo>
                      <a:pt x="26" y="32"/>
                    </a:lnTo>
                    <a:lnTo>
                      <a:pt x="40" y="35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864200">
                <a:off x="5060160" y="3328560"/>
                <a:ext cx="50040" cy="21960"/>
              </a:xfrm>
              <a:custGeom>
                <a:avLst/>
                <a:gdLst/>
                <a:ahLst/>
                <a:rect l="l" t="t" r="r" b="b"/>
                <a:pathLst>
                  <a:path w="72" h="32">
                    <a:moveTo>
                      <a:pt x="37" y="32"/>
                    </a:moveTo>
                    <a:lnTo>
                      <a:pt x="51" y="29"/>
                    </a:lnTo>
                    <a:lnTo>
                      <a:pt x="63" y="26"/>
                    </a:lnTo>
                    <a:lnTo>
                      <a:pt x="69" y="23"/>
                    </a:lnTo>
                    <a:lnTo>
                      <a:pt x="72" y="15"/>
                    </a:lnTo>
                    <a:lnTo>
                      <a:pt x="69" y="12"/>
                    </a:lnTo>
                    <a:lnTo>
                      <a:pt x="63" y="6"/>
                    </a:lnTo>
                    <a:lnTo>
                      <a:pt x="51" y="3"/>
                    </a:lnTo>
                    <a:lnTo>
                      <a:pt x="37" y="0"/>
                    </a:lnTo>
                    <a:lnTo>
                      <a:pt x="23" y="3"/>
                    </a:lnTo>
                    <a:lnTo>
                      <a:pt x="11" y="6"/>
                    </a:lnTo>
                    <a:lnTo>
                      <a:pt x="3" y="12"/>
                    </a:lnTo>
                    <a:lnTo>
                      <a:pt x="0" y="15"/>
                    </a:lnTo>
                    <a:lnTo>
                      <a:pt x="3" y="23"/>
                    </a:lnTo>
                    <a:lnTo>
                      <a:pt x="11" y="26"/>
                    </a:lnTo>
                    <a:lnTo>
                      <a:pt x="23" y="29"/>
                    </a:lnTo>
                    <a:lnTo>
                      <a:pt x="37" y="3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9864200">
                <a:off x="5068440" y="33465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3" y="5"/>
                    </a:moveTo>
                    <a:lnTo>
                      <a:pt x="9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864200">
                <a:off x="5076000" y="33624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2"/>
                    </a:moveTo>
                    <a:lnTo>
                      <a:pt x="9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864200">
                <a:off x="5061240" y="33296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6" y="5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9864200">
                <a:off x="5050080" y="3301560"/>
                <a:ext cx="42120" cy="180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1" y="26"/>
                    </a:lnTo>
                    <a:lnTo>
                      <a:pt x="49" y="23"/>
                    </a:lnTo>
                    <a:lnTo>
                      <a:pt x="58" y="17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49" y="6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9" y="23"/>
                    </a:lnTo>
                    <a:lnTo>
                      <a:pt x="18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5012640" y="3265560"/>
                <a:ext cx="89640" cy="4896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rot="19750800">
              <a:off x="5315040" y="1967040"/>
              <a:ext cx="1447560" cy="952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332800" y="2520000"/>
            <a:ext cx="3141360" cy="2252520"/>
            <a:chOff x="2332800" y="2520000"/>
            <a:chExt cx="3141360" cy="2252520"/>
          </a:xfrm>
        </p:grpSpPr>
        <p:grpSp>
          <p:nvGrpSpPr>
            <p:cNvPr id="389" name=""/>
            <p:cNvGrpSpPr/>
            <p:nvPr/>
          </p:nvGrpSpPr>
          <p:grpSpPr>
            <a:xfrm>
              <a:off x="2332800" y="3682440"/>
              <a:ext cx="1059480" cy="1090080"/>
              <a:chOff x="2332800" y="3682440"/>
              <a:chExt cx="1059480" cy="1090080"/>
            </a:xfrm>
          </p:grpSpPr>
          <p:sp>
            <p:nvSpPr>
              <p:cNvPr id="390" name=""/>
              <p:cNvSpPr/>
              <p:nvPr/>
            </p:nvSpPr>
            <p:spPr>
              <a:xfrm rot="19864200">
                <a:off x="2526480" y="4003200"/>
                <a:ext cx="647640" cy="413280"/>
              </a:xfrm>
              <a:prstGeom prst="rect">
                <a:avLst/>
              </a:pr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864200">
                <a:off x="2572560" y="4148640"/>
                <a:ext cx="27720" cy="413280"/>
              </a:xfrm>
              <a:prstGeom prst="rect">
                <a:avLst/>
              </a:prstGeom>
              <a:solidFill>
                <a:srgbClr val="a6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9864200">
                <a:off x="2576160" y="4146480"/>
                <a:ext cx="29880" cy="413280"/>
              </a:xfrm>
              <a:prstGeom prst="rect">
                <a:avLst/>
              </a:prstGeom>
              <a:solidFill>
                <a:srgbClr val="b29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9864200">
                <a:off x="2583000" y="4143240"/>
                <a:ext cx="27720" cy="413280"/>
              </a:xfrm>
              <a:prstGeom prst="rect">
                <a:avLst/>
              </a:prstGeom>
              <a:solidFill>
                <a:srgbClr val="bfa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9864200">
                <a:off x="2586600" y="4140720"/>
                <a:ext cx="29880" cy="413280"/>
              </a:xfrm>
              <a:prstGeom prst="rect">
                <a:avLst/>
              </a:prstGeom>
              <a:solidFill>
                <a:srgbClr val="cc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9864200">
                <a:off x="2593080" y="4137480"/>
                <a:ext cx="28440" cy="413280"/>
              </a:xfrm>
              <a:prstGeom prst="rect">
                <a:avLst/>
              </a:prstGeom>
              <a:solidFill>
                <a:srgbClr val="d9d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9864200">
                <a:off x="2597040" y="4134960"/>
                <a:ext cx="29520" cy="413280"/>
              </a:xfrm>
              <a:prstGeom prst="rect">
                <a:avLst/>
              </a:prstGeom>
              <a:solidFill>
                <a:srgbClr val="e5e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9864200">
                <a:off x="2604240" y="4131360"/>
                <a:ext cx="27720" cy="413280"/>
              </a:xfrm>
              <a:prstGeom prst="rect">
                <a:avLst/>
              </a:pr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9864200">
                <a:off x="3103920" y="3858840"/>
                <a:ext cx="23400" cy="411120"/>
              </a:xfrm>
              <a:prstGeom prst="rect">
                <a:avLst/>
              </a:prstGeom>
              <a:solidFill>
                <a:srgbClr val="a6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9864200">
                <a:off x="3098520" y="3862080"/>
                <a:ext cx="23400" cy="411120"/>
              </a:xfrm>
              <a:prstGeom prst="rect">
                <a:avLst/>
              </a:prstGeom>
              <a:solidFill>
                <a:srgbClr val="b29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9864200">
                <a:off x="3094920" y="3863520"/>
                <a:ext cx="24120" cy="411120"/>
              </a:xfrm>
              <a:prstGeom prst="rect">
                <a:avLst/>
              </a:prstGeom>
              <a:solidFill>
                <a:srgbClr val="bfa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9864200">
                <a:off x="3090960" y="3866040"/>
                <a:ext cx="21960" cy="411120"/>
              </a:xfrm>
              <a:prstGeom prst="rect">
                <a:avLst/>
              </a:prstGeom>
              <a:solidFill>
                <a:srgbClr val="cc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864200">
                <a:off x="3086280" y="3868560"/>
                <a:ext cx="23400" cy="411120"/>
              </a:xfrm>
              <a:prstGeom prst="rect">
                <a:avLst/>
              </a:prstGeom>
              <a:solidFill>
                <a:srgbClr val="d9d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9864200">
                <a:off x="3082680" y="3870360"/>
                <a:ext cx="24120" cy="411120"/>
              </a:xfrm>
              <a:prstGeom prst="rect">
                <a:avLst/>
              </a:prstGeom>
              <a:solidFill>
                <a:srgbClr val="e5e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864200">
                <a:off x="3077280" y="3873240"/>
                <a:ext cx="24120" cy="411120"/>
              </a:xfrm>
              <a:prstGeom prst="rect">
                <a:avLst/>
              </a:pr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9864200">
                <a:off x="2523600" y="4005360"/>
                <a:ext cx="646920" cy="4122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864200">
                <a:off x="2515320" y="4119480"/>
                <a:ext cx="23400" cy="529560"/>
              </a:xfrm>
              <a:custGeom>
                <a:avLst/>
                <a:gdLst/>
                <a:ahLst/>
                <a:rect l="l" t="t" r="r" b="b"/>
                <a:pathLst>
                  <a:path w="34" h="760">
                    <a:moveTo>
                      <a:pt x="20" y="0"/>
                    </a:moveTo>
                    <a:lnTo>
                      <a:pt x="34" y="0"/>
                    </a:lnTo>
                    <a:lnTo>
                      <a:pt x="34" y="760"/>
                    </a:lnTo>
                    <a:lnTo>
                      <a:pt x="17" y="760"/>
                    </a:lnTo>
                    <a:lnTo>
                      <a:pt x="0" y="76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64200">
                <a:off x="2606400" y="456912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72" y="18"/>
                    </a:moveTo>
                    <a:lnTo>
                      <a:pt x="78" y="15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8" y="3"/>
                    </a:lnTo>
                    <a:lnTo>
                      <a:pt x="72" y="0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9" y="18"/>
                    </a:lnTo>
                    <a:lnTo>
                      <a:pt x="72" y="18"/>
                    </a:lnTo>
                    <a:lnTo>
                      <a:pt x="7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93640" y="4155480"/>
                <a:ext cx="256320" cy="4633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9864200">
                <a:off x="2369160" y="4122720"/>
                <a:ext cx="40320" cy="2556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29" y="37"/>
                    </a:moveTo>
                    <a:lnTo>
                      <a:pt x="40" y="34"/>
                    </a:lnTo>
                    <a:lnTo>
                      <a:pt x="49" y="31"/>
                    </a:lnTo>
                    <a:lnTo>
                      <a:pt x="55" y="26"/>
                    </a:lnTo>
                    <a:lnTo>
                      <a:pt x="58" y="20"/>
                    </a:lnTo>
                    <a:lnTo>
                      <a:pt x="55" y="11"/>
                    </a:lnTo>
                    <a:lnTo>
                      <a:pt x="49" y="5"/>
                    </a:lnTo>
                    <a:lnTo>
                      <a:pt x="40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5"/>
                    </a:lnTo>
                    <a:lnTo>
                      <a:pt x="3" y="11"/>
                    </a:lnTo>
                    <a:lnTo>
                      <a:pt x="0" y="20"/>
                    </a:lnTo>
                    <a:lnTo>
                      <a:pt x="3" y="26"/>
                    </a:lnTo>
                    <a:lnTo>
                      <a:pt x="9" y="31"/>
                    </a:lnTo>
                    <a:lnTo>
                      <a:pt x="17" y="34"/>
                    </a:lnTo>
                    <a:lnTo>
                      <a:pt x="29" y="37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9864200">
                <a:off x="2355840" y="413172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150" h="109">
                    <a:moveTo>
                      <a:pt x="75" y="109"/>
                    </a:moveTo>
                    <a:lnTo>
                      <a:pt x="147" y="66"/>
                    </a:lnTo>
                    <a:lnTo>
                      <a:pt x="150" y="14"/>
                    </a:lnTo>
                    <a:lnTo>
                      <a:pt x="75" y="0"/>
                    </a:lnTo>
                    <a:lnTo>
                      <a:pt x="0" y="14"/>
                    </a:lnTo>
                    <a:lnTo>
                      <a:pt x="3" y="66"/>
                    </a:lnTo>
                    <a:lnTo>
                      <a:pt x="75" y="109"/>
                    </a:lnTo>
                    <a:lnTo>
                      <a:pt x="7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9864200">
                <a:off x="2374920" y="415980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23"/>
                    </a:moveTo>
                    <a:lnTo>
                      <a:pt x="37" y="0"/>
                    </a:lnTo>
                    <a:lnTo>
                      <a:pt x="31" y="0"/>
                    </a:lnTo>
                    <a:lnTo>
                      <a:pt x="20" y="1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9864200">
                <a:off x="2391840" y="415008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1" y="23"/>
                    </a:moveTo>
                    <a:lnTo>
                      <a:pt x="38" y="0"/>
                    </a:lnTo>
                    <a:lnTo>
                      <a:pt x="32" y="0"/>
                    </a:lnTo>
                    <a:lnTo>
                      <a:pt x="21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1" y="23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9864200">
                <a:off x="2411280" y="413928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0" y="23"/>
                    </a:moveTo>
                    <a:lnTo>
                      <a:pt x="38" y="0"/>
                    </a:lnTo>
                    <a:lnTo>
                      <a:pt x="32" y="0"/>
                    </a:lnTo>
                    <a:lnTo>
                      <a:pt x="20" y="14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9864200">
                <a:off x="2429640" y="4131000"/>
                <a:ext cx="19800" cy="1584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29" y="6"/>
                    </a:moveTo>
                    <a:lnTo>
                      <a:pt x="20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9" y="14"/>
                    </a:lnTo>
                    <a:lnTo>
                      <a:pt x="29" y="6"/>
                    </a:lnTo>
                    <a:lnTo>
                      <a:pt x="2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2366280" y="4149360"/>
                <a:ext cx="88200" cy="4788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9864200">
                <a:off x="2355480" y="417060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23"/>
                    </a:moveTo>
                    <a:lnTo>
                      <a:pt x="37" y="0"/>
                    </a:lnTo>
                    <a:lnTo>
                      <a:pt x="35" y="0"/>
                    </a:lnTo>
                    <a:lnTo>
                      <a:pt x="20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9864200">
                <a:off x="2357640" y="4101480"/>
                <a:ext cx="40320" cy="26280"/>
              </a:xfrm>
              <a:custGeom>
                <a:avLst/>
                <a:gdLst/>
                <a:ahLst/>
                <a:rect l="l" t="t" r="r" b="b"/>
                <a:pathLst>
                  <a:path w="58" h="38">
                    <a:moveTo>
                      <a:pt x="29" y="38"/>
                    </a:moveTo>
                    <a:lnTo>
                      <a:pt x="40" y="38"/>
                    </a:lnTo>
                    <a:lnTo>
                      <a:pt x="49" y="35"/>
                    </a:lnTo>
                    <a:lnTo>
                      <a:pt x="55" y="29"/>
                    </a:lnTo>
                    <a:lnTo>
                      <a:pt x="58" y="20"/>
                    </a:lnTo>
                    <a:lnTo>
                      <a:pt x="55" y="15"/>
                    </a:lnTo>
                    <a:lnTo>
                      <a:pt x="49" y="9"/>
                    </a:lnTo>
                    <a:lnTo>
                      <a:pt x="40" y="3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9" y="9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3" y="29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29" y="38"/>
                    </a:lnTo>
                    <a:lnTo>
                      <a:pt x="2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9864200">
                <a:off x="2354040" y="4095360"/>
                <a:ext cx="33840" cy="97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23" y="14"/>
                    </a:moveTo>
                    <a:lnTo>
                      <a:pt x="40" y="14"/>
                    </a:lnTo>
                    <a:lnTo>
                      <a:pt x="46" y="11"/>
                    </a:lnTo>
                    <a:lnTo>
                      <a:pt x="49" y="8"/>
                    </a:lnTo>
                    <a:lnTo>
                      <a:pt x="40" y="3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6" y="3"/>
                    </a:lnTo>
                    <a:lnTo>
                      <a:pt x="0" y="8"/>
                    </a:lnTo>
                    <a:lnTo>
                      <a:pt x="6" y="14"/>
                    </a:lnTo>
                    <a:lnTo>
                      <a:pt x="23" y="14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864200">
                <a:off x="2350440" y="4089600"/>
                <a:ext cx="33840" cy="828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23" y="12"/>
                    </a:moveTo>
                    <a:lnTo>
                      <a:pt x="40" y="9"/>
                    </a:lnTo>
                    <a:lnTo>
                      <a:pt x="46" y="9"/>
                    </a:lnTo>
                    <a:lnTo>
                      <a:pt x="49" y="3"/>
                    </a:lnTo>
                    <a:lnTo>
                      <a:pt x="40" y="0"/>
                    </a:lnTo>
                    <a:lnTo>
                      <a:pt x="23" y="0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9"/>
                    </a:lnTo>
                    <a:lnTo>
                      <a:pt x="23" y="12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864200">
                <a:off x="2346480" y="408096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23" y="17"/>
                    </a:moveTo>
                    <a:lnTo>
                      <a:pt x="40" y="14"/>
                    </a:lnTo>
                    <a:lnTo>
                      <a:pt x="49" y="8"/>
                    </a:lnTo>
                    <a:lnTo>
                      <a:pt x="46" y="5"/>
                    </a:lnTo>
                    <a:lnTo>
                      <a:pt x="40" y="2"/>
                    </a:lnTo>
                    <a:lnTo>
                      <a:pt x="23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6" y="14"/>
                    </a:lnTo>
                    <a:lnTo>
                      <a:pt x="14" y="14"/>
                    </a:lnTo>
                    <a:lnTo>
                      <a:pt x="23" y="17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864200">
                <a:off x="2333520" y="4074120"/>
                <a:ext cx="50040" cy="936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35" y="14"/>
                    </a:moveTo>
                    <a:lnTo>
                      <a:pt x="49" y="14"/>
                    </a:lnTo>
                    <a:lnTo>
                      <a:pt x="61" y="14"/>
                    </a:lnTo>
                    <a:lnTo>
                      <a:pt x="69" y="12"/>
                    </a:lnTo>
                    <a:lnTo>
                      <a:pt x="72" y="9"/>
                    </a:lnTo>
                    <a:lnTo>
                      <a:pt x="61" y="3"/>
                    </a:lnTo>
                    <a:lnTo>
                      <a:pt x="49" y="0"/>
                    </a:lnTo>
                    <a:lnTo>
                      <a:pt x="35" y="0"/>
                    </a:lnTo>
                    <a:lnTo>
                      <a:pt x="23" y="0"/>
                    </a:lnTo>
                    <a:lnTo>
                      <a:pt x="12" y="3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12" y="14"/>
                    </a:lnTo>
                    <a:lnTo>
                      <a:pt x="23" y="14"/>
                    </a:lnTo>
                    <a:lnTo>
                      <a:pt x="35" y="14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864200">
                <a:off x="2340000" y="4070160"/>
                <a:ext cx="33840" cy="1008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23" y="15"/>
                    </a:moveTo>
                    <a:lnTo>
                      <a:pt x="40" y="12"/>
                    </a:lnTo>
                    <a:lnTo>
                      <a:pt x="46" y="9"/>
                    </a:lnTo>
                    <a:lnTo>
                      <a:pt x="49" y="6"/>
                    </a:lnTo>
                    <a:lnTo>
                      <a:pt x="40" y="3"/>
                    </a:lnTo>
                    <a:lnTo>
                      <a:pt x="23" y="0"/>
                    </a:lnTo>
                    <a:lnTo>
                      <a:pt x="6" y="3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23" y="15"/>
                    </a:lnTo>
                    <a:lnTo>
                      <a:pt x="2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9864200">
                <a:off x="2344680" y="4060080"/>
                <a:ext cx="12240" cy="11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9" y="17"/>
                    </a:moveTo>
                    <a:lnTo>
                      <a:pt x="15" y="17"/>
                    </a:lnTo>
                    <a:lnTo>
                      <a:pt x="18" y="12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12"/>
                    </a:lnTo>
                    <a:lnTo>
                      <a:pt x="3" y="17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9864200">
                <a:off x="2342160" y="4036320"/>
                <a:ext cx="360" cy="27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9864200">
                <a:off x="2342160" y="4035960"/>
                <a:ext cx="1800" cy="27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9864200">
                <a:off x="2339640" y="4055040"/>
                <a:ext cx="13680" cy="21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9" y="3"/>
                    </a:moveTo>
                    <a:lnTo>
                      <a:pt x="20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864200">
                <a:off x="2337120" y="4050000"/>
                <a:ext cx="13680" cy="39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9" y="6"/>
                    </a:moveTo>
                    <a:lnTo>
                      <a:pt x="20" y="3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9864200">
                <a:off x="2334600" y="404640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9" y="3"/>
                    </a:moveTo>
                    <a:lnTo>
                      <a:pt x="18" y="3"/>
                    </a:lnTo>
                    <a:lnTo>
                      <a:pt x="2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864200">
                <a:off x="2332440" y="4042800"/>
                <a:ext cx="13680" cy="180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9" y="3"/>
                    </a:moveTo>
                    <a:lnTo>
                      <a:pt x="20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9864200">
                <a:off x="2332440" y="4038480"/>
                <a:ext cx="10080" cy="180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6" y="3"/>
                    </a:moveTo>
                    <a:lnTo>
                      <a:pt x="12" y="3"/>
                    </a:lnTo>
                    <a:lnTo>
                      <a:pt x="15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9864200">
                <a:off x="2365560" y="4118040"/>
                <a:ext cx="7560" cy="39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3" y="6"/>
                    </a:moveTo>
                    <a:lnTo>
                      <a:pt x="8" y="6"/>
                    </a:lnTo>
                    <a:lnTo>
                      <a:pt x="11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9864200">
                <a:off x="2375280" y="413352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3" y="12"/>
                    </a:moveTo>
                    <a:lnTo>
                      <a:pt x="8" y="9"/>
                    </a:lnTo>
                    <a:lnTo>
                      <a:pt x="11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9864200">
                <a:off x="2349000" y="4150440"/>
                <a:ext cx="41760" cy="115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0" y="14"/>
                    </a:moveTo>
                    <a:lnTo>
                      <a:pt x="60" y="0"/>
                    </a:lnTo>
                    <a:lnTo>
                      <a:pt x="11" y="17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9864200">
                <a:off x="2341800" y="40842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9864200">
                <a:off x="2342160" y="4075560"/>
                <a:ext cx="9360" cy="39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3" y="3"/>
                    </a:lnTo>
                    <a:lnTo>
                      <a:pt x="14" y="0"/>
                    </a:lnTo>
                    <a:lnTo>
                      <a:pt x="11" y="3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9864200">
                <a:off x="2348280" y="4062960"/>
                <a:ext cx="1800" cy="39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9864200">
                <a:off x="2474280" y="4180680"/>
                <a:ext cx="108360" cy="41328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9864200">
                <a:off x="2474280" y="4180680"/>
                <a:ext cx="108360" cy="41328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9864200">
                <a:off x="2474280" y="4180680"/>
                <a:ext cx="108360" cy="41328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9864200">
                <a:off x="2476440" y="4181040"/>
                <a:ext cx="104400" cy="413280"/>
              </a:xfrm>
              <a:custGeom>
                <a:avLst/>
                <a:gdLst/>
                <a:ahLst/>
                <a:rect l="l" t="t" r="r" b="b"/>
                <a:pathLst>
                  <a:path w="150" h="593">
                    <a:moveTo>
                      <a:pt x="12" y="0"/>
                    </a:moveTo>
                    <a:lnTo>
                      <a:pt x="135" y="0"/>
                    </a:lnTo>
                    <a:lnTo>
                      <a:pt x="144" y="3"/>
                    </a:lnTo>
                    <a:lnTo>
                      <a:pt x="150" y="9"/>
                    </a:lnTo>
                    <a:lnTo>
                      <a:pt x="150" y="585"/>
                    </a:lnTo>
                    <a:lnTo>
                      <a:pt x="144" y="590"/>
                    </a:lnTo>
                    <a:lnTo>
                      <a:pt x="135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fb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9864200">
                <a:off x="2478600" y="4181400"/>
                <a:ext cx="97920" cy="413280"/>
              </a:xfrm>
              <a:custGeom>
                <a:avLst/>
                <a:gdLst/>
                <a:ahLst/>
                <a:rect l="l" t="t" r="r" b="b"/>
                <a:pathLst>
                  <a:path w="141" h="593">
                    <a:moveTo>
                      <a:pt x="14" y="0"/>
                    </a:moveTo>
                    <a:lnTo>
                      <a:pt x="127" y="0"/>
                    </a:lnTo>
                    <a:lnTo>
                      <a:pt x="138" y="3"/>
                    </a:lnTo>
                    <a:lnTo>
                      <a:pt x="141" y="9"/>
                    </a:lnTo>
                    <a:lnTo>
                      <a:pt x="141" y="585"/>
                    </a:lnTo>
                    <a:lnTo>
                      <a:pt x="138" y="590"/>
                    </a:lnTo>
                    <a:lnTo>
                      <a:pt x="127" y="593"/>
                    </a:lnTo>
                    <a:lnTo>
                      <a:pt x="14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be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9864200">
                <a:off x="2481120" y="4182480"/>
                <a:ext cx="89640" cy="413280"/>
              </a:xfrm>
              <a:custGeom>
                <a:avLst/>
                <a:gdLst/>
                <a:ahLst/>
                <a:rect l="l" t="t" r="r" b="b"/>
                <a:pathLst>
                  <a:path w="129" h="593">
                    <a:moveTo>
                      <a:pt x="11" y="0"/>
                    </a:moveTo>
                    <a:lnTo>
                      <a:pt x="121" y="0"/>
                    </a:lnTo>
                    <a:lnTo>
                      <a:pt x="126" y="3"/>
                    </a:lnTo>
                    <a:lnTo>
                      <a:pt x="129" y="9"/>
                    </a:lnTo>
                    <a:lnTo>
                      <a:pt x="129" y="585"/>
                    </a:lnTo>
                    <a:lnTo>
                      <a:pt x="126" y="590"/>
                    </a:lnTo>
                    <a:lnTo>
                      <a:pt x="121" y="593"/>
                    </a:lnTo>
                    <a:lnTo>
                      <a:pt x="11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6c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9864200">
                <a:off x="2483640" y="4182840"/>
                <a:ext cx="83880" cy="413280"/>
              </a:xfrm>
              <a:custGeom>
                <a:avLst/>
                <a:gdLst/>
                <a:ahLst/>
                <a:rect l="l" t="t" r="r" b="b"/>
                <a:pathLst>
                  <a:path w="121" h="593">
                    <a:moveTo>
                      <a:pt x="11" y="0"/>
                    </a:moveTo>
                    <a:lnTo>
                      <a:pt x="112" y="0"/>
                    </a:lnTo>
                    <a:lnTo>
                      <a:pt x="118" y="3"/>
                    </a:lnTo>
                    <a:lnTo>
                      <a:pt x="121" y="9"/>
                    </a:lnTo>
                    <a:lnTo>
                      <a:pt x="121" y="585"/>
                    </a:lnTo>
                    <a:lnTo>
                      <a:pt x="118" y="590"/>
                    </a:lnTo>
                    <a:lnTo>
                      <a:pt x="112" y="593"/>
                    </a:lnTo>
                    <a:lnTo>
                      <a:pt x="11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a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9864200">
                <a:off x="2485080" y="4182840"/>
                <a:ext cx="79920" cy="413280"/>
              </a:xfrm>
              <a:custGeom>
                <a:avLst/>
                <a:gdLst/>
                <a:ahLst/>
                <a:rect l="l" t="t" r="r" b="b"/>
                <a:pathLst>
                  <a:path w="115" h="593">
                    <a:moveTo>
                      <a:pt x="11" y="0"/>
                    </a:moveTo>
                    <a:lnTo>
                      <a:pt x="103" y="0"/>
                    </a:lnTo>
                    <a:lnTo>
                      <a:pt x="112" y="3"/>
                    </a:lnTo>
                    <a:lnTo>
                      <a:pt x="115" y="9"/>
                    </a:lnTo>
                    <a:lnTo>
                      <a:pt x="115" y="585"/>
                    </a:lnTo>
                    <a:lnTo>
                      <a:pt x="112" y="590"/>
                    </a:lnTo>
                    <a:lnTo>
                      <a:pt x="103" y="593"/>
                    </a:lnTo>
                    <a:lnTo>
                      <a:pt x="11" y="593"/>
                    </a:lnTo>
                    <a:lnTo>
                      <a:pt x="2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c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9864200">
                <a:off x="2486520" y="4183560"/>
                <a:ext cx="74520" cy="413280"/>
              </a:xfrm>
              <a:custGeom>
                <a:avLst/>
                <a:gdLst/>
                <a:ahLst/>
                <a:rect l="l" t="t" r="r" b="b"/>
                <a:pathLst>
                  <a:path w="107" h="593">
                    <a:moveTo>
                      <a:pt x="12" y="0"/>
                    </a:moveTo>
                    <a:lnTo>
                      <a:pt x="95" y="0"/>
                    </a:lnTo>
                    <a:lnTo>
                      <a:pt x="104" y="3"/>
                    </a:lnTo>
                    <a:lnTo>
                      <a:pt x="107" y="9"/>
                    </a:lnTo>
                    <a:lnTo>
                      <a:pt x="107" y="585"/>
                    </a:lnTo>
                    <a:lnTo>
                      <a:pt x="104" y="590"/>
                    </a:lnTo>
                    <a:lnTo>
                      <a:pt x="95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1d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9864200">
                <a:off x="2489040" y="4183920"/>
                <a:ext cx="68040" cy="413280"/>
              </a:xfrm>
              <a:custGeom>
                <a:avLst/>
                <a:gdLst/>
                <a:ahLst/>
                <a:rect l="l" t="t" r="r" b="b"/>
                <a:pathLst>
                  <a:path w="98" h="593">
                    <a:moveTo>
                      <a:pt x="12" y="0"/>
                    </a:moveTo>
                    <a:lnTo>
                      <a:pt x="87" y="0"/>
                    </a:lnTo>
                    <a:lnTo>
                      <a:pt x="95" y="3"/>
                    </a:lnTo>
                    <a:lnTo>
                      <a:pt x="98" y="9"/>
                    </a:lnTo>
                    <a:lnTo>
                      <a:pt x="98" y="585"/>
                    </a:lnTo>
                    <a:lnTo>
                      <a:pt x="95" y="590"/>
                    </a:lnTo>
                    <a:lnTo>
                      <a:pt x="87" y="593"/>
                    </a:lnTo>
                    <a:lnTo>
                      <a:pt x="12" y="593"/>
                    </a:lnTo>
                    <a:lnTo>
                      <a:pt x="6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6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4d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9864200">
                <a:off x="2491200" y="4184280"/>
                <a:ext cx="61920" cy="413280"/>
              </a:xfrm>
              <a:custGeom>
                <a:avLst/>
                <a:gdLst/>
                <a:ahLst/>
                <a:rect l="l" t="t" r="r" b="b"/>
                <a:pathLst>
                  <a:path w="89" h="593">
                    <a:moveTo>
                      <a:pt x="12" y="0"/>
                    </a:moveTo>
                    <a:lnTo>
                      <a:pt x="78" y="0"/>
                    </a:lnTo>
                    <a:lnTo>
                      <a:pt x="87" y="3"/>
                    </a:lnTo>
                    <a:lnTo>
                      <a:pt x="89" y="9"/>
                    </a:lnTo>
                    <a:lnTo>
                      <a:pt x="89" y="585"/>
                    </a:lnTo>
                    <a:lnTo>
                      <a:pt x="87" y="590"/>
                    </a:lnTo>
                    <a:lnTo>
                      <a:pt x="78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8e1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9864200">
                <a:off x="2493360" y="4184640"/>
                <a:ext cx="56520" cy="413280"/>
              </a:xfrm>
              <a:custGeom>
                <a:avLst/>
                <a:gdLst/>
                <a:ahLst/>
                <a:rect l="l" t="t" r="r" b="b"/>
                <a:pathLst>
                  <a:path w="81" h="593">
                    <a:moveTo>
                      <a:pt x="12" y="0"/>
                    </a:moveTo>
                    <a:lnTo>
                      <a:pt x="69" y="0"/>
                    </a:lnTo>
                    <a:lnTo>
                      <a:pt x="78" y="3"/>
                    </a:lnTo>
                    <a:lnTo>
                      <a:pt x="81" y="9"/>
                    </a:lnTo>
                    <a:lnTo>
                      <a:pt x="81" y="585"/>
                    </a:lnTo>
                    <a:lnTo>
                      <a:pt x="78" y="590"/>
                    </a:lnTo>
                    <a:lnTo>
                      <a:pt x="69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be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9864200">
                <a:off x="2495520" y="4185000"/>
                <a:ext cx="50040" cy="413280"/>
              </a:xfrm>
              <a:custGeom>
                <a:avLst/>
                <a:gdLst/>
                <a:ahLst/>
                <a:rect l="l" t="t" r="r" b="b"/>
                <a:pathLst>
                  <a:path w="72" h="593">
                    <a:moveTo>
                      <a:pt x="11" y="0"/>
                    </a:moveTo>
                    <a:lnTo>
                      <a:pt x="63" y="0"/>
                    </a:lnTo>
                    <a:lnTo>
                      <a:pt x="69" y="3"/>
                    </a:lnTo>
                    <a:lnTo>
                      <a:pt x="72" y="9"/>
                    </a:lnTo>
                    <a:lnTo>
                      <a:pt x="72" y="585"/>
                    </a:lnTo>
                    <a:lnTo>
                      <a:pt x="69" y="590"/>
                    </a:lnTo>
                    <a:lnTo>
                      <a:pt x="63" y="593"/>
                    </a:lnTo>
                    <a:lnTo>
                      <a:pt x="11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c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9864200">
                <a:off x="2498040" y="4186080"/>
                <a:ext cx="43560" cy="413280"/>
              </a:xfrm>
              <a:custGeom>
                <a:avLst/>
                <a:gdLst/>
                <a:ahLst/>
                <a:rect l="l" t="t" r="r" b="b"/>
                <a:pathLst>
                  <a:path w="63" h="593">
                    <a:moveTo>
                      <a:pt x="52" y="593"/>
                    </a:moveTo>
                    <a:lnTo>
                      <a:pt x="60" y="590"/>
                    </a:lnTo>
                    <a:lnTo>
                      <a:pt x="63" y="585"/>
                    </a:lnTo>
                    <a:lnTo>
                      <a:pt x="63" y="9"/>
                    </a:lnTo>
                    <a:lnTo>
                      <a:pt x="60" y="3"/>
                    </a:lnTo>
                    <a:lnTo>
                      <a:pt x="52" y="0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3" y="590"/>
                    </a:lnTo>
                    <a:lnTo>
                      <a:pt x="8" y="593"/>
                    </a:lnTo>
                    <a:lnTo>
                      <a:pt x="52" y="593"/>
                    </a:lnTo>
                    <a:lnTo>
                      <a:pt x="52" y="593"/>
                    </a:lnTo>
                    <a:close/>
                  </a:path>
                </a:pathLst>
              </a:cu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9864200">
                <a:off x="2474280" y="4180680"/>
                <a:ext cx="108360" cy="41328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9864200">
                <a:off x="2602800" y="4582080"/>
                <a:ext cx="104400" cy="68040"/>
              </a:xfrm>
              <a:custGeom>
                <a:avLst/>
                <a:gdLst/>
                <a:ahLst/>
                <a:rect l="l" t="t" r="r" b="b"/>
                <a:pathLst>
                  <a:path w="150" h="98">
                    <a:moveTo>
                      <a:pt x="75" y="0"/>
                    </a:moveTo>
                    <a:lnTo>
                      <a:pt x="147" y="32"/>
                    </a:lnTo>
                    <a:lnTo>
                      <a:pt x="150" y="84"/>
                    </a:lnTo>
                    <a:lnTo>
                      <a:pt x="75" y="98"/>
                    </a:lnTo>
                    <a:lnTo>
                      <a:pt x="0" y="84"/>
                    </a:lnTo>
                    <a:lnTo>
                      <a:pt x="3" y="32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9864200">
                <a:off x="2630160" y="462168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0"/>
                    </a:moveTo>
                    <a:lnTo>
                      <a:pt x="37" y="23"/>
                    </a:lnTo>
                    <a:lnTo>
                      <a:pt x="31" y="23"/>
                    </a:lnTo>
                    <a:lnTo>
                      <a:pt x="20" y="12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9864200">
                <a:off x="2647080" y="461196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1" y="0"/>
                    </a:moveTo>
                    <a:lnTo>
                      <a:pt x="38" y="23"/>
                    </a:lnTo>
                    <a:lnTo>
                      <a:pt x="32" y="23"/>
                    </a:lnTo>
                    <a:lnTo>
                      <a:pt x="21" y="1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9864200">
                <a:off x="2666880" y="460116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0" y="0"/>
                    </a:moveTo>
                    <a:lnTo>
                      <a:pt x="38" y="23"/>
                    </a:lnTo>
                    <a:lnTo>
                      <a:pt x="32" y="23"/>
                    </a:lnTo>
                    <a:lnTo>
                      <a:pt x="20" y="12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9864200">
                <a:off x="2684880" y="4592880"/>
                <a:ext cx="19800" cy="1584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29" y="20"/>
                    </a:moveTo>
                    <a:lnTo>
                      <a:pt x="20" y="1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9" y="12"/>
                    </a:lnTo>
                    <a:lnTo>
                      <a:pt x="29" y="20"/>
                    </a:lnTo>
                    <a:lnTo>
                      <a:pt x="29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610360" y="4590720"/>
                <a:ext cx="87840" cy="4788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2607480" y="4586040"/>
                <a:ext cx="88200" cy="475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9864200">
                <a:off x="2610720" y="463248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0"/>
                    </a:moveTo>
                    <a:lnTo>
                      <a:pt x="37" y="23"/>
                    </a:lnTo>
                    <a:lnTo>
                      <a:pt x="35" y="23"/>
                    </a:lnTo>
                    <a:lnTo>
                      <a:pt x="20" y="1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9864200">
                <a:off x="2730600" y="475740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9" y="0"/>
                    </a:moveTo>
                    <a:lnTo>
                      <a:pt x="15" y="3"/>
                    </a:lnTo>
                    <a:lnTo>
                      <a:pt x="18" y="9"/>
                    </a:lnTo>
                    <a:lnTo>
                      <a:pt x="15" y="15"/>
                    </a:lnTo>
                    <a:lnTo>
                      <a:pt x="9" y="18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9864200">
                <a:off x="2703960" y="4721400"/>
                <a:ext cx="40320" cy="3960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57"/>
                    </a:moveTo>
                    <a:lnTo>
                      <a:pt x="40" y="55"/>
                    </a:lnTo>
                    <a:lnTo>
                      <a:pt x="49" y="49"/>
                    </a:lnTo>
                    <a:lnTo>
                      <a:pt x="55" y="40"/>
                    </a:lnTo>
                    <a:lnTo>
                      <a:pt x="58" y="29"/>
                    </a:lnTo>
                    <a:lnTo>
                      <a:pt x="55" y="17"/>
                    </a:lnTo>
                    <a:lnTo>
                      <a:pt x="49" y="8"/>
                    </a:lnTo>
                    <a:lnTo>
                      <a:pt x="40" y="3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9" y="8"/>
                    </a:lnTo>
                    <a:lnTo>
                      <a:pt x="3" y="17"/>
                    </a:lnTo>
                    <a:lnTo>
                      <a:pt x="0" y="29"/>
                    </a:lnTo>
                    <a:lnTo>
                      <a:pt x="3" y="40"/>
                    </a:lnTo>
                    <a:lnTo>
                      <a:pt x="9" y="49"/>
                    </a:lnTo>
                    <a:lnTo>
                      <a:pt x="17" y="55"/>
                    </a:lnTo>
                    <a:lnTo>
                      <a:pt x="29" y="5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9864200">
                <a:off x="2650320" y="4635720"/>
                <a:ext cx="42480" cy="158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29" y="23"/>
                    </a:moveTo>
                    <a:lnTo>
                      <a:pt x="43" y="23"/>
                    </a:lnTo>
                    <a:lnTo>
                      <a:pt x="52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5"/>
                    </a:lnTo>
                    <a:lnTo>
                      <a:pt x="52" y="3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3" y="5"/>
                    </a:lnTo>
                    <a:lnTo>
                      <a:pt x="0" y="11"/>
                    </a:lnTo>
                    <a:lnTo>
                      <a:pt x="3" y="17"/>
                    </a:lnTo>
                    <a:lnTo>
                      <a:pt x="9" y="20"/>
                    </a:lnTo>
                    <a:lnTo>
                      <a:pt x="17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9864200">
                <a:off x="2605680" y="460440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23"/>
                    </a:moveTo>
                    <a:lnTo>
                      <a:pt x="46" y="0"/>
                    </a:lnTo>
                    <a:lnTo>
                      <a:pt x="46" y="6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9864200">
                <a:off x="2697840" y="472392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6"/>
                    </a:moveTo>
                    <a:lnTo>
                      <a:pt x="8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9864200">
                <a:off x="2707200" y="4734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5" y="12"/>
                    </a:moveTo>
                    <a:lnTo>
                      <a:pt x="11" y="9"/>
                    </a:lnTo>
                    <a:lnTo>
                      <a:pt x="14" y="6"/>
                    </a:lnTo>
                    <a:lnTo>
                      <a:pt x="11" y="3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9864200">
                <a:off x="2691720" y="4709880"/>
                <a:ext cx="42480" cy="180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3" y="23"/>
                    </a:lnTo>
                    <a:lnTo>
                      <a:pt x="52" y="23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8"/>
                    </a:lnTo>
                    <a:lnTo>
                      <a:pt x="52" y="3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3" y="17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9864200">
                <a:off x="2663280" y="4658400"/>
                <a:ext cx="42480" cy="180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3" y="26"/>
                    </a:lnTo>
                    <a:lnTo>
                      <a:pt x="52" y="23"/>
                    </a:lnTo>
                    <a:lnTo>
                      <a:pt x="58" y="20"/>
                    </a:lnTo>
                    <a:lnTo>
                      <a:pt x="61" y="15"/>
                    </a:lnTo>
                    <a:lnTo>
                      <a:pt x="58" y="9"/>
                    </a:lnTo>
                    <a:lnTo>
                      <a:pt x="52" y="6"/>
                    </a:lnTo>
                    <a:lnTo>
                      <a:pt x="43" y="3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9" y="6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9" y="23"/>
                    </a:lnTo>
                    <a:lnTo>
                      <a:pt x="17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9864200">
                <a:off x="2675880" y="4690080"/>
                <a:ext cx="54000" cy="21960"/>
              </a:xfrm>
              <a:custGeom>
                <a:avLst/>
                <a:gdLst/>
                <a:ahLst/>
                <a:rect l="l" t="t" r="r" b="b"/>
                <a:pathLst>
                  <a:path w="78" h="32">
                    <a:moveTo>
                      <a:pt x="38" y="32"/>
                    </a:moveTo>
                    <a:lnTo>
                      <a:pt x="55" y="32"/>
                    </a:lnTo>
                    <a:lnTo>
                      <a:pt x="67" y="26"/>
                    </a:lnTo>
                    <a:lnTo>
                      <a:pt x="75" y="23"/>
                    </a:lnTo>
                    <a:lnTo>
                      <a:pt x="78" y="17"/>
                    </a:lnTo>
                    <a:lnTo>
                      <a:pt x="75" y="9"/>
                    </a:lnTo>
                    <a:lnTo>
                      <a:pt x="67" y="6"/>
                    </a:lnTo>
                    <a:lnTo>
                      <a:pt x="55" y="0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2" y="6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3" y="23"/>
                    </a:lnTo>
                    <a:lnTo>
                      <a:pt x="12" y="26"/>
                    </a:lnTo>
                    <a:lnTo>
                      <a:pt x="23" y="32"/>
                    </a:lnTo>
                    <a:lnTo>
                      <a:pt x="38" y="32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9864200">
                <a:off x="2666160" y="4673160"/>
                <a:ext cx="52200" cy="2196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52" y="29"/>
                    </a:lnTo>
                    <a:lnTo>
                      <a:pt x="64" y="26"/>
                    </a:lnTo>
                    <a:lnTo>
                      <a:pt x="72" y="20"/>
                    </a:lnTo>
                    <a:lnTo>
                      <a:pt x="75" y="15"/>
                    </a:lnTo>
                    <a:lnTo>
                      <a:pt x="72" y="9"/>
                    </a:lnTo>
                    <a:lnTo>
                      <a:pt x="64" y="6"/>
                    </a:lnTo>
                    <a:lnTo>
                      <a:pt x="52" y="3"/>
                    </a:lnTo>
                    <a:lnTo>
                      <a:pt x="38" y="0"/>
                    </a:lnTo>
                    <a:lnTo>
                      <a:pt x="23" y="3"/>
                    </a:lnTo>
                    <a:lnTo>
                      <a:pt x="12" y="6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2" y="26"/>
                    </a:lnTo>
                    <a:lnTo>
                      <a:pt x="23" y="29"/>
                    </a:lnTo>
                    <a:lnTo>
                      <a:pt x="38" y="32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9864200">
                <a:off x="2674440" y="4689360"/>
                <a:ext cx="6120" cy="54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6" y="8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9864200">
                <a:off x="2682000" y="470664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6" y="9"/>
                    </a:move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9864200">
                <a:off x="2669400" y="467172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8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9864200">
                <a:off x="2656080" y="4646160"/>
                <a:ext cx="42480" cy="158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29" y="23"/>
                    </a:moveTo>
                    <a:lnTo>
                      <a:pt x="43" y="23"/>
                    </a:lnTo>
                    <a:lnTo>
                      <a:pt x="52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6"/>
                    </a:lnTo>
                    <a:lnTo>
                      <a:pt x="52" y="3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3" y="6"/>
                    </a:lnTo>
                    <a:lnTo>
                      <a:pt x="0" y="11"/>
                    </a:lnTo>
                    <a:lnTo>
                      <a:pt x="3" y="17"/>
                    </a:lnTo>
                    <a:lnTo>
                      <a:pt x="9" y="20"/>
                    </a:lnTo>
                    <a:lnTo>
                      <a:pt x="17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2618280" y="4607280"/>
                <a:ext cx="91440" cy="5004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9864200">
                <a:off x="3153960" y="3766320"/>
                <a:ext cx="23400" cy="529560"/>
              </a:xfrm>
              <a:custGeom>
                <a:avLst/>
                <a:gdLst/>
                <a:ahLst/>
                <a:rect l="l" t="t" r="r" b="b"/>
                <a:pathLst>
                  <a:path w="34" h="760">
                    <a:moveTo>
                      <a:pt x="20" y="0"/>
                    </a:moveTo>
                    <a:lnTo>
                      <a:pt x="34" y="0"/>
                    </a:lnTo>
                    <a:lnTo>
                      <a:pt x="34" y="760"/>
                    </a:lnTo>
                    <a:lnTo>
                      <a:pt x="17" y="760"/>
                    </a:lnTo>
                    <a:lnTo>
                      <a:pt x="0" y="76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9864200">
                <a:off x="3246480" y="4217040"/>
                <a:ext cx="55440" cy="10440"/>
              </a:xfrm>
              <a:custGeom>
                <a:avLst/>
                <a:gdLst/>
                <a:ahLst/>
                <a:rect l="l" t="t" r="r" b="b"/>
                <a:pathLst>
                  <a:path w="80" h="15">
                    <a:moveTo>
                      <a:pt x="72" y="15"/>
                    </a:moveTo>
                    <a:lnTo>
                      <a:pt x="78" y="15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78" y="3"/>
                    </a:lnTo>
                    <a:lnTo>
                      <a:pt x="72" y="0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8" y="15"/>
                    </a:lnTo>
                    <a:lnTo>
                      <a:pt x="72" y="15"/>
                    </a:lnTo>
                    <a:lnTo>
                      <a:pt x="7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035520" y="3803400"/>
                <a:ext cx="256320" cy="4633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9864200">
                <a:off x="3113640" y="3827880"/>
                <a:ext cx="108360" cy="41544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9864200">
                <a:off x="3113640" y="3827880"/>
                <a:ext cx="108360" cy="41544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9864200">
                <a:off x="3113640" y="3827880"/>
                <a:ext cx="108360" cy="41544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9864200">
                <a:off x="3116160" y="3828240"/>
                <a:ext cx="102240" cy="415440"/>
              </a:xfrm>
              <a:custGeom>
                <a:avLst/>
                <a:gdLst/>
                <a:ahLst/>
                <a:rect l="l" t="t" r="r" b="b"/>
                <a:pathLst>
                  <a:path w="147" h="596">
                    <a:moveTo>
                      <a:pt x="15" y="0"/>
                    </a:moveTo>
                    <a:lnTo>
                      <a:pt x="139" y="0"/>
                    </a:lnTo>
                    <a:lnTo>
                      <a:pt x="144" y="3"/>
                    </a:lnTo>
                    <a:lnTo>
                      <a:pt x="147" y="12"/>
                    </a:lnTo>
                    <a:lnTo>
                      <a:pt x="147" y="585"/>
                    </a:lnTo>
                    <a:lnTo>
                      <a:pt x="144" y="593"/>
                    </a:lnTo>
                    <a:lnTo>
                      <a:pt x="139" y="596"/>
                    </a:lnTo>
                    <a:lnTo>
                      <a:pt x="15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fb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9864200">
                <a:off x="3118320" y="3828240"/>
                <a:ext cx="97920" cy="415440"/>
              </a:xfrm>
              <a:custGeom>
                <a:avLst/>
                <a:gdLst/>
                <a:ahLst/>
                <a:rect l="l" t="t" r="r" b="b"/>
                <a:pathLst>
                  <a:path w="141" h="596">
                    <a:moveTo>
                      <a:pt x="12" y="0"/>
                    </a:moveTo>
                    <a:lnTo>
                      <a:pt x="127" y="0"/>
                    </a:lnTo>
                    <a:lnTo>
                      <a:pt x="136" y="3"/>
                    </a:lnTo>
                    <a:lnTo>
                      <a:pt x="141" y="12"/>
                    </a:lnTo>
                    <a:lnTo>
                      <a:pt x="141" y="585"/>
                    </a:lnTo>
                    <a:lnTo>
                      <a:pt x="136" y="593"/>
                    </a:lnTo>
                    <a:lnTo>
                      <a:pt x="127" y="596"/>
                    </a:lnTo>
                    <a:lnTo>
                      <a:pt x="12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3be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9864200">
                <a:off x="3122280" y="3828240"/>
                <a:ext cx="90360" cy="415440"/>
              </a:xfrm>
              <a:custGeom>
                <a:avLst/>
                <a:gdLst/>
                <a:ahLst/>
                <a:rect l="l" t="t" r="r" b="b"/>
                <a:pathLst>
                  <a:path w="130" h="596">
                    <a:moveTo>
                      <a:pt x="9" y="0"/>
                    </a:moveTo>
                    <a:lnTo>
                      <a:pt x="118" y="0"/>
                    </a:lnTo>
                    <a:lnTo>
                      <a:pt x="127" y="3"/>
                    </a:lnTo>
                    <a:lnTo>
                      <a:pt x="130" y="12"/>
                    </a:lnTo>
                    <a:lnTo>
                      <a:pt x="130" y="585"/>
                    </a:lnTo>
                    <a:lnTo>
                      <a:pt x="127" y="593"/>
                    </a:lnTo>
                    <a:lnTo>
                      <a:pt x="118" y="596"/>
                    </a:lnTo>
                    <a:lnTo>
                      <a:pt x="9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6c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9864200">
                <a:off x="3124440" y="3828960"/>
                <a:ext cx="82080" cy="415440"/>
              </a:xfrm>
              <a:custGeom>
                <a:avLst/>
                <a:gdLst/>
                <a:ahLst/>
                <a:rect l="l" t="t" r="r" b="b"/>
                <a:pathLst>
                  <a:path w="118" h="596">
                    <a:moveTo>
                      <a:pt x="8" y="0"/>
                    </a:moveTo>
                    <a:lnTo>
                      <a:pt x="109" y="0"/>
                    </a:lnTo>
                    <a:lnTo>
                      <a:pt x="115" y="3"/>
                    </a:lnTo>
                    <a:lnTo>
                      <a:pt x="118" y="12"/>
                    </a:lnTo>
                    <a:lnTo>
                      <a:pt x="118" y="585"/>
                    </a:lnTo>
                    <a:lnTo>
                      <a:pt x="115" y="593"/>
                    </a:lnTo>
                    <a:lnTo>
                      <a:pt x="109" y="596"/>
                    </a:lnTo>
                    <a:lnTo>
                      <a:pt x="8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a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9864200">
                <a:off x="3126600" y="3828960"/>
                <a:ext cx="77760" cy="415440"/>
              </a:xfrm>
              <a:custGeom>
                <a:avLst/>
                <a:gdLst/>
                <a:ahLst/>
                <a:rect l="l" t="t" r="r" b="b"/>
                <a:pathLst>
                  <a:path w="112" h="596">
                    <a:moveTo>
                      <a:pt x="8" y="0"/>
                    </a:moveTo>
                    <a:lnTo>
                      <a:pt x="101" y="0"/>
                    </a:lnTo>
                    <a:lnTo>
                      <a:pt x="109" y="3"/>
                    </a:lnTo>
                    <a:lnTo>
                      <a:pt x="112" y="12"/>
                    </a:lnTo>
                    <a:lnTo>
                      <a:pt x="112" y="585"/>
                    </a:lnTo>
                    <a:lnTo>
                      <a:pt x="109" y="593"/>
                    </a:lnTo>
                    <a:lnTo>
                      <a:pt x="101" y="596"/>
                    </a:lnTo>
                    <a:lnTo>
                      <a:pt x="8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dc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9864200">
                <a:off x="3126960" y="3830040"/>
                <a:ext cx="73440" cy="415440"/>
              </a:xfrm>
              <a:custGeom>
                <a:avLst/>
                <a:gdLst/>
                <a:ahLst/>
                <a:rect l="l" t="t" r="r" b="b"/>
                <a:pathLst>
                  <a:path w="106" h="596">
                    <a:moveTo>
                      <a:pt x="11" y="0"/>
                    </a:moveTo>
                    <a:lnTo>
                      <a:pt x="95" y="0"/>
                    </a:lnTo>
                    <a:lnTo>
                      <a:pt x="103" y="3"/>
                    </a:lnTo>
                    <a:lnTo>
                      <a:pt x="106" y="12"/>
                    </a:lnTo>
                    <a:lnTo>
                      <a:pt x="106" y="585"/>
                    </a:lnTo>
                    <a:lnTo>
                      <a:pt x="103" y="593"/>
                    </a:lnTo>
                    <a:lnTo>
                      <a:pt x="95" y="596"/>
                    </a:lnTo>
                    <a:lnTo>
                      <a:pt x="11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1d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9864200">
                <a:off x="3129120" y="3830400"/>
                <a:ext cx="68040" cy="415440"/>
              </a:xfrm>
              <a:custGeom>
                <a:avLst/>
                <a:gdLst/>
                <a:ahLst/>
                <a:rect l="l" t="t" r="r" b="b"/>
                <a:pathLst>
                  <a:path w="98" h="596">
                    <a:moveTo>
                      <a:pt x="11" y="0"/>
                    </a:moveTo>
                    <a:lnTo>
                      <a:pt x="86" y="0"/>
                    </a:lnTo>
                    <a:lnTo>
                      <a:pt x="95" y="3"/>
                    </a:lnTo>
                    <a:lnTo>
                      <a:pt x="98" y="12"/>
                    </a:lnTo>
                    <a:lnTo>
                      <a:pt x="98" y="585"/>
                    </a:lnTo>
                    <a:lnTo>
                      <a:pt x="95" y="593"/>
                    </a:lnTo>
                    <a:lnTo>
                      <a:pt x="86" y="596"/>
                    </a:lnTo>
                    <a:lnTo>
                      <a:pt x="11" y="596"/>
                    </a:lnTo>
                    <a:lnTo>
                      <a:pt x="2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4d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9864200">
                <a:off x="3130920" y="3831120"/>
                <a:ext cx="62280" cy="415440"/>
              </a:xfrm>
              <a:custGeom>
                <a:avLst/>
                <a:gdLst/>
                <a:ahLst/>
                <a:rect l="l" t="t" r="r" b="b"/>
                <a:pathLst>
                  <a:path w="90" h="596">
                    <a:moveTo>
                      <a:pt x="12" y="0"/>
                    </a:moveTo>
                    <a:lnTo>
                      <a:pt x="78" y="0"/>
                    </a:lnTo>
                    <a:lnTo>
                      <a:pt x="87" y="3"/>
                    </a:lnTo>
                    <a:lnTo>
                      <a:pt x="90" y="12"/>
                    </a:lnTo>
                    <a:lnTo>
                      <a:pt x="90" y="585"/>
                    </a:lnTo>
                    <a:lnTo>
                      <a:pt x="87" y="593"/>
                    </a:lnTo>
                    <a:lnTo>
                      <a:pt x="78" y="596"/>
                    </a:lnTo>
                    <a:lnTo>
                      <a:pt x="12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8e1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9864200">
                <a:off x="3133080" y="3830760"/>
                <a:ext cx="58320" cy="415440"/>
              </a:xfrm>
              <a:custGeom>
                <a:avLst/>
                <a:gdLst/>
                <a:ahLst/>
                <a:rect l="l" t="t" r="r" b="b"/>
                <a:pathLst>
                  <a:path w="84" h="596">
                    <a:moveTo>
                      <a:pt x="9" y="0"/>
                    </a:moveTo>
                    <a:lnTo>
                      <a:pt x="69" y="0"/>
                    </a:lnTo>
                    <a:lnTo>
                      <a:pt x="78" y="3"/>
                    </a:lnTo>
                    <a:lnTo>
                      <a:pt x="84" y="12"/>
                    </a:lnTo>
                    <a:lnTo>
                      <a:pt x="84" y="585"/>
                    </a:lnTo>
                    <a:lnTo>
                      <a:pt x="78" y="593"/>
                    </a:lnTo>
                    <a:lnTo>
                      <a:pt x="69" y="596"/>
                    </a:lnTo>
                    <a:lnTo>
                      <a:pt x="9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be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9864200">
                <a:off x="3134880" y="3832200"/>
                <a:ext cx="50040" cy="415440"/>
              </a:xfrm>
              <a:custGeom>
                <a:avLst/>
                <a:gdLst/>
                <a:ahLst/>
                <a:rect l="l" t="t" r="r" b="b"/>
                <a:pathLst>
                  <a:path w="72" h="596">
                    <a:moveTo>
                      <a:pt x="12" y="0"/>
                    </a:moveTo>
                    <a:lnTo>
                      <a:pt x="64" y="0"/>
                    </a:lnTo>
                    <a:lnTo>
                      <a:pt x="69" y="3"/>
                    </a:lnTo>
                    <a:lnTo>
                      <a:pt x="72" y="12"/>
                    </a:lnTo>
                    <a:lnTo>
                      <a:pt x="72" y="585"/>
                    </a:lnTo>
                    <a:lnTo>
                      <a:pt x="69" y="593"/>
                    </a:lnTo>
                    <a:lnTo>
                      <a:pt x="64" y="596"/>
                    </a:lnTo>
                    <a:lnTo>
                      <a:pt x="12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fec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9864200">
                <a:off x="3137400" y="3832560"/>
                <a:ext cx="43560" cy="415440"/>
              </a:xfrm>
              <a:custGeom>
                <a:avLst/>
                <a:gdLst/>
                <a:ahLst/>
                <a:rect l="l" t="t" r="r" b="b"/>
                <a:pathLst>
                  <a:path w="63" h="596">
                    <a:moveTo>
                      <a:pt x="55" y="596"/>
                    </a:moveTo>
                    <a:lnTo>
                      <a:pt x="61" y="593"/>
                    </a:lnTo>
                    <a:lnTo>
                      <a:pt x="63" y="585"/>
                    </a:lnTo>
                    <a:lnTo>
                      <a:pt x="63" y="12"/>
                    </a:lnTo>
                    <a:lnTo>
                      <a:pt x="61" y="3"/>
                    </a:lnTo>
                    <a:lnTo>
                      <a:pt x="55" y="0"/>
                    </a:lnTo>
                    <a:lnTo>
                      <a:pt x="12" y="0"/>
                    </a:lnTo>
                    <a:lnTo>
                      <a:pt x="3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3" y="593"/>
                    </a:lnTo>
                    <a:lnTo>
                      <a:pt x="12" y="596"/>
                    </a:lnTo>
                    <a:lnTo>
                      <a:pt x="55" y="596"/>
                    </a:lnTo>
                    <a:lnTo>
                      <a:pt x="55" y="596"/>
                    </a:lnTo>
                    <a:close/>
                  </a:path>
                </a:pathLst>
              </a:cu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9864200">
                <a:off x="3113640" y="3827880"/>
                <a:ext cx="108360" cy="41544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9864200">
                <a:off x="3011040" y="3770280"/>
                <a:ext cx="40320" cy="2556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29" y="37"/>
                    </a:moveTo>
                    <a:lnTo>
                      <a:pt x="41" y="34"/>
                    </a:lnTo>
                    <a:lnTo>
                      <a:pt x="49" y="28"/>
                    </a:lnTo>
                    <a:lnTo>
                      <a:pt x="55" y="23"/>
                    </a:lnTo>
                    <a:lnTo>
                      <a:pt x="58" y="17"/>
                    </a:lnTo>
                    <a:lnTo>
                      <a:pt x="55" y="8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9" y="28"/>
                    </a:lnTo>
                    <a:lnTo>
                      <a:pt x="18" y="34"/>
                    </a:lnTo>
                    <a:lnTo>
                      <a:pt x="29" y="37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9864200">
                <a:off x="2997360" y="3779640"/>
                <a:ext cx="104400" cy="73800"/>
              </a:xfrm>
              <a:custGeom>
                <a:avLst/>
                <a:gdLst/>
                <a:ahLst/>
                <a:rect l="l" t="t" r="r" b="b"/>
                <a:pathLst>
                  <a:path w="150" h="106">
                    <a:moveTo>
                      <a:pt x="75" y="106"/>
                    </a:moveTo>
                    <a:lnTo>
                      <a:pt x="144" y="63"/>
                    </a:lnTo>
                    <a:lnTo>
                      <a:pt x="150" y="11"/>
                    </a:lnTo>
                    <a:lnTo>
                      <a:pt x="75" y="0"/>
                    </a:lnTo>
                    <a:lnTo>
                      <a:pt x="0" y="11"/>
                    </a:lnTo>
                    <a:lnTo>
                      <a:pt x="3" y="63"/>
                    </a:lnTo>
                    <a:lnTo>
                      <a:pt x="75" y="106"/>
                    </a:lnTo>
                    <a:lnTo>
                      <a:pt x="75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9864200">
                <a:off x="3014640" y="3807720"/>
                <a:ext cx="27720" cy="1584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20" y="23"/>
                    </a:moveTo>
                    <a:lnTo>
                      <a:pt x="40" y="0"/>
                    </a:lnTo>
                    <a:lnTo>
                      <a:pt x="32" y="0"/>
                    </a:lnTo>
                    <a:lnTo>
                      <a:pt x="20" y="1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9864200">
                <a:off x="3034440" y="37976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23"/>
                    </a:moveTo>
                    <a:lnTo>
                      <a:pt x="37" y="0"/>
                    </a:lnTo>
                    <a:lnTo>
                      <a:pt x="28" y="0"/>
                    </a:lnTo>
                    <a:lnTo>
                      <a:pt x="20" y="1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9864200">
                <a:off x="3051360" y="37879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1" y="23"/>
                    </a:moveTo>
                    <a:lnTo>
                      <a:pt x="38" y="0"/>
                    </a:lnTo>
                    <a:lnTo>
                      <a:pt x="32" y="0"/>
                    </a:lnTo>
                    <a:lnTo>
                      <a:pt x="21" y="1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1" y="23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9864200">
                <a:off x="3071160" y="377928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6" y="3"/>
                    </a:moveTo>
                    <a:lnTo>
                      <a:pt x="20" y="1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6" y="11"/>
                    </a:lnTo>
                    <a:lnTo>
                      <a:pt x="26" y="3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3007080" y="3796200"/>
                <a:ext cx="86400" cy="4680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9864200">
                <a:off x="2997360" y="381816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0" y="23"/>
                    </a:moveTo>
                    <a:lnTo>
                      <a:pt x="38" y="0"/>
                    </a:lnTo>
                    <a:lnTo>
                      <a:pt x="29" y="0"/>
                    </a:lnTo>
                    <a:lnTo>
                      <a:pt x="20" y="1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9864200">
                <a:off x="2999520" y="3749040"/>
                <a:ext cx="40320" cy="2556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29" y="37"/>
                    </a:moveTo>
                    <a:lnTo>
                      <a:pt x="41" y="37"/>
                    </a:lnTo>
                    <a:lnTo>
                      <a:pt x="49" y="32"/>
                    </a:lnTo>
                    <a:lnTo>
                      <a:pt x="55" y="26"/>
                    </a:lnTo>
                    <a:lnTo>
                      <a:pt x="58" y="17"/>
                    </a:lnTo>
                    <a:lnTo>
                      <a:pt x="55" y="12"/>
                    </a:lnTo>
                    <a:lnTo>
                      <a:pt x="49" y="6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6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9" y="32"/>
                    </a:lnTo>
                    <a:lnTo>
                      <a:pt x="18" y="37"/>
                    </a:lnTo>
                    <a:lnTo>
                      <a:pt x="29" y="37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9864200">
                <a:off x="2993760" y="3743640"/>
                <a:ext cx="33840" cy="97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26" y="14"/>
                    </a:moveTo>
                    <a:lnTo>
                      <a:pt x="43" y="11"/>
                    </a:lnTo>
                    <a:lnTo>
                      <a:pt x="49" y="8"/>
                    </a:lnTo>
                    <a:lnTo>
                      <a:pt x="43" y="2"/>
                    </a:lnTo>
                    <a:lnTo>
                      <a:pt x="26" y="0"/>
                    </a:lnTo>
                    <a:lnTo>
                      <a:pt x="9" y="2"/>
                    </a:lnTo>
                    <a:lnTo>
                      <a:pt x="3" y="2"/>
                    </a:lnTo>
                    <a:lnTo>
                      <a:pt x="0" y="8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9864200">
                <a:off x="2989800" y="3736440"/>
                <a:ext cx="33840" cy="97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26" y="14"/>
                    </a:moveTo>
                    <a:lnTo>
                      <a:pt x="43" y="12"/>
                    </a:lnTo>
                    <a:lnTo>
                      <a:pt x="49" y="6"/>
                    </a:lnTo>
                    <a:lnTo>
                      <a:pt x="43" y="0"/>
                    </a:lnTo>
                    <a:lnTo>
                      <a:pt x="26" y="0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9" y="12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9864200">
                <a:off x="2985480" y="372780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26" y="17"/>
                    </a:moveTo>
                    <a:lnTo>
                      <a:pt x="43" y="14"/>
                    </a:lnTo>
                    <a:lnTo>
                      <a:pt x="49" y="8"/>
                    </a:lnTo>
                    <a:lnTo>
                      <a:pt x="43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9" y="14"/>
                    </a:lnTo>
                    <a:lnTo>
                      <a:pt x="26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9864200">
                <a:off x="2974320" y="3722400"/>
                <a:ext cx="50040" cy="936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37" y="14"/>
                    </a:moveTo>
                    <a:lnTo>
                      <a:pt x="51" y="14"/>
                    </a:lnTo>
                    <a:lnTo>
                      <a:pt x="60" y="11"/>
                    </a:lnTo>
                    <a:lnTo>
                      <a:pt x="72" y="6"/>
                    </a:lnTo>
                    <a:lnTo>
                      <a:pt x="69" y="3"/>
                    </a:lnTo>
                    <a:lnTo>
                      <a:pt x="60" y="0"/>
                    </a:lnTo>
                    <a:lnTo>
                      <a:pt x="37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11" y="11"/>
                    </a:lnTo>
                    <a:lnTo>
                      <a:pt x="23" y="14"/>
                    </a:lnTo>
                    <a:lnTo>
                      <a:pt x="37" y="14"/>
                    </a:lnTo>
                    <a:lnTo>
                      <a:pt x="3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9864200">
                <a:off x="2979000" y="3717000"/>
                <a:ext cx="33840" cy="1008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26" y="15"/>
                    </a:moveTo>
                    <a:lnTo>
                      <a:pt x="43" y="12"/>
                    </a:lnTo>
                    <a:lnTo>
                      <a:pt x="49" y="9"/>
                    </a:lnTo>
                    <a:lnTo>
                      <a:pt x="43" y="3"/>
                    </a:lnTo>
                    <a:lnTo>
                      <a:pt x="26" y="0"/>
                    </a:lnTo>
                    <a:lnTo>
                      <a:pt x="9" y="3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9" y="12"/>
                    </a:lnTo>
                    <a:lnTo>
                      <a:pt x="17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9864200">
                <a:off x="2986200" y="370800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9" y="14"/>
                    </a:moveTo>
                    <a:lnTo>
                      <a:pt x="15" y="14"/>
                    </a:lnTo>
                    <a:lnTo>
                      <a:pt x="18" y="9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3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9864200">
                <a:off x="2981160" y="3682800"/>
                <a:ext cx="1800" cy="27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9864200">
                <a:off x="2983320" y="3681720"/>
                <a:ext cx="2160" cy="27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9864200">
                <a:off x="2980080" y="3700440"/>
                <a:ext cx="14400" cy="216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9" y="3"/>
                    </a:moveTo>
                    <a:lnTo>
                      <a:pt x="15" y="3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9864200">
                <a:off x="2978280" y="3697200"/>
                <a:ext cx="14400" cy="216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9" y="3"/>
                    </a:moveTo>
                    <a:lnTo>
                      <a:pt x="15" y="3"/>
                    </a:lnTo>
                    <a:lnTo>
                      <a:pt x="21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9864200">
                <a:off x="2976120" y="3691800"/>
                <a:ext cx="14400" cy="396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9" y="6"/>
                    </a:moveTo>
                    <a:lnTo>
                      <a:pt x="21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9864200">
                <a:off x="2973240" y="368856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9" y="3"/>
                    </a:moveTo>
                    <a:lnTo>
                      <a:pt x="15" y="3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9864200">
                <a:off x="2971440" y="368496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9" y="3"/>
                    </a:moveTo>
                    <a:lnTo>
                      <a:pt x="18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9864200">
                <a:off x="3003120" y="376524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9"/>
                    </a:moveTo>
                    <a:lnTo>
                      <a:pt x="15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9864200">
                <a:off x="3013200" y="378252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9" y="12"/>
                    </a:moveTo>
                    <a:lnTo>
                      <a:pt x="15" y="6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9864200">
                <a:off x="2988360" y="3799080"/>
                <a:ext cx="43560" cy="972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0" y="11"/>
                    </a:moveTo>
                    <a:lnTo>
                      <a:pt x="63" y="0"/>
                    </a:lnTo>
                    <a:lnTo>
                      <a:pt x="9" y="1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9864200">
                <a:off x="2982960" y="3732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9864200">
                <a:off x="2981520" y="3723480"/>
                <a:ext cx="1152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3"/>
                    </a:moveTo>
                    <a:lnTo>
                      <a:pt x="6" y="3"/>
                    </a:lnTo>
                    <a:lnTo>
                      <a:pt x="17" y="0"/>
                    </a:lnTo>
                    <a:lnTo>
                      <a:pt x="12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9864200">
                <a:off x="2987280" y="37119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9864200">
                <a:off x="3244320" y="4230000"/>
                <a:ext cx="104400" cy="66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75" y="0"/>
                    </a:moveTo>
                    <a:lnTo>
                      <a:pt x="144" y="29"/>
                    </a:lnTo>
                    <a:lnTo>
                      <a:pt x="150" y="81"/>
                    </a:lnTo>
                    <a:lnTo>
                      <a:pt x="75" y="95"/>
                    </a:lnTo>
                    <a:lnTo>
                      <a:pt x="0" y="81"/>
                    </a:lnTo>
                    <a:lnTo>
                      <a:pt x="3" y="2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9864200">
                <a:off x="3269520" y="4267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0" y="0"/>
                    </a:moveTo>
                    <a:lnTo>
                      <a:pt x="40" y="26"/>
                    </a:lnTo>
                    <a:lnTo>
                      <a:pt x="32" y="26"/>
                    </a:lnTo>
                    <a:lnTo>
                      <a:pt x="20" y="12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9864200">
                <a:off x="3288960" y="4257360"/>
                <a:ext cx="25560" cy="180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20" y="0"/>
                    </a:moveTo>
                    <a:lnTo>
                      <a:pt x="37" y="26"/>
                    </a:lnTo>
                    <a:lnTo>
                      <a:pt x="28" y="26"/>
                    </a:lnTo>
                    <a:lnTo>
                      <a:pt x="20" y="12"/>
                    </a:lnTo>
                    <a:lnTo>
                      <a:pt x="8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9864200">
                <a:off x="3305880" y="4248000"/>
                <a:ext cx="26280" cy="1800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1" y="0"/>
                    </a:moveTo>
                    <a:lnTo>
                      <a:pt x="38" y="26"/>
                    </a:lnTo>
                    <a:lnTo>
                      <a:pt x="32" y="26"/>
                    </a:lnTo>
                    <a:lnTo>
                      <a:pt x="21" y="12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9864200">
                <a:off x="3326040" y="42390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20"/>
                    </a:moveTo>
                    <a:lnTo>
                      <a:pt x="20" y="12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6" y="12"/>
                    </a:lnTo>
                    <a:lnTo>
                      <a:pt x="26" y="20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3251160" y="4237560"/>
                <a:ext cx="86040" cy="4680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248280" y="4232880"/>
                <a:ext cx="86040" cy="4644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9864200">
                <a:off x="3251880" y="4277880"/>
                <a:ext cx="26280" cy="1800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0" y="0"/>
                    </a:moveTo>
                    <a:lnTo>
                      <a:pt x="38" y="26"/>
                    </a:lnTo>
                    <a:lnTo>
                      <a:pt x="29" y="26"/>
                    </a:lnTo>
                    <a:lnTo>
                      <a:pt x="20" y="12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9864200">
                <a:off x="3371760" y="4405680"/>
                <a:ext cx="12240" cy="1008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9" y="0"/>
                    </a:moveTo>
                    <a:lnTo>
                      <a:pt x="15" y="3"/>
                    </a:lnTo>
                    <a:lnTo>
                      <a:pt x="18" y="6"/>
                    </a:lnTo>
                    <a:lnTo>
                      <a:pt x="15" y="12"/>
                    </a:lnTo>
                    <a:lnTo>
                      <a:pt x="9" y="15"/>
                    </a:lnTo>
                    <a:lnTo>
                      <a:pt x="3" y="12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9864200">
                <a:off x="3344760" y="4367160"/>
                <a:ext cx="40320" cy="3960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57"/>
                    </a:moveTo>
                    <a:lnTo>
                      <a:pt x="41" y="55"/>
                    </a:lnTo>
                    <a:lnTo>
                      <a:pt x="49" y="49"/>
                    </a:lnTo>
                    <a:lnTo>
                      <a:pt x="55" y="40"/>
                    </a:lnTo>
                    <a:lnTo>
                      <a:pt x="58" y="29"/>
                    </a:lnTo>
                    <a:lnTo>
                      <a:pt x="55" y="20"/>
                    </a:lnTo>
                    <a:lnTo>
                      <a:pt x="49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8"/>
                    </a:lnTo>
                    <a:lnTo>
                      <a:pt x="0" y="20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9" y="49"/>
                    </a:lnTo>
                    <a:lnTo>
                      <a:pt x="18" y="55"/>
                    </a:lnTo>
                    <a:lnTo>
                      <a:pt x="29" y="5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9864200">
                <a:off x="3291120" y="4281480"/>
                <a:ext cx="42480" cy="1584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29" y="23"/>
                    </a:moveTo>
                    <a:lnTo>
                      <a:pt x="41" y="23"/>
                    </a:lnTo>
                    <a:lnTo>
                      <a:pt x="49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5"/>
                    </a:lnTo>
                    <a:lnTo>
                      <a:pt x="49" y="3"/>
                    </a:lnTo>
                    <a:lnTo>
                      <a:pt x="41" y="0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9" y="3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9" y="20"/>
                    </a:lnTo>
                    <a:lnTo>
                      <a:pt x="18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9864200">
                <a:off x="3246840" y="425160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0" y="20"/>
                    </a:moveTo>
                    <a:lnTo>
                      <a:pt x="46" y="0"/>
                    </a:lnTo>
                    <a:lnTo>
                      <a:pt x="46" y="3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9864200">
                <a:off x="3337560" y="43704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6" y="9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9864200">
                <a:off x="3348000" y="438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12"/>
                    </a:moveTo>
                    <a:lnTo>
                      <a:pt x="11" y="9"/>
                    </a:lnTo>
                    <a:lnTo>
                      <a:pt x="14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9864200">
                <a:off x="3333600" y="4357440"/>
                <a:ext cx="42480" cy="17280"/>
              </a:xfrm>
              <a:custGeom>
                <a:avLst/>
                <a:gdLst/>
                <a:ahLst/>
                <a:rect l="l" t="t" r="r" b="b"/>
                <a:pathLst>
                  <a:path w="61" h="25">
                    <a:moveTo>
                      <a:pt x="29" y="25"/>
                    </a:moveTo>
                    <a:lnTo>
                      <a:pt x="41" y="23"/>
                    </a:lnTo>
                    <a:lnTo>
                      <a:pt x="49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8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9" y="20"/>
                    </a:lnTo>
                    <a:lnTo>
                      <a:pt x="18" y="23"/>
                    </a:lnTo>
                    <a:lnTo>
                      <a:pt x="29" y="25"/>
                    </a:lnTo>
                    <a:lnTo>
                      <a:pt x="2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9864200">
                <a:off x="3304080" y="4304160"/>
                <a:ext cx="42480" cy="180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1" y="26"/>
                    </a:lnTo>
                    <a:lnTo>
                      <a:pt x="49" y="23"/>
                    </a:lnTo>
                    <a:lnTo>
                      <a:pt x="58" y="20"/>
                    </a:lnTo>
                    <a:lnTo>
                      <a:pt x="61" y="15"/>
                    </a:lnTo>
                    <a:lnTo>
                      <a:pt x="58" y="9"/>
                    </a:lnTo>
                    <a:lnTo>
                      <a:pt x="49" y="6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9" y="23"/>
                    </a:lnTo>
                    <a:lnTo>
                      <a:pt x="18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9864200">
                <a:off x="3315600" y="4336200"/>
                <a:ext cx="55440" cy="24120"/>
              </a:xfrm>
              <a:custGeom>
                <a:avLst/>
                <a:gdLst/>
                <a:ahLst/>
                <a:rect l="l" t="t" r="r" b="b"/>
                <a:pathLst>
                  <a:path w="80" h="35">
                    <a:moveTo>
                      <a:pt x="40" y="35"/>
                    </a:moveTo>
                    <a:lnTo>
                      <a:pt x="57" y="32"/>
                    </a:lnTo>
                    <a:lnTo>
                      <a:pt x="69" y="29"/>
                    </a:lnTo>
                    <a:lnTo>
                      <a:pt x="78" y="23"/>
                    </a:lnTo>
                    <a:lnTo>
                      <a:pt x="80" y="17"/>
                    </a:lnTo>
                    <a:lnTo>
                      <a:pt x="78" y="9"/>
                    </a:lnTo>
                    <a:lnTo>
                      <a:pt x="69" y="6"/>
                    </a:lnTo>
                    <a:lnTo>
                      <a:pt x="57" y="0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11" y="6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3" y="23"/>
                    </a:lnTo>
                    <a:lnTo>
                      <a:pt x="11" y="29"/>
                    </a:lnTo>
                    <a:lnTo>
                      <a:pt x="26" y="32"/>
                    </a:lnTo>
                    <a:lnTo>
                      <a:pt x="40" y="35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9864200">
                <a:off x="3307680" y="4318920"/>
                <a:ext cx="50040" cy="21960"/>
              </a:xfrm>
              <a:custGeom>
                <a:avLst/>
                <a:gdLst/>
                <a:ahLst/>
                <a:rect l="l" t="t" r="r" b="b"/>
                <a:pathLst>
                  <a:path w="72" h="32">
                    <a:moveTo>
                      <a:pt x="37" y="32"/>
                    </a:moveTo>
                    <a:lnTo>
                      <a:pt x="51" y="29"/>
                    </a:lnTo>
                    <a:lnTo>
                      <a:pt x="63" y="26"/>
                    </a:lnTo>
                    <a:lnTo>
                      <a:pt x="69" y="23"/>
                    </a:lnTo>
                    <a:lnTo>
                      <a:pt x="72" y="15"/>
                    </a:lnTo>
                    <a:lnTo>
                      <a:pt x="69" y="12"/>
                    </a:lnTo>
                    <a:lnTo>
                      <a:pt x="63" y="6"/>
                    </a:lnTo>
                    <a:lnTo>
                      <a:pt x="51" y="3"/>
                    </a:lnTo>
                    <a:lnTo>
                      <a:pt x="37" y="0"/>
                    </a:lnTo>
                    <a:lnTo>
                      <a:pt x="23" y="3"/>
                    </a:lnTo>
                    <a:lnTo>
                      <a:pt x="11" y="6"/>
                    </a:lnTo>
                    <a:lnTo>
                      <a:pt x="3" y="12"/>
                    </a:lnTo>
                    <a:lnTo>
                      <a:pt x="0" y="15"/>
                    </a:lnTo>
                    <a:lnTo>
                      <a:pt x="3" y="23"/>
                    </a:lnTo>
                    <a:lnTo>
                      <a:pt x="11" y="26"/>
                    </a:lnTo>
                    <a:lnTo>
                      <a:pt x="23" y="29"/>
                    </a:lnTo>
                    <a:lnTo>
                      <a:pt x="37" y="3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9864200">
                <a:off x="3315960" y="43372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3" y="5"/>
                    </a:moveTo>
                    <a:lnTo>
                      <a:pt x="9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9864200">
                <a:off x="3323520" y="435312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2"/>
                    </a:moveTo>
                    <a:lnTo>
                      <a:pt x="9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9864200">
                <a:off x="3308760" y="43200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6" y="5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9864200">
                <a:off x="3297240" y="4291920"/>
                <a:ext cx="42480" cy="180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1" y="26"/>
                    </a:lnTo>
                    <a:lnTo>
                      <a:pt x="49" y="23"/>
                    </a:lnTo>
                    <a:lnTo>
                      <a:pt x="58" y="17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49" y="6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9" y="23"/>
                    </a:lnTo>
                    <a:lnTo>
                      <a:pt x="18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3260160" y="4255920"/>
                <a:ext cx="89640" cy="493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 rot="19750800">
              <a:off x="3886200" y="2824200"/>
              <a:ext cx="1447920" cy="946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915560" y="3430080"/>
            <a:ext cx="6202080" cy="3029400"/>
            <a:chOff x="1915560" y="3430080"/>
            <a:chExt cx="6202080" cy="3029400"/>
          </a:xfrm>
        </p:grpSpPr>
        <p:grpSp>
          <p:nvGrpSpPr>
            <p:cNvPr id="546" name=""/>
            <p:cNvGrpSpPr/>
            <p:nvPr/>
          </p:nvGrpSpPr>
          <p:grpSpPr>
            <a:xfrm>
              <a:off x="5704200" y="3976920"/>
              <a:ext cx="2413440" cy="2482560"/>
              <a:chOff x="5704200" y="3976920"/>
              <a:chExt cx="2413440" cy="2482560"/>
            </a:xfrm>
          </p:grpSpPr>
          <p:sp>
            <p:nvSpPr>
              <p:cNvPr id="547" name=""/>
              <p:cNvSpPr/>
              <p:nvPr/>
            </p:nvSpPr>
            <p:spPr>
              <a:xfrm rot="19864200">
                <a:off x="6146280" y="4707000"/>
                <a:ext cx="1476360" cy="941400"/>
              </a:xfrm>
              <a:prstGeom prst="rect">
                <a:avLst/>
              </a:pr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9864200">
                <a:off x="6250680" y="5040000"/>
                <a:ext cx="63720" cy="941400"/>
              </a:xfrm>
              <a:prstGeom prst="rect">
                <a:avLst/>
              </a:prstGeom>
              <a:solidFill>
                <a:srgbClr val="a6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9864200">
                <a:off x="6258960" y="5033520"/>
                <a:ext cx="68400" cy="941400"/>
              </a:xfrm>
              <a:prstGeom prst="rect">
                <a:avLst/>
              </a:prstGeom>
              <a:solidFill>
                <a:srgbClr val="b29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9864200">
                <a:off x="6274440" y="5026680"/>
                <a:ext cx="63720" cy="941400"/>
              </a:xfrm>
              <a:prstGeom prst="rect">
                <a:avLst/>
              </a:prstGeom>
              <a:solidFill>
                <a:srgbClr val="bfa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9864200">
                <a:off x="6282720" y="5020560"/>
                <a:ext cx="68400" cy="941400"/>
              </a:xfrm>
              <a:prstGeom prst="rect">
                <a:avLst/>
              </a:prstGeom>
              <a:solidFill>
                <a:srgbClr val="cc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9864200">
                <a:off x="6298200" y="5013360"/>
                <a:ext cx="65160" cy="941400"/>
              </a:xfrm>
              <a:prstGeom prst="rect">
                <a:avLst/>
              </a:prstGeom>
              <a:solidFill>
                <a:srgbClr val="d9d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9864200">
                <a:off x="6306120" y="5007960"/>
                <a:ext cx="68040" cy="941400"/>
              </a:xfrm>
              <a:prstGeom prst="rect">
                <a:avLst/>
              </a:prstGeom>
              <a:solidFill>
                <a:srgbClr val="e5e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9864200">
                <a:off x="6323400" y="4999680"/>
                <a:ext cx="63360" cy="941400"/>
              </a:xfrm>
              <a:prstGeom prst="rect">
                <a:avLst/>
              </a:pr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9864200">
                <a:off x="7461360" y="4378320"/>
                <a:ext cx="54000" cy="936720"/>
              </a:xfrm>
              <a:prstGeom prst="rect">
                <a:avLst/>
              </a:prstGeom>
              <a:solidFill>
                <a:srgbClr val="a6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9864200">
                <a:off x="7448760" y="4385160"/>
                <a:ext cx="54000" cy="936720"/>
              </a:xfrm>
              <a:prstGeom prst="rect">
                <a:avLst/>
              </a:prstGeom>
              <a:solidFill>
                <a:srgbClr val="b29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9864200">
                <a:off x="7440480" y="4389480"/>
                <a:ext cx="55440" cy="936720"/>
              </a:xfrm>
              <a:prstGeom prst="rect">
                <a:avLst/>
              </a:prstGeom>
              <a:solidFill>
                <a:srgbClr val="bfa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9864200">
                <a:off x="7432200" y="4395240"/>
                <a:ext cx="50760" cy="936720"/>
              </a:xfrm>
              <a:prstGeom prst="rect">
                <a:avLst/>
              </a:prstGeom>
              <a:solidFill>
                <a:srgbClr val="cc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9864200">
                <a:off x="7421040" y="4400640"/>
                <a:ext cx="54000" cy="936720"/>
              </a:xfrm>
              <a:prstGeom prst="rect">
                <a:avLst/>
              </a:prstGeom>
              <a:solidFill>
                <a:srgbClr val="d9d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9864200">
                <a:off x="7412760" y="4404600"/>
                <a:ext cx="55440" cy="936720"/>
              </a:xfrm>
              <a:prstGeom prst="rect">
                <a:avLst/>
              </a:prstGeom>
              <a:solidFill>
                <a:srgbClr val="e5e1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9864200">
                <a:off x="7400160" y="4411800"/>
                <a:ext cx="55440" cy="936720"/>
              </a:xfrm>
              <a:prstGeom prst="rect">
                <a:avLst/>
              </a:pr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9864200">
                <a:off x="6139080" y="4712760"/>
                <a:ext cx="1474920" cy="9385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9864200">
                <a:off x="6119640" y="4972320"/>
                <a:ext cx="54000" cy="1206360"/>
              </a:xfrm>
              <a:custGeom>
                <a:avLst/>
                <a:gdLst/>
                <a:ahLst/>
                <a:rect l="l" t="t" r="r" b="b"/>
                <a:pathLst>
                  <a:path w="34" h="760">
                    <a:moveTo>
                      <a:pt x="20" y="0"/>
                    </a:moveTo>
                    <a:lnTo>
                      <a:pt x="34" y="0"/>
                    </a:lnTo>
                    <a:lnTo>
                      <a:pt x="34" y="760"/>
                    </a:lnTo>
                    <a:lnTo>
                      <a:pt x="17" y="760"/>
                    </a:lnTo>
                    <a:lnTo>
                      <a:pt x="0" y="76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9864200">
                <a:off x="6327000" y="5996520"/>
                <a:ext cx="123840" cy="2880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72" y="18"/>
                    </a:moveTo>
                    <a:lnTo>
                      <a:pt x="78" y="15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8" y="3"/>
                    </a:lnTo>
                    <a:lnTo>
                      <a:pt x="72" y="0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9" y="18"/>
                    </a:lnTo>
                    <a:lnTo>
                      <a:pt x="72" y="18"/>
                    </a:lnTo>
                    <a:lnTo>
                      <a:pt x="7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42440" y="5054760"/>
                <a:ext cx="584640" cy="105516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9864200">
                <a:off x="5787720" y="4979880"/>
                <a:ext cx="92160" cy="5868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29" y="37"/>
                    </a:moveTo>
                    <a:lnTo>
                      <a:pt x="40" y="34"/>
                    </a:lnTo>
                    <a:lnTo>
                      <a:pt x="49" y="31"/>
                    </a:lnTo>
                    <a:lnTo>
                      <a:pt x="55" y="26"/>
                    </a:lnTo>
                    <a:lnTo>
                      <a:pt x="58" y="20"/>
                    </a:lnTo>
                    <a:lnTo>
                      <a:pt x="55" y="11"/>
                    </a:lnTo>
                    <a:lnTo>
                      <a:pt x="49" y="5"/>
                    </a:lnTo>
                    <a:lnTo>
                      <a:pt x="40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5"/>
                    </a:lnTo>
                    <a:lnTo>
                      <a:pt x="3" y="11"/>
                    </a:lnTo>
                    <a:lnTo>
                      <a:pt x="0" y="20"/>
                    </a:lnTo>
                    <a:lnTo>
                      <a:pt x="3" y="26"/>
                    </a:lnTo>
                    <a:lnTo>
                      <a:pt x="9" y="31"/>
                    </a:lnTo>
                    <a:lnTo>
                      <a:pt x="17" y="34"/>
                    </a:lnTo>
                    <a:lnTo>
                      <a:pt x="29" y="37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9864200">
                <a:off x="5757480" y="5001120"/>
                <a:ext cx="237960" cy="173160"/>
              </a:xfrm>
              <a:custGeom>
                <a:avLst/>
                <a:gdLst/>
                <a:ahLst/>
                <a:rect l="l" t="t" r="r" b="b"/>
                <a:pathLst>
                  <a:path w="150" h="109">
                    <a:moveTo>
                      <a:pt x="75" y="109"/>
                    </a:moveTo>
                    <a:lnTo>
                      <a:pt x="147" y="66"/>
                    </a:lnTo>
                    <a:lnTo>
                      <a:pt x="150" y="14"/>
                    </a:lnTo>
                    <a:lnTo>
                      <a:pt x="75" y="0"/>
                    </a:lnTo>
                    <a:lnTo>
                      <a:pt x="0" y="14"/>
                    </a:lnTo>
                    <a:lnTo>
                      <a:pt x="3" y="66"/>
                    </a:lnTo>
                    <a:lnTo>
                      <a:pt x="75" y="109"/>
                    </a:lnTo>
                    <a:lnTo>
                      <a:pt x="7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9864200">
                <a:off x="5799960" y="50644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23"/>
                    </a:moveTo>
                    <a:lnTo>
                      <a:pt x="37" y="0"/>
                    </a:lnTo>
                    <a:lnTo>
                      <a:pt x="31" y="0"/>
                    </a:lnTo>
                    <a:lnTo>
                      <a:pt x="20" y="1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9864200">
                <a:off x="5839200" y="504252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1" y="23"/>
                    </a:moveTo>
                    <a:lnTo>
                      <a:pt x="38" y="0"/>
                    </a:lnTo>
                    <a:lnTo>
                      <a:pt x="32" y="0"/>
                    </a:lnTo>
                    <a:lnTo>
                      <a:pt x="21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1" y="23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9864200">
                <a:off x="5883480" y="50180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0" y="23"/>
                    </a:moveTo>
                    <a:lnTo>
                      <a:pt x="38" y="0"/>
                    </a:lnTo>
                    <a:lnTo>
                      <a:pt x="32" y="0"/>
                    </a:lnTo>
                    <a:lnTo>
                      <a:pt x="20" y="14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9864200">
                <a:off x="5924520" y="4998960"/>
                <a:ext cx="4572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29" y="6"/>
                    </a:moveTo>
                    <a:lnTo>
                      <a:pt x="20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9" y="14"/>
                    </a:lnTo>
                    <a:lnTo>
                      <a:pt x="29" y="6"/>
                    </a:lnTo>
                    <a:lnTo>
                      <a:pt x="2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5780880" y="5041080"/>
                <a:ext cx="200880" cy="10908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9864200">
                <a:off x="5755680" y="508896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23"/>
                    </a:moveTo>
                    <a:lnTo>
                      <a:pt x="37" y="0"/>
                    </a:lnTo>
                    <a:lnTo>
                      <a:pt x="35" y="0"/>
                    </a:lnTo>
                    <a:lnTo>
                      <a:pt x="20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9864200">
                <a:off x="5761080" y="4931280"/>
                <a:ext cx="92160" cy="60480"/>
              </a:xfrm>
              <a:custGeom>
                <a:avLst/>
                <a:gdLst/>
                <a:ahLst/>
                <a:rect l="l" t="t" r="r" b="b"/>
                <a:pathLst>
                  <a:path w="58" h="38">
                    <a:moveTo>
                      <a:pt x="29" y="38"/>
                    </a:moveTo>
                    <a:lnTo>
                      <a:pt x="40" y="38"/>
                    </a:lnTo>
                    <a:lnTo>
                      <a:pt x="49" y="35"/>
                    </a:lnTo>
                    <a:lnTo>
                      <a:pt x="55" y="29"/>
                    </a:lnTo>
                    <a:lnTo>
                      <a:pt x="58" y="20"/>
                    </a:lnTo>
                    <a:lnTo>
                      <a:pt x="55" y="15"/>
                    </a:lnTo>
                    <a:lnTo>
                      <a:pt x="49" y="9"/>
                    </a:lnTo>
                    <a:lnTo>
                      <a:pt x="40" y="3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9" y="9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3" y="29"/>
                    </a:lnTo>
                    <a:lnTo>
                      <a:pt x="9" y="35"/>
                    </a:lnTo>
                    <a:lnTo>
                      <a:pt x="17" y="38"/>
                    </a:lnTo>
                    <a:lnTo>
                      <a:pt x="29" y="38"/>
                    </a:lnTo>
                    <a:lnTo>
                      <a:pt x="2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9864200">
                <a:off x="5752440" y="4917240"/>
                <a:ext cx="77760" cy="223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23" y="14"/>
                    </a:moveTo>
                    <a:lnTo>
                      <a:pt x="40" y="14"/>
                    </a:lnTo>
                    <a:lnTo>
                      <a:pt x="46" y="11"/>
                    </a:lnTo>
                    <a:lnTo>
                      <a:pt x="49" y="8"/>
                    </a:lnTo>
                    <a:lnTo>
                      <a:pt x="40" y="3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6" y="3"/>
                    </a:lnTo>
                    <a:lnTo>
                      <a:pt x="0" y="8"/>
                    </a:lnTo>
                    <a:lnTo>
                      <a:pt x="6" y="14"/>
                    </a:lnTo>
                    <a:lnTo>
                      <a:pt x="23" y="14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9864200">
                <a:off x="5744880" y="4905000"/>
                <a:ext cx="77760" cy="1908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23" y="12"/>
                    </a:moveTo>
                    <a:lnTo>
                      <a:pt x="40" y="9"/>
                    </a:lnTo>
                    <a:lnTo>
                      <a:pt x="46" y="9"/>
                    </a:lnTo>
                    <a:lnTo>
                      <a:pt x="49" y="3"/>
                    </a:lnTo>
                    <a:lnTo>
                      <a:pt x="40" y="0"/>
                    </a:lnTo>
                    <a:lnTo>
                      <a:pt x="23" y="0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9"/>
                    </a:lnTo>
                    <a:lnTo>
                      <a:pt x="23" y="12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9864200">
                <a:off x="5735880" y="48852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23" y="17"/>
                    </a:moveTo>
                    <a:lnTo>
                      <a:pt x="40" y="14"/>
                    </a:lnTo>
                    <a:lnTo>
                      <a:pt x="49" y="8"/>
                    </a:lnTo>
                    <a:lnTo>
                      <a:pt x="46" y="5"/>
                    </a:lnTo>
                    <a:lnTo>
                      <a:pt x="40" y="2"/>
                    </a:lnTo>
                    <a:lnTo>
                      <a:pt x="23" y="0"/>
                    </a:lnTo>
                    <a:lnTo>
                      <a:pt x="6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6" y="14"/>
                    </a:lnTo>
                    <a:lnTo>
                      <a:pt x="14" y="14"/>
                    </a:lnTo>
                    <a:lnTo>
                      <a:pt x="23" y="17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9864200">
                <a:off x="5706360" y="4869360"/>
                <a:ext cx="114480" cy="2196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35" y="14"/>
                    </a:moveTo>
                    <a:lnTo>
                      <a:pt x="49" y="14"/>
                    </a:lnTo>
                    <a:lnTo>
                      <a:pt x="61" y="14"/>
                    </a:lnTo>
                    <a:lnTo>
                      <a:pt x="69" y="12"/>
                    </a:lnTo>
                    <a:lnTo>
                      <a:pt x="72" y="9"/>
                    </a:lnTo>
                    <a:lnTo>
                      <a:pt x="61" y="3"/>
                    </a:lnTo>
                    <a:lnTo>
                      <a:pt x="49" y="0"/>
                    </a:lnTo>
                    <a:lnTo>
                      <a:pt x="35" y="0"/>
                    </a:lnTo>
                    <a:lnTo>
                      <a:pt x="23" y="0"/>
                    </a:lnTo>
                    <a:lnTo>
                      <a:pt x="12" y="3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12" y="14"/>
                    </a:lnTo>
                    <a:lnTo>
                      <a:pt x="23" y="14"/>
                    </a:lnTo>
                    <a:lnTo>
                      <a:pt x="35" y="14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9864200">
                <a:off x="5721480" y="4860360"/>
                <a:ext cx="77760" cy="237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23" y="15"/>
                    </a:moveTo>
                    <a:lnTo>
                      <a:pt x="40" y="12"/>
                    </a:lnTo>
                    <a:lnTo>
                      <a:pt x="46" y="9"/>
                    </a:lnTo>
                    <a:lnTo>
                      <a:pt x="49" y="6"/>
                    </a:lnTo>
                    <a:lnTo>
                      <a:pt x="40" y="3"/>
                    </a:lnTo>
                    <a:lnTo>
                      <a:pt x="23" y="0"/>
                    </a:lnTo>
                    <a:lnTo>
                      <a:pt x="6" y="3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23" y="15"/>
                    </a:lnTo>
                    <a:lnTo>
                      <a:pt x="2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9864200">
                <a:off x="5731920" y="48376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9" y="17"/>
                    </a:moveTo>
                    <a:lnTo>
                      <a:pt x="15" y="17"/>
                    </a:lnTo>
                    <a:lnTo>
                      <a:pt x="18" y="12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12"/>
                    </a:lnTo>
                    <a:lnTo>
                      <a:pt x="3" y="17"/>
                    </a:lnTo>
                    <a:lnTo>
                      <a:pt x="9" y="17"/>
                    </a:lnTo>
                    <a:lnTo>
                      <a:pt x="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9864200">
                <a:off x="5726520" y="4783680"/>
                <a:ext cx="36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9864200">
                <a:off x="5726160" y="4782600"/>
                <a:ext cx="468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9864200">
                <a:off x="5718960" y="4825440"/>
                <a:ext cx="31680" cy="504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9" y="3"/>
                    </a:moveTo>
                    <a:lnTo>
                      <a:pt x="20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9864200">
                <a:off x="5714280" y="481428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9" y="6"/>
                    </a:moveTo>
                    <a:lnTo>
                      <a:pt x="20" y="3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9864200">
                <a:off x="5708520" y="480636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9" y="3"/>
                    </a:moveTo>
                    <a:lnTo>
                      <a:pt x="18" y="3"/>
                    </a:lnTo>
                    <a:lnTo>
                      <a:pt x="2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9864200">
                <a:off x="5703840" y="479772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9" y="3"/>
                    </a:moveTo>
                    <a:lnTo>
                      <a:pt x="20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9864200">
                <a:off x="5703840" y="478944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6" y="3"/>
                    </a:moveTo>
                    <a:lnTo>
                      <a:pt x="12" y="3"/>
                    </a:lnTo>
                    <a:lnTo>
                      <a:pt x="15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9864200">
                <a:off x="5779080" y="496908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3" y="6"/>
                    </a:moveTo>
                    <a:lnTo>
                      <a:pt x="8" y="6"/>
                    </a:lnTo>
                    <a:lnTo>
                      <a:pt x="11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9864200">
                <a:off x="5801400" y="50050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3" y="12"/>
                    </a:moveTo>
                    <a:lnTo>
                      <a:pt x="8" y="9"/>
                    </a:lnTo>
                    <a:lnTo>
                      <a:pt x="11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3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9864200">
                <a:off x="5741640" y="5043960"/>
                <a:ext cx="95400" cy="2700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0" y="14"/>
                    </a:moveTo>
                    <a:lnTo>
                      <a:pt x="60" y="0"/>
                    </a:lnTo>
                    <a:lnTo>
                      <a:pt x="11" y="17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9864200">
                <a:off x="5725080" y="4892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9864200">
                <a:off x="5725800" y="487224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3" y="3"/>
                    </a:lnTo>
                    <a:lnTo>
                      <a:pt x="14" y="0"/>
                    </a:lnTo>
                    <a:lnTo>
                      <a:pt x="11" y="3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9864200">
                <a:off x="5739480" y="48438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9864200">
                <a:off x="6026760" y="5112720"/>
                <a:ext cx="247680" cy="94140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9864200">
                <a:off x="6026760" y="5112720"/>
                <a:ext cx="247680" cy="94140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9864200">
                <a:off x="6026760" y="5112720"/>
                <a:ext cx="247680" cy="94140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9864200">
                <a:off x="6031800" y="5112360"/>
                <a:ext cx="237960" cy="941400"/>
              </a:xfrm>
              <a:custGeom>
                <a:avLst/>
                <a:gdLst/>
                <a:ahLst/>
                <a:rect l="l" t="t" r="r" b="b"/>
                <a:pathLst>
                  <a:path w="150" h="593">
                    <a:moveTo>
                      <a:pt x="12" y="0"/>
                    </a:moveTo>
                    <a:lnTo>
                      <a:pt x="135" y="0"/>
                    </a:lnTo>
                    <a:lnTo>
                      <a:pt x="144" y="3"/>
                    </a:lnTo>
                    <a:lnTo>
                      <a:pt x="150" y="9"/>
                    </a:lnTo>
                    <a:lnTo>
                      <a:pt x="150" y="585"/>
                    </a:lnTo>
                    <a:lnTo>
                      <a:pt x="144" y="590"/>
                    </a:lnTo>
                    <a:lnTo>
                      <a:pt x="135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fb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9864200">
                <a:off x="6036480" y="5113800"/>
                <a:ext cx="223920" cy="941400"/>
              </a:xfrm>
              <a:custGeom>
                <a:avLst/>
                <a:gdLst/>
                <a:ahLst/>
                <a:rect l="l" t="t" r="r" b="b"/>
                <a:pathLst>
                  <a:path w="141" h="593">
                    <a:moveTo>
                      <a:pt x="14" y="0"/>
                    </a:moveTo>
                    <a:lnTo>
                      <a:pt x="127" y="0"/>
                    </a:lnTo>
                    <a:lnTo>
                      <a:pt x="138" y="3"/>
                    </a:lnTo>
                    <a:lnTo>
                      <a:pt x="141" y="9"/>
                    </a:lnTo>
                    <a:lnTo>
                      <a:pt x="141" y="585"/>
                    </a:lnTo>
                    <a:lnTo>
                      <a:pt x="138" y="590"/>
                    </a:lnTo>
                    <a:lnTo>
                      <a:pt x="127" y="593"/>
                    </a:lnTo>
                    <a:lnTo>
                      <a:pt x="14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be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9864200">
                <a:off x="6041520" y="5116320"/>
                <a:ext cx="204840" cy="941400"/>
              </a:xfrm>
              <a:custGeom>
                <a:avLst/>
                <a:gdLst/>
                <a:ahLst/>
                <a:rect l="l" t="t" r="r" b="b"/>
                <a:pathLst>
                  <a:path w="129" h="593">
                    <a:moveTo>
                      <a:pt x="11" y="0"/>
                    </a:moveTo>
                    <a:lnTo>
                      <a:pt x="121" y="0"/>
                    </a:lnTo>
                    <a:lnTo>
                      <a:pt x="126" y="3"/>
                    </a:lnTo>
                    <a:lnTo>
                      <a:pt x="129" y="9"/>
                    </a:lnTo>
                    <a:lnTo>
                      <a:pt x="129" y="585"/>
                    </a:lnTo>
                    <a:lnTo>
                      <a:pt x="126" y="590"/>
                    </a:lnTo>
                    <a:lnTo>
                      <a:pt x="121" y="593"/>
                    </a:lnTo>
                    <a:lnTo>
                      <a:pt x="11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6c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9864200">
                <a:off x="6047280" y="5116680"/>
                <a:ext cx="191880" cy="941400"/>
              </a:xfrm>
              <a:custGeom>
                <a:avLst/>
                <a:gdLst/>
                <a:ahLst/>
                <a:rect l="l" t="t" r="r" b="b"/>
                <a:pathLst>
                  <a:path w="121" h="593">
                    <a:moveTo>
                      <a:pt x="11" y="0"/>
                    </a:moveTo>
                    <a:lnTo>
                      <a:pt x="112" y="0"/>
                    </a:lnTo>
                    <a:lnTo>
                      <a:pt x="118" y="3"/>
                    </a:lnTo>
                    <a:lnTo>
                      <a:pt x="121" y="9"/>
                    </a:lnTo>
                    <a:lnTo>
                      <a:pt x="121" y="585"/>
                    </a:lnTo>
                    <a:lnTo>
                      <a:pt x="118" y="590"/>
                    </a:lnTo>
                    <a:lnTo>
                      <a:pt x="112" y="593"/>
                    </a:lnTo>
                    <a:lnTo>
                      <a:pt x="11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a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9864200">
                <a:off x="6051600" y="5117040"/>
                <a:ext cx="182520" cy="941400"/>
              </a:xfrm>
              <a:custGeom>
                <a:avLst/>
                <a:gdLst/>
                <a:ahLst/>
                <a:rect l="l" t="t" r="r" b="b"/>
                <a:pathLst>
                  <a:path w="115" h="593">
                    <a:moveTo>
                      <a:pt x="11" y="0"/>
                    </a:moveTo>
                    <a:lnTo>
                      <a:pt x="103" y="0"/>
                    </a:lnTo>
                    <a:lnTo>
                      <a:pt x="112" y="3"/>
                    </a:lnTo>
                    <a:lnTo>
                      <a:pt x="115" y="9"/>
                    </a:lnTo>
                    <a:lnTo>
                      <a:pt x="115" y="585"/>
                    </a:lnTo>
                    <a:lnTo>
                      <a:pt x="112" y="590"/>
                    </a:lnTo>
                    <a:lnTo>
                      <a:pt x="103" y="593"/>
                    </a:lnTo>
                    <a:lnTo>
                      <a:pt x="11" y="593"/>
                    </a:lnTo>
                    <a:lnTo>
                      <a:pt x="2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c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9864200">
                <a:off x="6055560" y="5118120"/>
                <a:ext cx="169920" cy="941400"/>
              </a:xfrm>
              <a:custGeom>
                <a:avLst/>
                <a:gdLst/>
                <a:ahLst/>
                <a:rect l="l" t="t" r="r" b="b"/>
                <a:pathLst>
                  <a:path w="107" h="593">
                    <a:moveTo>
                      <a:pt x="12" y="0"/>
                    </a:moveTo>
                    <a:lnTo>
                      <a:pt x="95" y="0"/>
                    </a:lnTo>
                    <a:lnTo>
                      <a:pt x="104" y="3"/>
                    </a:lnTo>
                    <a:lnTo>
                      <a:pt x="107" y="9"/>
                    </a:lnTo>
                    <a:lnTo>
                      <a:pt x="107" y="585"/>
                    </a:lnTo>
                    <a:lnTo>
                      <a:pt x="104" y="590"/>
                    </a:lnTo>
                    <a:lnTo>
                      <a:pt x="95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1d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9864200">
                <a:off x="6060240" y="5119560"/>
                <a:ext cx="155520" cy="941400"/>
              </a:xfrm>
              <a:custGeom>
                <a:avLst/>
                <a:gdLst/>
                <a:ahLst/>
                <a:rect l="l" t="t" r="r" b="b"/>
                <a:pathLst>
                  <a:path w="98" h="593">
                    <a:moveTo>
                      <a:pt x="12" y="0"/>
                    </a:moveTo>
                    <a:lnTo>
                      <a:pt x="87" y="0"/>
                    </a:lnTo>
                    <a:lnTo>
                      <a:pt x="95" y="3"/>
                    </a:lnTo>
                    <a:lnTo>
                      <a:pt x="98" y="9"/>
                    </a:lnTo>
                    <a:lnTo>
                      <a:pt x="98" y="585"/>
                    </a:lnTo>
                    <a:lnTo>
                      <a:pt x="95" y="590"/>
                    </a:lnTo>
                    <a:lnTo>
                      <a:pt x="87" y="593"/>
                    </a:lnTo>
                    <a:lnTo>
                      <a:pt x="12" y="593"/>
                    </a:lnTo>
                    <a:lnTo>
                      <a:pt x="6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6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4d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9864200">
                <a:off x="6065280" y="5120640"/>
                <a:ext cx="141480" cy="941400"/>
              </a:xfrm>
              <a:custGeom>
                <a:avLst/>
                <a:gdLst/>
                <a:ahLst/>
                <a:rect l="l" t="t" r="r" b="b"/>
                <a:pathLst>
                  <a:path w="89" h="593">
                    <a:moveTo>
                      <a:pt x="12" y="0"/>
                    </a:moveTo>
                    <a:lnTo>
                      <a:pt x="78" y="0"/>
                    </a:lnTo>
                    <a:lnTo>
                      <a:pt x="87" y="3"/>
                    </a:lnTo>
                    <a:lnTo>
                      <a:pt x="89" y="9"/>
                    </a:lnTo>
                    <a:lnTo>
                      <a:pt x="89" y="585"/>
                    </a:lnTo>
                    <a:lnTo>
                      <a:pt x="87" y="590"/>
                    </a:lnTo>
                    <a:lnTo>
                      <a:pt x="78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8e1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9864200">
                <a:off x="6070320" y="5121360"/>
                <a:ext cx="128880" cy="941400"/>
              </a:xfrm>
              <a:custGeom>
                <a:avLst/>
                <a:gdLst/>
                <a:ahLst/>
                <a:rect l="l" t="t" r="r" b="b"/>
                <a:pathLst>
                  <a:path w="81" h="593">
                    <a:moveTo>
                      <a:pt x="12" y="0"/>
                    </a:moveTo>
                    <a:lnTo>
                      <a:pt x="69" y="0"/>
                    </a:lnTo>
                    <a:lnTo>
                      <a:pt x="78" y="3"/>
                    </a:lnTo>
                    <a:lnTo>
                      <a:pt x="81" y="9"/>
                    </a:lnTo>
                    <a:lnTo>
                      <a:pt x="81" y="585"/>
                    </a:lnTo>
                    <a:lnTo>
                      <a:pt x="78" y="590"/>
                    </a:lnTo>
                    <a:lnTo>
                      <a:pt x="69" y="593"/>
                    </a:lnTo>
                    <a:lnTo>
                      <a:pt x="12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be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9864200">
                <a:off x="6075360" y="5122800"/>
                <a:ext cx="114120" cy="941400"/>
              </a:xfrm>
              <a:custGeom>
                <a:avLst/>
                <a:gdLst/>
                <a:ahLst/>
                <a:rect l="l" t="t" r="r" b="b"/>
                <a:pathLst>
                  <a:path w="72" h="593">
                    <a:moveTo>
                      <a:pt x="11" y="0"/>
                    </a:moveTo>
                    <a:lnTo>
                      <a:pt x="63" y="0"/>
                    </a:lnTo>
                    <a:lnTo>
                      <a:pt x="69" y="3"/>
                    </a:lnTo>
                    <a:lnTo>
                      <a:pt x="72" y="9"/>
                    </a:lnTo>
                    <a:lnTo>
                      <a:pt x="72" y="585"/>
                    </a:lnTo>
                    <a:lnTo>
                      <a:pt x="69" y="590"/>
                    </a:lnTo>
                    <a:lnTo>
                      <a:pt x="63" y="593"/>
                    </a:lnTo>
                    <a:lnTo>
                      <a:pt x="11" y="593"/>
                    </a:lnTo>
                    <a:lnTo>
                      <a:pt x="3" y="590"/>
                    </a:lnTo>
                    <a:lnTo>
                      <a:pt x="0" y="58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c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9864200">
                <a:off x="6080760" y="5123520"/>
                <a:ext cx="100080" cy="941400"/>
              </a:xfrm>
              <a:custGeom>
                <a:avLst/>
                <a:gdLst/>
                <a:ahLst/>
                <a:rect l="l" t="t" r="r" b="b"/>
                <a:pathLst>
                  <a:path w="63" h="593">
                    <a:moveTo>
                      <a:pt x="52" y="593"/>
                    </a:moveTo>
                    <a:lnTo>
                      <a:pt x="60" y="590"/>
                    </a:lnTo>
                    <a:lnTo>
                      <a:pt x="63" y="585"/>
                    </a:lnTo>
                    <a:lnTo>
                      <a:pt x="63" y="9"/>
                    </a:lnTo>
                    <a:lnTo>
                      <a:pt x="60" y="3"/>
                    </a:lnTo>
                    <a:lnTo>
                      <a:pt x="52" y="0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3" y="590"/>
                    </a:lnTo>
                    <a:lnTo>
                      <a:pt x="8" y="593"/>
                    </a:lnTo>
                    <a:lnTo>
                      <a:pt x="52" y="593"/>
                    </a:lnTo>
                    <a:lnTo>
                      <a:pt x="52" y="593"/>
                    </a:lnTo>
                    <a:close/>
                  </a:path>
                </a:pathLst>
              </a:cu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9864200">
                <a:off x="6026760" y="5112720"/>
                <a:ext cx="247680" cy="941400"/>
              </a:xfrm>
              <a:custGeom>
                <a:avLst/>
                <a:gdLst/>
                <a:ahLst/>
                <a:rect l="l" t="t" r="r" b="b"/>
                <a:pathLst>
                  <a:path w="156" h="593">
                    <a:moveTo>
                      <a:pt x="144" y="593"/>
                    </a:moveTo>
                    <a:lnTo>
                      <a:pt x="153" y="590"/>
                    </a:lnTo>
                    <a:lnTo>
                      <a:pt x="156" y="585"/>
                    </a:lnTo>
                    <a:lnTo>
                      <a:pt x="156" y="9"/>
                    </a:lnTo>
                    <a:lnTo>
                      <a:pt x="153" y="3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585"/>
                    </a:lnTo>
                    <a:lnTo>
                      <a:pt x="6" y="590"/>
                    </a:lnTo>
                    <a:lnTo>
                      <a:pt x="12" y="593"/>
                    </a:lnTo>
                    <a:lnTo>
                      <a:pt x="144" y="593"/>
                    </a:lnTo>
                    <a:lnTo>
                      <a:pt x="144" y="59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9864200">
                <a:off x="6319440" y="6026040"/>
                <a:ext cx="237960" cy="155520"/>
              </a:xfrm>
              <a:custGeom>
                <a:avLst/>
                <a:gdLst/>
                <a:ahLst/>
                <a:rect l="l" t="t" r="r" b="b"/>
                <a:pathLst>
                  <a:path w="150" h="98">
                    <a:moveTo>
                      <a:pt x="75" y="0"/>
                    </a:moveTo>
                    <a:lnTo>
                      <a:pt x="147" y="32"/>
                    </a:lnTo>
                    <a:lnTo>
                      <a:pt x="150" y="84"/>
                    </a:lnTo>
                    <a:lnTo>
                      <a:pt x="75" y="98"/>
                    </a:lnTo>
                    <a:lnTo>
                      <a:pt x="0" y="84"/>
                    </a:lnTo>
                    <a:lnTo>
                      <a:pt x="3" y="32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9864200">
                <a:off x="6381360" y="611604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0"/>
                    </a:moveTo>
                    <a:lnTo>
                      <a:pt x="37" y="23"/>
                    </a:lnTo>
                    <a:lnTo>
                      <a:pt x="31" y="23"/>
                    </a:lnTo>
                    <a:lnTo>
                      <a:pt x="20" y="12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9864200">
                <a:off x="6420600" y="60940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1" y="0"/>
                    </a:moveTo>
                    <a:lnTo>
                      <a:pt x="38" y="23"/>
                    </a:lnTo>
                    <a:lnTo>
                      <a:pt x="32" y="23"/>
                    </a:lnTo>
                    <a:lnTo>
                      <a:pt x="21" y="1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9864200">
                <a:off x="6464880" y="606960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0" y="0"/>
                    </a:moveTo>
                    <a:lnTo>
                      <a:pt x="38" y="23"/>
                    </a:lnTo>
                    <a:lnTo>
                      <a:pt x="32" y="23"/>
                    </a:lnTo>
                    <a:lnTo>
                      <a:pt x="20" y="12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9864200">
                <a:off x="6505920" y="6050520"/>
                <a:ext cx="4572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29" y="20"/>
                    </a:moveTo>
                    <a:lnTo>
                      <a:pt x="20" y="1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9" y="12"/>
                    </a:lnTo>
                    <a:lnTo>
                      <a:pt x="29" y="20"/>
                    </a:lnTo>
                    <a:lnTo>
                      <a:pt x="29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6336000" y="6045840"/>
                <a:ext cx="200880" cy="10908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6329880" y="6034680"/>
                <a:ext cx="200880" cy="10908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9864200">
                <a:off x="6337080" y="61408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0"/>
                    </a:moveTo>
                    <a:lnTo>
                      <a:pt x="37" y="23"/>
                    </a:lnTo>
                    <a:lnTo>
                      <a:pt x="35" y="23"/>
                    </a:lnTo>
                    <a:lnTo>
                      <a:pt x="20" y="1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9864200">
                <a:off x="6609960" y="64252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9" y="0"/>
                    </a:moveTo>
                    <a:lnTo>
                      <a:pt x="15" y="3"/>
                    </a:lnTo>
                    <a:lnTo>
                      <a:pt x="18" y="9"/>
                    </a:lnTo>
                    <a:lnTo>
                      <a:pt x="15" y="15"/>
                    </a:lnTo>
                    <a:lnTo>
                      <a:pt x="9" y="18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9864200">
                <a:off x="6549120" y="634248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57"/>
                    </a:moveTo>
                    <a:lnTo>
                      <a:pt x="40" y="55"/>
                    </a:lnTo>
                    <a:lnTo>
                      <a:pt x="49" y="49"/>
                    </a:lnTo>
                    <a:lnTo>
                      <a:pt x="55" y="40"/>
                    </a:lnTo>
                    <a:lnTo>
                      <a:pt x="58" y="29"/>
                    </a:lnTo>
                    <a:lnTo>
                      <a:pt x="55" y="17"/>
                    </a:lnTo>
                    <a:lnTo>
                      <a:pt x="49" y="8"/>
                    </a:lnTo>
                    <a:lnTo>
                      <a:pt x="40" y="3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9" y="8"/>
                    </a:lnTo>
                    <a:lnTo>
                      <a:pt x="3" y="17"/>
                    </a:lnTo>
                    <a:lnTo>
                      <a:pt x="0" y="29"/>
                    </a:lnTo>
                    <a:lnTo>
                      <a:pt x="3" y="40"/>
                    </a:lnTo>
                    <a:lnTo>
                      <a:pt x="9" y="49"/>
                    </a:lnTo>
                    <a:lnTo>
                      <a:pt x="17" y="55"/>
                    </a:lnTo>
                    <a:lnTo>
                      <a:pt x="29" y="5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9864200">
                <a:off x="6427440" y="6148800"/>
                <a:ext cx="96840" cy="3672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29" y="23"/>
                    </a:moveTo>
                    <a:lnTo>
                      <a:pt x="43" y="23"/>
                    </a:lnTo>
                    <a:lnTo>
                      <a:pt x="52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5"/>
                    </a:lnTo>
                    <a:lnTo>
                      <a:pt x="52" y="3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3" y="5"/>
                    </a:lnTo>
                    <a:lnTo>
                      <a:pt x="0" y="11"/>
                    </a:lnTo>
                    <a:lnTo>
                      <a:pt x="3" y="17"/>
                    </a:lnTo>
                    <a:lnTo>
                      <a:pt x="9" y="20"/>
                    </a:lnTo>
                    <a:lnTo>
                      <a:pt x="17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9864200">
                <a:off x="6325200" y="607608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23"/>
                    </a:moveTo>
                    <a:lnTo>
                      <a:pt x="46" y="0"/>
                    </a:lnTo>
                    <a:lnTo>
                      <a:pt x="46" y="6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9864200">
                <a:off x="6536160" y="634932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6"/>
                    </a:moveTo>
                    <a:lnTo>
                      <a:pt x="8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9864200">
                <a:off x="6557400" y="637272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5" y="12"/>
                    </a:moveTo>
                    <a:lnTo>
                      <a:pt x="11" y="9"/>
                    </a:lnTo>
                    <a:lnTo>
                      <a:pt x="14" y="6"/>
                    </a:lnTo>
                    <a:lnTo>
                      <a:pt x="11" y="3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9864200">
                <a:off x="6522120" y="6316560"/>
                <a:ext cx="96840" cy="414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3" y="23"/>
                    </a:lnTo>
                    <a:lnTo>
                      <a:pt x="52" y="23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8"/>
                    </a:lnTo>
                    <a:lnTo>
                      <a:pt x="52" y="3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3" y="17"/>
                    </a:lnTo>
                    <a:lnTo>
                      <a:pt x="9" y="23"/>
                    </a:lnTo>
                    <a:lnTo>
                      <a:pt x="17" y="23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9864200">
                <a:off x="6457320" y="6199560"/>
                <a:ext cx="96840" cy="414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3" y="26"/>
                    </a:lnTo>
                    <a:lnTo>
                      <a:pt x="52" y="23"/>
                    </a:lnTo>
                    <a:lnTo>
                      <a:pt x="58" y="20"/>
                    </a:lnTo>
                    <a:lnTo>
                      <a:pt x="61" y="15"/>
                    </a:lnTo>
                    <a:lnTo>
                      <a:pt x="58" y="9"/>
                    </a:lnTo>
                    <a:lnTo>
                      <a:pt x="52" y="6"/>
                    </a:lnTo>
                    <a:lnTo>
                      <a:pt x="43" y="3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9" y="6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9" y="23"/>
                    </a:lnTo>
                    <a:lnTo>
                      <a:pt x="17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9864200">
                <a:off x="6485040" y="6271920"/>
                <a:ext cx="123840" cy="50760"/>
              </a:xfrm>
              <a:custGeom>
                <a:avLst/>
                <a:gdLst/>
                <a:ahLst/>
                <a:rect l="l" t="t" r="r" b="b"/>
                <a:pathLst>
                  <a:path w="78" h="32">
                    <a:moveTo>
                      <a:pt x="38" y="32"/>
                    </a:moveTo>
                    <a:lnTo>
                      <a:pt x="55" y="32"/>
                    </a:lnTo>
                    <a:lnTo>
                      <a:pt x="67" y="26"/>
                    </a:lnTo>
                    <a:lnTo>
                      <a:pt x="75" y="23"/>
                    </a:lnTo>
                    <a:lnTo>
                      <a:pt x="78" y="17"/>
                    </a:lnTo>
                    <a:lnTo>
                      <a:pt x="75" y="9"/>
                    </a:lnTo>
                    <a:lnTo>
                      <a:pt x="67" y="6"/>
                    </a:lnTo>
                    <a:lnTo>
                      <a:pt x="55" y="0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2" y="6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3" y="23"/>
                    </a:lnTo>
                    <a:lnTo>
                      <a:pt x="12" y="26"/>
                    </a:lnTo>
                    <a:lnTo>
                      <a:pt x="23" y="32"/>
                    </a:lnTo>
                    <a:lnTo>
                      <a:pt x="38" y="32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9864200">
                <a:off x="6463080" y="623304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75" h="32">
                    <a:moveTo>
                      <a:pt x="38" y="32"/>
                    </a:moveTo>
                    <a:lnTo>
                      <a:pt x="52" y="29"/>
                    </a:lnTo>
                    <a:lnTo>
                      <a:pt x="64" y="26"/>
                    </a:lnTo>
                    <a:lnTo>
                      <a:pt x="72" y="20"/>
                    </a:lnTo>
                    <a:lnTo>
                      <a:pt x="75" y="15"/>
                    </a:lnTo>
                    <a:lnTo>
                      <a:pt x="72" y="9"/>
                    </a:lnTo>
                    <a:lnTo>
                      <a:pt x="64" y="6"/>
                    </a:lnTo>
                    <a:lnTo>
                      <a:pt x="52" y="3"/>
                    </a:lnTo>
                    <a:lnTo>
                      <a:pt x="38" y="0"/>
                    </a:lnTo>
                    <a:lnTo>
                      <a:pt x="23" y="3"/>
                    </a:lnTo>
                    <a:lnTo>
                      <a:pt x="12" y="6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12" y="26"/>
                    </a:lnTo>
                    <a:lnTo>
                      <a:pt x="23" y="29"/>
                    </a:lnTo>
                    <a:lnTo>
                      <a:pt x="38" y="32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9864200">
                <a:off x="6482160" y="6270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6" y="8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9864200">
                <a:off x="6499800" y="631008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6" y="9"/>
                    </a:move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9864200">
                <a:off x="6470640" y="623016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8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864200">
                <a:off x="6440760" y="6172200"/>
                <a:ext cx="96840" cy="3672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29" y="23"/>
                    </a:moveTo>
                    <a:lnTo>
                      <a:pt x="43" y="23"/>
                    </a:lnTo>
                    <a:lnTo>
                      <a:pt x="52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6"/>
                    </a:lnTo>
                    <a:lnTo>
                      <a:pt x="52" y="3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3" y="6"/>
                    </a:lnTo>
                    <a:lnTo>
                      <a:pt x="0" y="11"/>
                    </a:lnTo>
                    <a:lnTo>
                      <a:pt x="3" y="17"/>
                    </a:lnTo>
                    <a:lnTo>
                      <a:pt x="9" y="20"/>
                    </a:lnTo>
                    <a:lnTo>
                      <a:pt x="17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354360" y="6083640"/>
                <a:ext cx="208800" cy="1141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9864200">
                <a:off x="7575480" y="4167720"/>
                <a:ext cx="54000" cy="1206360"/>
              </a:xfrm>
              <a:custGeom>
                <a:avLst/>
                <a:gdLst/>
                <a:ahLst/>
                <a:rect l="l" t="t" r="r" b="b"/>
                <a:pathLst>
                  <a:path w="34" h="760">
                    <a:moveTo>
                      <a:pt x="20" y="0"/>
                    </a:moveTo>
                    <a:lnTo>
                      <a:pt x="34" y="0"/>
                    </a:lnTo>
                    <a:lnTo>
                      <a:pt x="34" y="760"/>
                    </a:lnTo>
                    <a:lnTo>
                      <a:pt x="17" y="760"/>
                    </a:lnTo>
                    <a:lnTo>
                      <a:pt x="0" y="76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19864200">
                <a:off x="7785720" y="5194800"/>
                <a:ext cx="127080" cy="24120"/>
              </a:xfrm>
              <a:custGeom>
                <a:avLst/>
                <a:gdLst/>
                <a:ahLst/>
                <a:rect l="l" t="t" r="r" b="b"/>
                <a:pathLst>
                  <a:path w="80" h="15">
                    <a:moveTo>
                      <a:pt x="72" y="15"/>
                    </a:moveTo>
                    <a:lnTo>
                      <a:pt x="78" y="15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78" y="3"/>
                    </a:lnTo>
                    <a:lnTo>
                      <a:pt x="72" y="0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8" y="15"/>
                    </a:lnTo>
                    <a:lnTo>
                      <a:pt x="72" y="15"/>
                    </a:lnTo>
                    <a:lnTo>
                      <a:pt x="7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305120" y="4251960"/>
                <a:ext cx="584640" cy="105516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9864200">
                <a:off x="7484040" y="4307400"/>
                <a:ext cx="247680" cy="94608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19864200">
                <a:off x="7484040" y="4307400"/>
                <a:ext cx="247680" cy="94608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19864200">
                <a:off x="7484040" y="4307400"/>
                <a:ext cx="247680" cy="94608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  <a:close/>
                  </a:path>
                </a:pathLst>
              </a:custGeom>
              <a:solidFill>
                <a:srgbClr val="ccb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9864200">
                <a:off x="7489080" y="4308840"/>
                <a:ext cx="233640" cy="946080"/>
              </a:xfrm>
              <a:custGeom>
                <a:avLst/>
                <a:gdLst/>
                <a:ahLst/>
                <a:rect l="l" t="t" r="r" b="b"/>
                <a:pathLst>
                  <a:path w="147" h="596">
                    <a:moveTo>
                      <a:pt x="15" y="0"/>
                    </a:moveTo>
                    <a:lnTo>
                      <a:pt x="139" y="0"/>
                    </a:lnTo>
                    <a:lnTo>
                      <a:pt x="144" y="3"/>
                    </a:lnTo>
                    <a:lnTo>
                      <a:pt x="147" y="12"/>
                    </a:lnTo>
                    <a:lnTo>
                      <a:pt x="147" y="585"/>
                    </a:lnTo>
                    <a:lnTo>
                      <a:pt x="144" y="593"/>
                    </a:lnTo>
                    <a:lnTo>
                      <a:pt x="139" y="596"/>
                    </a:lnTo>
                    <a:lnTo>
                      <a:pt x="15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fb8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9864200">
                <a:off x="7493760" y="4308480"/>
                <a:ext cx="223560" cy="946080"/>
              </a:xfrm>
              <a:custGeom>
                <a:avLst/>
                <a:gdLst/>
                <a:ahLst/>
                <a:rect l="l" t="t" r="r" b="b"/>
                <a:pathLst>
                  <a:path w="141" h="596">
                    <a:moveTo>
                      <a:pt x="12" y="0"/>
                    </a:moveTo>
                    <a:lnTo>
                      <a:pt x="127" y="0"/>
                    </a:lnTo>
                    <a:lnTo>
                      <a:pt x="136" y="3"/>
                    </a:lnTo>
                    <a:lnTo>
                      <a:pt x="141" y="12"/>
                    </a:lnTo>
                    <a:lnTo>
                      <a:pt x="141" y="585"/>
                    </a:lnTo>
                    <a:lnTo>
                      <a:pt x="136" y="593"/>
                    </a:lnTo>
                    <a:lnTo>
                      <a:pt x="127" y="596"/>
                    </a:lnTo>
                    <a:lnTo>
                      <a:pt x="12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3be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9864200">
                <a:off x="7503120" y="4308480"/>
                <a:ext cx="206280" cy="946080"/>
              </a:xfrm>
              <a:custGeom>
                <a:avLst/>
                <a:gdLst/>
                <a:ahLst/>
                <a:rect l="l" t="t" r="r" b="b"/>
                <a:pathLst>
                  <a:path w="130" h="596">
                    <a:moveTo>
                      <a:pt x="9" y="0"/>
                    </a:moveTo>
                    <a:lnTo>
                      <a:pt x="118" y="0"/>
                    </a:lnTo>
                    <a:lnTo>
                      <a:pt x="127" y="3"/>
                    </a:lnTo>
                    <a:lnTo>
                      <a:pt x="130" y="12"/>
                    </a:lnTo>
                    <a:lnTo>
                      <a:pt x="130" y="585"/>
                    </a:lnTo>
                    <a:lnTo>
                      <a:pt x="127" y="593"/>
                    </a:lnTo>
                    <a:lnTo>
                      <a:pt x="118" y="596"/>
                    </a:lnTo>
                    <a:lnTo>
                      <a:pt x="9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6c4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9864200">
                <a:off x="7508520" y="4310640"/>
                <a:ext cx="187560" cy="946080"/>
              </a:xfrm>
              <a:custGeom>
                <a:avLst/>
                <a:gdLst/>
                <a:ahLst/>
                <a:rect l="l" t="t" r="r" b="b"/>
                <a:pathLst>
                  <a:path w="118" h="596">
                    <a:moveTo>
                      <a:pt x="8" y="0"/>
                    </a:moveTo>
                    <a:lnTo>
                      <a:pt x="109" y="0"/>
                    </a:lnTo>
                    <a:lnTo>
                      <a:pt x="115" y="3"/>
                    </a:lnTo>
                    <a:lnTo>
                      <a:pt x="118" y="12"/>
                    </a:lnTo>
                    <a:lnTo>
                      <a:pt x="118" y="585"/>
                    </a:lnTo>
                    <a:lnTo>
                      <a:pt x="115" y="593"/>
                    </a:lnTo>
                    <a:lnTo>
                      <a:pt x="109" y="596"/>
                    </a:lnTo>
                    <a:lnTo>
                      <a:pt x="8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a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9864200">
                <a:off x="7513560" y="4310280"/>
                <a:ext cx="177480" cy="946080"/>
              </a:xfrm>
              <a:custGeom>
                <a:avLst/>
                <a:gdLst/>
                <a:ahLst/>
                <a:rect l="l" t="t" r="r" b="b"/>
                <a:pathLst>
                  <a:path w="112" h="596">
                    <a:moveTo>
                      <a:pt x="8" y="0"/>
                    </a:moveTo>
                    <a:lnTo>
                      <a:pt x="101" y="0"/>
                    </a:lnTo>
                    <a:lnTo>
                      <a:pt x="109" y="3"/>
                    </a:lnTo>
                    <a:lnTo>
                      <a:pt x="112" y="12"/>
                    </a:lnTo>
                    <a:lnTo>
                      <a:pt x="112" y="585"/>
                    </a:lnTo>
                    <a:lnTo>
                      <a:pt x="109" y="593"/>
                    </a:lnTo>
                    <a:lnTo>
                      <a:pt x="101" y="596"/>
                    </a:lnTo>
                    <a:lnTo>
                      <a:pt x="8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dc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9864200">
                <a:off x="7514280" y="4312800"/>
                <a:ext cx="168120" cy="946080"/>
              </a:xfrm>
              <a:custGeom>
                <a:avLst/>
                <a:gdLst/>
                <a:ahLst/>
                <a:rect l="l" t="t" r="r" b="b"/>
                <a:pathLst>
                  <a:path w="106" h="596">
                    <a:moveTo>
                      <a:pt x="11" y="0"/>
                    </a:moveTo>
                    <a:lnTo>
                      <a:pt x="95" y="0"/>
                    </a:lnTo>
                    <a:lnTo>
                      <a:pt x="103" y="3"/>
                    </a:lnTo>
                    <a:lnTo>
                      <a:pt x="106" y="12"/>
                    </a:lnTo>
                    <a:lnTo>
                      <a:pt x="106" y="585"/>
                    </a:lnTo>
                    <a:lnTo>
                      <a:pt x="103" y="593"/>
                    </a:lnTo>
                    <a:lnTo>
                      <a:pt x="95" y="596"/>
                    </a:lnTo>
                    <a:lnTo>
                      <a:pt x="11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1d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864200">
                <a:off x="7518960" y="4313520"/>
                <a:ext cx="155520" cy="946080"/>
              </a:xfrm>
              <a:custGeom>
                <a:avLst/>
                <a:gdLst/>
                <a:ahLst/>
                <a:rect l="l" t="t" r="r" b="b"/>
                <a:pathLst>
                  <a:path w="98" h="596">
                    <a:moveTo>
                      <a:pt x="11" y="0"/>
                    </a:moveTo>
                    <a:lnTo>
                      <a:pt x="86" y="0"/>
                    </a:lnTo>
                    <a:lnTo>
                      <a:pt x="95" y="3"/>
                    </a:lnTo>
                    <a:lnTo>
                      <a:pt x="98" y="12"/>
                    </a:lnTo>
                    <a:lnTo>
                      <a:pt x="98" y="585"/>
                    </a:lnTo>
                    <a:lnTo>
                      <a:pt x="95" y="593"/>
                    </a:lnTo>
                    <a:lnTo>
                      <a:pt x="86" y="596"/>
                    </a:lnTo>
                    <a:lnTo>
                      <a:pt x="11" y="596"/>
                    </a:lnTo>
                    <a:lnTo>
                      <a:pt x="2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2" y="3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4db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864200">
                <a:off x="7522560" y="4315320"/>
                <a:ext cx="142560" cy="946080"/>
              </a:xfrm>
              <a:custGeom>
                <a:avLst/>
                <a:gdLst/>
                <a:ahLst/>
                <a:rect l="l" t="t" r="r" b="b"/>
                <a:pathLst>
                  <a:path w="90" h="596">
                    <a:moveTo>
                      <a:pt x="12" y="0"/>
                    </a:moveTo>
                    <a:lnTo>
                      <a:pt x="78" y="0"/>
                    </a:lnTo>
                    <a:lnTo>
                      <a:pt x="87" y="3"/>
                    </a:lnTo>
                    <a:lnTo>
                      <a:pt x="90" y="12"/>
                    </a:lnTo>
                    <a:lnTo>
                      <a:pt x="90" y="585"/>
                    </a:lnTo>
                    <a:lnTo>
                      <a:pt x="87" y="593"/>
                    </a:lnTo>
                    <a:lnTo>
                      <a:pt x="78" y="596"/>
                    </a:lnTo>
                    <a:lnTo>
                      <a:pt x="12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8e1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64200">
                <a:off x="7527240" y="4315320"/>
                <a:ext cx="133200" cy="946080"/>
              </a:xfrm>
              <a:custGeom>
                <a:avLst/>
                <a:gdLst/>
                <a:ahLst/>
                <a:rect l="l" t="t" r="r" b="b"/>
                <a:pathLst>
                  <a:path w="84" h="596">
                    <a:moveTo>
                      <a:pt x="9" y="0"/>
                    </a:moveTo>
                    <a:lnTo>
                      <a:pt x="69" y="0"/>
                    </a:lnTo>
                    <a:lnTo>
                      <a:pt x="78" y="3"/>
                    </a:lnTo>
                    <a:lnTo>
                      <a:pt x="84" y="12"/>
                    </a:lnTo>
                    <a:lnTo>
                      <a:pt x="84" y="585"/>
                    </a:lnTo>
                    <a:lnTo>
                      <a:pt x="78" y="593"/>
                    </a:lnTo>
                    <a:lnTo>
                      <a:pt x="69" y="596"/>
                    </a:lnTo>
                    <a:lnTo>
                      <a:pt x="9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be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64200">
                <a:off x="7532640" y="4317480"/>
                <a:ext cx="114480" cy="946080"/>
              </a:xfrm>
              <a:custGeom>
                <a:avLst/>
                <a:gdLst/>
                <a:ahLst/>
                <a:rect l="l" t="t" r="r" b="b"/>
                <a:pathLst>
                  <a:path w="72" h="596">
                    <a:moveTo>
                      <a:pt x="12" y="0"/>
                    </a:moveTo>
                    <a:lnTo>
                      <a:pt x="64" y="0"/>
                    </a:lnTo>
                    <a:lnTo>
                      <a:pt x="69" y="3"/>
                    </a:lnTo>
                    <a:lnTo>
                      <a:pt x="72" y="12"/>
                    </a:lnTo>
                    <a:lnTo>
                      <a:pt x="72" y="585"/>
                    </a:lnTo>
                    <a:lnTo>
                      <a:pt x="69" y="593"/>
                    </a:lnTo>
                    <a:lnTo>
                      <a:pt x="64" y="596"/>
                    </a:lnTo>
                    <a:lnTo>
                      <a:pt x="12" y="596"/>
                    </a:lnTo>
                    <a:lnTo>
                      <a:pt x="3" y="593"/>
                    </a:lnTo>
                    <a:lnTo>
                      <a:pt x="0" y="585"/>
                    </a:lnTo>
                    <a:lnTo>
                      <a:pt x="0" y="12"/>
                    </a:lnTo>
                    <a:lnTo>
                      <a:pt x="3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fec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864200">
                <a:off x="7537680" y="4318560"/>
                <a:ext cx="100080" cy="946080"/>
              </a:xfrm>
              <a:custGeom>
                <a:avLst/>
                <a:gdLst/>
                <a:ahLst/>
                <a:rect l="l" t="t" r="r" b="b"/>
                <a:pathLst>
                  <a:path w="63" h="596">
                    <a:moveTo>
                      <a:pt x="55" y="596"/>
                    </a:moveTo>
                    <a:lnTo>
                      <a:pt x="61" y="593"/>
                    </a:lnTo>
                    <a:lnTo>
                      <a:pt x="63" y="585"/>
                    </a:lnTo>
                    <a:lnTo>
                      <a:pt x="63" y="12"/>
                    </a:lnTo>
                    <a:lnTo>
                      <a:pt x="61" y="3"/>
                    </a:lnTo>
                    <a:lnTo>
                      <a:pt x="55" y="0"/>
                    </a:lnTo>
                    <a:lnTo>
                      <a:pt x="12" y="0"/>
                    </a:lnTo>
                    <a:lnTo>
                      <a:pt x="3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3" y="593"/>
                    </a:lnTo>
                    <a:lnTo>
                      <a:pt x="12" y="596"/>
                    </a:lnTo>
                    <a:lnTo>
                      <a:pt x="55" y="596"/>
                    </a:lnTo>
                    <a:lnTo>
                      <a:pt x="55" y="596"/>
                    </a:lnTo>
                    <a:close/>
                  </a:path>
                </a:pathLst>
              </a:custGeom>
              <a:solidFill>
                <a:srgbClr val="f2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864200">
                <a:off x="7484040" y="4307400"/>
                <a:ext cx="247680" cy="946080"/>
              </a:xfrm>
              <a:custGeom>
                <a:avLst/>
                <a:gdLst/>
                <a:ahLst/>
                <a:rect l="l" t="t" r="r" b="b"/>
                <a:pathLst>
                  <a:path w="156" h="596">
                    <a:moveTo>
                      <a:pt x="147" y="596"/>
                    </a:moveTo>
                    <a:lnTo>
                      <a:pt x="153" y="593"/>
                    </a:lnTo>
                    <a:lnTo>
                      <a:pt x="156" y="585"/>
                    </a:lnTo>
                    <a:lnTo>
                      <a:pt x="156" y="12"/>
                    </a:lnTo>
                    <a:lnTo>
                      <a:pt x="153" y="3"/>
                    </a:lnTo>
                    <a:lnTo>
                      <a:pt x="147" y="0"/>
                    </a:lnTo>
                    <a:lnTo>
                      <a:pt x="15" y="0"/>
                    </a:lnTo>
                    <a:lnTo>
                      <a:pt x="6" y="3"/>
                    </a:lnTo>
                    <a:lnTo>
                      <a:pt x="0" y="12"/>
                    </a:lnTo>
                    <a:lnTo>
                      <a:pt x="0" y="585"/>
                    </a:lnTo>
                    <a:lnTo>
                      <a:pt x="6" y="593"/>
                    </a:lnTo>
                    <a:lnTo>
                      <a:pt x="15" y="596"/>
                    </a:lnTo>
                    <a:lnTo>
                      <a:pt x="147" y="596"/>
                    </a:lnTo>
                    <a:lnTo>
                      <a:pt x="147" y="59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864200">
                <a:off x="7250040" y="4177080"/>
                <a:ext cx="92160" cy="5868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29" y="37"/>
                    </a:moveTo>
                    <a:lnTo>
                      <a:pt x="41" y="34"/>
                    </a:lnTo>
                    <a:lnTo>
                      <a:pt x="49" y="28"/>
                    </a:lnTo>
                    <a:lnTo>
                      <a:pt x="55" y="23"/>
                    </a:lnTo>
                    <a:lnTo>
                      <a:pt x="58" y="17"/>
                    </a:lnTo>
                    <a:lnTo>
                      <a:pt x="55" y="8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9" y="28"/>
                    </a:lnTo>
                    <a:lnTo>
                      <a:pt x="18" y="34"/>
                    </a:lnTo>
                    <a:lnTo>
                      <a:pt x="29" y="37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64200">
                <a:off x="7218720" y="4197960"/>
                <a:ext cx="237960" cy="168480"/>
              </a:xfrm>
              <a:custGeom>
                <a:avLst/>
                <a:gdLst/>
                <a:ahLst/>
                <a:rect l="l" t="t" r="r" b="b"/>
                <a:pathLst>
                  <a:path w="150" h="106">
                    <a:moveTo>
                      <a:pt x="75" y="106"/>
                    </a:moveTo>
                    <a:lnTo>
                      <a:pt x="144" y="63"/>
                    </a:lnTo>
                    <a:lnTo>
                      <a:pt x="150" y="11"/>
                    </a:lnTo>
                    <a:lnTo>
                      <a:pt x="75" y="0"/>
                    </a:lnTo>
                    <a:lnTo>
                      <a:pt x="0" y="11"/>
                    </a:lnTo>
                    <a:lnTo>
                      <a:pt x="3" y="63"/>
                    </a:lnTo>
                    <a:lnTo>
                      <a:pt x="75" y="106"/>
                    </a:lnTo>
                    <a:lnTo>
                      <a:pt x="75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9864200">
                <a:off x="7258320" y="4262400"/>
                <a:ext cx="63360" cy="3636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20" y="23"/>
                    </a:moveTo>
                    <a:lnTo>
                      <a:pt x="40" y="0"/>
                    </a:lnTo>
                    <a:lnTo>
                      <a:pt x="32" y="0"/>
                    </a:lnTo>
                    <a:lnTo>
                      <a:pt x="20" y="1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864200">
                <a:off x="7302960" y="423900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0" y="23"/>
                    </a:moveTo>
                    <a:lnTo>
                      <a:pt x="37" y="0"/>
                    </a:lnTo>
                    <a:lnTo>
                      <a:pt x="28" y="0"/>
                    </a:lnTo>
                    <a:lnTo>
                      <a:pt x="20" y="1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9864200">
                <a:off x="7341480" y="421740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1" y="23"/>
                    </a:moveTo>
                    <a:lnTo>
                      <a:pt x="38" y="0"/>
                    </a:lnTo>
                    <a:lnTo>
                      <a:pt x="32" y="0"/>
                    </a:lnTo>
                    <a:lnTo>
                      <a:pt x="21" y="1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1" y="23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864200">
                <a:off x="7387200" y="4197240"/>
                <a:ext cx="41400" cy="36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6" y="3"/>
                    </a:moveTo>
                    <a:lnTo>
                      <a:pt x="20" y="1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6" y="11"/>
                    </a:lnTo>
                    <a:lnTo>
                      <a:pt x="26" y="3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7241040" y="4236480"/>
                <a:ext cx="196920" cy="10656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9864200">
                <a:off x="7218360" y="42854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0" y="23"/>
                    </a:moveTo>
                    <a:lnTo>
                      <a:pt x="38" y="0"/>
                    </a:lnTo>
                    <a:lnTo>
                      <a:pt x="29" y="0"/>
                    </a:lnTo>
                    <a:lnTo>
                      <a:pt x="20" y="1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9864200">
                <a:off x="7223040" y="4128480"/>
                <a:ext cx="92160" cy="58680"/>
              </a:xfrm>
              <a:custGeom>
                <a:avLst/>
                <a:gdLst/>
                <a:ahLst/>
                <a:rect l="l" t="t" r="r" b="b"/>
                <a:pathLst>
                  <a:path w="58" h="37">
                    <a:moveTo>
                      <a:pt x="29" y="37"/>
                    </a:moveTo>
                    <a:lnTo>
                      <a:pt x="41" y="37"/>
                    </a:lnTo>
                    <a:lnTo>
                      <a:pt x="49" y="32"/>
                    </a:lnTo>
                    <a:lnTo>
                      <a:pt x="55" y="26"/>
                    </a:lnTo>
                    <a:lnTo>
                      <a:pt x="58" y="17"/>
                    </a:lnTo>
                    <a:lnTo>
                      <a:pt x="55" y="12"/>
                    </a:lnTo>
                    <a:lnTo>
                      <a:pt x="49" y="6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6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9" y="32"/>
                    </a:lnTo>
                    <a:lnTo>
                      <a:pt x="18" y="37"/>
                    </a:lnTo>
                    <a:lnTo>
                      <a:pt x="29" y="37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864200">
                <a:off x="7211160" y="4116600"/>
                <a:ext cx="77760" cy="223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26" y="14"/>
                    </a:moveTo>
                    <a:lnTo>
                      <a:pt x="43" y="11"/>
                    </a:lnTo>
                    <a:lnTo>
                      <a:pt x="49" y="8"/>
                    </a:lnTo>
                    <a:lnTo>
                      <a:pt x="43" y="2"/>
                    </a:lnTo>
                    <a:lnTo>
                      <a:pt x="26" y="0"/>
                    </a:lnTo>
                    <a:lnTo>
                      <a:pt x="9" y="2"/>
                    </a:lnTo>
                    <a:lnTo>
                      <a:pt x="3" y="2"/>
                    </a:lnTo>
                    <a:lnTo>
                      <a:pt x="0" y="8"/>
                    </a:lnTo>
                    <a:lnTo>
                      <a:pt x="9" y="11"/>
                    </a:lnTo>
                    <a:lnTo>
                      <a:pt x="17" y="14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9864200">
                <a:off x="7201800" y="4099680"/>
                <a:ext cx="77760" cy="223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26" y="14"/>
                    </a:moveTo>
                    <a:lnTo>
                      <a:pt x="43" y="12"/>
                    </a:lnTo>
                    <a:lnTo>
                      <a:pt x="49" y="6"/>
                    </a:lnTo>
                    <a:lnTo>
                      <a:pt x="43" y="0"/>
                    </a:lnTo>
                    <a:lnTo>
                      <a:pt x="26" y="0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9" y="12"/>
                    </a:lnTo>
                    <a:lnTo>
                      <a:pt x="26" y="14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864200">
                <a:off x="7192080" y="408024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26" y="17"/>
                    </a:moveTo>
                    <a:lnTo>
                      <a:pt x="43" y="14"/>
                    </a:lnTo>
                    <a:lnTo>
                      <a:pt x="49" y="8"/>
                    </a:lnTo>
                    <a:lnTo>
                      <a:pt x="43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9" y="14"/>
                    </a:lnTo>
                    <a:lnTo>
                      <a:pt x="26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864200">
                <a:off x="7166160" y="4068000"/>
                <a:ext cx="114480" cy="2196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37" y="14"/>
                    </a:moveTo>
                    <a:lnTo>
                      <a:pt x="51" y="14"/>
                    </a:lnTo>
                    <a:lnTo>
                      <a:pt x="60" y="11"/>
                    </a:lnTo>
                    <a:lnTo>
                      <a:pt x="72" y="6"/>
                    </a:lnTo>
                    <a:lnTo>
                      <a:pt x="69" y="3"/>
                    </a:lnTo>
                    <a:lnTo>
                      <a:pt x="60" y="0"/>
                    </a:lnTo>
                    <a:lnTo>
                      <a:pt x="37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11" y="11"/>
                    </a:lnTo>
                    <a:lnTo>
                      <a:pt x="23" y="14"/>
                    </a:lnTo>
                    <a:lnTo>
                      <a:pt x="37" y="14"/>
                    </a:lnTo>
                    <a:lnTo>
                      <a:pt x="3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864200">
                <a:off x="7177680" y="4055400"/>
                <a:ext cx="77760" cy="237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26" y="15"/>
                    </a:moveTo>
                    <a:lnTo>
                      <a:pt x="43" y="12"/>
                    </a:lnTo>
                    <a:lnTo>
                      <a:pt x="49" y="9"/>
                    </a:lnTo>
                    <a:lnTo>
                      <a:pt x="43" y="3"/>
                    </a:lnTo>
                    <a:lnTo>
                      <a:pt x="26" y="0"/>
                    </a:lnTo>
                    <a:lnTo>
                      <a:pt x="9" y="3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9" y="12"/>
                    </a:lnTo>
                    <a:lnTo>
                      <a:pt x="17" y="15"/>
                    </a:lnTo>
                    <a:lnTo>
                      <a:pt x="26" y="15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9864200">
                <a:off x="7193160" y="40348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9" y="14"/>
                    </a:moveTo>
                    <a:lnTo>
                      <a:pt x="15" y="14"/>
                    </a:lnTo>
                    <a:lnTo>
                      <a:pt x="18" y="9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9"/>
                    </a:lnTo>
                    <a:lnTo>
                      <a:pt x="3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9864200">
                <a:off x="7182000" y="3978000"/>
                <a:ext cx="4680" cy="63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9864200">
                <a:off x="7185960" y="3975480"/>
                <a:ext cx="504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9864200">
                <a:off x="7179480" y="4017960"/>
                <a:ext cx="33120" cy="504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9" y="3"/>
                    </a:moveTo>
                    <a:lnTo>
                      <a:pt x="15" y="3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9864200">
                <a:off x="7175520" y="4011120"/>
                <a:ext cx="33120" cy="504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9" y="3"/>
                    </a:moveTo>
                    <a:lnTo>
                      <a:pt x="15" y="3"/>
                    </a:lnTo>
                    <a:lnTo>
                      <a:pt x="21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864200">
                <a:off x="7169760" y="3998520"/>
                <a:ext cx="33120" cy="936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9" y="6"/>
                    </a:moveTo>
                    <a:lnTo>
                      <a:pt x="21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9" y="6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864200">
                <a:off x="7164000" y="3990240"/>
                <a:ext cx="33120" cy="46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9" y="3"/>
                    </a:moveTo>
                    <a:lnTo>
                      <a:pt x="15" y="3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9864200">
                <a:off x="7160040" y="3983400"/>
                <a:ext cx="28440" cy="468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9" y="3"/>
                    </a:moveTo>
                    <a:lnTo>
                      <a:pt x="18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864200">
                <a:off x="7231680" y="41648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9"/>
                    </a:moveTo>
                    <a:lnTo>
                      <a:pt x="15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864200">
                <a:off x="7255080" y="420480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9" y="12"/>
                    </a:moveTo>
                    <a:lnTo>
                      <a:pt x="15" y="6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9" y="12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864200">
                <a:off x="7198560" y="4242240"/>
                <a:ext cx="100080" cy="2232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0" y="11"/>
                    </a:moveTo>
                    <a:lnTo>
                      <a:pt x="63" y="0"/>
                    </a:lnTo>
                    <a:lnTo>
                      <a:pt x="9" y="1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9864200">
                <a:off x="7186320" y="408960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9864200">
                <a:off x="7182360" y="4070520"/>
                <a:ext cx="27000" cy="504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3"/>
                    </a:moveTo>
                    <a:lnTo>
                      <a:pt x="6" y="3"/>
                    </a:lnTo>
                    <a:lnTo>
                      <a:pt x="17" y="0"/>
                    </a:lnTo>
                    <a:lnTo>
                      <a:pt x="12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9864200">
                <a:off x="7197120" y="4043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9864200">
                <a:off x="7781040" y="5222880"/>
                <a:ext cx="237960" cy="1508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75" y="0"/>
                    </a:moveTo>
                    <a:lnTo>
                      <a:pt x="144" y="29"/>
                    </a:lnTo>
                    <a:lnTo>
                      <a:pt x="150" y="81"/>
                    </a:lnTo>
                    <a:lnTo>
                      <a:pt x="75" y="95"/>
                    </a:lnTo>
                    <a:lnTo>
                      <a:pt x="0" y="81"/>
                    </a:lnTo>
                    <a:lnTo>
                      <a:pt x="3" y="2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9864200">
                <a:off x="7838280" y="5310000"/>
                <a:ext cx="63360" cy="4104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0" y="0"/>
                    </a:moveTo>
                    <a:lnTo>
                      <a:pt x="40" y="26"/>
                    </a:lnTo>
                    <a:lnTo>
                      <a:pt x="32" y="26"/>
                    </a:lnTo>
                    <a:lnTo>
                      <a:pt x="20" y="12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9864200">
                <a:off x="7883280" y="5286240"/>
                <a:ext cx="58680" cy="4104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20" y="0"/>
                    </a:moveTo>
                    <a:lnTo>
                      <a:pt x="37" y="26"/>
                    </a:lnTo>
                    <a:lnTo>
                      <a:pt x="28" y="26"/>
                    </a:lnTo>
                    <a:lnTo>
                      <a:pt x="20" y="12"/>
                    </a:lnTo>
                    <a:lnTo>
                      <a:pt x="8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9864200">
                <a:off x="7922160" y="5264640"/>
                <a:ext cx="60480" cy="4104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1" y="0"/>
                    </a:moveTo>
                    <a:lnTo>
                      <a:pt x="38" y="26"/>
                    </a:lnTo>
                    <a:lnTo>
                      <a:pt x="32" y="26"/>
                    </a:lnTo>
                    <a:lnTo>
                      <a:pt x="21" y="12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9864200">
                <a:off x="7967520" y="524484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20"/>
                    </a:moveTo>
                    <a:lnTo>
                      <a:pt x="20" y="12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6" y="12"/>
                    </a:lnTo>
                    <a:lnTo>
                      <a:pt x="26" y="20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7796520" y="5240880"/>
                <a:ext cx="196560" cy="1069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7790040" y="5229720"/>
                <a:ext cx="196920" cy="10692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9864200">
                <a:off x="7798320" y="5332680"/>
                <a:ext cx="60120" cy="4104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0" y="0"/>
                    </a:moveTo>
                    <a:lnTo>
                      <a:pt x="38" y="26"/>
                    </a:lnTo>
                    <a:lnTo>
                      <a:pt x="29" y="26"/>
                    </a:lnTo>
                    <a:lnTo>
                      <a:pt x="20" y="12"/>
                    </a:lnTo>
                    <a:lnTo>
                      <a:pt x="9" y="26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9864200">
                <a:off x="8071560" y="562284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9" y="0"/>
                    </a:moveTo>
                    <a:lnTo>
                      <a:pt x="15" y="3"/>
                    </a:lnTo>
                    <a:lnTo>
                      <a:pt x="18" y="6"/>
                    </a:lnTo>
                    <a:lnTo>
                      <a:pt x="15" y="12"/>
                    </a:lnTo>
                    <a:lnTo>
                      <a:pt x="9" y="15"/>
                    </a:lnTo>
                    <a:lnTo>
                      <a:pt x="3" y="12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864200">
                <a:off x="8009280" y="553536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57"/>
                    </a:moveTo>
                    <a:lnTo>
                      <a:pt x="41" y="55"/>
                    </a:lnTo>
                    <a:lnTo>
                      <a:pt x="49" y="49"/>
                    </a:lnTo>
                    <a:lnTo>
                      <a:pt x="55" y="40"/>
                    </a:lnTo>
                    <a:lnTo>
                      <a:pt x="58" y="29"/>
                    </a:lnTo>
                    <a:lnTo>
                      <a:pt x="55" y="20"/>
                    </a:lnTo>
                    <a:lnTo>
                      <a:pt x="49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8"/>
                    </a:lnTo>
                    <a:lnTo>
                      <a:pt x="0" y="20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9" y="49"/>
                    </a:lnTo>
                    <a:lnTo>
                      <a:pt x="18" y="55"/>
                    </a:lnTo>
                    <a:lnTo>
                      <a:pt x="29" y="57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9864200">
                <a:off x="7887600" y="5341680"/>
                <a:ext cx="96840" cy="3672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29" y="23"/>
                    </a:moveTo>
                    <a:lnTo>
                      <a:pt x="41" y="23"/>
                    </a:lnTo>
                    <a:lnTo>
                      <a:pt x="49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5"/>
                    </a:lnTo>
                    <a:lnTo>
                      <a:pt x="49" y="3"/>
                    </a:lnTo>
                    <a:lnTo>
                      <a:pt x="41" y="0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9" y="3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9" y="20"/>
                    </a:lnTo>
                    <a:lnTo>
                      <a:pt x="18" y="23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9864200">
                <a:off x="7786800" y="5273640"/>
                <a:ext cx="72720" cy="3636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0" y="20"/>
                    </a:moveTo>
                    <a:lnTo>
                      <a:pt x="46" y="0"/>
                    </a:lnTo>
                    <a:lnTo>
                      <a:pt x="46" y="3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9864200">
                <a:off x="7993440" y="554436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6" y="9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9864200">
                <a:off x="8017560" y="556524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12"/>
                    </a:moveTo>
                    <a:lnTo>
                      <a:pt x="11" y="9"/>
                    </a:lnTo>
                    <a:lnTo>
                      <a:pt x="14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864200">
                <a:off x="7983720" y="5514120"/>
                <a:ext cx="96840" cy="39600"/>
              </a:xfrm>
              <a:custGeom>
                <a:avLst/>
                <a:gdLst/>
                <a:ahLst/>
                <a:rect l="l" t="t" r="r" b="b"/>
                <a:pathLst>
                  <a:path w="61" h="25">
                    <a:moveTo>
                      <a:pt x="29" y="25"/>
                    </a:moveTo>
                    <a:lnTo>
                      <a:pt x="41" y="23"/>
                    </a:lnTo>
                    <a:lnTo>
                      <a:pt x="49" y="20"/>
                    </a:lnTo>
                    <a:lnTo>
                      <a:pt x="58" y="17"/>
                    </a:lnTo>
                    <a:lnTo>
                      <a:pt x="61" y="11"/>
                    </a:lnTo>
                    <a:lnTo>
                      <a:pt x="58" y="8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9" y="20"/>
                    </a:lnTo>
                    <a:lnTo>
                      <a:pt x="18" y="23"/>
                    </a:lnTo>
                    <a:lnTo>
                      <a:pt x="29" y="25"/>
                    </a:lnTo>
                    <a:lnTo>
                      <a:pt x="2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9864200">
                <a:off x="7917480" y="5392800"/>
                <a:ext cx="96840" cy="414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1" y="26"/>
                    </a:lnTo>
                    <a:lnTo>
                      <a:pt x="49" y="23"/>
                    </a:lnTo>
                    <a:lnTo>
                      <a:pt x="58" y="20"/>
                    </a:lnTo>
                    <a:lnTo>
                      <a:pt x="61" y="15"/>
                    </a:lnTo>
                    <a:lnTo>
                      <a:pt x="58" y="9"/>
                    </a:lnTo>
                    <a:lnTo>
                      <a:pt x="49" y="6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6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9" y="23"/>
                    </a:lnTo>
                    <a:lnTo>
                      <a:pt x="18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9864200">
                <a:off x="7943760" y="5465520"/>
                <a:ext cx="127080" cy="55440"/>
              </a:xfrm>
              <a:custGeom>
                <a:avLst/>
                <a:gdLst/>
                <a:ahLst/>
                <a:rect l="l" t="t" r="r" b="b"/>
                <a:pathLst>
                  <a:path w="80" h="35">
                    <a:moveTo>
                      <a:pt x="40" y="35"/>
                    </a:moveTo>
                    <a:lnTo>
                      <a:pt x="57" y="32"/>
                    </a:lnTo>
                    <a:lnTo>
                      <a:pt x="69" y="29"/>
                    </a:lnTo>
                    <a:lnTo>
                      <a:pt x="78" y="23"/>
                    </a:lnTo>
                    <a:lnTo>
                      <a:pt x="80" y="17"/>
                    </a:lnTo>
                    <a:lnTo>
                      <a:pt x="78" y="9"/>
                    </a:lnTo>
                    <a:lnTo>
                      <a:pt x="69" y="6"/>
                    </a:lnTo>
                    <a:lnTo>
                      <a:pt x="57" y="0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11" y="6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3" y="23"/>
                    </a:lnTo>
                    <a:lnTo>
                      <a:pt x="11" y="29"/>
                    </a:lnTo>
                    <a:lnTo>
                      <a:pt x="26" y="32"/>
                    </a:lnTo>
                    <a:lnTo>
                      <a:pt x="40" y="35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9864200">
                <a:off x="7925400" y="5426280"/>
                <a:ext cx="114480" cy="50760"/>
              </a:xfrm>
              <a:custGeom>
                <a:avLst/>
                <a:gdLst/>
                <a:ahLst/>
                <a:rect l="l" t="t" r="r" b="b"/>
                <a:pathLst>
                  <a:path w="72" h="32">
                    <a:moveTo>
                      <a:pt x="37" y="32"/>
                    </a:moveTo>
                    <a:lnTo>
                      <a:pt x="51" y="29"/>
                    </a:lnTo>
                    <a:lnTo>
                      <a:pt x="63" y="26"/>
                    </a:lnTo>
                    <a:lnTo>
                      <a:pt x="69" y="23"/>
                    </a:lnTo>
                    <a:lnTo>
                      <a:pt x="72" y="15"/>
                    </a:lnTo>
                    <a:lnTo>
                      <a:pt x="69" y="12"/>
                    </a:lnTo>
                    <a:lnTo>
                      <a:pt x="63" y="6"/>
                    </a:lnTo>
                    <a:lnTo>
                      <a:pt x="51" y="3"/>
                    </a:lnTo>
                    <a:lnTo>
                      <a:pt x="37" y="0"/>
                    </a:lnTo>
                    <a:lnTo>
                      <a:pt x="23" y="3"/>
                    </a:lnTo>
                    <a:lnTo>
                      <a:pt x="11" y="6"/>
                    </a:lnTo>
                    <a:lnTo>
                      <a:pt x="3" y="12"/>
                    </a:lnTo>
                    <a:lnTo>
                      <a:pt x="0" y="15"/>
                    </a:lnTo>
                    <a:lnTo>
                      <a:pt x="3" y="23"/>
                    </a:lnTo>
                    <a:lnTo>
                      <a:pt x="11" y="26"/>
                    </a:lnTo>
                    <a:lnTo>
                      <a:pt x="23" y="29"/>
                    </a:lnTo>
                    <a:lnTo>
                      <a:pt x="37" y="3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9864200">
                <a:off x="7943400" y="546768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3" y="5"/>
                    </a:moveTo>
                    <a:lnTo>
                      <a:pt x="9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9864200">
                <a:off x="7961400" y="55040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2"/>
                    </a:moveTo>
                    <a:lnTo>
                      <a:pt x="9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9864200">
                <a:off x="7927920" y="542916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6" y="5"/>
                    </a:moveTo>
                    <a:lnTo>
                      <a:pt x="9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9864200">
                <a:off x="7902000" y="5365080"/>
                <a:ext cx="96840" cy="41400"/>
              </a:xfrm>
              <a:custGeom>
                <a:avLst/>
                <a:gdLst/>
                <a:ahLst/>
                <a:rect l="l" t="t" r="r" b="b"/>
                <a:pathLst>
                  <a:path w="61" h="26">
                    <a:moveTo>
                      <a:pt x="29" y="26"/>
                    </a:moveTo>
                    <a:lnTo>
                      <a:pt x="41" y="26"/>
                    </a:lnTo>
                    <a:lnTo>
                      <a:pt x="49" y="23"/>
                    </a:lnTo>
                    <a:lnTo>
                      <a:pt x="58" y="17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49" y="6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9" y="23"/>
                    </a:lnTo>
                    <a:lnTo>
                      <a:pt x="18" y="26"/>
                    </a:lnTo>
                    <a:lnTo>
                      <a:pt x="29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7817040" y="5283000"/>
                <a:ext cx="204840" cy="111600"/>
              </a:xfrm>
              <a:prstGeom prst="line">
                <a:avLst/>
              </a:prstGeom>
              <a:ln w="4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 rot="19750800">
              <a:off x="2057040" y="3733560"/>
              <a:ext cx="1447920" cy="9525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b38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"/>
          <p:cNvSpPr txBox="1"/>
          <p:nvPr/>
        </p:nvSpPr>
        <p:spPr>
          <a:xfrm rot="19973400">
            <a:off x="2428560" y="1835280"/>
            <a:ext cx="4800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עצים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/>
          <p:nvPr/>
        </p:nvSpPr>
        <p:spPr>
          <a:xfrm>
            <a:off x="228600" y="304920"/>
            <a:ext cx="8686800" cy="60195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914400" y="137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 u="sng">
                <a:solidFill>
                  <a:srgbClr val="000000"/>
                </a:solidFill>
                <a:uFillTx/>
                <a:latin typeface="Times New Roman"/>
              </a:rPr>
              <a:t>ספר שמות פרק י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990720" y="2133720"/>
            <a:ext cx="7543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“ואתה תחזה מכל העם אנשי חיל יראי אלוקים אנשי אמת שונאי בצע ושמת עליהם </a:t>
            </a:r>
            <a:r>
              <a:rPr b="1" lang="he-IL" sz="3200" spc="-1" strike="noStrike">
                <a:solidFill>
                  <a:srgbClr val="660066"/>
                </a:solidFill>
                <a:latin typeface="Times New Roman"/>
              </a:rPr>
              <a:t>שרי אלפים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cc0099"/>
                </a:solidFill>
                <a:latin typeface="Times New Roman"/>
              </a:rPr>
              <a:t>שרי מאות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cc00ff"/>
                </a:solidFill>
                <a:latin typeface="Times New Roman"/>
              </a:rPr>
              <a:t>שרי חמישים 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200" spc="-1" strike="noStrike">
                <a:solidFill>
                  <a:srgbClr val="cc99ff"/>
                </a:solidFill>
                <a:latin typeface="Times New Roman"/>
              </a:rPr>
              <a:t>שרי עשרות</a:t>
            </a:r>
            <a:r>
              <a:rPr b="1" lang="he-I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ושפטו את העם בכל עת והיה כל הדבר הגדול יביאו אליך וכל הדבר הקטן ישפטו הם והקל מעליך ונשאו איתך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6" name=""/>
          <p:cNvGrpSpPr/>
          <p:nvPr/>
        </p:nvGrpSpPr>
        <p:grpSpPr>
          <a:xfrm>
            <a:off x="228600" y="4037040"/>
            <a:ext cx="3657600" cy="1693800"/>
            <a:chOff x="228600" y="4037040"/>
            <a:chExt cx="3657600" cy="1693800"/>
          </a:xfrm>
        </p:grpSpPr>
        <p:graphicFrame>
          <p:nvGraphicFramePr>
            <p:cNvPr id="2277" name=""/>
            <p:cNvGraphicFramePr/>
            <p:nvPr/>
          </p:nvGraphicFramePr>
          <p:xfrm>
            <a:off x="3116160" y="4398840"/>
            <a:ext cx="770040" cy="308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16160" y="4398840"/>
                      <a:ext cx="77004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9" name=""/>
            <p:cNvGraphicFramePr/>
            <p:nvPr/>
          </p:nvGraphicFramePr>
          <p:xfrm>
            <a:off x="2103480" y="5362560"/>
            <a:ext cx="770040" cy="308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8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03480" y="5362560"/>
                      <a:ext cx="77004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1" name=""/>
            <p:cNvGraphicFramePr/>
            <p:nvPr/>
          </p:nvGraphicFramePr>
          <p:xfrm>
            <a:off x="2573280" y="5091120"/>
            <a:ext cx="768240" cy="307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73280" y="5091120"/>
                      <a:ext cx="76824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3" name=""/>
            <p:cNvGraphicFramePr/>
            <p:nvPr/>
          </p:nvGraphicFramePr>
          <p:xfrm>
            <a:off x="2916360" y="4037040"/>
            <a:ext cx="769680" cy="307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8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916360" y="4037040"/>
                      <a:ext cx="76968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5" name=""/>
            <p:cNvGraphicFramePr/>
            <p:nvPr/>
          </p:nvGraphicFramePr>
          <p:xfrm>
            <a:off x="2884320" y="4761000"/>
            <a:ext cx="770040" cy="306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28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84320" y="4761000"/>
                      <a:ext cx="770040" cy="30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7" name=""/>
            <p:cNvGraphicFramePr/>
            <p:nvPr/>
          </p:nvGraphicFramePr>
          <p:xfrm>
            <a:off x="1353960" y="5423040"/>
            <a:ext cx="770040" cy="307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28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353960" y="5423040"/>
                      <a:ext cx="77004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9" name=""/>
            <p:cNvGraphicFramePr/>
            <p:nvPr/>
          </p:nvGraphicFramePr>
          <p:xfrm>
            <a:off x="822240" y="5121360"/>
            <a:ext cx="770040" cy="3078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29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22240" y="5121360"/>
                      <a:ext cx="77004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1" name=""/>
            <p:cNvGraphicFramePr/>
            <p:nvPr/>
          </p:nvGraphicFramePr>
          <p:xfrm>
            <a:off x="228600" y="4429080"/>
            <a:ext cx="770040" cy="308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292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28600" y="4429080"/>
                      <a:ext cx="77004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3" name=""/>
            <p:cNvGraphicFramePr/>
            <p:nvPr/>
          </p:nvGraphicFramePr>
          <p:xfrm>
            <a:off x="353880" y="4067280"/>
            <a:ext cx="770040" cy="3078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2294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53880" y="4067280"/>
                      <a:ext cx="77004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5" name=""/>
            <p:cNvGraphicFramePr/>
            <p:nvPr/>
          </p:nvGraphicFramePr>
          <p:xfrm>
            <a:off x="479520" y="4791240"/>
            <a:ext cx="768240" cy="306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296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79520" y="4791240"/>
                      <a:ext cx="768240" cy="30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97" name=""/>
          <p:cNvGrpSpPr/>
          <p:nvPr/>
        </p:nvGrpSpPr>
        <p:grpSpPr>
          <a:xfrm>
            <a:off x="1041480" y="4006440"/>
            <a:ext cx="2155680" cy="1416240"/>
            <a:chOff x="1041480" y="4006440"/>
            <a:chExt cx="2155680" cy="1416240"/>
          </a:xfrm>
        </p:grpSpPr>
        <p:sp>
          <p:nvSpPr>
            <p:cNvPr id="2298" name=""/>
            <p:cNvSpPr/>
            <p:nvPr/>
          </p:nvSpPr>
          <p:spPr>
            <a:xfrm flipV="1">
              <a:off x="1073160" y="4036680"/>
              <a:ext cx="68724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1041480" y="4066920"/>
              <a:ext cx="78084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1822320" y="4096800"/>
              <a:ext cx="187560" cy="132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 flipV="1">
              <a:off x="2072880" y="4067280"/>
              <a:ext cx="28116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1322280" y="4096800"/>
              <a:ext cx="59400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V="1">
              <a:off x="1041480" y="4066920"/>
              <a:ext cx="81288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 flipV="1">
              <a:off x="2134800" y="4067280"/>
              <a:ext cx="65556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 flipV="1">
              <a:off x="2197080" y="4036680"/>
              <a:ext cx="87624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 flipV="1">
              <a:off x="2260440" y="4036680"/>
              <a:ext cx="9367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 flipV="1">
              <a:off x="2260440" y="4006440"/>
              <a:ext cx="6876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8" name=""/>
          <p:cNvGrpSpPr/>
          <p:nvPr/>
        </p:nvGrpSpPr>
        <p:grpSpPr>
          <a:xfrm>
            <a:off x="838080" y="990720"/>
            <a:ext cx="7162920" cy="3581280"/>
            <a:chOff x="838080" y="990720"/>
            <a:chExt cx="7162920" cy="3581280"/>
          </a:xfrm>
        </p:grpSpPr>
        <p:sp>
          <p:nvSpPr>
            <p:cNvPr id="2309" name=""/>
            <p:cNvSpPr/>
            <p:nvPr/>
          </p:nvSpPr>
          <p:spPr>
            <a:xfrm flipV="1">
              <a:off x="2514600" y="1523520"/>
              <a:ext cx="16002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1371240" y="1295280"/>
              <a:ext cx="251460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495680" y="1600200"/>
              <a:ext cx="30492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800600" y="1523880"/>
              <a:ext cx="114300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52880" y="1371600"/>
              <a:ext cx="21337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838080" y="990720"/>
              <a:ext cx="2895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105520" y="1219320"/>
              <a:ext cx="24382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>
              <a:off x="838080" y="1066680"/>
              <a:ext cx="289584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181480" y="990720"/>
              <a:ext cx="24386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181480" y="114300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9" name=""/>
          <p:cNvSpPr txBox="1"/>
          <p:nvPr/>
        </p:nvSpPr>
        <p:spPr>
          <a:xfrm>
            <a:off x="3733920" y="762120"/>
            <a:ext cx="144756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89604" dir="18900000" blurRad="0" rotWithShape="0">
                    <a:srgbClr val="000099"/>
                  </a:outerShdw>
                </a:effectLst>
                <a:latin typeface="Arial"/>
              </a:rPr>
              <a:t>משה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89604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228600" y="838080"/>
            <a:ext cx="8610480" cy="4191120"/>
            <a:chOff x="228600" y="838080"/>
            <a:chExt cx="8610480" cy="4191120"/>
          </a:xfrm>
        </p:grpSpPr>
        <p:sp>
          <p:nvSpPr>
            <p:cNvPr id="2321" name=""/>
            <p:cNvSpPr/>
            <p:nvPr/>
          </p:nvSpPr>
          <p:spPr>
            <a:xfrm>
              <a:off x="1143000" y="36576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"/>
                </a:rPr>
                <a:t>שר אלפי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038480" y="45720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"/>
                </a:rPr>
                <a:t>שר אלפי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257800" y="4191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"/>
                </a:rPr>
                <a:t>שר אלפי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553080" y="38098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"/>
                </a:rPr>
                <a:t>שר אלפי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162920" y="28195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"/>
                </a:rPr>
                <a:t>שר אלפי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6201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"/>
                </a:rPr>
                <a:t>שר אלפי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696080" y="914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"/>
                </a:rPr>
                <a:t>שר אלפי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7200" y="3048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"/>
                </a:rPr>
                <a:t>שר אלפי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28600" y="2209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"/>
                </a:rPr>
                <a:t>שר אלפי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28600" y="14479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"/>
                </a:rPr>
                <a:t>שר אלפי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447920" y="3581280"/>
              <a:ext cx="990360" cy="533520"/>
            </a:xfrm>
            <a:prstGeom prst="ellipse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04920" y="2133720"/>
              <a:ext cx="990360" cy="533160"/>
            </a:xfrm>
            <a:prstGeom prst="ellipse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33520" y="2971800"/>
              <a:ext cx="990360" cy="533520"/>
            </a:xfrm>
            <a:prstGeom prst="ellipse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04920" y="1371600"/>
              <a:ext cx="990360" cy="533520"/>
            </a:xfrm>
            <a:prstGeom prst="ellipse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114800" y="4495680"/>
              <a:ext cx="990720" cy="533520"/>
            </a:xfrm>
            <a:prstGeom prst="ellipse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34120" y="4114800"/>
              <a:ext cx="990360" cy="533520"/>
            </a:xfrm>
            <a:prstGeom prst="ellipse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553080" y="3733920"/>
              <a:ext cx="990720" cy="533160"/>
            </a:xfrm>
            <a:prstGeom prst="ellipse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238880" y="2743200"/>
              <a:ext cx="990720" cy="533520"/>
            </a:xfrm>
            <a:prstGeom prst="ellipse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620120" y="1828800"/>
              <a:ext cx="990360" cy="533520"/>
            </a:xfrm>
            <a:prstGeom prst="ellipse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72400" y="838080"/>
              <a:ext cx="990720" cy="533520"/>
            </a:xfrm>
            <a:prstGeom prst="ellipse">
              <a:avLst/>
            </a:pr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1" name=""/>
          <p:cNvGrpSpPr/>
          <p:nvPr/>
        </p:nvGrpSpPr>
        <p:grpSpPr>
          <a:xfrm>
            <a:off x="228600" y="838080"/>
            <a:ext cx="8915400" cy="4892760"/>
            <a:chOff x="228600" y="838080"/>
            <a:chExt cx="8915400" cy="4892760"/>
          </a:xfrm>
        </p:grpSpPr>
        <p:sp>
          <p:nvSpPr>
            <p:cNvPr id="2342" name=""/>
            <p:cNvSpPr/>
            <p:nvPr/>
          </p:nvSpPr>
          <p:spPr>
            <a:xfrm>
              <a:off x="3809880" y="838080"/>
              <a:ext cx="1371600" cy="838440"/>
            </a:xfrm>
            <a:prstGeom prst="ellipse">
              <a:avLst/>
            </a:prstGeom>
            <a:solidFill>
              <a:srgbClr val="660066"/>
            </a:solidFill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3" name=""/>
            <p:cNvGrpSpPr/>
            <p:nvPr/>
          </p:nvGrpSpPr>
          <p:grpSpPr>
            <a:xfrm>
              <a:off x="228600" y="1066680"/>
              <a:ext cx="8915400" cy="4664160"/>
              <a:chOff x="228600" y="1066680"/>
              <a:chExt cx="8915400" cy="4664160"/>
            </a:xfrm>
          </p:grpSpPr>
          <p:graphicFrame>
            <p:nvGraphicFramePr>
              <p:cNvPr id="2344" name=""/>
              <p:cNvGraphicFramePr/>
              <p:nvPr/>
            </p:nvGraphicFramePr>
            <p:xfrm>
              <a:off x="7267680" y="2362320"/>
              <a:ext cx="1876320" cy="777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34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267680" y="2362320"/>
                        <a:ext cx="1876320" cy="777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346" name=""/>
              <p:cNvGrpSpPr/>
              <p:nvPr/>
            </p:nvGrpSpPr>
            <p:grpSpPr>
              <a:xfrm>
                <a:off x="228600" y="1066680"/>
                <a:ext cx="8429760" cy="4664160"/>
                <a:chOff x="228600" y="1066680"/>
                <a:chExt cx="8429760" cy="4664160"/>
              </a:xfrm>
            </p:grpSpPr>
            <p:graphicFrame>
              <p:nvGraphicFramePr>
                <p:cNvPr id="2347" name=""/>
                <p:cNvGraphicFramePr/>
                <p:nvPr/>
              </p:nvGraphicFramePr>
              <p:xfrm>
                <a:off x="4800600" y="4800600"/>
                <a:ext cx="1876320" cy="77796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234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4800600" y="4800600"/>
                          <a:ext cx="1876320" cy="777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49" name=""/>
                <p:cNvGraphicFramePr/>
                <p:nvPr/>
              </p:nvGraphicFramePr>
              <p:xfrm>
                <a:off x="5943600" y="4114800"/>
                <a:ext cx="1876320" cy="77796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2350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5943600" y="4114800"/>
                          <a:ext cx="1876320" cy="777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51" name=""/>
                <p:cNvGraphicFramePr/>
                <p:nvPr/>
              </p:nvGraphicFramePr>
              <p:xfrm>
                <a:off x="6781680" y="1447920"/>
                <a:ext cx="1876680" cy="777600"/>
              </p:xfrm>
              <a:graphic>
                <a:graphicData uri="http://schemas.openxmlformats.org/presentationml/2006/ole">
                  <p:oleObj r:id="rId8" spid="">
                    <p:embed/>
                    <p:pic>
                      <p:nvPicPr>
                        <p:cNvPr id="2352" name="" descr="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6781680" y="1447920"/>
                          <a:ext cx="1876680" cy="777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53" name=""/>
                <p:cNvGraphicFramePr/>
                <p:nvPr/>
              </p:nvGraphicFramePr>
              <p:xfrm>
                <a:off x="6705720" y="3276720"/>
                <a:ext cx="1876320" cy="777600"/>
              </p:xfrm>
              <a:graphic>
                <a:graphicData uri="http://schemas.openxmlformats.org/presentationml/2006/ole">
                  <p:oleObj r:id="rId10" spid="">
                    <p:embed/>
                    <p:pic>
                      <p:nvPicPr>
                        <p:cNvPr id="2354" name="" descr=""/>
                        <p:cNvPicPr/>
                        <p:nvPr/>
                      </p:nvPicPr>
                      <p:blipFill>
                        <a:blip r:embed="rId11"/>
                        <a:stretch/>
                      </p:blipFill>
                      <p:spPr>
                        <a:xfrm>
                          <a:off x="6705720" y="3276720"/>
                          <a:ext cx="1876320" cy="777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55" name=""/>
                <p:cNvGraphicFramePr/>
                <p:nvPr/>
              </p:nvGraphicFramePr>
              <p:xfrm>
                <a:off x="2971800" y="4952880"/>
                <a:ext cx="1876320" cy="777960"/>
              </p:xfrm>
              <a:graphic>
                <a:graphicData uri="http://schemas.openxmlformats.org/presentationml/2006/ole">
                  <p:oleObj r:id="rId12" spid="">
                    <p:embed/>
                    <p:pic>
                      <p:nvPicPr>
                        <p:cNvPr id="2356" name="" descr=""/>
                        <p:cNvPicPr/>
                        <p:nvPr/>
                      </p:nvPicPr>
                      <p:blipFill>
                        <a:blip r:embed="rId13"/>
                        <a:stretch/>
                      </p:blipFill>
                      <p:spPr>
                        <a:xfrm>
                          <a:off x="2971800" y="4952880"/>
                          <a:ext cx="1876320" cy="777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57" name=""/>
                <p:cNvGraphicFramePr/>
                <p:nvPr/>
              </p:nvGraphicFramePr>
              <p:xfrm>
                <a:off x="1676520" y="4191120"/>
                <a:ext cx="1876320" cy="777600"/>
              </p:xfrm>
              <a:graphic>
                <a:graphicData uri="http://schemas.openxmlformats.org/presentationml/2006/ole">
                  <p:oleObj r:id="rId14" spid="">
                    <p:embed/>
                    <p:pic>
                      <p:nvPicPr>
                        <p:cNvPr id="2358" name="" descr="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1676520" y="4191120"/>
                          <a:ext cx="1876320" cy="777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59" name=""/>
                <p:cNvGraphicFramePr/>
                <p:nvPr/>
              </p:nvGraphicFramePr>
              <p:xfrm>
                <a:off x="228600" y="2438280"/>
                <a:ext cx="1876320" cy="777960"/>
              </p:xfrm>
              <a:graphic>
                <a:graphicData uri="http://schemas.openxmlformats.org/presentationml/2006/ole">
                  <p:oleObj r:id="rId16" spid="">
                    <p:embed/>
                    <p:pic>
                      <p:nvPicPr>
                        <p:cNvPr id="2360" name="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228600" y="2438280"/>
                          <a:ext cx="1876320" cy="777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61" name=""/>
                <p:cNvGraphicFramePr/>
                <p:nvPr/>
              </p:nvGraphicFramePr>
              <p:xfrm>
                <a:off x="533520" y="1523880"/>
                <a:ext cx="1876320" cy="777960"/>
              </p:xfrm>
              <a:graphic>
                <a:graphicData uri="http://schemas.openxmlformats.org/presentationml/2006/ole">
                  <p:oleObj r:id="rId18" spid="">
                    <p:embed/>
                    <p:pic>
                      <p:nvPicPr>
                        <p:cNvPr id="2362" name="" descr=""/>
                        <p:cNvPicPr/>
                        <p:nvPr/>
                      </p:nvPicPr>
                      <p:blipFill>
                        <a:blip r:embed="rId19"/>
                        <a:stretch/>
                      </p:blipFill>
                      <p:spPr>
                        <a:xfrm>
                          <a:off x="533520" y="1523880"/>
                          <a:ext cx="1876320" cy="777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363" name=""/>
                <p:cNvGraphicFramePr/>
                <p:nvPr/>
              </p:nvGraphicFramePr>
              <p:xfrm>
                <a:off x="838080" y="3352680"/>
                <a:ext cx="1876680" cy="777960"/>
              </p:xfrm>
              <a:graphic>
                <a:graphicData uri="http://schemas.openxmlformats.org/presentationml/2006/ole">
                  <p:oleObj r:id="rId20" spid="">
                    <p:embed/>
                    <p:pic>
                      <p:nvPicPr>
                        <p:cNvPr id="2364" name="" descr=""/>
                        <p:cNvPicPr/>
                        <p:nvPr/>
                      </p:nvPicPr>
                      <p:blipFill>
                        <a:blip r:embed="rId21"/>
                        <a:stretch/>
                      </p:blipFill>
                      <p:spPr>
                        <a:xfrm>
                          <a:off x="838080" y="3352680"/>
                          <a:ext cx="1876680" cy="777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65" name=""/>
                <p:cNvSpPr/>
                <p:nvPr/>
              </p:nvSpPr>
              <p:spPr>
                <a:xfrm>
                  <a:off x="3809880" y="1066680"/>
                  <a:ext cx="12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e-IL" sz="2000" spc="-1" strike="noStrike">
                      <a:solidFill>
                        <a:srgbClr val="fbfffe"/>
                      </a:solidFill>
                      <a:latin typeface="Times New Roman"/>
                    </a:rPr>
                    <a:t>שר אלפים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V="1">
                  <a:off x="2286000" y="1447920"/>
                  <a:ext cx="16765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V="1">
                  <a:off x="2209680" y="1523880"/>
                  <a:ext cx="190512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V="1">
                  <a:off x="4114800" y="1599840"/>
                  <a:ext cx="457200" cy="335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flipH="1" flipV="1">
                  <a:off x="4723920" y="1523880"/>
                  <a:ext cx="685800" cy="320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flipV="1">
                  <a:off x="2895480" y="1599840"/>
                  <a:ext cx="144792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flipV="1">
                  <a:off x="2209680" y="1523520"/>
                  <a:ext cx="1981440" cy="175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 flipH="1" flipV="1">
                  <a:off x="4876560" y="1523520"/>
                  <a:ext cx="160020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flipH="1" flipV="1">
                  <a:off x="5028840" y="1447920"/>
                  <a:ext cx="213372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flipH="1" flipV="1">
                  <a:off x="5181480" y="1447920"/>
                  <a:ext cx="228600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H="1" flipV="1">
                  <a:off x="5181120" y="1371240"/>
                  <a:ext cx="16765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76" name=""/>
          <p:cNvGrpSpPr/>
          <p:nvPr/>
        </p:nvGrpSpPr>
        <p:grpSpPr>
          <a:xfrm>
            <a:off x="990720" y="609480"/>
            <a:ext cx="7467480" cy="4648320"/>
            <a:chOff x="990720" y="609480"/>
            <a:chExt cx="7467480" cy="4648320"/>
          </a:xfrm>
        </p:grpSpPr>
        <p:grpSp>
          <p:nvGrpSpPr>
            <p:cNvPr id="2377" name=""/>
            <p:cNvGrpSpPr/>
            <p:nvPr/>
          </p:nvGrpSpPr>
          <p:grpSpPr>
            <a:xfrm>
              <a:off x="990720" y="1295280"/>
              <a:ext cx="7467480" cy="3962520"/>
              <a:chOff x="990720" y="1295280"/>
              <a:chExt cx="7467480" cy="3962520"/>
            </a:xfrm>
          </p:grpSpPr>
          <p:sp>
            <p:nvSpPr>
              <p:cNvPr id="2378" name=""/>
              <p:cNvSpPr/>
              <p:nvPr/>
            </p:nvSpPr>
            <p:spPr>
              <a:xfrm>
                <a:off x="990720" y="2362320"/>
                <a:ext cx="457200" cy="457200"/>
              </a:xfrm>
              <a:prstGeom prst="ellipse">
                <a:avLst/>
              </a:prstGeom>
              <a:noFill/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295280" y="1371600"/>
                <a:ext cx="457200" cy="457200"/>
              </a:xfrm>
              <a:prstGeom prst="ellipse">
                <a:avLst/>
              </a:prstGeom>
              <a:noFill/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523880" y="3200400"/>
                <a:ext cx="457200" cy="457200"/>
              </a:xfrm>
              <a:prstGeom prst="ellipse">
                <a:avLst/>
              </a:prstGeom>
              <a:noFill/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438280" y="4038480"/>
                <a:ext cx="457200" cy="457200"/>
              </a:xfrm>
              <a:prstGeom prst="ellipse">
                <a:avLst/>
              </a:prstGeom>
              <a:noFill/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3733920" y="4800600"/>
                <a:ext cx="457200" cy="457200"/>
              </a:xfrm>
              <a:prstGeom prst="ellipse">
                <a:avLst/>
              </a:prstGeom>
              <a:noFill/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562720" y="4648320"/>
                <a:ext cx="457200" cy="457200"/>
              </a:xfrm>
              <a:prstGeom prst="ellipse">
                <a:avLst/>
              </a:prstGeom>
              <a:noFill/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629400" y="3962520"/>
                <a:ext cx="457200" cy="457200"/>
              </a:xfrm>
              <a:prstGeom prst="ellipse">
                <a:avLst/>
              </a:prstGeom>
              <a:noFill/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467480" y="3124080"/>
                <a:ext cx="457200" cy="457200"/>
              </a:xfrm>
              <a:prstGeom prst="ellipse">
                <a:avLst/>
              </a:prstGeom>
              <a:noFill/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01000" y="2209680"/>
                <a:ext cx="457200" cy="457200"/>
              </a:xfrm>
              <a:prstGeom prst="ellipse">
                <a:avLst/>
              </a:prstGeom>
              <a:noFill/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543800" y="1295280"/>
                <a:ext cx="457200" cy="457200"/>
              </a:xfrm>
              <a:prstGeom prst="ellipse">
                <a:avLst/>
              </a:prstGeom>
              <a:noFill/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8" name=""/>
            <p:cNvGrpSpPr/>
            <p:nvPr/>
          </p:nvGrpSpPr>
          <p:grpSpPr>
            <a:xfrm>
              <a:off x="1600200" y="609480"/>
              <a:ext cx="1295280" cy="703800"/>
              <a:chOff x="1600200" y="609480"/>
              <a:chExt cx="1295280" cy="703800"/>
            </a:xfrm>
          </p:grpSpPr>
          <p:sp>
            <p:nvSpPr>
              <p:cNvPr id="2389" name=""/>
              <p:cNvSpPr/>
              <p:nvPr/>
            </p:nvSpPr>
            <p:spPr>
              <a:xfrm>
                <a:off x="1600200" y="609480"/>
                <a:ext cx="1295280" cy="457200"/>
              </a:xfrm>
              <a:prstGeom prst="wedgeEllipseCallout">
                <a:avLst>
                  <a:gd name="adj1" fmla="val -37865"/>
                  <a:gd name="adj2" fmla="val 53472"/>
                </a:avLst>
              </a:prstGeom>
              <a:noFill/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676520" y="609480"/>
                <a:ext cx="1143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000" spc="-1" strike="noStrike">
                    <a:solidFill>
                      <a:srgbClr val="000000"/>
                    </a:solidFill>
                    <a:latin typeface="Times New Roman"/>
                  </a:rPr>
                  <a:t>שרי מאו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1" name=""/>
          <p:cNvGrpSpPr/>
          <p:nvPr/>
        </p:nvGrpSpPr>
        <p:grpSpPr>
          <a:xfrm>
            <a:off x="6172200" y="457200"/>
            <a:ext cx="1981080" cy="1371600"/>
            <a:chOff x="6172200" y="457200"/>
            <a:chExt cx="1981080" cy="1371600"/>
          </a:xfrm>
        </p:grpSpPr>
        <p:sp>
          <p:nvSpPr>
            <p:cNvPr id="2392" name=""/>
            <p:cNvSpPr/>
            <p:nvPr/>
          </p:nvSpPr>
          <p:spPr>
            <a:xfrm>
              <a:off x="7315200" y="1447920"/>
              <a:ext cx="228600" cy="304560"/>
            </a:xfrm>
            <a:prstGeom prst="ellipse">
              <a:avLst/>
            </a:prstGeom>
            <a:noFill/>
            <a:ln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248520" y="457200"/>
              <a:ext cx="1295280" cy="457200"/>
            </a:xfrm>
            <a:prstGeom prst="wedgeEllipseCallout">
              <a:avLst>
                <a:gd name="adj1" fmla="val 36763"/>
                <a:gd name="adj2" fmla="val 169097"/>
              </a:avLst>
            </a:prstGeom>
            <a:noFill/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172200" y="4572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Times New Roman"/>
                </a:rPr>
                <a:t>שרי חמישי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924680" y="1523880"/>
              <a:ext cx="228600" cy="304920"/>
            </a:xfrm>
            <a:prstGeom prst="ellipse">
              <a:avLst/>
            </a:prstGeom>
            <a:noFill/>
            <a:ln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304920" y="228600"/>
            <a:ext cx="761760" cy="1828800"/>
            <a:chOff x="304920" y="228600"/>
            <a:chExt cx="761760" cy="1828800"/>
          </a:xfrm>
        </p:grpSpPr>
        <p:sp>
          <p:nvSpPr>
            <p:cNvPr id="2397" name=""/>
            <p:cNvSpPr/>
            <p:nvPr/>
          </p:nvSpPr>
          <p:spPr>
            <a:xfrm>
              <a:off x="685800" y="1523880"/>
              <a:ext cx="228600" cy="533520"/>
            </a:xfrm>
            <a:prstGeom prst="ellipse">
              <a:avLst/>
            </a:prstGeom>
            <a:noFill/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04920" y="228600"/>
              <a:ext cx="761760" cy="914400"/>
            </a:xfrm>
            <a:prstGeom prst="wedgeEllipseCallout">
              <a:avLst>
                <a:gd name="adj1" fmla="val 11250"/>
                <a:gd name="adj2" fmla="val 80384"/>
              </a:avLst>
            </a:prstGeom>
            <a:noFill/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04920" y="304920"/>
              <a:ext cx="761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Times New Roman"/>
                </a:rPr>
                <a:t>שרי עשרו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"/>
          <p:cNvSpPr/>
          <p:nvPr/>
        </p:nvSpPr>
        <p:spPr>
          <a:xfrm>
            <a:off x="990720" y="1371600"/>
            <a:ext cx="7391160" cy="4038480"/>
          </a:xfrm>
          <a:custGeom>
            <a:avLst/>
            <a:gdLst>
              <a:gd name="textAreaLeft" fmla="*/ 923760 w 7391160"/>
              <a:gd name="textAreaRight" fmla="*/ 6467400 w 7391160"/>
              <a:gd name="textAreaTop" fmla="*/ 892800 h 4038480"/>
              <a:gd name="textAreaBottom" fmla="*/ 403884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194" stAng="16200000" swAng="5400000"/>
                <a:lnTo>
                  <a:pt x="5400" y="4776"/>
                </a:lnTo>
                <a:lnTo>
                  <a:pt x="16200" y="4776"/>
                </a:lnTo>
                <a:lnTo>
                  <a:pt x="16200" y="1194"/>
                </a:lnTo>
                <a:arcTo wR="675" hR="1194" stAng="10800000" swAng="5400000"/>
                <a:lnTo>
                  <a:pt x="21600" y="0"/>
                </a:lnTo>
                <a:lnTo>
                  <a:pt x="18900" y="8412"/>
                </a:lnTo>
                <a:lnTo>
                  <a:pt x="21600" y="16824"/>
                </a:lnTo>
                <a:lnTo>
                  <a:pt x="18900" y="16824"/>
                </a:lnTo>
                <a:lnTo>
                  <a:pt x="18900" y="20406"/>
                </a:lnTo>
                <a:arcTo wR="675" hR="1194" stAng="0" swAng="5400000"/>
                <a:lnTo>
                  <a:pt x="3375" y="21600"/>
                </a:lnTo>
                <a:arcTo wR="675" hR="1194" stAng="5400000" swAng="5400000"/>
                <a:lnTo>
                  <a:pt x="2700" y="16824"/>
                </a:lnTo>
                <a:lnTo>
                  <a:pt x="0" y="16824"/>
                </a:lnTo>
                <a:lnTo>
                  <a:pt x="2700" y="8412"/>
                </a:lnTo>
                <a:close/>
              </a:path>
              <a:path fill="none" w="21600" h="21600">
                <a:moveTo>
                  <a:pt x="5400" y="1194"/>
                </a:moveTo>
                <a:arcTo wR="675" hR="1194" stAng="0" swAng="5400000"/>
                <a:lnTo>
                  <a:pt x="3375" y="2388"/>
                </a:lnTo>
                <a:arcTo wR="675" hR="1194" stAng="16200000" swAng="-5400000"/>
                <a:arcTo wR="675" hR="1194" stAng="10800000" swAng="-5400000"/>
                <a:lnTo>
                  <a:pt x="5400" y="4776"/>
                </a:lnTo>
              </a:path>
              <a:path fill="none" w="21600" h="21600">
                <a:moveTo>
                  <a:pt x="16200" y="1194"/>
                </a:moveTo>
                <a:arcTo wR="675" hR="1194" stAng="10800000" swAng="-5400000"/>
                <a:lnTo>
                  <a:pt x="18225" y="2388"/>
                </a:lnTo>
                <a:arcTo wR="675" hR="1194" stAng="16200000" swAng="5400000"/>
                <a:arcTo wR="675" hR="1194" stAng="0" swAng="5400000"/>
                <a:lnTo>
                  <a:pt x="16200" y="4776"/>
                </a:lnTo>
              </a:path>
              <a:path fill="none" w="21600" h="21600">
                <a:moveTo>
                  <a:pt x="2700" y="3582"/>
                </a:moveTo>
                <a:lnTo>
                  <a:pt x="2700" y="16824"/>
                </a:lnTo>
              </a:path>
              <a:path fill="none" w="21600" h="21600">
                <a:moveTo>
                  <a:pt x="18900" y="3582"/>
                </a:moveTo>
                <a:lnTo>
                  <a:pt x="18900" y="16824"/>
                </a:ln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d9d9f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643120" y="3276720"/>
            <a:ext cx="40626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81185" dir="19278031" blurRad="0" rotWithShape="0">
                    <a:srgbClr val="ffffff"/>
                  </a:outerShdw>
                </a:effectLst>
                <a:latin typeface="Arial"/>
              </a:rPr>
              <a:t>תודה על ההקשבה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81185" dir="19278031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2209680" y="4800600"/>
            <a:ext cx="4977000" cy="304920"/>
            <a:chOff x="2209680" y="4800600"/>
            <a:chExt cx="4977000" cy="304920"/>
          </a:xfrm>
        </p:grpSpPr>
        <p:sp>
          <p:nvSpPr>
            <p:cNvPr id="2403" name=""/>
            <p:cNvSpPr txBox="1"/>
            <p:nvPr/>
          </p:nvSpPr>
          <p:spPr>
            <a:xfrm>
              <a:off x="5638680" y="4800600"/>
              <a:ext cx="15480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5929" dir="19571123" blurRad="0" rotWithShape="0">
                      <a:srgbClr val="ffffff"/>
                    </a:outerShdw>
                  </a:effectLst>
                  <a:latin typeface="Arial"/>
                </a:rPr>
                <a:t>גיטה קופרמן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5929" dir="19571123" blurRad="0" rotWithShape="0">
                    <a:srgbClr val="ffff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404" name=""/>
            <p:cNvSpPr txBox="1"/>
            <p:nvPr/>
          </p:nvSpPr>
          <p:spPr>
            <a:xfrm>
              <a:off x="2209680" y="4800600"/>
              <a:ext cx="15480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5929" dir="19571123" blurRad="0" rotWithShape="0">
                      <a:srgbClr val="ffffff"/>
                    </a:outerShdw>
                  </a:effectLst>
                  <a:latin typeface="Arial"/>
                </a:rPr>
                <a:t>מיכל עמנואל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5929" dir="19571123" blurRad="0" rotWithShape="0">
                    <a:srgbClr val="ffffff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  <a:cs typeface="David"/>
              </a:rPr>
              <a:t>וּמֵאַיִן הָיוּ מַשִּׂיאִין מַשּׂוּאוֹת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819520" y="4495680"/>
            <a:ext cx="1904760" cy="1060560"/>
            <a:chOff x="2819520" y="4495680"/>
            <a:chExt cx="1904760" cy="1060560"/>
          </a:xfrm>
        </p:grpSpPr>
        <p:sp>
          <p:nvSpPr>
            <p:cNvPr id="704" name=""/>
            <p:cNvSpPr/>
            <p:nvPr/>
          </p:nvSpPr>
          <p:spPr>
            <a:xfrm>
              <a:off x="2819520" y="4495680"/>
              <a:ext cx="1904760" cy="1060560"/>
            </a:xfrm>
            <a:custGeom>
              <a:avLst/>
              <a:gdLst/>
              <a:ahLst/>
              <a:rect l="l" t="t" r="r" b="b"/>
              <a:pathLst>
                <a:path w="3667" h="1903">
                  <a:moveTo>
                    <a:pt x="0" y="1903"/>
                  </a:moveTo>
                  <a:lnTo>
                    <a:pt x="169" y="1660"/>
                  </a:lnTo>
                  <a:lnTo>
                    <a:pt x="381" y="1470"/>
                  </a:lnTo>
                  <a:lnTo>
                    <a:pt x="616" y="1404"/>
                  </a:lnTo>
                  <a:lnTo>
                    <a:pt x="682" y="1155"/>
                  </a:lnTo>
                  <a:lnTo>
                    <a:pt x="882" y="951"/>
                  </a:lnTo>
                  <a:lnTo>
                    <a:pt x="1151" y="951"/>
                  </a:lnTo>
                  <a:lnTo>
                    <a:pt x="1282" y="862"/>
                  </a:lnTo>
                  <a:lnTo>
                    <a:pt x="1372" y="638"/>
                  </a:lnTo>
                  <a:lnTo>
                    <a:pt x="1575" y="394"/>
                  </a:lnTo>
                  <a:lnTo>
                    <a:pt x="1684" y="56"/>
                  </a:lnTo>
                  <a:lnTo>
                    <a:pt x="1885" y="99"/>
                  </a:lnTo>
                  <a:lnTo>
                    <a:pt x="2120" y="0"/>
                  </a:lnTo>
                  <a:lnTo>
                    <a:pt x="2187" y="122"/>
                  </a:lnTo>
                  <a:lnTo>
                    <a:pt x="2315" y="215"/>
                  </a:lnTo>
                  <a:lnTo>
                    <a:pt x="2424" y="462"/>
                  </a:lnTo>
                  <a:lnTo>
                    <a:pt x="2643" y="601"/>
                  </a:lnTo>
                  <a:lnTo>
                    <a:pt x="2754" y="850"/>
                  </a:lnTo>
                  <a:lnTo>
                    <a:pt x="2997" y="985"/>
                  </a:lnTo>
                  <a:lnTo>
                    <a:pt x="3053" y="1288"/>
                  </a:lnTo>
                  <a:lnTo>
                    <a:pt x="3502" y="1614"/>
                  </a:lnTo>
                  <a:lnTo>
                    <a:pt x="3667" y="1903"/>
                  </a:lnTo>
                  <a:lnTo>
                    <a:pt x="0" y="1903"/>
                  </a:lnTo>
                  <a:close/>
                </a:path>
              </a:pathLst>
            </a:custGeom>
            <a:solidFill>
              <a:srgbClr val="a0a0a0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963960" y="4613760"/>
              <a:ext cx="441000" cy="736200"/>
              <a:chOff x="3963960" y="4613760"/>
              <a:chExt cx="441000" cy="736200"/>
            </a:xfrm>
          </p:grpSpPr>
          <p:sp>
            <p:nvSpPr>
              <p:cNvPr id="706" name=""/>
              <p:cNvSpPr/>
              <p:nvPr/>
            </p:nvSpPr>
            <p:spPr>
              <a:xfrm>
                <a:off x="3963960" y="4613760"/>
                <a:ext cx="127440" cy="245880"/>
              </a:xfrm>
              <a:custGeom>
                <a:avLst/>
                <a:gdLst/>
                <a:ahLst/>
                <a:rect l="l" t="t" r="r" b="b"/>
                <a:pathLst>
                  <a:path w="245" h="441">
                    <a:moveTo>
                      <a:pt x="110" y="0"/>
                    </a:moveTo>
                    <a:lnTo>
                      <a:pt x="80" y="166"/>
                    </a:lnTo>
                    <a:lnTo>
                      <a:pt x="110" y="249"/>
                    </a:lnTo>
                    <a:lnTo>
                      <a:pt x="28" y="331"/>
                    </a:lnTo>
                    <a:lnTo>
                      <a:pt x="0" y="441"/>
                    </a:lnTo>
                    <a:lnTo>
                      <a:pt x="135" y="412"/>
                    </a:lnTo>
                    <a:lnTo>
                      <a:pt x="135" y="359"/>
                    </a:lnTo>
                    <a:lnTo>
                      <a:pt x="245" y="412"/>
                    </a:lnTo>
                    <a:lnTo>
                      <a:pt x="219" y="249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50000" y="4826160"/>
                <a:ext cx="199080" cy="278280"/>
              </a:xfrm>
              <a:custGeom>
                <a:avLst/>
                <a:gdLst/>
                <a:ahLst/>
                <a:rect l="l" t="t" r="r" b="b"/>
                <a:pathLst>
                  <a:path w="385" h="499">
                    <a:moveTo>
                      <a:pt x="274" y="0"/>
                    </a:moveTo>
                    <a:lnTo>
                      <a:pt x="385" y="251"/>
                    </a:lnTo>
                    <a:lnTo>
                      <a:pt x="274" y="279"/>
                    </a:lnTo>
                    <a:lnTo>
                      <a:pt x="165" y="415"/>
                    </a:lnTo>
                    <a:lnTo>
                      <a:pt x="81" y="335"/>
                    </a:lnTo>
                    <a:lnTo>
                      <a:pt x="0" y="499"/>
                    </a:lnTo>
                    <a:lnTo>
                      <a:pt x="0" y="251"/>
                    </a:lnTo>
                    <a:lnTo>
                      <a:pt x="165" y="224"/>
                    </a:lnTo>
                    <a:lnTo>
                      <a:pt x="192" y="59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206600" y="5043600"/>
                <a:ext cx="198360" cy="306360"/>
              </a:xfrm>
              <a:custGeom>
                <a:avLst/>
                <a:gdLst/>
                <a:ahLst/>
                <a:rect l="l" t="t" r="r" b="b"/>
                <a:pathLst>
                  <a:path w="382" h="551">
                    <a:moveTo>
                      <a:pt x="326" y="0"/>
                    </a:moveTo>
                    <a:lnTo>
                      <a:pt x="163" y="54"/>
                    </a:lnTo>
                    <a:lnTo>
                      <a:pt x="163" y="249"/>
                    </a:lnTo>
                    <a:lnTo>
                      <a:pt x="53" y="221"/>
                    </a:lnTo>
                    <a:lnTo>
                      <a:pt x="0" y="384"/>
                    </a:lnTo>
                    <a:lnTo>
                      <a:pt x="137" y="414"/>
                    </a:lnTo>
                    <a:lnTo>
                      <a:pt x="216" y="551"/>
                    </a:lnTo>
                    <a:lnTo>
                      <a:pt x="302" y="384"/>
                    </a:lnTo>
                    <a:lnTo>
                      <a:pt x="382" y="445"/>
                    </a:lnTo>
                    <a:lnTo>
                      <a:pt x="382" y="305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4495680" y="4876920"/>
            <a:ext cx="1981440" cy="984240"/>
            <a:chOff x="4495680" y="4876920"/>
            <a:chExt cx="1981440" cy="984240"/>
          </a:xfrm>
        </p:grpSpPr>
        <p:sp>
          <p:nvSpPr>
            <p:cNvPr id="710" name=""/>
            <p:cNvSpPr/>
            <p:nvPr/>
          </p:nvSpPr>
          <p:spPr>
            <a:xfrm>
              <a:off x="4495680" y="4876920"/>
              <a:ext cx="1981440" cy="984240"/>
            </a:xfrm>
            <a:custGeom>
              <a:avLst/>
              <a:gdLst/>
              <a:ahLst/>
              <a:rect l="l" t="t" r="r" b="b"/>
              <a:pathLst>
                <a:path w="3667" h="1903">
                  <a:moveTo>
                    <a:pt x="0" y="1903"/>
                  </a:moveTo>
                  <a:lnTo>
                    <a:pt x="169" y="1660"/>
                  </a:lnTo>
                  <a:lnTo>
                    <a:pt x="381" y="1470"/>
                  </a:lnTo>
                  <a:lnTo>
                    <a:pt x="616" y="1404"/>
                  </a:lnTo>
                  <a:lnTo>
                    <a:pt x="682" y="1155"/>
                  </a:lnTo>
                  <a:lnTo>
                    <a:pt x="882" y="951"/>
                  </a:lnTo>
                  <a:lnTo>
                    <a:pt x="1151" y="951"/>
                  </a:lnTo>
                  <a:lnTo>
                    <a:pt x="1282" y="862"/>
                  </a:lnTo>
                  <a:lnTo>
                    <a:pt x="1372" y="638"/>
                  </a:lnTo>
                  <a:lnTo>
                    <a:pt x="1575" y="394"/>
                  </a:lnTo>
                  <a:lnTo>
                    <a:pt x="1684" y="56"/>
                  </a:lnTo>
                  <a:lnTo>
                    <a:pt x="1885" y="99"/>
                  </a:lnTo>
                  <a:lnTo>
                    <a:pt x="2120" y="0"/>
                  </a:lnTo>
                  <a:lnTo>
                    <a:pt x="2187" y="122"/>
                  </a:lnTo>
                  <a:lnTo>
                    <a:pt x="2315" y="215"/>
                  </a:lnTo>
                  <a:lnTo>
                    <a:pt x="2424" y="462"/>
                  </a:lnTo>
                  <a:lnTo>
                    <a:pt x="2643" y="601"/>
                  </a:lnTo>
                  <a:lnTo>
                    <a:pt x="2754" y="850"/>
                  </a:lnTo>
                  <a:lnTo>
                    <a:pt x="2997" y="985"/>
                  </a:lnTo>
                  <a:lnTo>
                    <a:pt x="3053" y="1288"/>
                  </a:lnTo>
                  <a:lnTo>
                    <a:pt x="3502" y="1614"/>
                  </a:lnTo>
                  <a:lnTo>
                    <a:pt x="3667" y="1903"/>
                  </a:lnTo>
                  <a:lnTo>
                    <a:pt x="0" y="1903"/>
                  </a:lnTo>
                  <a:close/>
                </a:path>
              </a:pathLst>
            </a:custGeom>
            <a:solidFill>
              <a:srgbClr val="a0a0a0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5686200" y="4986360"/>
              <a:ext cx="458640" cy="682920"/>
              <a:chOff x="5686200" y="4986360"/>
              <a:chExt cx="458640" cy="682920"/>
            </a:xfrm>
          </p:grpSpPr>
          <p:sp>
            <p:nvSpPr>
              <p:cNvPr id="712" name=""/>
              <p:cNvSpPr/>
              <p:nvPr/>
            </p:nvSpPr>
            <p:spPr>
              <a:xfrm>
                <a:off x="5686200" y="4986360"/>
                <a:ext cx="132480" cy="228240"/>
              </a:xfrm>
              <a:custGeom>
                <a:avLst/>
                <a:gdLst/>
                <a:ahLst/>
                <a:rect l="l" t="t" r="r" b="b"/>
                <a:pathLst>
                  <a:path w="245" h="441">
                    <a:moveTo>
                      <a:pt x="110" y="0"/>
                    </a:moveTo>
                    <a:lnTo>
                      <a:pt x="80" y="166"/>
                    </a:lnTo>
                    <a:lnTo>
                      <a:pt x="110" y="249"/>
                    </a:lnTo>
                    <a:lnTo>
                      <a:pt x="28" y="331"/>
                    </a:lnTo>
                    <a:lnTo>
                      <a:pt x="0" y="441"/>
                    </a:lnTo>
                    <a:lnTo>
                      <a:pt x="135" y="412"/>
                    </a:lnTo>
                    <a:lnTo>
                      <a:pt x="135" y="359"/>
                    </a:lnTo>
                    <a:lnTo>
                      <a:pt x="245" y="412"/>
                    </a:lnTo>
                    <a:lnTo>
                      <a:pt x="219" y="249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775840" y="5183640"/>
                <a:ext cx="207000" cy="258480"/>
              </a:xfrm>
              <a:custGeom>
                <a:avLst/>
                <a:gdLst/>
                <a:ahLst/>
                <a:rect l="l" t="t" r="r" b="b"/>
                <a:pathLst>
                  <a:path w="385" h="499">
                    <a:moveTo>
                      <a:pt x="274" y="0"/>
                    </a:moveTo>
                    <a:lnTo>
                      <a:pt x="385" y="251"/>
                    </a:lnTo>
                    <a:lnTo>
                      <a:pt x="274" y="279"/>
                    </a:lnTo>
                    <a:lnTo>
                      <a:pt x="165" y="415"/>
                    </a:lnTo>
                    <a:lnTo>
                      <a:pt x="81" y="335"/>
                    </a:lnTo>
                    <a:lnTo>
                      <a:pt x="0" y="499"/>
                    </a:lnTo>
                    <a:lnTo>
                      <a:pt x="0" y="251"/>
                    </a:lnTo>
                    <a:lnTo>
                      <a:pt x="165" y="224"/>
                    </a:lnTo>
                    <a:lnTo>
                      <a:pt x="192" y="59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38560" y="5385240"/>
                <a:ext cx="206280" cy="284040"/>
              </a:xfrm>
              <a:custGeom>
                <a:avLst/>
                <a:gdLst/>
                <a:ahLst/>
                <a:rect l="l" t="t" r="r" b="b"/>
                <a:pathLst>
                  <a:path w="382" h="551">
                    <a:moveTo>
                      <a:pt x="326" y="0"/>
                    </a:moveTo>
                    <a:lnTo>
                      <a:pt x="163" y="54"/>
                    </a:lnTo>
                    <a:lnTo>
                      <a:pt x="163" y="249"/>
                    </a:lnTo>
                    <a:lnTo>
                      <a:pt x="53" y="221"/>
                    </a:lnTo>
                    <a:lnTo>
                      <a:pt x="0" y="384"/>
                    </a:lnTo>
                    <a:lnTo>
                      <a:pt x="137" y="414"/>
                    </a:lnTo>
                    <a:lnTo>
                      <a:pt x="216" y="551"/>
                    </a:lnTo>
                    <a:lnTo>
                      <a:pt x="302" y="384"/>
                    </a:lnTo>
                    <a:lnTo>
                      <a:pt x="382" y="445"/>
                    </a:lnTo>
                    <a:lnTo>
                      <a:pt x="382" y="305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914400" y="3200400"/>
            <a:ext cx="1546200" cy="831960"/>
            <a:chOff x="914400" y="3200400"/>
            <a:chExt cx="1546200" cy="831960"/>
          </a:xfrm>
        </p:grpSpPr>
        <p:sp>
          <p:nvSpPr>
            <p:cNvPr id="716" name=""/>
            <p:cNvSpPr/>
            <p:nvPr/>
          </p:nvSpPr>
          <p:spPr>
            <a:xfrm>
              <a:off x="914400" y="3200400"/>
              <a:ext cx="1546200" cy="831960"/>
            </a:xfrm>
            <a:custGeom>
              <a:avLst/>
              <a:gdLst/>
              <a:ahLst/>
              <a:rect l="l" t="t" r="r" b="b"/>
              <a:pathLst>
                <a:path w="3667" h="1903">
                  <a:moveTo>
                    <a:pt x="0" y="1903"/>
                  </a:moveTo>
                  <a:lnTo>
                    <a:pt x="169" y="1660"/>
                  </a:lnTo>
                  <a:lnTo>
                    <a:pt x="381" y="1470"/>
                  </a:lnTo>
                  <a:lnTo>
                    <a:pt x="616" y="1404"/>
                  </a:lnTo>
                  <a:lnTo>
                    <a:pt x="682" y="1155"/>
                  </a:lnTo>
                  <a:lnTo>
                    <a:pt x="882" y="951"/>
                  </a:lnTo>
                  <a:lnTo>
                    <a:pt x="1151" y="951"/>
                  </a:lnTo>
                  <a:lnTo>
                    <a:pt x="1282" y="862"/>
                  </a:lnTo>
                  <a:lnTo>
                    <a:pt x="1372" y="638"/>
                  </a:lnTo>
                  <a:lnTo>
                    <a:pt x="1575" y="394"/>
                  </a:lnTo>
                  <a:lnTo>
                    <a:pt x="1684" y="56"/>
                  </a:lnTo>
                  <a:lnTo>
                    <a:pt x="1885" y="99"/>
                  </a:lnTo>
                  <a:lnTo>
                    <a:pt x="2120" y="0"/>
                  </a:lnTo>
                  <a:lnTo>
                    <a:pt x="2187" y="122"/>
                  </a:lnTo>
                  <a:lnTo>
                    <a:pt x="2315" y="215"/>
                  </a:lnTo>
                  <a:lnTo>
                    <a:pt x="2424" y="462"/>
                  </a:lnTo>
                  <a:lnTo>
                    <a:pt x="2643" y="601"/>
                  </a:lnTo>
                  <a:lnTo>
                    <a:pt x="2754" y="850"/>
                  </a:lnTo>
                  <a:lnTo>
                    <a:pt x="2997" y="985"/>
                  </a:lnTo>
                  <a:lnTo>
                    <a:pt x="3053" y="1288"/>
                  </a:lnTo>
                  <a:lnTo>
                    <a:pt x="3502" y="1614"/>
                  </a:lnTo>
                  <a:lnTo>
                    <a:pt x="3667" y="1903"/>
                  </a:lnTo>
                  <a:lnTo>
                    <a:pt x="0" y="1903"/>
                  </a:lnTo>
                  <a:close/>
                </a:path>
              </a:pathLst>
            </a:custGeom>
            <a:solidFill>
              <a:srgbClr val="a0a0a0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1843560" y="3292920"/>
              <a:ext cx="357840" cy="577800"/>
              <a:chOff x="1843560" y="3292920"/>
              <a:chExt cx="357840" cy="577800"/>
            </a:xfrm>
          </p:grpSpPr>
          <p:sp>
            <p:nvSpPr>
              <p:cNvPr id="718" name=""/>
              <p:cNvSpPr/>
              <p:nvPr/>
            </p:nvSpPr>
            <p:spPr>
              <a:xfrm>
                <a:off x="1843560" y="3292920"/>
                <a:ext cx="103320" cy="192960"/>
              </a:xfrm>
              <a:custGeom>
                <a:avLst/>
                <a:gdLst/>
                <a:ahLst/>
                <a:rect l="l" t="t" r="r" b="b"/>
                <a:pathLst>
                  <a:path w="245" h="441">
                    <a:moveTo>
                      <a:pt x="110" y="0"/>
                    </a:moveTo>
                    <a:lnTo>
                      <a:pt x="80" y="166"/>
                    </a:lnTo>
                    <a:lnTo>
                      <a:pt x="110" y="249"/>
                    </a:lnTo>
                    <a:lnTo>
                      <a:pt x="28" y="331"/>
                    </a:lnTo>
                    <a:lnTo>
                      <a:pt x="0" y="441"/>
                    </a:lnTo>
                    <a:lnTo>
                      <a:pt x="135" y="412"/>
                    </a:lnTo>
                    <a:lnTo>
                      <a:pt x="135" y="359"/>
                    </a:lnTo>
                    <a:lnTo>
                      <a:pt x="245" y="412"/>
                    </a:lnTo>
                    <a:lnTo>
                      <a:pt x="219" y="249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913400" y="3459600"/>
                <a:ext cx="161640" cy="218520"/>
              </a:xfrm>
              <a:custGeom>
                <a:avLst/>
                <a:gdLst/>
                <a:ahLst/>
                <a:rect l="l" t="t" r="r" b="b"/>
                <a:pathLst>
                  <a:path w="385" h="499">
                    <a:moveTo>
                      <a:pt x="274" y="0"/>
                    </a:moveTo>
                    <a:lnTo>
                      <a:pt x="385" y="251"/>
                    </a:lnTo>
                    <a:lnTo>
                      <a:pt x="274" y="279"/>
                    </a:lnTo>
                    <a:lnTo>
                      <a:pt x="165" y="415"/>
                    </a:lnTo>
                    <a:lnTo>
                      <a:pt x="81" y="335"/>
                    </a:lnTo>
                    <a:lnTo>
                      <a:pt x="0" y="499"/>
                    </a:lnTo>
                    <a:lnTo>
                      <a:pt x="0" y="251"/>
                    </a:lnTo>
                    <a:lnTo>
                      <a:pt x="165" y="224"/>
                    </a:lnTo>
                    <a:lnTo>
                      <a:pt x="192" y="59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040480" y="3630240"/>
                <a:ext cx="160920" cy="240480"/>
              </a:xfrm>
              <a:custGeom>
                <a:avLst/>
                <a:gdLst/>
                <a:ahLst/>
                <a:rect l="l" t="t" r="r" b="b"/>
                <a:pathLst>
                  <a:path w="382" h="551">
                    <a:moveTo>
                      <a:pt x="326" y="0"/>
                    </a:moveTo>
                    <a:lnTo>
                      <a:pt x="163" y="54"/>
                    </a:lnTo>
                    <a:lnTo>
                      <a:pt x="163" y="249"/>
                    </a:lnTo>
                    <a:lnTo>
                      <a:pt x="53" y="221"/>
                    </a:lnTo>
                    <a:lnTo>
                      <a:pt x="0" y="384"/>
                    </a:lnTo>
                    <a:lnTo>
                      <a:pt x="137" y="414"/>
                    </a:lnTo>
                    <a:lnTo>
                      <a:pt x="216" y="551"/>
                    </a:lnTo>
                    <a:lnTo>
                      <a:pt x="302" y="384"/>
                    </a:lnTo>
                    <a:lnTo>
                      <a:pt x="382" y="445"/>
                    </a:lnTo>
                    <a:lnTo>
                      <a:pt x="382" y="305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1676520" y="3809880"/>
            <a:ext cx="1927080" cy="908280"/>
            <a:chOff x="1676520" y="3809880"/>
            <a:chExt cx="1927080" cy="908280"/>
          </a:xfrm>
        </p:grpSpPr>
        <p:sp>
          <p:nvSpPr>
            <p:cNvPr id="722" name=""/>
            <p:cNvSpPr/>
            <p:nvPr/>
          </p:nvSpPr>
          <p:spPr>
            <a:xfrm>
              <a:off x="1676520" y="3809880"/>
              <a:ext cx="1927080" cy="908280"/>
            </a:xfrm>
            <a:custGeom>
              <a:avLst/>
              <a:gdLst/>
              <a:ahLst/>
              <a:rect l="l" t="t" r="r" b="b"/>
              <a:pathLst>
                <a:path w="3667" h="1903">
                  <a:moveTo>
                    <a:pt x="0" y="1903"/>
                  </a:moveTo>
                  <a:lnTo>
                    <a:pt x="169" y="1660"/>
                  </a:lnTo>
                  <a:lnTo>
                    <a:pt x="381" y="1470"/>
                  </a:lnTo>
                  <a:lnTo>
                    <a:pt x="616" y="1404"/>
                  </a:lnTo>
                  <a:lnTo>
                    <a:pt x="682" y="1155"/>
                  </a:lnTo>
                  <a:lnTo>
                    <a:pt x="882" y="951"/>
                  </a:lnTo>
                  <a:lnTo>
                    <a:pt x="1151" y="951"/>
                  </a:lnTo>
                  <a:lnTo>
                    <a:pt x="1282" y="862"/>
                  </a:lnTo>
                  <a:lnTo>
                    <a:pt x="1372" y="638"/>
                  </a:lnTo>
                  <a:lnTo>
                    <a:pt x="1575" y="394"/>
                  </a:lnTo>
                  <a:lnTo>
                    <a:pt x="1684" y="56"/>
                  </a:lnTo>
                  <a:lnTo>
                    <a:pt x="1885" y="99"/>
                  </a:lnTo>
                  <a:lnTo>
                    <a:pt x="2120" y="0"/>
                  </a:lnTo>
                  <a:lnTo>
                    <a:pt x="2187" y="122"/>
                  </a:lnTo>
                  <a:lnTo>
                    <a:pt x="2315" y="215"/>
                  </a:lnTo>
                  <a:lnTo>
                    <a:pt x="2424" y="462"/>
                  </a:lnTo>
                  <a:lnTo>
                    <a:pt x="2643" y="601"/>
                  </a:lnTo>
                  <a:lnTo>
                    <a:pt x="2754" y="850"/>
                  </a:lnTo>
                  <a:lnTo>
                    <a:pt x="2997" y="985"/>
                  </a:lnTo>
                  <a:lnTo>
                    <a:pt x="3053" y="1288"/>
                  </a:lnTo>
                  <a:lnTo>
                    <a:pt x="3502" y="1614"/>
                  </a:lnTo>
                  <a:lnTo>
                    <a:pt x="3667" y="1903"/>
                  </a:lnTo>
                  <a:lnTo>
                    <a:pt x="0" y="1903"/>
                  </a:lnTo>
                  <a:close/>
                </a:path>
              </a:pathLst>
            </a:custGeom>
            <a:solidFill>
              <a:srgbClr val="a0a0a0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2834280" y="3911040"/>
              <a:ext cx="446040" cy="630720"/>
              <a:chOff x="2834280" y="3911040"/>
              <a:chExt cx="446040" cy="630720"/>
            </a:xfrm>
          </p:grpSpPr>
          <p:sp>
            <p:nvSpPr>
              <p:cNvPr id="724" name=""/>
              <p:cNvSpPr/>
              <p:nvPr/>
            </p:nvSpPr>
            <p:spPr>
              <a:xfrm>
                <a:off x="2834280" y="3911040"/>
                <a:ext cx="128880" cy="210600"/>
              </a:xfrm>
              <a:custGeom>
                <a:avLst/>
                <a:gdLst/>
                <a:ahLst/>
                <a:rect l="l" t="t" r="r" b="b"/>
                <a:pathLst>
                  <a:path w="245" h="441">
                    <a:moveTo>
                      <a:pt x="110" y="0"/>
                    </a:moveTo>
                    <a:lnTo>
                      <a:pt x="80" y="166"/>
                    </a:lnTo>
                    <a:lnTo>
                      <a:pt x="110" y="249"/>
                    </a:lnTo>
                    <a:lnTo>
                      <a:pt x="28" y="331"/>
                    </a:lnTo>
                    <a:lnTo>
                      <a:pt x="0" y="441"/>
                    </a:lnTo>
                    <a:lnTo>
                      <a:pt x="135" y="412"/>
                    </a:lnTo>
                    <a:lnTo>
                      <a:pt x="135" y="359"/>
                    </a:lnTo>
                    <a:lnTo>
                      <a:pt x="245" y="412"/>
                    </a:lnTo>
                    <a:lnTo>
                      <a:pt x="219" y="249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921400" y="4093200"/>
                <a:ext cx="201240" cy="238680"/>
              </a:xfrm>
              <a:custGeom>
                <a:avLst/>
                <a:gdLst/>
                <a:ahLst/>
                <a:rect l="l" t="t" r="r" b="b"/>
                <a:pathLst>
                  <a:path w="385" h="499">
                    <a:moveTo>
                      <a:pt x="274" y="0"/>
                    </a:moveTo>
                    <a:lnTo>
                      <a:pt x="385" y="251"/>
                    </a:lnTo>
                    <a:lnTo>
                      <a:pt x="274" y="279"/>
                    </a:lnTo>
                    <a:lnTo>
                      <a:pt x="165" y="415"/>
                    </a:lnTo>
                    <a:lnTo>
                      <a:pt x="81" y="335"/>
                    </a:lnTo>
                    <a:lnTo>
                      <a:pt x="0" y="499"/>
                    </a:lnTo>
                    <a:lnTo>
                      <a:pt x="0" y="251"/>
                    </a:lnTo>
                    <a:lnTo>
                      <a:pt x="165" y="224"/>
                    </a:lnTo>
                    <a:lnTo>
                      <a:pt x="192" y="59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079800" y="4279320"/>
                <a:ext cx="200520" cy="262440"/>
              </a:xfrm>
              <a:custGeom>
                <a:avLst/>
                <a:gdLst/>
                <a:ahLst/>
                <a:rect l="l" t="t" r="r" b="b"/>
                <a:pathLst>
                  <a:path w="382" h="551">
                    <a:moveTo>
                      <a:pt x="326" y="0"/>
                    </a:moveTo>
                    <a:lnTo>
                      <a:pt x="163" y="54"/>
                    </a:lnTo>
                    <a:lnTo>
                      <a:pt x="163" y="249"/>
                    </a:lnTo>
                    <a:lnTo>
                      <a:pt x="53" y="221"/>
                    </a:lnTo>
                    <a:lnTo>
                      <a:pt x="0" y="384"/>
                    </a:lnTo>
                    <a:lnTo>
                      <a:pt x="137" y="414"/>
                    </a:lnTo>
                    <a:lnTo>
                      <a:pt x="216" y="551"/>
                    </a:lnTo>
                    <a:lnTo>
                      <a:pt x="302" y="384"/>
                    </a:lnTo>
                    <a:lnTo>
                      <a:pt x="382" y="445"/>
                    </a:lnTo>
                    <a:lnTo>
                      <a:pt x="382" y="305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5257800" y="4572000"/>
            <a:ext cx="762120" cy="44928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762120" cy="4492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4"/>
          <a:stretch/>
        </p:blipFill>
        <p:spPr>
          <a:xfrm>
            <a:off x="1295280" y="2895480"/>
            <a:ext cx="762120" cy="449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5"/>
          <a:stretch/>
        </p:blipFill>
        <p:spPr>
          <a:xfrm>
            <a:off x="2362320" y="3505320"/>
            <a:ext cx="761760" cy="44928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6858000" y="2133720"/>
            <a:ext cx="1413000" cy="990360"/>
            <a:chOff x="6858000" y="2133720"/>
            <a:chExt cx="1413000" cy="990360"/>
          </a:xfrm>
        </p:grpSpPr>
        <p:sp>
          <p:nvSpPr>
            <p:cNvPr id="732" name=""/>
            <p:cNvSpPr/>
            <p:nvPr/>
          </p:nvSpPr>
          <p:spPr>
            <a:xfrm>
              <a:off x="6858000" y="2133720"/>
              <a:ext cx="1413000" cy="990360"/>
            </a:xfrm>
            <a:custGeom>
              <a:avLst/>
              <a:gdLst/>
              <a:ahLst/>
              <a:rect l="l" t="t" r="r" b="b"/>
              <a:pathLst>
                <a:path w="1659" h="742">
                  <a:moveTo>
                    <a:pt x="252" y="584"/>
                  </a:moveTo>
                  <a:lnTo>
                    <a:pt x="227" y="584"/>
                  </a:lnTo>
                  <a:lnTo>
                    <a:pt x="200" y="580"/>
                  </a:lnTo>
                  <a:lnTo>
                    <a:pt x="172" y="572"/>
                  </a:lnTo>
                  <a:lnTo>
                    <a:pt x="147" y="558"/>
                  </a:lnTo>
                  <a:lnTo>
                    <a:pt x="124" y="540"/>
                  </a:lnTo>
                  <a:lnTo>
                    <a:pt x="105" y="518"/>
                  </a:lnTo>
                  <a:lnTo>
                    <a:pt x="96" y="491"/>
                  </a:lnTo>
                  <a:lnTo>
                    <a:pt x="92" y="459"/>
                  </a:lnTo>
                  <a:lnTo>
                    <a:pt x="94" y="428"/>
                  </a:lnTo>
                  <a:lnTo>
                    <a:pt x="92" y="404"/>
                  </a:lnTo>
                  <a:lnTo>
                    <a:pt x="88" y="386"/>
                  </a:lnTo>
                  <a:lnTo>
                    <a:pt x="81" y="370"/>
                  </a:lnTo>
                  <a:lnTo>
                    <a:pt x="73" y="358"/>
                  </a:lnTo>
                  <a:lnTo>
                    <a:pt x="60" y="346"/>
                  </a:lnTo>
                  <a:lnTo>
                    <a:pt x="46" y="334"/>
                  </a:lnTo>
                  <a:lnTo>
                    <a:pt x="30" y="319"/>
                  </a:lnTo>
                  <a:lnTo>
                    <a:pt x="14" y="300"/>
                  </a:lnTo>
                  <a:lnTo>
                    <a:pt x="4" y="277"/>
                  </a:lnTo>
                  <a:lnTo>
                    <a:pt x="0" y="250"/>
                  </a:lnTo>
                  <a:lnTo>
                    <a:pt x="1" y="221"/>
                  </a:lnTo>
                  <a:lnTo>
                    <a:pt x="8" y="192"/>
                  </a:lnTo>
                  <a:lnTo>
                    <a:pt x="20" y="165"/>
                  </a:lnTo>
                  <a:lnTo>
                    <a:pt x="40" y="140"/>
                  </a:lnTo>
                  <a:lnTo>
                    <a:pt x="65" y="119"/>
                  </a:lnTo>
                  <a:lnTo>
                    <a:pt x="60" y="143"/>
                  </a:lnTo>
                  <a:lnTo>
                    <a:pt x="60" y="170"/>
                  </a:lnTo>
                  <a:lnTo>
                    <a:pt x="67" y="196"/>
                  </a:lnTo>
                  <a:lnTo>
                    <a:pt x="78" y="221"/>
                  </a:lnTo>
                  <a:lnTo>
                    <a:pt x="96" y="242"/>
                  </a:lnTo>
                  <a:lnTo>
                    <a:pt x="120" y="258"/>
                  </a:lnTo>
                  <a:lnTo>
                    <a:pt x="152" y="269"/>
                  </a:lnTo>
                  <a:lnTo>
                    <a:pt x="190" y="271"/>
                  </a:lnTo>
                  <a:lnTo>
                    <a:pt x="192" y="241"/>
                  </a:lnTo>
                  <a:lnTo>
                    <a:pt x="198" y="213"/>
                  </a:lnTo>
                  <a:lnTo>
                    <a:pt x="209" y="188"/>
                  </a:lnTo>
                  <a:lnTo>
                    <a:pt x="225" y="165"/>
                  </a:lnTo>
                  <a:lnTo>
                    <a:pt x="246" y="148"/>
                  </a:lnTo>
                  <a:lnTo>
                    <a:pt x="272" y="133"/>
                  </a:lnTo>
                  <a:lnTo>
                    <a:pt x="304" y="123"/>
                  </a:lnTo>
                  <a:lnTo>
                    <a:pt x="342" y="119"/>
                  </a:lnTo>
                  <a:lnTo>
                    <a:pt x="318" y="136"/>
                  </a:lnTo>
                  <a:lnTo>
                    <a:pt x="300" y="156"/>
                  </a:lnTo>
                  <a:lnTo>
                    <a:pt x="292" y="175"/>
                  </a:lnTo>
                  <a:lnTo>
                    <a:pt x="288" y="192"/>
                  </a:lnTo>
                  <a:lnTo>
                    <a:pt x="289" y="210"/>
                  </a:lnTo>
                  <a:lnTo>
                    <a:pt x="292" y="228"/>
                  </a:lnTo>
                  <a:lnTo>
                    <a:pt x="299" y="244"/>
                  </a:lnTo>
                  <a:lnTo>
                    <a:pt x="307" y="257"/>
                  </a:lnTo>
                  <a:lnTo>
                    <a:pt x="320" y="269"/>
                  </a:lnTo>
                  <a:lnTo>
                    <a:pt x="340" y="279"/>
                  </a:lnTo>
                  <a:lnTo>
                    <a:pt x="368" y="290"/>
                  </a:lnTo>
                  <a:lnTo>
                    <a:pt x="396" y="301"/>
                  </a:lnTo>
                  <a:lnTo>
                    <a:pt x="424" y="314"/>
                  </a:lnTo>
                  <a:lnTo>
                    <a:pt x="448" y="332"/>
                  </a:lnTo>
                  <a:lnTo>
                    <a:pt x="467" y="354"/>
                  </a:lnTo>
                  <a:lnTo>
                    <a:pt x="475" y="382"/>
                  </a:lnTo>
                  <a:lnTo>
                    <a:pt x="484" y="361"/>
                  </a:lnTo>
                  <a:lnTo>
                    <a:pt x="494" y="346"/>
                  </a:lnTo>
                  <a:lnTo>
                    <a:pt x="504" y="335"/>
                  </a:lnTo>
                  <a:lnTo>
                    <a:pt x="513" y="326"/>
                  </a:lnTo>
                  <a:lnTo>
                    <a:pt x="521" y="318"/>
                  </a:lnTo>
                  <a:lnTo>
                    <a:pt x="531" y="309"/>
                  </a:lnTo>
                  <a:lnTo>
                    <a:pt x="540" y="298"/>
                  </a:lnTo>
                  <a:lnTo>
                    <a:pt x="550" y="285"/>
                  </a:lnTo>
                  <a:lnTo>
                    <a:pt x="555" y="271"/>
                  </a:lnTo>
                  <a:lnTo>
                    <a:pt x="548" y="257"/>
                  </a:lnTo>
                  <a:lnTo>
                    <a:pt x="536" y="242"/>
                  </a:lnTo>
                  <a:lnTo>
                    <a:pt x="524" y="225"/>
                  </a:lnTo>
                  <a:lnTo>
                    <a:pt x="516" y="204"/>
                  </a:lnTo>
                  <a:lnTo>
                    <a:pt x="520" y="180"/>
                  </a:lnTo>
                  <a:lnTo>
                    <a:pt x="536" y="149"/>
                  </a:lnTo>
                  <a:lnTo>
                    <a:pt x="571" y="111"/>
                  </a:lnTo>
                  <a:lnTo>
                    <a:pt x="612" y="75"/>
                  </a:lnTo>
                  <a:lnTo>
                    <a:pt x="646" y="51"/>
                  </a:lnTo>
                  <a:lnTo>
                    <a:pt x="672" y="35"/>
                  </a:lnTo>
                  <a:lnTo>
                    <a:pt x="691" y="27"/>
                  </a:lnTo>
                  <a:lnTo>
                    <a:pt x="704" y="24"/>
                  </a:lnTo>
                  <a:lnTo>
                    <a:pt x="712" y="24"/>
                  </a:lnTo>
                  <a:lnTo>
                    <a:pt x="715" y="26"/>
                  </a:lnTo>
                  <a:lnTo>
                    <a:pt x="716" y="27"/>
                  </a:lnTo>
                  <a:lnTo>
                    <a:pt x="699" y="38"/>
                  </a:lnTo>
                  <a:lnTo>
                    <a:pt x="684" y="53"/>
                  </a:lnTo>
                  <a:lnTo>
                    <a:pt x="672" y="67"/>
                  </a:lnTo>
                  <a:lnTo>
                    <a:pt x="662" y="83"/>
                  </a:lnTo>
                  <a:lnTo>
                    <a:pt x="656" y="99"/>
                  </a:lnTo>
                  <a:lnTo>
                    <a:pt x="654" y="117"/>
                  </a:lnTo>
                  <a:lnTo>
                    <a:pt x="659" y="131"/>
                  </a:lnTo>
                  <a:lnTo>
                    <a:pt x="668" y="146"/>
                  </a:lnTo>
                  <a:lnTo>
                    <a:pt x="683" y="160"/>
                  </a:lnTo>
                  <a:lnTo>
                    <a:pt x="699" y="176"/>
                  </a:lnTo>
                  <a:lnTo>
                    <a:pt x="713" y="196"/>
                  </a:lnTo>
                  <a:lnTo>
                    <a:pt x="726" y="216"/>
                  </a:lnTo>
                  <a:lnTo>
                    <a:pt x="736" y="239"/>
                  </a:lnTo>
                  <a:lnTo>
                    <a:pt x="737" y="263"/>
                  </a:lnTo>
                  <a:lnTo>
                    <a:pt x="732" y="287"/>
                  </a:lnTo>
                  <a:lnTo>
                    <a:pt x="716" y="313"/>
                  </a:lnTo>
                  <a:lnTo>
                    <a:pt x="700" y="337"/>
                  </a:lnTo>
                  <a:lnTo>
                    <a:pt x="692" y="358"/>
                  </a:lnTo>
                  <a:lnTo>
                    <a:pt x="692" y="375"/>
                  </a:lnTo>
                  <a:lnTo>
                    <a:pt x="697" y="391"/>
                  </a:lnTo>
                  <a:lnTo>
                    <a:pt x="708" y="406"/>
                  </a:lnTo>
                  <a:lnTo>
                    <a:pt x="724" y="419"/>
                  </a:lnTo>
                  <a:lnTo>
                    <a:pt x="744" y="431"/>
                  </a:lnTo>
                  <a:lnTo>
                    <a:pt x="766" y="444"/>
                  </a:lnTo>
                  <a:lnTo>
                    <a:pt x="760" y="430"/>
                  </a:lnTo>
                  <a:lnTo>
                    <a:pt x="758" y="420"/>
                  </a:lnTo>
                  <a:lnTo>
                    <a:pt x="760" y="411"/>
                  </a:lnTo>
                  <a:lnTo>
                    <a:pt x="766" y="404"/>
                  </a:lnTo>
                  <a:lnTo>
                    <a:pt x="774" y="396"/>
                  </a:lnTo>
                  <a:lnTo>
                    <a:pt x="787" y="390"/>
                  </a:lnTo>
                  <a:lnTo>
                    <a:pt x="803" y="380"/>
                  </a:lnTo>
                  <a:lnTo>
                    <a:pt x="822" y="369"/>
                  </a:lnTo>
                  <a:lnTo>
                    <a:pt x="841" y="353"/>
                  </a:lnTo>
                  <a:lnTo>
                    <a:pt x="856" y="334"/>
                  </a:lnTo>
                  <a:lnTo>
                    <a:pt x="867" y="311"/>
                  </a:lnTo>
                  <a:lnTo>
                    <a:pt x="873" y="289"/>
                  </a:lnTo>
                  <a:lnTo>
                    <a:pt x="876" y="266"/>
                  </a:lnTo>
                  <a:lnTo>
                    <a:pt x="876" y="244"/>
                  </a:lnTo>
                  <a:lnTo>
                    <a:pt x="872" y="225"/>
                  </a:lnTo>
                  <a:lnTo>
                    <a:pt x="864" y="208"/>
                  </a:lnTo>
                  <a:lnTo>
                    <a:pt x="889" y="220"/>
                  </a:lnTo>
                  <a:lnTo>
                    <a:pt x="913" y="234"/>
                  </a:lnTo>
                  <a:lnTo>
                    <a:pt x="934" y="253"/>
                  </a:lnTo>
                  <a:lnTo>
                    <a:pt x="953" y="276"/>
                  </a:lnTo>
                  <a:lnTo>
                    <a:pt x="968" y="300"/>
                  </a:lnTo>
                  <a:lnTo>
                    <a:pt x="977" y="326"/>
                  </a:lnTo>
                  <a:lnTo>
                    <a:pt x="980" y="351"/>
                  </a:lnTo>
                  <a:lnTo>
                    <a:pt x="979" y="375"/>
                  </a:lnTo>
                  <a:lnTo>
                    <a:pt x="1004" y="362"/>
                  </a:lnTo>
                  <a:lnTo>
                    <a:pt x="1035" y="348"/>
                  </a:lnTo>
                  <a:lnTo>
                    <a:pt x="1064" y="332"/>
                  </a:lnTo>
                  <a:lnTo>
                    <a:pt x="1089" y="309"/>
                  </a:lnTo>
                  <a:lnTo>
                    <a:pt x="1107" y="282"/>
                  </a:lnTo>
                  <a:lnTo>
                    <a:pt x="1113" y="247"/>
                  </a:lnTo>
                  <a:lnTo>
                    <a:pt x="1107" y="202"/>
                  </a:lnTo>
                  <a:lnTo>
                    <a:pt x="1083" y="146"/>
                  </a:lnTo>
                  <a:lnTo>
                    <a:pt x="1112" y="160"/>
                  </a:lnTo>
                  <a:lnTo>
                    <a:pt x="1140" y="181"/>
                  </a:lnTo>
                  <a:lnTo>
                    <a:pt x="1166" y="208"/>
                  </a:lnTo>
                  <a:lnTo>
                    <a:pt x="1187" y="242"/>
                  </a:lnTo>
                  <a:lnTo>
                    <a:pt x="1201" y="281"/>
                  </a:lnTo>
                  <a:lnTo>
                    <a:pt x="1206" y="322"/>
                  </a:lnTo>
                  <a:lnTo>
                    <a:pt x="1200" y="369"/>
                  </a:lnTo>
                  <a:lnTo>
                    <a:pt x="1180" y="417"/>
                  </a:lnTo>
                  <a:lnTo>
                    <a:pt x="1200" y="393"/>
                  </a:lnTo>
                  <a:lnTo>
                    <a:pt x="1217" y="370"/>
                  </a:lnTo>
                  <a:lnTo>
                    <a:pt x="1232" y="353"/>
                  </a:lnTo>
                  <a:lnTo>
                    <a:pt x="1244" y="335"/>
                  </a:lnTo>
                  <a:lnTo>
                    <a:pt x="1257" y="321"/>
                  </a:lnTo>
                  <a:lnTo>
                    <a:pt x="1270" y="308"/>
                  </a:lnTo>
                  <a:lnTo>
                    <a:pt x="1284" y="297"/>
                  </a:lnTo>
                  <a:lnTo>
                    <a:pt x="1299" y="285"/>
                  </a:lnTo>
                  <a:lnTo>
                    <a:pt x="1313" y="271"/>
                  </a:lnTo>
                  <a:lnTo>
                    <a:pt x="1323" y="249"/>
                  </a:lnTo>
                  <a:lnTo>
                    <a:pt x="1329" y="221"/>
                  </a:lnTo>
                  <a:lnTo>
                    <a:pt x="1329" y="194"/>
                  </a:lnTo>
                  <a:lnTo>
                    <a:pt x="1326" y="167"/>
                  </a:lnTo>
                  <a:lnTo>
                    <a:pt x="1316" y="143"/>
                  </a:lnTo>
                  <a:lnTo>
                    <a:pt x="1300" y="127"/>
                  </a:lnTo>
                  <a:lnTo>
                    <a:pt x="1278" y="119"/>
                  </a:lnTo>
                  <a:lnTo>
                    <a:pt x="1308" y="120"/>
                  </a:lnTo>
                  <a:lnTo>
                    <a:pt x="1337" y="131"/>
                  </a:lnTo>
                  <a:lnTo>
                    <a:pt x="1364" y="151"/>
                  </a:lnTo>
                  <a:lnTo>
                    <a:pt x="1384" y="178"/>
                  </a:lnTo>
                  <a:lnTo>
                    <a:pt x="1395" y="213"/>
                  </a:lnTo>
                  <a:lnTo>
                    <a:pt x="1392" y="255"/>
                  </a:lnTo>
                  <a:lnTo>
                    <a:pt x="1372" y="301"/>
                  </a:lnTo>
                  <a:lnTo>
                    <a:pt x="1334" y="354"/>
                  </a:lnTo>
                  <a:lnTo>
                    <a:pt x="1360" y="350"/>
                  </a:lnTo>
                  <a:lnTo>
                    <a:pt x="1387" y="334"/>
                  </a:lnTo>
                  <a:lnTo>
                    <a:pt x="1414" y="309"/>
                  </a:lnTo>
                  <a:lnTo>
                    <a:pt x="1436" y="281"/>
                  </a:lnTo>
                  <a:lnTo>
                    <a:pt x="1452" y="247"/>
                  </a:lnTo>
                  <a:lnTo>
                    <a:pt x="1459" y="212"/>
                  </a:lnTo>
                  <a:lnTo>
                    <a:pt x="1452" y="175"/>
                  </a:lnTo>
                  <a:lnTo>
                    <a:pt x="1430" y="140"/>
                  </a:lnTo>
                  <a:lnTo>
                    <a:pt x="1448" y="148"/>
                  </a:lnTo>
                  <a:lnTo>
                    <a:pt x="1462" y="157"/>
                  </a:lnTo>
                  <a:lnTo>
                    <a:pt x="1475" y="172"/>
                  </a:lnTo>
                  <a:lnTo>
                    <a:pt x="1484" y="186"/>
                  </a:lnTo>
                  <a:lnTo>
                    <a:pt x="1491" y="200"/>
                  </a:lnTo>
                  <a:lnTo>
                    <a:pt x="1496" y="212"/>
                  </a:lnTo>
                  <a:lnTo>
                    <a:pt x="1499" y="220"/>
                  </a:lnTo>
                  <a:lnTo>
                    <a:pt x="1500" y="223"/>
                  </a:lnTo>
                  <a:lnTo>
                    <a:pt x="1513" y="189"/>
                  </a:lnTo>
                  <a:lnTo>
                    <a:pt x="1534" y="159"/>
                  </a:lnTo>
                  <a:lnTo>
                    <a:pt x="1561" y="133"/>
                  </a:lnTo>
                  <a:lnTo>
                    <a:pt x="1588" y="109"/>
                  </a:lnTo>
                  <a:lnTo>
                    <a:pt x="1612" y="85"/>
                  </a:lnTo>
                  <a:lnTo>
                    <a:pt x="1632" y="59"/>
                  </a:lnTo>
                  <a:lnTo>
                    <a:pt x="1643" y="32"/>
                  </a:lnTo>
                  <a:lnTo>
                    <a:pt x="1640" y="0"/>
                  </a:lnTo>
                  <a:lnTo>
                    <a:pt x="1651" y="22"/>
                  </a:lnTo>
                  <a:lnTo>
                    <a:pt x="1657" y="42"/>
                  </a:lnTo>
                  <a:lnTo>
                    <a:pt x="1659" y="59"/>
                  </a:lnTo>
                  <a:lnTo>
                    <a:pt x="1657" y="79"/>
                  </a:lnTo>
                  <a:lnTo>
                    <a:pt x="1651" y="99"/>
                  </a:lnTo>
                  <a:lnTo>
                    <a:pt x="1638" y="123"/>
                  </a:lnTo>
                  <a:lnTo>
                    <a:pt x="1620" y="152"/>
                  </a:lnTo>
                  <a:lnTo>
                    <a:pt x="1598" y="188"/>
                  </a:lnTo>
                  <a:lnTo>
                    <a:pt x="1587" y="223"/>
                  </a:lnTo>
                  <a:lnTo>
                    <a:pt x="1584" y="269"/>
                  </a:lnTo>
                  <a:lnTo>
                    <a:pt x="1587" y="322"/>
                  </a:lnTo>
                  <a:lnTo>
                    <a:pt x="1587" y="375"/>
                  </a:lnTo>
                  <a:lnTo>
                    <a:pt x="1577" y="423"/>
                  </a:lnTo>
                  <a:lnTo>
                    <a:pt x="1555" y="462"/>
                  </a:lnTo>
                  <a:lnTo>
                    <a:pt x="1513" y="486"/>
                  </a:lnTo>
                  <a:lnTo>
                    <a:pt x="1444" y="487"/>
                  </a:lnTo>
                  <a:lnTo>
                    <a:pt x="1441" y="523"/>
                  </a:lnTo>
                  <a:lnTo>
                    <a:pt x="1433" y="561"/>
                  </a:lnTo>
                  <a:lnTo>
                    <a:pt x="1419" y="600"/>
                  </a:lnTo>
                  <a:lnTo>
                    <a:pt x="1398" y="632"/>
                  </a:lnTo>
                  <a:lnTo>
                    <a:pt x="1366" y="657"/>
                  </a:lnTo>
                  <a:lnTo>
                    <a:pt x="1323" y="672"/>
                  </a:lnTo>
                  <a:lnTo>
                    <a:pt x="1267" y="670"/>
                  </a:lnTo>
                  <a:lnTo>
                    <a:pt x="1195" y="653"/>
                  </a:lnTo>
                  <a:lnTo>
                    <a:pt x="1179" y="665"/>
                  </a:lnTo>
                  <a:lnTo>
                    <a:pt x="1160" y="678"/>
                  </a:lnTo>
                  <a:lnTo>
                    <a:pt x="1139" y="690"/>
                  </a:lnTo>
                  <a:lnTo>
                    <a:pt x="1118" y="699"/>
                  </a:lnTo>
                  <a:lnTo>
                    <a:pt x="1096" y="709"/>
                  </a:lnTo>
                  <a:lnTo>
                    <a:pt x="1073" y="715"/>
                  </a:lnTo>
                  <a:lnTo>
                    <a:pt x="1051" y="722"/>
                  </a:lnTo>
                  <a:lnTo>
                    <a:pt x="1028" y="725"/>
                  </a:lnTo>
                  <a:lnTo>
                    <a:pt x="1006" y="726"/>
                  </a:lnTo>
                  <a:lnTo>
                    <a:pt x="985" y="725"/>
                  </a:lnTo>
                  <a:lnTo>
                    <a:pt x="964" y="720"/>
                  </a:lnTo>
                  <a:lnTo>
                    <a:pt x="947" y="712"/>
                  </a:lnTo>
                  <a:lnTo>
                    <a:pt x="931" y="702"/>
                  </a:lnTo>
                  <a:lnTo>
                    <a:pt x="916" y="686"/>
                  </a:lnTo>
                  <a:lnTo>
                    <a:pt x="905" y="669"/>
                  </a:lnTo>
                  <a:lnTo>
                    <a:pt x="897" y="646"/>
                  </a:lnTo>
                  <a:lnTo>
                    <a:pt x="886" y="659"/>
                  </a:lnTo>
                  <a:lnTo>
                    <a:pt x="872" y="674"/>
                  </a:lnTo>
                  <a:lnTo>
                    <a:pt x="854" y="688"/>
                  </a:lnTo>
                  <a:lnTo>
                    <a:pt x="835" y="701"/>
                  </a:lnTo>
                  <a:lnTo>
                    <a:pt x="814" y="712"/>
                  </a:lnTo>
                  <a:lnTo>
                    <a:pt x="792" y="723"/>
                  </a:lnTo>
                  <a:lnTo>
                    <a:pt x="768" y="733"/>
                  </a:lnTo>
                  <a:lnTo>
                    <a:pt x="742" y="739"/>
                  </a:lnTo>
                  <a:lnTo>
                    <a:pt x="716" y="742"/>
                  </a:lnTo>
                  <a:lnTo>
                    <a:pt x="689" y="742"/>
                  </a:lnTo>
                  <a:lnTo>
                    <a:pt x="662" y="738"/>
                  </a:lnTo>
                  <a:lnTo>
                    <a:pt x="635" y="730"/>
                  </a:lnTo>
                  <a:lnTo>
                    <a:pt x="608" y="715"/>
                  </a:lnTo>
                  <a:lnTo>
                    <a:pt x="580" y="696"/>
                  </a:lnTo>
                  <a:lnTo>
                    <a:pt x="555" y="672"/>
                  </a:lnTo>
                  <a:lnTo>
                    <a:pt x="529" y="640"/>
                  </a:lnTo>
                  <a:lnTo>
                    <a:pt x="515" y="643"/>
                  </a:lnTo>
                  <a:lnTo>
                    <a:pt x="499" y="646"/>
                  </a:lnTo>
                  <a:lnTo>
                    <a:pt x="481" y="649"/>
                  </a:lnTo>
                  <a:lnTo>
                    <a:pt x="464" y="654"/>
                  </a:lnTo>
                  <a:lnTo>
                    <a:pt x="444" y="657"/>
                  </a:lnTo>
                  <a:lnTo>
                    <a:pt x="425" y="661"/>
                  </a:lnTo>
                  <a:lnTo>
                    <a:pt x="406" y="662"/>
                  </a:lnTo>
                  <a:lnTo>
                    <a:pt x="387" y="662"/>
                  </a:lnTo>
                  <a:lnTo>
                    <a:pt x="366" y="662"/>
                  </a:lnTo>
                  <a:lnTo>
                    <a:pt x="347" y="659"/>
                  </a:lnTo>
                  <a:lnTo>
                    <a:pt x="329" y="654"/>
                  </a:lnTo>
                  <a:lnTo>
                    <a:pt x="312" y="646"/>
                  </a:lnTo>
                  <a:lnTo>
                    <a:pt x="294" y="637"/>
                  </a:lnTo>
                  <a:lnTo>
                    <a:pt x="280" y="622"/>
                  </a:lnTo>
                  <a:lnTo>
                    <a:pt x="265" y="605"/>
                  </a:lnTo>
                  <a:lnTo>
                    <a:pt x="252" y="584"/>
                  </a:lnTo>
                  <a:close/>
                </a:path>
              </a:pathLst>
            </a:custGeom>
            <a:solidFill>
              <a:srgbClr val="ff7f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61360" y="2525760"/>
              <a:ext cx="156960" cy="180360"/>
            </a:xfrm>
            <a:custGeom>
              <a:avLst/>
              <a:gdLst/>
              <a:ahLst/>
              <a:rect l="l" t="t" r="r" b="b"/>
              <a:pathLst>
                <a:path w="198" h="228">
                  <a:moveTo>
                    <a:pt x="78" y="228"/>
                  </a:moveTo>
                  <a:lnTo>
                    <a:pt x="34" y="205"/>
                  </a:lnTo>
                  <a:lnTo>
                    <a:pt x="10" y="181"/>
                  </a:lnTo>
                  <a:lnTo>
                    <a:pt x="0" y="154"/>
                  </a:lnTo>
                  <a:lnTo>
                    <a:pt x="2" y="127"/>
                  </a:lnTo>
                  <a:lnTo>
                    <a:pt x="11" y="96"/>
                  </a:lnTo>
                  <a:lnTo>
                    <a:pt x="22" y="66"/>
                  </a:lnTo>
                  <a:lnTo>
                    <a:pt x="32" y="34"/>
                  </a:lnTo>
                  <a:lnTo>
                    <a:pt x="37" y="0"/>
                  </a:lnTo>
                  <a:lnTo>
                    <a:pt x="50" y="11"/>
                  </a:lnTo>
                  <a:lnTo>
                    <a:pt x="62" y="27"/>
                  </a:lnTo>
                  <a:lnTo>
                    <a:pt x="74" y="43"/>
                  </a:lnTo>
                  <a:lnTo>
                    <a:pt x="83" y="62"/>
                  </a:lnTo>
                  <a:lnTo>
                    <a:pt x="90" y="85"/>
                  </a:lnTo>
                  <a:lnTo>
                    <a:pt x="94" y="107"/>
                  </a:lnTo>
                  <a:lnTo>
                    <a:pt x="98" y="131"/>
                  </a:lnTo>
                  <a:lnTo>
                    <a:pt x="96" y="155"/>
                  </a:lnTo>
                  <a:lnTo>
                    <a:pt x="106" y="143"/>
                  </a:lnTo>
                  <a:lnTo>
                    <a:pt x="118" y="130"/>
                  </a:lnTo>
                  <a:lnTo>
                    <a:pt x="136" y="115"/>
                  </a:lnTo>
                  <a:lnTo>
                    <a:pt x="154" y="99"/>
                  </a:lnTo>
                  <a:lnTo>
                    <a:pt x="170" y="85"/>
                  </a:lnTo>
                  <a:lnTo>
                    <a:pt x="184" y="67"/>
                  </a:lnTo>
                  <a:lnTo>
                    <a:pt x="194" y="50"/>
                  </a:lnTo>
                  <a:lnTo>
                    <a:pt x="197" y="30"/>
                  </a:lnTo>
                  <a:lnTo>
                    <a:pt x="198" y="56"/>
                  </a:lnTo>
                  <a:lnTo>
                    <a:pt x="195" y="82"/>
                  </a:lnTo>
                  <a:lnTo>
                    <a:pt x="189" y="107"/>
                  </a:lnTo>
                  <a:lnTo>
                    <a:pt x="179" y="131"/>
                  </a:lnTo>
                  <a:lnTo>
                    <a:pt x="162" y="157"/>
                  </a:lnTo>
                  <a:lnTo>
                    <a:pt x="141" y="181"/>
                  </a:lnTo>
                  <a:lnTo>
                    <a:pt x="112" y="205"/>
                  </a:lnTo>
                  <a:lnTo>
                    <a:pt x="78" y="228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45360" y="2469960"/>
              <a:ext cx="119160" cy="160200"/>
            </a:xfrm>
            <a:custGeom>
              <a:avLst/>
              <a:gdLst/>
              <a:ahLst/>
              <a:rect l="l" t="t" r="r" b="b"/>
              <a:pathLst>
                <a:path w="150" h="202">
                  <a:moveTo>
                    <a:pt x="150" y="193"/>
                  </a:moveTo>
                  <a:lnTo>
                    <a:pt x="131" y="196"/>
                  </a:lnTo>
                  <a:lnTo>
                    <a:pt x="110" y="201"/>
                  </a:lnTo>
                  <a:lnTo>
                    <a:pt x="90" y="202"/>
                  </a:lnTo>
                  <a:lnTo>
                    <a:pt x="69" y="201"/>
                  </a:lnTo>
                  <a:lnTo>
                    <a:pt x="48" y="196"/>
                  </a:lnTo>
                  <a:lnTo>
                    <a:pt x="30" y="185"/>
                  </a:lnTo>
                  <a:lnTo>
                    <a:pt x="14" y="167"/>
                  </a:lnTo>
                  <a:lnTo>
                    <a:pt x="5" y="140"/>
                  </a:lnTo>
                  <a:lnTo>
                    <a:pt x="0" y="111"/>
                  </a:lnTo>
                  <a:lnTo>
                    <a:pt x="0" y="89"/>
                  </a:lnTo>
                  <a:lnTo>
                    <a:pt x="3" y="69"/>
                  </a:lnTo>
                  <a:lnTo>
                    <a:pt x="8" y="53"/>
                  </a:lnTo>
                  <a:lnTo>
                    <a:pt x="13" y="39"/>
                  </a:lnTo>
                  <a:lnTo>
                    <a:pt x="14" y="26"/>
                  </a:lnTo>
                  <a:lnTo>
                    <a:pt x="13" y="13"/>
                  </a:lnTo>
                  <a:lnTo>
                    <a:pt x="5" y="0"/>
                  </a:lnTo>
                  <a:lnTo>
                    <a:pt x="18" y="8"/>
                  </a:lnTo>
                  <a:lnTo>
                    <a:pt x="27" y="18"/>
                  </a:lnTo>
                  <a:lnTo>
                    <a:pt x="38" y="29"/>
                  </a:lnTo>
                  <a:lnTo>
                    <a:pt x="46" y="44"/>
                  </a:lnTo>
                  <a:lnTo>
                    <a:pt x="53" y="58"/>
                  </a:lnTo>
                  <a:lnTo>
                    <a:pt x="56" y="76"/>
                  </a:lnTo>
                  <a:lnTo>
                    <a:pt x="59" y="93"/>
                  </a:lnTo>
                  <a:lnTo>
                    <a:pt x="59" y="113"/>
                  </a:lnTo>
                  <a:lnTo>
                    <a:pt x="61" y="129"/>
                  </a:lnTo>
                  <a:lnTo>
                    <a:pt x="69" y="141"/>
                  </a:lnTo>
                  <a:lnTo>
                    <a:pt x="80" y="149"/>
                  </a:lnTo>
                  <a:lnTo>
                    <a:pt x="94" y="156"/>
                  </a:lnTo>
                  <a:lnTo>
                    <a:pt x="109" y="162"/>
                  </a:lnTo>
                  <a:lnTo>
                    <a:pt x="125" y="170"/>
                  </a:lnTo>
                  <a:lnTo>
                    <a:pt x="139" y="180"/>
                  </a:lnTo>
                  <a:lnTo>
                    <a:pt x="150" y="193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707240" y="2506680"/>
              <a:ext cx="131760" cy="163080"/>
            </a:xfrm>
            <a:custGeom>
              <a:avLst/>
              <a:gdLst/>
              <a:ahLst/>
              <a:rect l="l" t="t" r="r" b="b"/>
              <a:pathLst>
                <a:path w="167" h="205">
                  <a:moveTo>
                    <a:pt x="0" y="192"/>
                  </a:moveTo>
                  <a:lnTo>
                    <a:pt x="15" y="200"/>
                  </a:lnTo>
                  <a:lnTo>
                    <a:pt x="34" y="205"/>
                  </a:lnTo>
                  <a:lnTo>
                    <a:pt x="56" y="205"/>
                  </a:lnTo>
                  <a:lnTo>
                    <a:pt x="79" y="200"/>
                  </a:lnTo>
                  <a:lnTo>
                    <a:pt x="101" y="192"/>
                  </a:lnTo>
                  <a:lnTo>
                    <a:pt x="120" y="178"/>
                  </a:lnTo>
                  <a:lnTo>
                    <a:pt x="135" y="157"/>
                  </a:lnTo>
                  <a:lnTo>
                    <a:pt x="143" y="128"/>
                  </a:lnTo>
                  <a:lnTo>
                    <a:pt x="148" y="74"/>
                  </a:lnTo>
                  <a:lnTo>
                    <a:pt x="149" y="38"/>
                  </a:lnTo>
                  <a:lnTo>
                    <a:pt x="154" y="16"/>
                  </a:lnTo>
                  <a:lnTo>
                    <a:pt x="167" y="0"/>
                  </a:lnTo>
                  <a:lnTo>
                    <a:pt x="148" y="5"/>
                  </a:lnTo>
                  <a:lnTo>
                    <a:pt x="130" y="14"/>
                  </a:lnTo>
                  <a:lnTo>
                    <a:pt x="116" y="26"/>
                  </a:lnTo>
                  <a:lnTo>
                    <a:pt x="101" y="42"/>
                  </a:lnTo>
                  <a:lnTo>
                    <a:pt x="90" y="58"/>
                  </a:lnTo>
                  <a:lnTo>
                    <a:pt x="79" y="78"/>
                  </a:lnTo>
                  <a:lnTo>
                    <a:pt x="71" y="99"/>
                  </a:lnTo>
                  <a:lnTo>
                    <a:pt x="63" y="122"/>
                  </a:lnTo>
                  <a:lnTo>
                    <a:pt x="56" y="143"/>
                  </a:lnTo>
                  <a:lnTo>
                    <a:pt x="52" y="159"/>
                  </a:lnTo>
                  <a:lnTo>
                    <a:pt x="47" y="170"/>
                  </a:lnTo>
                  <a:lnTo>
                    <a:pt x="40" y="178"/>
                  </a:lnTo>
                  <a:lnTo>
                    <a:pt x="34" y="184"/>
                  </a:lnTo>
                  <a:lnTo>
                    <a:pt x="26" y="189"/>
                  </a:lnTo>
                  <a:lnTo>
                    <a:pt x="15" y="19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15320" y="2496960"/>
              <a:ext cx="117360" cy="139320"/>
            </a:xfrm>
            <a:custGeom>
              <a:avLst/>
              <a:gdLst/>
              <a:ahLst/>
              <a:rect l="l" t="t" r="r" b="b"/>
              <a:pathLst>
                <a:path w="149" h="174">
                  <a:moveTo>
                    <a:pt x="0" y="174"/>
                  </a:moveTo>
                  <a:lnTo>
                    <a:pt x="15" y="174"/>
                  </a:lnTo>
                  <a:lnTo>
                    <a:pt x="31" y="173"/>
                  </a:lnTo>
                  <a:lnTo>
                    <a:pt x="47" y="170"/>
                  </a:lnTo>
                  <a:lnTo>
                    <a:pt x="63" y="163"/>
                  </a:lnTo>
                  <a:lnTo>
                    <a:pt x="79" y="154"/>
                  </a:lnTo>
                  <a:lnTo>
                    <a:pt x="91" y="142"/>
                  </a:lnTo>
                  <a:lnTo>
                    <a:pt x="99" y="126"/>
                  </a:lnTo>
                  <a:lnTo>
                    <a:pt x="104" y="107"/>
                  </a:lnTo>
                  <a:lnTo>
                    <a:pt x="109" y="69"/>
                  </a:lnTo>
                  <a:lnTo>
                    <a:pt x="120" y="35"/>
                  </a:lnTo>
                  <a:lnTo>
                    <a:pt x="133" y="11"/>
                  </a:lnTo>
                  <a:lnTo>
                    <a:pt x="149" y="0"/>
                  </a:lnTo>
                  <a:lnTo>
                    <a:pt x="133" y="1"/>
                  </a:lnTo>
                  <a:lnTo>
                    <a:pt x="112" y="6"/>
                  </a:lnTo>
                  <a:lnTo>
                    <a:pt x="91" y="14"/>
                  </a:lnTo>
                  <a:lnTo>
                    <a:pt x="69" y="25"/>
                  </a:lnTo>
                  <a:lnTo>
                    <a:pt x="48" y="40"/>
                  </a:lnTo>
                  <a:lnTo>
                    <a:pt x="31" y="57"/>
                  </a:lnTo>
                  <a:lnTo>
                    <a:pt x="18" y="75"/>
                  </a:lnTo>
                  <a:lnTo>
                    <a:pt x="10" y="94"/>
                  </a:lnTo>
                  <a:lnTo>
                    <a:pt x="7" y="125"/>
                  </a:lnTo>
                  <a:lnTo>
                    <a:pt x="7" y="146"/>
                  </a:lnTo>
                  <a:lnTo>
                    <a:pt x="5" y="16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80120" y="2447640"/>
              <a:ext cx="68400" cy="12528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86" y="157"/>
                  </a:moveTo>
                  <a:lnTo>
                    <a:pt x="74" y="152"/>
                  </a:lnTo>
                  <a:lnTo>
                    <a:pt x="61" y="148"/>
                  </a:lnTo>
                  <a:lnTo>
                    <a:pt x="48" y="141"/>
                  </a:lnTo>
                  <a:lnTo>
                    <a:pt x="37" y="132"/>
                  </a:lnTo>
                  <a:lnTo>
                    <a:pt x="26" y="114"/>
                  </a:lnTo>
                  <a:lnTo>
                    <a:pt x="14" y="88"/>
                  </a:lnTo>
                  <a:lnTo>
                    <a:pt x="6" y="51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34" y="23"/>
                  </a:lnTo>
                  <a:lnTo>
                    <a:pt x="46" y="34"/>
                  </a:lnTo>
                  <a:lnTo>
                    <a:pt x="58" y="47"/>
                  </a:lnTo>
                  <a:lnTo>
                    <a:pt x="67" y="64"/>
                  </a:lnTo>
                  <a:lnTo>
                    <a:pt x="75" y="88"/>
                  </a:lnTo>
                  <a:lnTo>
                    <a:pt x="82" y="117"/>
                  </a:lnTo>
                  <a:lnTo>
                    <a:pt x="86" y="157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124080" y="2057400"/>
            <a:ext cx="1413000" cy="990720"/>
            <a:chOff x="3124080" y="2057400"/>
            <a:chExt cx="1413000" cy="990720"/>
          </a:xfrm>
        </p:grpSpPr>
        <p:sp>
          <p:nvSpPr>
            <p:cNvPr id="739" name=""/>
            <p:cNvSpPr/>
            <p:nvPr/>
          </p:nvSpPr>
          <p:spPr>
            <a:xfrm>
              <a:off x="3124080" y="2057400"/>
              <a:ext cx="1413000" cy="990720"/>
            </a:xfrm>
            <a:custGeom>
              <a:avLst/>
              <a:gdLst/>
              <a:ahLst/>
              <a:rect l="l" t="t" r="r" b="b"/>
              <a:pathLst>
                <a:path w="1659" h="742">
                  <a:moveTo>
                    <a:pt x="252" y="584"/>
                  </a:moveTo>
                  <a:lnTo>
                    <a:pt x="227" y="584"/>
                  </a:lnTo>
                  <a:lnTo>
                    <a:pt x="200" y="580"/>
                  </a:lnTo>
                  <a:lnTo>
                    <a:pt x="172" y="572"/>
                  </a:lnTo>
                  <a:lnTo>
                    <a:pt x="147" y="558"/>
                  </a:lnTo>
                  <a:lnTo>
                    <a:pt x="124" y="540"/>
                  </a:lnTo>
                  <a:lnTo>
                    <a:pt x="105" y="518"/>
                  </a:lnTo>
                  <a:lnTo>
                    <a:pt x="96" y="491"/>
                  </a:lnTo>
                  <a:lnTo>
                    <a:pt x="92" y="459"/>
                  </a:lnTo>
                  <a:lnTo>
                    <a:pt x="94" y="428"/>
                  </a:lnTo>
                  <a:lnTo>
                    <a:pt x="92" y="404"/>
                  </a:lnTo>
                  <a:lnTo>
                    <a:pt x="88" y="386"/>
                  </a:lnTo>
                  <a:lnTo>
                    <a:pt x="81" y="370"/>
                  </a:lnTo>
                  <a:lnTo>
                    <a:pt x="73" y="358"/>
                  </a:lnTo>
                  <a:lnTo>
                    <a:pt x="60" y="346"/>
                  </a:lnTo>
                  <a:lnTo>
                    <a:pt x="46" y="334"/>
                  </a:lnTo>
                  <a:lnTo>
                    <a:pt x="30" y="319"/>
                  </a:lnTo>
                  <a:lnTo>
                    <a:pt x="14" y="300"/>
                  </a:lnTo>
                  <a:lnTo>
                    <a:pt x="4" y="277"/>
                  </a:lnTo>
                  <a:lnTo>
                    <a:pt x="0" y="250"/>
                  </a:lnTo>
                  <a:lnTo>
                    <a:pt x="1" y="221"/>
                  </a:lnTo>
                  <a:lnTo>
                    <a:pt x="8" y="192"/>
                  </a:lnTo>
                  <a:lnTo>
                    <a:pt x="20" y="165"/>
                  </a:lnTo>
                  <a:lnTo>
                    <a:pt x="40" y="140"/>
                  </a:lnTo>
                  <a:lnTo>
                    <a:pt x="65" y="119"/>
                  </a:lnTo>
                  <a:lnTo>
                    <a:pt x="60" y="143"/>
                  </a:lnTo>
                  <a:lnTo>
                    <a:pt x="60" y="170"/>
                  </a:lnTo>
                  <a:lnTo>
                    <a:pt x="67" y="196"/>
                  </a:lnTo>
                  <a:lnTo>
                    <a:pt x="78" y="221"/>
                  </a:lnTo>
                  <a:lnTo>
                    <a:pt x="96" y="242"/>
                  </a:lnTo>
                  <a:lnTo>
                    <a:pt x="120" y="258"/>
                  </a:lnTo>
                  <a:lnTo>
                    <a:pt x="152" y="269"/>
                  </a:lnTo>
                  <a:lnTo>
                    <a:pt x="190" y="271"/>
                  </a:lnTo>
                  <a:lnTo>
                    <a:pt x="192" y="241"/>
                  </a:lnTo>
                  <a:lnTo>
                    <a:pt x="198" y="213"/>
                  </a:lnTo>
                  <a:lnTo>
                    <a:pt x="209" y="188"/>
                  </a:lnTo>
                  <a:lnTo>
                    <a:pt x="225" y="165"/>
                  </a:lnTo>
                  <a:lnTo>
                    <a:pt x="246" y="148"/>
                  </a:lnTo>
                  <a:lnTo>
                    <a:pt x="272" y="133"/>
                  </a:lnTo>
                  <a:lnTo>
                    <a:pt x="304" y="123"/>
                  </a:lnTo>
                  <a:lnTo>
                    <a:pt x="342" y="119"/>
                  </a:lnTo>
                  <a:lnTo>
                    <a:pt x="318" y="136"/>
                  </a:lnTo>
                  <a:lnTo>
                    <a:pt x="300" y="156"/>
                  </a:lnTo>
                  <a:lnTo>
                    <a:pt x="292" y="175"/>
                  </a:lnTo>
                  <a:lnTo>
                    <a:pt x="288" y="192"/>
                  </a:lnTo>
                  <a:lnTo>
                    <a:pt x="289" y="210"/>
                  </a:lnTo>
                  <a:lnTo>
                    <a:pt x="292" y="228"/>
                  </a:lnTo>
                  <a:lnTo>
                    <a:pt x="299" y="244"/>
                  </a:lnTo>
                  <a:lnTo>
                    <a:pt x="307" y="257"/>
                  </a:lnTo>
                  <a:lnTo>
                    <a:pt x="320" y="269"/>
                  </a:lnTo>
                  <a:lnTo>
                    <a:pt x="340" y="279"/>
                  </a:lnTo>
                  <a:lnTo>
                    <a:pt x="368" y="290"/>
                  </a:lnTo>
                  <a:lnTo>
                    <a:pt x="396" y="301"/>
                  </a:lnTo>
                  <a:lnTo>
                    <a:pt x="424" y="314"/>
                  </a:lnTo>
                  <a:lnTo>
                    <a:pt x="448" y="332"/>
                  </a:lnTo>
                  <a:lnTo>
                    <a:pt x="467" y="354"/>
                  </a:lnTo>
                  <a:lnTo>
                    <a:pt x="475" y="382"/>
                  </a:lnTo>
                  <a:lnTo>
                    <a:pt x="484" y="361"/>
                  </a:lnTo>
                  <a:lnTo>
                    <a:pt x="494" y="346"/>
                  </a:lnTo>
                  <a:lnTo>
                    <a:pt x="504" y="335"/>
                  </a:lnTo>
                  <a:lnTo>
                    <a:pt x="513" y="326"/>
                  </a:lnTo>
                  <a:lnTo>
                    <a:pt x="521" y="318"/>
                  </a:lnTo>
                  <a:lnTo>
                    <a:pt x="531" y="309"/>
                  </a:lnTo>
                  <a:lnTo>
                    <a:pt x="540" y="298"/>
                  </a:lnTo>
                  <a:lnTo>
                    <a:pt x="550" y="285"/>
                  </a:lnTo>
                  <a:lnTo>
                    <a:pt x="555" y="271"/>
                  </a:lnTo>
                  <a:lnTo>
                    <a:pt x="548" y="257"/>
                  </a:lnTo>
                  <a:lnTo>
                    <a:pt x="536" y="242"/>
                  </a:lnTo>
                  <a:lnTo>
                    <a:pt x="524" y="225"/>
                  </a:lnTo>
                  <a:lnTo>
                    <a:pt x="516" y="204"/>
                  </a:lnTo>
                  <a:lnTo>
                    <a:pt x="520" y="180"/>
                  </a:lnTo>
                  <a:lnTo>
                    <a:pt x="536" y="149"/>
                  </a:lnTo>
                  <a:lnTo>
                    <a:pt x="571" y="111"/>
                  </a:lnTo>
                  <a:lnTo>
                    <a:pt x="612" y="75"/>
                  </a:lnTo>
                  <a:lnTo>
                    <a:pt x="646" y="51"/>
                  </a:lnTo>
                  <a:lnTo>
                    <a:pt x="672" y="35"/>
                  </a:lnTo>
                  <a:lnTo>
                    <a:pt x="691" y="27"/>
                  </a:lnTo>
                  <a:lnTo>
                    <a:pt x="704" y="24"/>
                  </a:lnTo>
                  <a:lnTo>
                    <a:pt x="712" y="24"/>
                  </a:lnTo>
                  <a:lnTo>
                    <a:pt x="715" y="26"/>
                  </a:lnTo>
                  <a:lnTo>
                    <a:pt x="716" y="27"/>
                  </a:lnTo>
                  <a:lnTo>
                    <a:pt x="699" y="38"/>
                  </a:lnTo>
                  <a:lnTo>
                    <a:pt x="684" y="53"/>
                  </a:lnTo>
                  <a:lnTo>
                    <a:pt x="672" y="67"/>
                  </a:lnTo>
                  <a:lnTo>
                    <a:pt x="662" y="83"/>
                  </a:lnTo>
                  <a:lnTo>
                    <a:pt x="656" y="99"/>
                  </a:lnTo>
                  <a:lnTo>
                    <a:pt x="654" y="117"/>
                  </a:lnTo>
                  <a:lnTo>
                    <a:pt x="659" y="131"/>
                  </a:lnTo>
                  <a:lnTo>
                    <a:pt x="668" y="146"/>
                  </a:lnTo>
                  <a:lnTo>
                    <a:pt x="683" y="160"/>
                  </a:lnTo>
                  <a:lnTo>
                    <a:pt x="699" y="176"/>
                  </a:lnTo>
                  <a:lnTo>
                    <a:pt x="713" y="196"/>
                  </a:lnTo>
                  <a:lnTo>
                    <a:pt x="726" y="216"/>
                  </a:lnTo>
                  <a:lnTo>
                    <a:pt x="736" y="239"/>
                  </a:lnTo>
                  <a:lnTo>
                    <a:pt x="737" y="263"/>
                  </a:lnTo>
                  <a:lnTo>
                    <a:pt x="732" y="287"/>
                  </a:lnTo>
                  <a:lnTo>
                    <a:pt x="716" y="313"/>
                  </a:lnTo>
                  <a:lnTo>
                    <a:pt x="700" y="337"/>
                  </a:lnTo>
                  <a:lnTo>
                    <a:pt x="692" y="358"/>
                  </a:lnTo>
                  <a:lnTo>
                    <a:pt x="692" y="375"/>
                  </a:lnTo>
                  <a:lnTo>
                    <a:pt x="697" y="391"/>
                  </a:lnTo>
                  <a:lnTo>
                    <a:pt x="708" y="406"/>
                  </a:lnTo>
                  <a:lnTo>
                    <a:pt x="724" y="419"/>
                  </a:lnTo>
                  <a:lnTo>
                    <a:pt x="744" y="431"/>
                  </a:lnTo>
                  <a:lnTo>
                    <a:pt x="766" y="444"/>
                  </a:lnTo>
                  <a:lnTo>
                    <a:pt x="760" y="430"/>
                  </a:lnTo>
                  <a:lnTo>
                    <a:pt x="758" y="420"/>
                  </a:lnTo>
                  <a:lnTo>
                    <a:pt x="760" y="411"/>
                  </a:lnTo>
                  <a:lnTo>
                    <a:pt x="766" y="404"/>
                  </a:lnTo>
                  <a:lnTo>
                    <a:pt x="774" y="396"/>
                  </a:lnTo>
                  <a:lnTo>
                    <a:pt x="787" y="390"/>
                  </a:lnTo>
                  <a:lnTo>
                    <a:pt x="803" y="380"/>
                  </a:lnTo>
                  <a:lnTo>
                    <a:pt x="822" y="369"/>
                  </a:lnTo>
                  <a:lnTo>
                    <a:pt x="841" y="353"/>
                  </a:lnTo>
                  <a:lnTo>
                    <a:pt x="856" y="334"/>
                  </a:lnTo>
                  <a:lnTo>
                    <a:pt x="867" y="311"/>
                  </a:lnTo>
                  <a:lnTo>
                    <a:pt x="873" y="289"/>
                  </a:lnTo>
                  <a:lnTo>
                    <a:pt x="876" y="266"/>
                  </a:lnTo>
                  <a:lnTo>
                    <a:pt x="876" y="244"/>
                  </a:lnTo>
                  <a:lnTo>
                    <a:pt x="872" y="225"/>
                  </a:lnTo>
                  <a:lnTo>
                    <a:pt x="864" y="208"/>
                  </a:lnTo>
                  <a:lnTo>
                    <a:pt x="889" y="220"/>
                  </a:lnTo>
                  <a:lnTo>
                    <a:pt x="913" y="234"/>
                  </a:lnTo>
                  <a:lnTo>
                    <a:pt x="934" y="253"/>
                  </a:lnTo>
                  <a:lnTo>
                    <a:pt x="953" y="276"/>
                  </a:lnTo>
                  <a:lnTo>
                    <a:pt x="968" y="300"/>
                  </a:lnTo>
                  <a:lnTo>
                    <a:pt x="977" y="326"/>
                  </a:lnTo>
                  <a:lnTo>
                    <a:pt x="980" y="351"/>
                  </a:lnTo>
                  <a:lnTo>
                    <a:pt x="979" y="375"/>
                  </a:lnTo>
                  <a:lnTo>
                    <a:pt x="1004" y="362"/>
                  </a:lnTo>
                  <a:lnTo>
                    <a:pt x="1035" y="348"/>
                  </a:lnTo>
                  <a:lnTo>
                    <a:pt x="1064" y="332"/>
                  </a:lnTo>
                  <a:lnTo>
                    <a:pt x="1089" y="309"/>
                  </a:lnTo>
                  <a:lnTo>
                    <a:pt x="1107" y="282"/>
                  </a:lnTo>
                  <a:lnTo>
                    <a:pt x="1113" y="247"/>
                  </a:lnTo>
                  <a:lnTo>
                    <a:pt x="1107" y="202"/>
                  </a:lnTo>
                  <a:lnTo>
                    <a:pt x="1083" y="146"/>
                  </a:lnTo>
                  <a:lnTo>
                    <a:pt x="1112" y="160"/>
                  </a:lnTo>
                  <a:lnTo>
                    <a:pt x="1140" y="181"/>
                  </a:lnTo>
                  <a:lnTo>
                    <a:pt x="1166" y="208"/>
                  </a:lnTo>
                  <a:lnTo>
                    <a:pt x="1187" y="242"/>
                  </a:lnTo>
                  <a:lnTo>
                    <a:pt x="1201" y="281"/>
                  </a:lnTo>
                  <a:lnTo>
                    <a:pt x="1206" y="322"/>
                  </a:lnTo>
                  <a:lnTo>
                    <a:pt x="1200" y="369"/>
                  </a:lnTo>
                  <a:lnTo>
                    <a:pt x="1180" y="417"/>
                  </a:lnTo>
                  <a:lnTo>
                    <a:pt x="1200" y="393"/>
                  </a:lnTo>
                  <a:lnTo>
                    <a:pt x="1217" y="370"/>
                  </a:lnTo>
                  <a:lnTo>
                    <a:pt x="1232" y="353"/>
                  </a:lnTo>
                  <a:lnTo>
                    <a:pt x="1244" y="335"/>
                  </a:lnTo>
                  <a:lnTo>
                    <a:pt x="1257" y="321"/>
                  </a:lnTo>
                  <a:lnTo>
                    <a:pt x="1270" y="308"/>
                  </a:lnTo>
                  <a:lnTo>
                    <a:pt x="1284" y="297"/>
                  </a:lnTo>
                  <a:lnTo>
                    <a:pt x="1299" y="285"/>
                  </a:lnTo>
                  <a:lnTo>
                    <a:pt x="1313" y="271"/>
                  </a:lnTo>
                  <a:lnTo>
                    <a:pt x="1323" y="249"/>
                  </a:lnTo>
                  <a:lnTo>
                    <a:pt x="1329" y="221"/>
                  </a:lnTo>
                  <a:lnTo>
                    <a:pt x="1329" y="194"/>
                  </a:lnTo>
                  <a:lnTo>
                    <a:pt x="1326" y="167"/>
                  </a:lnTo>
                  <a:lnTo>
                    <a:pt x="1316" y="143"/>
                  </a:lnTo>
                  <a:lnTo>
                    <a:pt x="1300" y="127"/>
                  </a:lnTo>
                  <a:lnTo>
                    <a:pt x="1278" y="119"/>
                  </a:lnTo>
                  <a:lnTo>
                    <a:pt x="1308" y="120"/>
                  </a:lnTo>
                  <a:lnTo>
                    <a:pt x="1337" y="131"/>
                  </a:lnTo>
                  <a:lnTo>
                    <a:pt x="1364" y="151"/>
                  </a:lnTo>
                  <a:lnTo>
                    <a:pt x="1384" y="178"/>
                  </a:lnTo>
                  <a:lnTo>
                    <a:pt x="1395" y="213"/>
                  </a:lnTo>
                  <a:lnTo>
                    <a:pt x="1392" y="255"/>
                  </a:lnTo>
                  <a:lnTo>
                    <a:pt x="1372" y="301"/>
                  </a:lnTo>
                  <a:lnTo>
                    <a:pt x="1334" y="354"/>
                  </a:lnTo>
                  <a:lnTo>
                    <a:pt x="1360" y="350"/>
                  </a:lnTo>
                  <a:lnTo>
                    <a:pt x="1387" y="334"/>
                  </a:lnTo>
                  <a:lnTo>
                    <a:pt x="1414" y="309"/>
                  </a:lnTo>
                  <a:lnTo>
                    <a:pt x="1436" y="281"/>
                  </a:lnTo>
                  <a:lnTo>
                    <a:pt x="1452" y="247"/>
                  </a:lnTo>
                  <a:lnTo>
                    <a:pt x="1459" y="212"/>
                  </a:lnTo>
                  <a:lnTo>
                    <a:pt x="1452" y="175"/>
                  </a:lnTo>
                  <a:lnTo>
                    <a:pt x="1430" y="140"/>
                  </a:lnTo>
                  <a:lnTo>
                    <a:pt x="1448" y="148"/>
                  </a:lnTo>
                  <a:lnTo>
                    <a:pt x="1462" y="157"/>
                  </a:lnTo>
                  <a:lnTo>
                    <a:pt x="1475" y="172"/>
                  </a:lnTo>
                  <a:lnTo>
                    <a:pt x="1484" y="186"/>
                  </a:lnTo>
                  <a:lnTo>
                    <a:pt x="1491" y="200"/>
                  </a:lnTo>
                  <a:lnTo>
                    <a:pt x="1496" y="212"/>
                  </a:lnTo>
                  <a:lnTo>
                    <a:pt x="1499" y="220"/>
                  </a:lnTo>
                  <a:lnTo>
                    <a:pt x="1500" y="223"/>
                  </a:lnTo>
                  <a:lnTo>
                    <a:pt x="1513" y="189"/>
                  </a:lnTo>
                  <a:lnTo>
                    <a:pt x="1534" y="159"/>
                  </a:lnTo>
                  <a:lnTo>
                    <a:pt x="1561" y="133"/>
                  </a:lnTo>
                  <a:lnTo>
                    <a:pt x="1588" y="109"/>
                  </a:lnTo>
                  <a:lnTo>
                    <a:pt x="1612" y="85"/>
                  </a:lnTo>
                  <a:lnTo>
                    <a:pt x="1632" y="59"/>
                  </a:lnTo>
                  <a:lnTo>
                    <a:pt x="1643" y="32"/>
                  </a:lnTo>
                  <a:lnTo>
                    <a:pt x="1640" y="0"/>
                  </a:lnTo>
                  <a:lnTo>
                    <a:pt x="1651" y="22"/>
                  </a:lnTo>
                  <a:lnTo>
                    <a:pt x="1657" y="42"/>
                  </a:lnTo>
                  <a:lnTo>
                    <a:pt x="1659" y="59"/>
                  </a:lnTo>
                  <a:lnTo>
                    <a:pt x="1657" y="79"/>
                  </a:lnTo>
                  <a:lnTo>
                    <a:pt x="1651" y="99"/>
                  </a:lnTo>
                  <a:lnTo>
                    <a:pt x="1638" y="123"/>
                  </a:lnTo>
                  <a:lnTo>
                    <a:pt x="1620" y="152"/>
                  </a:lnTo>
                  <a:lnTo>
                    <a:pt x="1598" y="188"/>
                  </a:lnTo>
                  <a:lnTo>
                    <a:pt x="1587" y="223"/>
                  </a:lnTo>
                  <a:lnTo>
                    <a:pt x="1584" y="269"/>
                  </a:lnTo>
                  <a:lnTo>
                    <a:pt x="1587" y="322"/>
                  </a:lnTo>
                  <a:lnTo>
                    <a:pt x="1587" y="375"/>
                  </a:lnTo>
                  <a:lnTo>
                    <a:pt x="1577" y="423"/>
                  </a:lnTo>
                  <a:lnTo>
                    <a:pt x="1555" y="462"/>
                  </a:lnTo>
                  <a:lnTo>
                    <a:pt x="1513" y="486"/>
                  </a:lnTo>
                  <a:lnTo>
                    <a:pt x="1444" y="487"/>
                  </a:lnTo>
                  <a:lnTo>
                    <a:pt x="1441" y="523"/>
                  </a:lnTo>
                  <a:lnTo>
                    <a:pt x="1433" y="561"/>
                  </a:lnTo>
                  <a:lnTo>
                    <a:pt x="1419" y="600"/>
                  </a:lnTo>
                  <a:lnTo>
                    <a:pt x="1398" y="632"/>
                  </a:lnTo>
                  <a:lnTo>
                    <a:pt x="1366" y="657"/>
                  </a:lnTo>
                  <a:lnTo>
                    <a:pt x="1323" y="672"/>
                  </a:lnTo>
                  <a:lnTo>
                    <a:pt x="1267" y="670"/>
                  </a:lnTo>
                  <a:lnTo>
                    <a:pt x="1195" y="653"/>
                  </a:lnTo>
                  <a:lnTo>
                    <a:pt x="1179" y="665"/>
                  </a:lnTo>
                  <a:lnTo>
                    <a:pt x="1160" y="678"/>
                  </a:lnTo>
                  <a:lnTo>
                    <a:pt x="1139" y="690"/>
                  </a:lnTo>
                  <a:lnTo>
                    <a:pt x="1118" y="699"/>
                  </a:lnTo>
                  <a:lnTo>
                    <a:pt x="1096" y="709"/>
                  </a:lnTo>
                  <a:lnTo>
                    <a:pt x="1073" y="715"/>
                  </a:lnTo>
                  <a:lnTo>
                    <a:pt x="1051" y="722"/>
                  </a:lnTo>
                  <a:lnTo>
                    <a:pt x="1028" y="725"/>
                  </a:lnTo>
                  <a:lnTo>
                    <a:pt x="1006" y="726"/>
                  </a:lnTo>
                  <a:lnTo>
                    <a:pt x="985" y="725"/>
                  </a:lnTo>
                  <a:lnTo>
                    <a:pt x="964" y="720"/>
                  </a:lnTo>
                  <a:lnTo>
                    <a:pt x="947" y="712"/>
                  </a:lnTo>
                  <a:lnTo>
                    <a:pt x="931" y="702"/>
                  </a:lnTo>
                  <a:lnTo>
                    <a:pt x="916" y="686"/>
                  </a:lnTo>
                  <a:lnTo>
                    <a:pt x="905" y="669"/>
                  </a:lnTo>
                  <a:lnTo>
                    <a:pt x="897" y="646"/>
                  </a:lnTo>
                  <a:lnTo>
                    <a:pt x="886" y="659"/>
                  </a:lnTo>
                  <a:lnTo>
                    <a:pt x="872" y="674"/>
                  </a:lnTo>
                  <a:lnTo>
                    <a:pt x="854" y="688"/>
                  </a:lnTo>
                  <a:lnTo>
                    <a:pt x="835" y="701"/>
                  </a:lnTo>
                  <a:lnTo>
                    <a:pt x="814" y="712"/>
                  </a:lnTo>
                  <a:lnTo>
                    <a:pt x="792" y="723"/>
                  </a:lnTo>
                  <a:lnTo>
                    <a:pt x="768" y="733"/>
                  </a:lnTo>
                  <a:lnTo>
                    <a:pt x="742" y="739"/>
                  </a:lnTo>
                  <a:lnTo>
                    <a:pt x="716" y="742"/>
                  </a:lnTo>
                  <a:lnTo>
                    <a:pt x="689" y="742"/>
                  </a:lnTo>
                  <a:lnTo>
                    <a:pt x="662" y="738"/>
                  </a:lnTo>
                  <a:lnTo>
                    <a:pt x="635" y="730"/>
                  </a:lnTo>
                  <a:lnTo>
                    <a:pt x="608" y="715"/>
                  </a:lnTo>
                  <a:lnTo>
                    <a:pt x="580" y="696"/>
                  </a:lnTo>
                  <a:lnTo>
                    <a:pt x="555" y="672"/>
                  </a:lnTo>
                  <a:lnTo>
                    <a:pt x="529" y="640"/>
                  </a:lnTo>
                  <a:lnTo>
                    <a:pt x="515" y="643"/>
                  </a:lnTo>
                  <a:lnTo>
                    <a:pt x="499" y="646"/>
                  </a:lnTo>
                  <a:lnTo>
                    <a:pt x="481" y="649"/>
                  </a:lnTo>
                  <a:lnTo>
                    <a:pt x="464" y="654"/>
                  </a:lnTo>
                  <a:lnTo>
                    <a:pt x="444" y="657"/>
                  </a:lnTo>
                  <a:lnTo>
                    <a:pt x="425" y="661"/>
                  </a:lnTo>
                  <a:lnTo>
                    <a:pt x="406" y="662"/>
                  </a:lnTo>
                  <a:lnTo>
                    <a:pt x="387" y="662"/>
                  </a:lnTo>
                  <a:lnTo>
                    <a:pt x="366" y="662"/>
                  </a:lnTo>
                  <a:lnTo>
                    <a:pt x="347" y="659"/>
                  </a:lnTo>
                  <a:lnTo>
                    <a:pt x="329" y="654"/>
                  </a:lnTo>
                  <a:lnTo>
                    <a:pt x="312" y="646"/>
                  </a:lnTo>
                  <a:lnTo>
                    <a:pt x="294" y="637"/>
                  </a:lnTo>
                  <a:lnTo>
                    <a:pt x="280" y="622"/>
                  </a:lnTo>
                  <a:lnTo>
                    <a:pt x="265" y="605"/>
                  </a:lnTo>
                  <a:lnTo>
                    <a:pt x="252" y="584"/>
                  </a:lnTo>
                  <a:close/>
                </a:path>
              </a:pathLst>
            </a:custGeom>
            <a:solidFill>
              <a:srgbClr val="ff7f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27440" y="2449800"/>
              <a:ext cx="156960" cy="180720"/>
            </a:xfrm>
            <a:custGeom>
              <a:avLst/>
              <a:gdLst/>
              <a:ahLst/>
              <a:rect l="l" t="t" r="r" b="b"/>
              <a:pathLst>
                <a:path w="198" h="228">
                  <a:moveTo>
                    <a:pt x="78" y="228"/>
                  </a:moveTo>
                  <a:lnTo>
                    <a:pt x="34" y="205"/>
                  </a:lnTo>
                  <a:lnTo>
                    <a:pt x="10" y="181"/>
                  </a:lnTo>
                  <a:lnTo>
                    <a:pt x="0" y="154"/>
                  </a:lnTo>
                  <a:lnTo>
                    <a:pt x="2" y="127"/>
                  </a:lnTo>
                  <a:lnTo>
                    <a:pt x="11" y="96"/>
                  </a:lnTo>
                  <a:lnTo>
                    <a:pt x="22" y="66"/>
                  </a:lnTo>
                  <a:lnTo>
                    <a:pt x="32" y="34"/>
                  </a:lnTo>
                  <a:lnTo>
                    <a:pt x="37" y="0"/>
                  </a:lnTo>
                  <a:lnTo>
                    <a:pt x="50" y="11"/>
                  </a:lnTo>
                  <a:lnTo>
                    <a:pt x="62" y="27"/>
                  </a:lnTo>
                  <a:lnTo>
                    <a:pt x="74" y="43"/>
                  </a:lnTo>
                  <a:lnTo>
                    <a:pt x="83" y="62"/>
                  </a:lnTo>
                  <a:lnTo>
                    <a:pt x="90" y="85"/>
                  </a:lnTo>
                  <a:lnTo>
                    <a:pt x="94" y="107"/>
                  </a:lnTo>
                  <a:lnTo>
                    <a:pt x="98" y="131"/>
                  </a:lnTo>
                  <a:lnTo>
                    <a:pt x="96" y="155"/>
                  </a:lnTo>
                  <a:lnTo>
                    <a:pt x="106" y="143"/>
                  </a:lnTo>
                  <a:lnTo>
                    <a:pt x="118" y="130"/>
                  </a:lnTo>
                  <a:lnTo>
                    <a:pt x="136" y="115"/>
                  </a:lnTo>
                  <a:lnTo>
                    <a:pt x="154" y="99"/>
                  </a:lnTo>
                  <a:lnTo>
                    <a:pt x="170" y="85"/>
                  </a:lnTo>
                  <a:lnTo>
                    <a:pt x="184" y="67"/>
                  </a:lnTo>
                  <a:lnTo>
                    <a:pt x="194" y="50"/>
                  </a:lnTo>
                  <a:lnTo>
                    <a:pt x="197" y="30"/>
                  </a:lnTo>
                  <a:lnTo>
                    <a:pt x="198" y="56"/>
                  </a:lnTo>
                  <a:lnTo>
                    <a:pt x="195" y="82"/>
                  </a:lnTo>
                  <a:lnTo>
                    <a:pt x="189" y="107"/>
                  </a:lnTo>
                  <a:lnTo>
                    <a:pt x="179" y="131"/>
                  </a:lnTo>
                  <a:lnTo>
                    <a:pt x="162" y="157"/>
                  </a:lnTo>
                  <a:lnTo>
                    <a:pt x="141" y="181"/>
                  </a:lnTo>
                  <a:lnTo>
                    <a:pt x="112" y="205"/>
                  </a:lnTo>
                  <a:lnTo>
                    <a:pt x="78" y="228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1440" y="2394000"/>
              <a:ext cx="119160" cy="160560"/>
            </a:xfrm>
            <a:custGeom>
              <a:avLst/>
              <a:gdLst/>
              <a:ahLst/>
              <a:rect l="l" t="t" r="r" b="b"/>
              <a:pathLst>
                <a:path w="150" h="202">
                  <a:moveTo>
                    <a:pt x="150" y="193"/>
                  </a:moveTo>
                  <a:lnTo>
                    <a:pt x="131" y="196"/>
                  </a:lnTo>
                  <a:lnTo>
                    <a:pt x="110" y="201"/>
                  </a:lnTo>
                  <a:lnTo>
                    <a:pt x="90" y="202"/>
                  </a:lnTo>
                  <a:lnTo>
                    <a:pt x="69" y="201"/>
                  </a:lnTo>
                  <a:lnTo>
                    <a:pt x="48" y="196"/>
                  </a:lnTo>
                  <a:lnTo>
                    <a:pt x="30" y="185"/>
                  </a:lnTo>
                  <a:lnTo>
                    <a:pt x="14" y="167"/>
                  </a:lnTo>
                  <a:lnTo>
                    <a:pt x="5" y="140"/>
                  </a:lnTo>
                  <a:lnTo>
                    <a:pt x="0" y="111"/>
                  </a:lnTo>
                  <a:lnTo>
                    <a:pt x="0" y="89"/>
                  </a:lnTo>
                  <a:lnTo>
                    <a:pt x="3" y="69"/>
                  </a:lnTo>
                  <a:lnTo>
                    <a:pt x="8" y="53"/>
                  </a:lnTo>
                  <a:lnTo>
                    <a:pt x="13" y="39"/>
                  </a:lnTo>
                  <a:lnTo>
                    <a:pt x="14" y="26"/>
                  </a:lnTo>
                  <a:lnTo>
                    <a:pt x="13" y="13"/>
                  </a:lnTo>
                  <a:lnTo>
                    <a:pt x="5" y="0"/>
                  </a:lnTo>
                  <a:lnTo>
                    <a:pt x="18" y="8"/>
                  </a:lnTo>
                  <a:lnTo>
                    <a:pt x="27" y="18"/>
                  </a:lnTo>
                  <a:lnTo>
                    <a:pt x="38" y="29"/>
                  </a:lnTo>
                  <a:lnTo>
                    <a:pt x="46" y="44"/>
                  </a:lnTo>
                  <a:lnTo>
                    <a:pt x="53" y="58"/>
                  </a:lnTo>
                  <a:lnTo>
                    <a:pt x="56" y="76"/>
                  </a:lnTo>
                  <a:lnTo>
                    <a:pt x="59" y="93"/>
                  </a:lnTo>
                  <a:lnTo>
                    <a:pt x="59" y="113"/>
                  </a:lnTo>
                  <a:lnTo>
                    <a:pt x="61" y="129"/>
                  </a:lnTo>
                  <a:lnTo>
                    <a:pt x="69" y="141"/>
                  </a:lnTo>
                  <a:lnTo>
                    <a:pt x="80" y="149"/>
                  </a:lnTo>
                  <a:lnTo>
                    <a:pt x="94" y="156"/>
                  </a:lnTo>
                  <a:lnTo>
                    <a:pt x="109" y="162"/>
                  </a:lnTo>
                  <a:lnTo>
                    <a:pt x="125" y="170"/>
                  </a:lnTo>
                  <a:lnTo>
                    <a:pt x="139" y="180"/>
                  </a:lnTo>
                  <a:lnTo>
                    <a:pt x="150" y="193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73320" y="2430720"/>
              <a:ext cx="131760" cy="163440"/>
            </a:xfrm>
            <a:custGeom>
              <a:avLst/>
              <a:gdLst/>
              <a:ahLst/>
              <a:rect l="l" t="t" r="r" b="b"/>
              <a:pathLst>
                <a:path w="167" h="205">
                  <a:moveTo>
                    <a:pt x="0" y="192"/>
                  </a:moveTo>
                  <a:lnTo>
                    <a:pt x="15" y="200"/>
                  </a:lnTo>
                  <a:lnTo>
                    <a:pt x="34" y="205"/>
                  </a:lnTo>
                  <a:lnTo>
                    <a:pt x="56" y="205"/>
                  </a:lnTo>
                  <a:lnTo>
                    <a:pt x="79" y="200"/>
                  </a:lnTo>
                  <a:lnTo>
                    <a:pt x="101" y="192"/>
                  </a:lnTo>
                  <a:lnTo>
                    <a:pt x="120" y="178"/>
                  </a:lnTo>
                  <a:lnTo>
                    <a:pt x="135" y="157"/>
                  </a:lnTo>
                  <a:lnTo>
                    <a:pt x="143" y="128"/>
                  </a:lnTo>
                  <a:lnTo>
                    <a:pt x="148" y="74"/>
                  </a:lnTo>
                  <a:lnTo>
                    <a:pt x="149" y="38"/>
                  </a:lnTo>
                  <a:lnTo>
                    <a:pt x="154" y="16"/>
                  </a:lnTo>
                  <a:lnTo>
                    <a:pt x="167" y="0"/>
                  </a:lnTo>
                  <a:lnTo>
                    <a:pt x="148" y="5"/>
                  </a:lnTo>
                  <a:lnTo>
                    <a:pt x="130" y="14"/>
                  </a:lnTo>
                  <a:lnTo>
                    <a:pt x="116" y="26"/>
                  </a:lnTo>
                  <a:lnTo>
                    <a:pt x="101" y="42"/>
                  </a:lnTo>
                  <a:lnTo>
                    <a:pt x="90" y="58"/>
                  </a:lnTo>
                  <a:lnTo>
                    <a:pt x="79" y="78"/>
                  </a:lnTo>
                  <a:lnTo>
                    <a:pt x="71" y="99"/>
                  </a:lnTo>
                  <a:lnTo>
                    <a:pt x="63" y="122"/>
                  </a:lnTo>
                  <a:lnTo>
                    <a:pt x="56" y="143"/>
                  </a:lnTo>
                  <a:lnTo>
                    <a:pt x="52" y="159"/>
                  </a:lnTo>
                  <a:lnTo>
                    <a:pt x="47" y="170"/>
                  </a:lnTo>
                  <a:lnTo>
                    <a:pt x="40" y="178"/>
                  </a:lnTo>
                  <a:lnTo>
                    <a:pt x="34" y="184"/>
                  </a:lnTo>
                  <a:lnTo>
                    <a:pt x="26" y="189"/>
                  </a:lnTo>
                  <a:lnTo>
                    <a:pt x="15" y="19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181400" y="2421000"/>
              <a:ext cx="117360" cy="139680"/>
            </a:xfrm>
            <a:custGeom>
              <a:avLst/>
              <a:gdLst/>
              <a:ahLst/>
              <a:rect l="l" t="t" r="r" b="b"/>
              <a:pathLst>
                <a:path w="149" h="174">
                  <a:moveTo>
                    <a:pt x="0" y="174"/>
                  </a:moveTo>
                  <a:lnTo>
                    <a:pt x="15" y="174"/>
                  </a:lnTo>
                  <a:lnTo>
                    <a:pt x="31" y="173"/>
                  </a:lnTo>
                  <a:lnTo>
                    <a:pt x="47" y="170"/>
                  </a:lnTo>
                  <a:lnTo>
                    <a:pt x="63" y="163"/>
                  </a:lnTo>
                  <a:lnTo>
                    <a:pt x="79" y="154"/>
                  </a:lnTo>
                  <a:lnTo>
                    <a:pt x="91" y="142"/>
                  </a:lnTo>
                  <a:lnTo>
                    <a:pt x="99" y="126"/>
                  </a:lnTo>
                  <a:lnTo>
                    <a:pt x="104" y="107"/>
                  </a:lnTo>
                  <a:lnTo>
                    <a:pt x="109" y="69"/>
                  </a:lnTo>
                  <a:lnTo>
                    <a:pt x="120" y="35"/>
                  </a:lnTo>
                  <a:lnTo>
                    <a:pt x="133" y="11"/>
                  </a:lnTo>
                  <a:lnTo>
                    <a:pt x="149" y="0"/>
                  </a:lnTo>
                  <a:lnTo>
                    <a:pt x="133" y="1"/>
                  </a:lnTo>
                  <a:lnTo>
                    <a:pt x="112" y="6"/>
                  </a:lnTo>
                  <a:lnTo>
                    <a:pt x="91" y="14"/>
                  </a:lnTo>
                  <a:lnTo>
                    <a:pt x="69" y="25"/>
                  </a:lnTo>
                  <a:lnTo>
                    <a:pt x="48" y="40"/>
                  </a:lnTo>
                  <a:lnTo>
                    <a:pt x="31" y="57"/>
                  </a:lnTo>
                  <a:lnTo>
                    <a:pt x="18" y="75"/>
                  </a:lnTo>
                  <a:lnTo>
                    <a:pt x="10" y="94"/>
                  </a:lnTo>
                  <a:lnTo>
                    <a:pt x="7" y="125"/>
                  </a:lnTo>
                  <a:lnTo>
                    <a:pt x="7" y="146"/>
                  </a:lnTo>
                  <a:lnTo>
                    <a:pt x="5" y="16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46200" y="2371680"/>
              <a:ext cx="68400" cy="12564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86" y="157"/>
                  </a:moveTo>
                  <a:lnTo>
                    <a:pt x="74" y="152"/>
                  </a:lnTo>
                  <a:lnTo>
                    <a:pt x="61" y="148"/>
                  </a:lnTo>
                  <a:lnTo>
                    <a:pt x="48" y="141"/>
                  </a:lnTo>
                  <a:lnTo>
                    <a:pt x="37" y="132"/>
                  </a:lnTo>
                  <a:lnTo>
                    <a:pt x="26" y="114"/>
                  </a:lnTo>
                  <a:lnTo>
                    <a:pt x="14" y="88"/>
                  </a:lnTo>
                  <a:lnTo>
                    <a:pt x="6" y="51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34" y="23"/>
                  </a:lnTo>
                  <a:lnTo>
                    <a:pt x="46" y="34"/>
                  </a:lnTo>
                  <a:lnTo>
                    <a:pt x="58" y="47"/>
                  </a:lnTo>
                  <a:lnTo>
                    <a:pt x="67" y="64"/>
                  </a:lnTo>
                  <a:lnTo>
                    <a:pt x="75" y="88"/>
                  </a:lnTo>
                  <a:lnTo>
                    <a:pt x="82" y="117"/>
                  </a:lnTo>
                  <a:lnTo>
                    <a:pt x="86" y="157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3581280" y="990720"/>
            <a:ext cx="1413000" cy="990360"/>
            <a:chOff x="3581280" y="990720"/>
            <a:chExt cx="1413000" cy="990360"/>
          </a:xfrm>
        </p:grpSpPr>
        <p:sp>
          <p:nvSpPr>
            <p:cNvPr id="746" name=""/>
            <p:cNvSpPr/>
            <p:nvPr/>
          </p:nvSpPr>
          <p:spPr>
            <a:xfrm>
              <a:off x="3581280" y="990720"/>
              <a:ext cx="1413000" cy="990360"/>
            </a:xfrm>
            <a:custGeom>
              <a:avLst/>
              <a:gdLst/>
              <a:ahLst/>
              <a:rect l="l" t="t" r="r" b="b"/>
              <a:pathLst>
                <a:path w="1659" h="742">
                  <a:moveTo>
                    <a:pt x="252" y="584"/>
                  </a:moveTo>
                  <a:lnTo>
                    <a:pt x="227" y="584"/>
                  </a:lnTo>
                  <a:lnTo>
                    <a:pt x="200" y="580"/>
                  </a:lnTo>
                  <a:lnTo>
                    <a:pt x="172" y="572"/>
                  </a:lnTo>
                  <a:lnTo>
                    <a:pt x="147" y="558"/>
                  </a:lnTo>
                  <a:lnTo>
                    <a:pt x="124" y="540"/>
                  </a:lnTo>
                  <a:lnTo>
                    <a:pt x="105" y="518"/>
                  </a:lnTo>
                  <a:lnTo>
                    <a:pt x="96" y="491"/>
                  </a:lnTo>
                  <a:lnTo>
                    <a:pt x="92" y="459"/>
                  </a:lnTo>
                  <a:lnTo>
                    <a:pt x="94" y="428"/>
                  </a:lnTo>
                  <a:lnTo>
                    <a:pt x="92" y="404"/>
                  </a:lnTo>
                  <a:lnTo>
                    <a:pt x="88" y="386"/>
                  </a:lnTo>
                  <a:lnTo>
                    <a:pt x="81" y="370"/>
                  </a:lnTo>
                  <a:lnTo>
                    <a:pt x="73" y="358"/>
                  </a:lnTo>
                  <a:lnTo>
                    <a:pt x="60" y="346"/>
                  </a:lnTo>
                  <a:lnTo>
                    <a:pt x="46" y="334"/>
                  </a:lnTo>
                  <a:lnTo>
                    <a:pt x="30" y="319"/>
                  </a:lnTo>
                  <a:lnTo>
                    <a:pt x="14" y="300"/>
                  </a:lnTo>
                  <a:lnTo>
                    <a:pt x="4" y="277"/>
                  </a:lnTo>
                  <a:lnTo>
                    <a:pt x="0" y="250"/>
                  </a:lnTo>
                  <a:lnTo>
                    <a:pt x="1" y="221"/>
                  </a:lnTo>
                  <a:lnTo>
                    <a:pt x="8" y="192"/>
                  </a:lnTo>
                  <a:lnTo>
                    <a:pt x="20" y="165"/>
                  </a:lnTo>
                  <a:lnTo>
                    <a:pt x="40" y="140"/>
                  </a:lnTo>
                  <a:lnTo>
                    <a:pt x="65" y="119"/>
                  </a:lnTo>
                  <a:lnTo>
                    <a:pt x="60" y="143"/>
                  </a:lnTo>
                  <a:lnTo>
                    <a:pt x="60" y="170"/>
                  </a:lnTo>
                  <a:lnTo>
                    <a:pt x="67" y="196"/>
                  </a:lnTo>
                  <a:lnTo>
                    <a:pt x="78" y="221"/>
                  </a:lnTo>
                  <a:lnTo>
                    <a:pt x="96" y="242"/>
                  </a:lnTo>
                  <a:lnTo>
                    <a:pt x="120" y="258"/>
                  </a:lnTo>
                  <a:lnTo>
                    <a:pt x="152" y="269"/>
                  </a:lnTo>
                  <a:lnTo>
                    <a:pt x="190" y="271"/>
                  </a:lnTo>
                  <a:lnTo>
                    <a:pt x="192" y="241"/>
                  </a:lnTo>
                  <a:lnTo>
                    <a:pt x="198" y="213"/>
                  </a:lnTo>
                  <a:lnTo>
                    <a:pt x="209" y="188"/>
                  </a:lnTo>
                  <a:lnTo>
                    <a:pt x="225" y="165"/>
                  </a:lnTo>
                  <a:lnTo>
                    <a:pt x="246" y="148"/>
                  </a:lnTo>
                  <a:lnTo>
                    <a:pt x="272" y="133"/>
                  </a:lnTo>
                  <a:lnTo>
                    <a:pt x="304" y="123"/>
                  </a:lnTo>
                  <a:lnTo>
                    <a:pt x="342" y="119"/>
                  </a:lnTo>
                  <a:lnTo>
                    <a:pt x="318" y="136"/>
                  </a:lnTo>
                  <a:lnTo>
                    <a:pt x="300" y="156"/>
                  </a:lnTo>
                  <a:lnTo>
                    <a:pt x="292" y="175"/>
                  </a:lnTo>
                  <a:lnTo>
                    <a:pt x="288" y="192"/>
                  </a:lnTo>
                  <a:lnTo>
                    <a:pt x="289" y="210"/>
                  </a:lnTo>
                  <a:lnTo>
                    <a:pt x="292" y="228"/>
                  </a:lnTo>
                  <a:lnTo>
                    <a:pt x="299" y="244"/>
                  </a:lnTo>
                  <a:lnTo>
                    <a:pt x="307" y="257"/>
                  </a:lnTo>
                  <a:lnTo>
                    <a:pt x="320" y="269"/>
                  </a:lnTo>
                  <a:lnTo>
                    <a:pt x="340" y="279"/>
                  </a:lnTo>
                  <a:lnTo>
                    <a:pt x="368" y="290"/>
                  </a:lnTo>
                  <a:lnTo>
                    <a:pt x="396" y="301"/>
                  </a:lnTo>
                  <a:lnTo>
                    <a:pt x="424" y="314"/>
                  </a:lnTo>
                  <a:lnTo>
                    <a:pt x="448" y="332"/>
                  </a:lnTo>
                  <a:lnTo>
                    <a:pt x="467" y="354"/>
                  </a:lnTo>
                  <a:lnTo>
                    <a:pt x="475" y="382"/>
                  </a:lnTo>
                  <a:lnTo>
                    <a:pt x="484" y="361"/>
                  </a:lnTo>
                  <a:lnTo>
                    <a:pt x="494" y="346"/>
                  </a:lnTo>
                  <a:lnTo>
                    <a:pt x="504" y="335"/>
                  </a:lnTo>
                  <a:lnTo>
                    <a:pt x="513" y="326"/>
                  </a:lnTo>
                  <a:lnTo>
                    <a:pt x="521" y="318"/>
                  </a:lnTo>
                  <a:lnTo>
                    <a:pt x="531" y="309"/>
                  </a:lnTo>
                  <a:lnTo>
                    <a:pt x="540" y="298"/>
                  </a:lnTo>
                  <a:lnTo>
                    <a:pt x="550" y="285"/>
                  </a:lnTo>
                  <a:lnTo>
                    <a:pt x="555" y="271"/>
                  </a:lnTo>
                  <a:lnTo>
                    <a:pt x="548" y="257"/>
                  </a:lnTo>
                  <a:lnTo>
                    <a:pt x="536" y="242"/>
                  </a:lnTo>
                  <a:lnTo>
                    <a:pt x="524" y="225"/>
                  </a:lnTo>
                  <a:lnTo>
                    <a:pt x="516" y="204"/>
                  </a:lnTo>
                  <a:lnTo>
                    <a:pt x="520" y="180"/>
                  </a:lnTo>
                  <a:lnTo>
                    <a:pt x="536" y="149"/>
                  </a:lnTo>
                  <a:lnTo>
                    <a:pt x="571" y="111"/>
                  </a:lnTo>
                  <a:lnTo>
                    <a:pt x="612" y="75"/>
                  </a:lnTo>
                  <a:lnTo>
                    <a:pt x="646" y="51"/>
                  </a:lnTo>
                  <a:lnTo>
                    <a:pt x="672" y="35"/>
                  </a:lnTo>
                  <a:lnTo>
                    <a:pt x="691" y="27"/>
                  </a:lnTo>
                  <a:lnTo>
                    <a:pt x="704" y="24"/>
                  </a:lnTo>
                  <a:lnTo>
                    <a:pt x="712" y="24"/>
                  </a:lnTo>
                  <a:lnTo>
                    <a:pt x="715" y="26"/>
                  </a:lnTo>
                  <a:lnTo>
                    <a:pt x="716" y="27"/>
                  </a:lnTo>
                  <a:lnTo>
                    <a:pt x="699" y="38"/>
                  </a:lnTo>
                  <a:lnTo>
                    <a:pt x="684" y="53"/>
                  </a:lnTo>
                  <a:lnTo>
                    <a:pt x="672" y="67"/>
                  </a:lnTo>
                  <a:lnTo>
                    <a:pt x="662" y="83"/>
                  </a:lnTo>
                  <a:lnTo>
                    <a:pt x="656" y="99"/>
                  </a:lnTo>
                  <a:lnTo>
                    <a:pt x="654" y="117"/>
                  </a:lnTo>
                  <a:lnTo>
                    <a:pt x="659" y="131"/>
                  </a:lnTo>
                  <a:lnTo>
                    <a:pt x="668" y="146"/>
                  </a:lnTo>
                  <a:lnTo>
                    <a:pt x="683" y="160"/>
                  </a:lnTo>
                  <a:lnTo>
                    <a:pt x="699" y="176"/>
                  </a:lnTo>
                  <a:lnTo>
                    <a:pt x="713" y="196"/>
                  </a:lnTo>
                  <a:lnTo>
                    <a:pt x="726" y="216"/>
                  </a:lnTo>
                  <a:lnTo>
                    <a:pt x="736" y="239"/>
                  </a:lnTo>
                  <a:lnTo>
                    <a:pt x="737" y="263"/>
                  </a:lnTo>
                  <a:lnTo>
                    <a:pt x="732" y="287"/>
                  </a:lnTo>
                  <a:lnTo>
                    <a:pt x="716" y="313"/>
                  </a:lnTo>
                  <a:lnTo>
                    <a:pt x="700" y="337"/>
                  </a:lnTo>
                  <a:lnTo>
                    <a:pt x="692" y="358"/>
                  </a:lnTo>
                  <a:lnTo>
                    <a:pt x="692" y="375"/>
                  </a:lnTo>
                  <a:lnTo>
                    <a:pt x="697" y="391"/>
                  </a:lnTo>
                  <a:lnTo>
                    <a:pt x="708" y="406"/>
                  </a:lnTo>
                  <a:lnTo>
                    <a:pt x="724" y="419"/>
                  </a:lnTo>
                  <a:lnTo>
                    <a:pt x="744" y="431"/>
                  </a:lnTo>
                  <a:lnTo>
                    <a:pt x="766" y="444"/>
                  </a:lnTo>
                  <a:lnTo>
                    <a:pt x="760" y="430"/>
                  </a:lnTo>
                  <a:lnTo>
                    <a:pt x="758" y="420"/>
                  </a:lnTo>
                  <a:lnTo>
                    <a:pt x="760" y="411"/>
                  </a:lnTo>
                  <a:lnTo>
                    <a:pt x="766" y="404"/>
                  </a:lnTo>
                  <a:lnTo>
                    <a:pt x="774" y="396"/>
                  </a:lnTo>
                  <a:lnTo>
                    <a:pt x="787" y="390"/>
                  </a:lnTo>
                  <a:lnTo>
                    <a:pt x="803" y="380"/>
                  </a:lnTo>
                  <a:lnTo>
                    <a:pt x="822" y="369"/>
                  </a:lnTo>
                  <a:lnTo>
                    <a:pt x="841" y="353"/>
                  </a:lnTo>
                  <a:lnTo>
                    <a:pt x="856" y="334"/>
                  </a:lnTo>
                  <a:lnTo>
                    <a:pt x="867" y="311"/>
                  </a:lnTo>
                  <a:lnTo>
                    <a:pt x="873" y="289"/>
                  </a:lnTo>
                  <a:lnTo>
                    <a:pt x="876" y="266"/>
                  </a:lnTo>
                  <a:lnTo>
                    <a:pt x="876" y="244"/>
                  </a:lnTo>
                  <a:lnTo>
                    <a:pt x="872" y="225"/>
                  </a:lnTo>
                  <a:lnTo>
                    <a:pt x="864" y="208"/>
                  </a:lnTo>
                  <a:lnTo>
                    <a:pt x="889" y="220"/>
                  </a:lnTo>
                  <a:lnTo>
                    <a:pt x="913" y="234"/>
                  </a:lnTo>
                  <a:lnTo>
                    <a:pt x="934" y="253"/>
                  </a:lnTo>
                  <a:lnTo>
                    <a:pt x="953" y="276"/>
                  </a:lnTo>
                  <a:lnTo>
                    <a:pt x="968" y="300"/>
                  </a:lnTo>
                  <a:lnTo>
                    <a:pt x="977" y="326"/>
                  </a:lnTo>
                  <a:lnTo>
                    <a:pt x="980" y="351"/>
                  </a:lnTo>
                  <a:lnTo>
                    <a:pt x="979" y="375"/>
                  </a:lnTo>
                  <a:lnTo>
                    <a:pt x="1004" y="362"/>
                  </a:lnTo>
                  <a:lnTo>
                    <a:pt x="1035" y="348"/>
                  </a:lnTo>
                  <a:lnTo>
                    <a:pt x="1064" y="332"/>
                  </a:lnTo>
                  <a:lnTo>
                    <a:pt x="1089" y="309"/>
                  </a:lnTo>
                  <a:lnTo>
                    <a:pt x="1107" y="282"/>
                  </a:lnTo>
                  <a:lnTo>
                    <a:pt x="1113" y="247"/>
                  </a:lnTo>
                  <a:lnTo>
                    <a:pt x="1107" y="202"/>
                  </a:lnTo>
                  <a:lnTo>
                    <a:pt x="1083" y="146"/>
                  </a:lnTo>
                  <a:lnTo>
                    <a:pt x="1112" y="160"/>
                  </a:lnTo>
                  <a:lnTo>
                    <a:pt x="1140" y="181"/>
                  </a:lnTo>
                  <a:lnTo>
                    <a:pt x="1166" y="208"/>
                  </a:lnTo>
                  <a:lnTo>
                    <a:pt x="1187" y="242"/>
                  </a:lnTo>
                  <a:lnTo>
                    <a:pt x="1201" y="281"/>
                  </a:lnTo>
                  <a:lnTo>
                    <a:pt x="1206" y="322"/>
                  </a:lnTo>
                  <a:lnTo>
                    <a:pt x="1200" y="369"/>
                  </a:lnTo>
                  <a:lnTo>
                    <a:pt x="1180" y="417"/>
                  </a:lnTo>
                  <a:lnTo>
                    <a:pt x="1200" y="393"/>
                  </a:lnTo>
                  <a:lnTo>
                    <a:pt x="1217" y="370"/>
                  </a:lnTo>
                  <a:lnTo>
                    <a:pt x="1232" y="353"/>
                  </a:lnTo>
                  <a:lnTo>
                    <a:pt x="1244" y="335"/>
                  </a:lnTo>
                  <a:lnTo>
                    <a:pt x="1257" y="321"/>
                  </a:lnTo>
                  <a:lnTo>
                    <a:pt x="1270" y="308"/>
                  </a:lnTo>
                  <a:lnTo>
                    <a:pt x="1284" y="297"/>
                  </a:lnTo>
                  <a:lnTo>
                    <a:pt x="1299" y="285"/>
                  </a:lnTo>
                  <a:lnTo>
                    <a:pt x="1313" y="271"/>
                  </a:lnTo>
                  <a:lnTo>
                    <a:pt x="1323" y="249"/>
                  </a:lnTo>
                  <a:lnTo>
                    <a:pt x="1329" y="221"/>
                  </a:lnTo>
                  <a:lnTo>
                    <a:pt x="1329" y="194"/>
                  </a:lnTo>
                  <a:lnTo>
                    <a:pt x="1326" y="167"/>
                  </a:lnTo>
                  <a:lnTo>
                    <a:pt x="1316" y="143"/>
                  </a:lnTo>
                  <a:lnTo>
                    <a:pt x="1300" y="127"/>
                  </a:lnTo>
                  <a:lnTo>
                    <a:pt x="1278" y="119"/>
                  </a:lnTo>
                  <a:lnTo>
                    <a:pt x="1308" y="120"/>
                  </a:lnTo>
                  <a:lnTo>
                    <a:pt x="1337" y="131"/>
                  </a:lnTo>
                  <a:lnTo>
                    <a:pt x="1364" y="151"/>
                  </a:lnTo>
                  <a:lnTo>
                    <a:pt x="1384" y="178"/>
                  </a:lnTo>
                  <a:lnTo>
                    <a:pt x="1395" y="213"/>
                  </a:lnTo>
                  <a:lnTo>
                    <a:pt x="1392" y="255"/>
                  </a:lnTo>
                  <a:lnTo>
                    <a:pt x="1372" y="301"/>
                  </a:lnTo>
                  <a:lnTo>
                    <a:pt x="1334" y="354"/>
                  </a:lnTo>
                  <a:lnTo>
                    <a:pt x="1360" y="350"/>
                  </a:lnTo>
                  <a:lnTo>
                    <a:pt x="1387" y="334"/>
                  </a:lnTo>
                  <a:lnTo>
                    <a:pt x="1414" y="309"/>
                  </a:lnTo>
                  <a:lnTo>
                    <a:pt x="1436" y="281"/>
                  </a:lnTo>
                  <a:lnTo>
                    <a:pt x="1452" y="247"/>
                  </a:lnTo>
                  <a:lnTo>
                    <a:pt x="1459" y="212"/>
                  </a:lnTo>
                  <a:lnTo>
                    <a:pt x="1452" y="175"/>
                  </a:lnTo>
                  <a:lnTo>
                    <a:pt x="1430" y="140"/>
                  </a:lnTo>
                  <a:lnTo>
                    <a:pt x="1448" y="148"/>
                  </a:lnTo>
                  <a:lnTo>
                    <a:pt x="1462" y="157"/>
                  </a:lnTo>
                  <a:lnTo>
                    <a:pt x="1475" y="172"/>
                  </a:lnTo>
                  <a:lnTo>
                    <a:pt x="1484" y="186"/>
                  </a:lnTo>
                  <a:lnTo>
                    <a:pt x="1491" y="200"/>
                  </a:lnTo>
                  <a:lnTo>
                    <a:pt x="1496" y="212"/>
                  </a:lnTo>
                  <a:lnTo>
                    <a:pt x="1499" y="220"/>
                  </a:lnTo>
                  <a:lnTo>
                    <a:pt x="1500" y="223"/>
                  </a:lnTo>
                  <a:lnTo>
                    <a:pt x="1513" y="189"/>
                  </a:lnTo>
                  <a:lnTo>
                    <a:pt x="1534" y="159"/>
                  </a:lnTo>
                  <a:lnTo>
                    <a:pt x="1561" y="133"/>
                  </a:lnTo>
                  <a:lnTo>
                    <a:pt x="1588" y="109"/>
                  </a:lnTo>
                  <a:lnTo>
                    <a:pt x="1612" y="85"/>
                  </a:lnTo>
                  <a:lnTo>
                    <a:pt x="1632" y="59"/>
                  </a:lnTo>
                  <a:lnTo>
                    <a:pt x="1643" y="32"/>
                  </a:lnTo>
                  <a:lnTo>
                    <a:pt x="1640" y="0"/>
                  </a:lnTo>
                  <a:lnTo>
                    <a:pt x="1651" y="22"/>
                  </a:lnTo>
                  <a:lnTo>
                    <a:pt x="1657" y="42"/>
                  </a:lnTo>
                  <a:lnTo>
                    <a:pt x="1659" y="59"/>
                  </a:lnTo>
                  <a:lnTo>
                    <a:pt x="1657" y="79"/>
                  </a:lnTo>
                  <a:lnTo>
                    <a:pt x="1651" y="99"/>
                  </a:lnTo>
                  <a:lnTo>
                    <a:pt x="1638" y="123"/>
                  </a:lnTo>
                  <a:lnTo>
                    <a:pt x="1620" y="152"/>
                  </a:lnTo>
                  <a:lnTo>
                    <a:pt x="1598" y="188"/>
                  </a:lnTo>
                  <a:lnTo>
                    <a:pt x="1587" y="223"/>
                  </a:lnTo>
                  <a:lnTo>
                    <a:pt x="1584" y="269"/>
                  </a:lnTo>
                  <a:lnTo>
                    <a:pt x="1587" y="322"/>
                  </a:lnTo>
                  <a:lnTo>
                    <a:pt x="1587" y="375"/>
                  </a:lnTo>
                  <a:lnTo>
                    <a:pt x="1577" y="423"/>
                  </a:lnTo>
                  <a:lnTo>
                    <a:pt x="1555" y="462"/>
                  </a:lnTo>
                  <a:lnTo>
                    <a:pt x="1513" y="486"/>
                  </a:lnTo>
                  <a:lnTo>
                    <a:pt x="1444" y="487"/>
                  </a:lnTo>
                  <a:lnTo>
                    <a:pt x="1441" y="523"/>
                  </a:lnTo>
                  <a:lnTo>
                    <a:pt x="1433" y="561"/>
                  </a:lnTo>
                  <a:lnTo>
                    <a:pt x="1419" y="600"/>
                  </a:lnTo>
                  <a:lnTo>
                    <a:pt x="1398" y="632"/>
                  </a:lnTo>
                  <a:lnTo>
                    <a:pt x="1366" y="657"/>
                  </a:lnTo>
                  <a:lnTo>
                    <a:pt x="1323" y="672"/>
                  </a:lnTo>
                  <a:lnTo>
                    <a:pt x="1267" y="670"/>
                  </a:lnTo>
                  <a:lnTo>
                    <a:pt x="1195" y="653"/>
                  </a:lnTo>
                  <a:lnTo>
                    <a:pt x="1179" y="665"/>
                  </a:lnTo>
                  <a:lnTo>
                    <a:pt x="1160" y="678"/>
                  </a:lnTo>
                  <a:lnTo>
                    <a:pt x="1139" y="690"/>
                  </a:lnTo>
                  <a:lnTo>
                    <a:pt x="1118" y="699"/>
                  </a:lnTo>
                  <a:lnTo>
                    <a:pt x="1096" y="709"/>
                  </a:lnTo>
                  <a:lnTo>
                    <a:pt x="1073" y="715"/>
                  </a:lnTo>
                  <a:lnTo>
                    <a:pt x="1051" y="722"/>
                  </a:lnTo>
                  <a:lnTo>
                    <a:pt x="1028" y="725"/>
                  </a:lnTo>
                  <a:lnTo>
                    <a:pt x="1006" y="726"/>
                  </a:lnTo>
                  <a:lnTo>
                    <a:pt x="985" y="725"/>
                  </a:lnTo>
                  <a:lnTo>
                    <a:pt x="964" y="720"/>
                  </a:lnTo>
                  <a:lnTo>
                    <a:pt x="947" y="712"/>
                  </a:lnTo>
                  <a:lnTo>
                    <a:pt x="931" y="702"/>
                  </a:lnTo>
                  <a:lnTo>
                    <a:pt x="916" y="686"/>
                  </a:lnTo>
                  <a:lnTo>
                    <a:pt x="905" y="669"/>
                  </a:lnTo>
                  <a:lnTo>
                    <a:pt x="897" y="646"/>
                  </a:lnTo>
                  <a:lnTo>
                    <a:pt x="886" y="659"/>
                  </a:lnTo>
                  <a:lnTo>
                    <a:pt x="872" y="674"/>
                  </a:lnTo>
                  <a:lnTo>
                    <a:pt x="854" y="688"/>
                  </a:lnTo>
                  <a:lnTo>
                    <a:pt x="835" y="701"/>
                  </a:lnTo>
                  <a:lnTo>
                    <a:pt x="814" y="712"/>
                  </a:lnTo>
                  <a:lnTo>
                    <a:pt x="792" y="723"/>
                  </a:lnTo>
                  <a:lnTo>
                    <a:pt x="768" y="733"/>
                  </a:lnTo>
                  <a:lnTo>
                    <a:pt x="742" y="739"/>
                  </a:lnTo>
                  <a:lnTo>
                    <a:pt x="716" y="742"/>
                  </a:lnTo>
                  <a:lnTo>
                    <a:pt x="689" y="742"/>
                  </a:lnTo>
                  <a:lnTo>
                    <a:pt x="662" y="738"/>
                  </a:lnTo>
                  <a:lnTo>
                    <a:pt x="635" y="730"/>
                  </a:lnTo>
                  <a:lnTo>
                    <a:pt x="608" y="715"/>
                  </a:lnTo>
                  <a:lnTo>
                    <a:pt x="580" y="696"/>
                  </a:lnTo>
                  <a:lnTo>
                    <a:pt x="555" y="672"/>
                  </a:lnTo>
                  <a:lnTo>
                    <a:pt x="529" y="640"/>
                  </a:lnTo>
                  <a:lnTo>
                    <a:pt x="515" y="643"/>
                  </a:lnTo>
                  <a:lnTo>
                    <a:pt x="499" y="646"/>
                  </a:lnTo>
                  <a:lnTo>
                    <a:pt x="481" y="649"/>
                  </a:lnTo>
                  <a:lnTo>
                    <a:pt x="464" y="654"/>
                  </a:lnTo>
                  <a:lnTo>
                    <a:pt x="444" y="657"/>
                  </a:lnTo>
                  <a:lnTo>
                    <a:pt x="425" y="661"/>
                  </a:lnTo>
                  <a:lnTo>
                    <a:pt x="406" y="662"/>
                  </a:lnTo>
                  <a:lnTo>
                    <a:pt x="387" y="662"/>
                  </a:lnTo>
                  <a:lnTo>
                    <a:pt x="366" y="662"/>
                  </a:lnTo>
                  <a:lnTo>
                    <a:pt x="347" y="659"/>
                  </a:lnTo>
                  <a:lnTo>
                    <a:pt x="329" y="654"/>
                  </a:lnTo>
                  <a:lnTo>
                    <a:pt x="312" y="646"/>
                  </a:lnTo>
                  <a:lnTo>
                    <a:pt x="294" y="637"/>
                  </a:lnTo>
                  <a:lnTo>
                    <a:pt x="280" y="622"/>
                  </a:lnTo>
                  <a:lnTo>
                    <a:pt x="265" y="605"/>
                  </a:lnTo>
                  <a:lnTo>
                    <a:pt x="252" y="584"/>
                  </a:lnTo>
                  <a:close/>
                </a:path>
              </a:pathLst>
            </a:custGeom>
            <a:solidFill>
              <a:srgbClr val="ff7f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84640" y="1382760"/>
              <a:ext cx="156960" cy="180360"/>
            </a:xfrm>
            <a:custGeom>
              <a:avLst/>
              <a:gdLst/>
              <a:ahLst/>
              <a:rect l="l" t="t" r="r" b="b"/>
              <a:pathLst>
                <a:path w="198" h="228">
                  <a:moveTo>
                    <a:pt x="78" y="228"/>
                  </a:moveTo>
                  <a:lnTo>
                    <a:pt x="34" y="205"/>
                  </a:lnTo>
                  <a:lnTo>
                    <a:pt x="10" y="181"/>
                  </a:lnTo>
                  <a:lnTo>
                    <a:pt x="0" y="154"/>
                  </a:lnTo>
                  <a:lnTo>
                    <a:pt x="2" y="127"/>
                  </a:lnTo>
                  <a:lnTo>
                    <a:pt x="11" y="96"/>
                  </a:lnTo>
                  <a:lnTo>
                    <a:pt x="22" y="66"/>
                  </a:lnTo>
                  <a:lnTo>
                    <a:pt x="32" y="34"/>
                  </a:lnTo>
                  <a:lnTo>
                    <a:pt x="37" y="0"/>
                  </a:lnTo>
                  <a:lnTo>
                    <a:pt x="50" y="11"/>
                  </a:lnTo>
                  <a:lnTo>
                    <a:pt x="62" y="27"/>
                  </a:lnTo>
                  <a:lnTo>
                    <a:pt x="74" y="43"/>
                  </a:lnTo>
                  <a:lnTo>
                    <a:pt x="83" y="62"/>
                  </a:lnTo>
                  <a:lnTo>
                    <a:pt x="90" y="85"/>
                  </a:lnTo>
                  <a:lnTo>
                    <a:pt x="94" y="107"/>
                  </a:lnTo>
                  <a:lnTo>
                    <a:pt x="98" y="131"/>
                  </a:lnTo>
                  <a:lnTo>
                    <a:pt x="96" y="155"/>
                  </a:lnTo>
                  <a:lnTo>
                    <a:pt x="106" y="143"/>
                  </a:lnTo>
                  <a:lnTo>
                    <a:pt x="118" y="130"/>
                  </a:lnTo>
                  <a:lnTo>
                    <a:pt x="136" y="115"/>
                  </a:lnTo>
                  <a:lnTo>
                    <a:pt x="154" y="99"/>
                  </a:lnTo>
                  <a:lnTo>
                    <a:pt x="170" y="85"/>
                  </a:lnTo>
                  <a:lnTo>
                    <a:pt x="184" y="67"/>
                  </a:lnTo>
                  <a:lnTo>
                    <a:pt x="194" y="50"/>
                  </a:lnTo>
                  <a:lnTo>
                    <a:pt x="197" y="30"/>
                  </a:lnTo>
                  <a:lnTo>
                    <a:pt x="198" y="56"/>
                  </a:lnTo>
                  <a:lnTo>
                    <a:pt x="195" y="82"/>
                  </a:lnTo>
                  <a:lnTo>
                    <a:pt x="189" y="107"/>
                  </a:lnTo>
                  <a:lnTo>
                    <a:pt x="179" y="131"/>
                  </a:lnTo>
                  <a:lnTo>
                    <a:pt x="162" y="157"/>
                  </a:lnTo>
                  <a:lnTo>
                    <a:pt x="141" y="181"/>
                  </a:lnTo>
                  <a:lnTo>
                    <a:pt x="112" y="205"/>
                  </a:lnTo>
                  <a:lnTo>
                    <a:pt x="78" y="228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8640" y="1326960"/>
              <a:ext cx="119160" cy="160200"/>
            </a:xfrm>
            <a:custGeom>
              <a:avLst/>
              <a:gdLst/>
              <a:ahLst/>
              <a:rect l="l" t="t" r="r" b="b"/>
              <a:pathLst>
                <a:path w="150" h="202">
                  <a:moveTo>
                    <a:pt x="150" y="193"/>
                  </a:moveTo>
                  <a:lnTo>
                    <a:pt x="131" y="196"/>
                  </a:lnTo>
                  <a:lnTo>
                    <a:pt x="110" y="201"/>
                  </a:lnTo>
                  <a:lnTo>
                    <a:pt x="90" y="202"/>
                  </a:lnTo>
                  <a:lnTo>
                    <a:pt x="69" y="201"/>
                  </a:lnTo>
                  <a:lnTo>
                    <a:pt x="48" y="196"/>
                  </a:lnTo>
                  <a:lnTo>
                    <a:pt x="30" y="185"/>
                  </a:lnTo>
                  <a:lnTo>
                    <a:pt x="14" y="167"/>
                  </a:lnTo>
                  <a:lnTo>
                    <a:pt x="5" y="140"/>
                  </a:lnTo>
                  <a:lnTo>
                    <a:pt x="0" y="111"/>
                  </a:lnTo>
                  <a:lnTo>
                    <a:pt x="0" y="89"/>
                  </a:lnTo>
                  <a:lnTo>
                    <a:pt x="3" y="69"/>
                  </a:lnTo>
                  <a:lnTo>
                    <a:pt x="8" y="53"/>
                  </a:lnTo>
                  <a:lnTo>
                    <a:pt x="13" y="39"/>
                  </a:lnTo>
                  <a:lnTo>
                    <a:pt x="14" y="26"/>
                  </a:lnTo>
                  <a:lnTo>
                    <a:pt x="13" y="13"/>
                  </a:lnTo>
                  <a:lnTo>
                    <a:pt x="5" y="0"/>
                  </a:lnTo>
                  <a:lnTo>
                    <a:pt x="18" y="8"/>
                  </a:lnTo>
                  <a:lnTo>
                    <a:pt x="27" y="18"/>
                  </a:lnTo>
                  <a:lnTo>
                    <a:pt x="38" y="29"/>
                  </a:lnTo>
                  <a:lnTo>
                    <a:pt x="46" y="44"/>
                  </a:lnTo>
                  <a:lnTo>
                    <a:pt x="53" y="58"/>
                  </a:lnTo>
                  <a:lnTo>
                    <a:pt x="56" y="76"/>
                  </a:lnTo>
                  <a:lnTo>
                    <a:pt x="59" y="93"/>
                  </a:lnTo>
                  <a:lnTo>
                    <a:pt x="59" y="113"/>
                  </a:lnTo>
                  <a:lnTo>
                    <a:pt x="61" y="129"/>
                  </a:lnTo>
                  <a:lnTo>
                    <a:pt x="69" y="141"/>
                  </a:lnTo>
                  <a:lnTo>
                    <a:pt x="80" y="149"/>
                  </a:lnTo>
                  <a:lnTo>
                    <a:pt x="94" y="156"/>
                  </a:lnTo>
                  <a:lnTo>
                    <a:pt x="109" y="162"/>
                  </a:lnTo>
                  <a:lnTo>
                    <a:pt x="125" y="170"/>
                  </a:lnTo>
                  <a:lnTo>
                    <a:pt x="139" y="180"/>
                  </a:lnTo>
                  <a:lnTo>
                    <a:pt x="150" y="193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30520" y="1363680"/>
              <a:ext cx="131760" cy="163080"/>
            </a:xfrm>
            <a:custGeom>
              <a:avLst/>
              <a:gdLst/>
              <a:ahLst/>
              <a:rect l="l" t="t" r="r" b="b"/>
              <a:pathLst>
                <a:path w="167" h="205">
                  <a:moveTo>
                    <a:pt x="0" y="192"/>
                  </a:moveTo>
                  <a:lnTo>
                    <a:pt x="15" y="200"/>
                  </a:lnTo>
                  <a:lnTo>
                    <a:pt x="34" y="205"/>
                  </a:lnTo>
                  <a:lnTo>
                    <a:pt x="56" y="205"/>
                  </a:lnTo>
                  <a:lnTo>
                    <a:pt x="79" y="200"/>
                  </a:lnTo>
                  <a:lnTo>
                    <a:pt x="101" y="192"/>
                  </a:lnTo>
                  <a:lnTo>
                    <a:pt x="120" y="178"/>
                  </a:lnTo>
                  <a:lnTo>
                    <a:pt x="135" y="157"/>
                  </a:lnTo>
                  <a:lnTo>
                    <a:pt x="143" y="128"/>
                  </a:lnTo>
                  <a:lnTo>
                    <a:pt x="148" y="74"/>
                  </a:lnTo>
                  <a:lnTo>
                    <a:pt x="149" y="38"/>
                  </a:lnTo>
                  <a:lnTo>
                    <a:pt x="154" y="16"/>
                  </a:lnTo>
                  <a:lnTo>
                    <a:pt x="167" y="0"/>
                  </a:lnTo>
                  <a:lnTo>
                    <a:pt x="148" y="5"/>
                  </a:lnTo>
                  <a:lnTo>
                    <a:pt x="130" y="14"/>
                  </a:lnTo>
                  <a:lnTo>
                    <a:pt x="116" y="26"/>
                  </a:lnTo>
                  <a:lnTo>
                    <a:pt x="101" y="42"/>
                  </a:lnTo>
                  <a:lnTo>
                    <a:pt x="90" y="58"/>
                  </a:lnTo>
                  <a:lnTo>
                    <a:pt x="79" y="78"/>
                  </a:lnTo>
                  <a:lnTo>
                    <a:pt x="71" y="99"/>
                  </a:lnTo>
                  <a:lnTo>
                    <a:pt x="63" y="122"/>
                  </a:lnTo>
                  <a:lnTo>
                    <a:pt x="56" y="143"/>
                  </a:lnTo>
                  <a:lnTo>
                    <a:pt x="52" y="159"/>
                  </a:lnTo>
                  <a:lnTo>
                    <a:pt x="47" y="170"/>
                  </a:lnTo>
                  <a:lnTo>
                    <a:pt x="40" y="178"/>
                  </a:lnTo>
                  <a:lnTo>
                    <a:pt x="34" y="184"/>
                  </a:lnTo>
                  <a:lnTo>
                    <a:pt x="26" y="189"/>
                  </a:lnTo>
                  <a:lnTo>
                    <a:pt x="15" y="19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38600" y="1353960"/>
              <a:ext cx="117360" cy="139320"/>
            </a:xfrm>
            <a:custGeom>
              <a:avLst/>
              <a:gdLst/>
              <a:ahLst/>
              <a:rect l="l" t="t" r="r" b="b"/>
              <a:pathLst>
                <a:path w="149" h="174">
                  <a:moveTo>
                    <a:pt x="0" y="174"/>
                  </a:moveTo>
                  <a:lnTo>
                    <a:pt x="15" y="174"/>
                  </a:lnTo>
                  <a:lnTo>
                    <a:pt x="31" y="173"/>
                  </a:lnTo>
                  <a:lnTo>
                    <a:pt x="47" y="170"/>
                  </a:lnTo>
                  <a:lnTo>
                    <a:pt x="63" y="163"/>
                  </a:lnTo>
                  <a:lnTo>
                    <a:pt x="79" y="154"/>
                  </a:lnTo>
                  <a:lnTo>
                    <a:pt x="91" y="142"/>
                  </a:lnTo>
                  <a:lnTo>
                    <a:pt x="99" y="126"/>
                  </a:lnTo>
                  <a:lnTo>
                    <a:pt x="104" y="107"/>
                  </a:lnTo>
                  <a:lnTo>
                    <a:pt x="109" y="69"/>
                  </a:lnTo>
                  <a:lnTo>
                    <a:pt x="120" y="35"/>
                  </a:lnTo>
                  <a:lnTo>
                    <a:pt x="133" y="11"/>
                  </a:lnTo>
                  <a:lnTo>
                    <a:pt x="149" y="0"/>
                  </a:lnTo>
                  <a:lnTo>
                    <a:pt x="133" y="1"/>
                  </a:lnTo>
                  <a:lnTo>
                    <a:pt x="112" y="6"/>
                  </a:lnTo>
                  <a:lnTo>
                    <a:pt x="91" y="14"/>
                  </a:lnTo>
                  <a:lnTo>
                    <a:pt x="69" y="25"/>
                  </a:lnTo>
                  <a:lnTo>
                    <a:pt x="48" y="40"/>
                  </a:lnTo>
                  <a:lnTo>
                    <a:pt x="31" y="57"/>
                  </a:lnTo>
                  <a:lnTo>
                    <a:pt x="18" y="75"/>
                  </a:lnTo>
                  <a:lnTo>
                    <a:pt x="10" y="94"/>
                  </a:lnTo>
                  <a:lnTo>
                    <a:pt x="7" y="125"/>
                  </a:lnTo>
                  <a:lnTo>
                    <a:pt x="7" y="146"/>
                  </a:lnTo>
                  <a:lnTo>
                    <a:pt x="5" y="16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03400" y="1304640"/>
              <a:ext cx="68400" cy="12528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86" y="157"/>
                  </a:moveTo>
                  <a:lnTo>
                    <a:pt x="74" y="152"/>
                  </a:lnTo>
                  <a:lnTo>
                    <a:pt x="61" y="148"/>
                  </a:lnTo>
                  <a:lnTo>
                    <a:pt x="48" y="141"/>
                  </a:lnTo>
                  <a:lnTo>
                    <a:pt x="37" y="132"/>
                  </a:lnTo>
                  <a:lnTo>
                    <a:pt x="26" y="114"/>
                  </a:lnTo>
                  <a:lnTo>
                    <a:pt x="14" y="88"/>
                  </a:lnTo>
                  <a:lnTo>
                    <a:pt x="6" y="51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34" y="23"/>
                  </a:lnTo>
                  <a:lnTo>
                    <a:pt x="46" y="34"/>
                  </a:lnTo>
                  <a:lnTo>
                    <a:pt x="58" y="47"/>
                  </a:lnTo>
                  <a:lnTo>
                    <a:pt x="67" y="64"/>
                  </a:lnTo>
                  <a:lnTo>
                    <a:pt x="75" y="88"/>
                  </a:lnTo>
                  <a:lnTo>
                    <a:pt x="82" y="117"/>
                  </a:lnTo>
                  <a:lnTo>
                    <a:pt x="86" y="157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495680" y="2286000"/>
            <a:ext cx="1413000" cy="990720"/>
            <a:chOff x="4495680" y="2286000"/>
            <a:chExt cx="1413000" cy="990720"/>
          </a:xfrm>
        </p:grpSpPr>
        <p:sp>
          <p:nvSpPr>
            <p:cNvPr id="753" name=""/>
            <p:cNvSpPr/>
            <p:nvPr/>
          </p:nvSpPr>
          <p:spPr>
            <a:xfrm>
              <a:off x="4495680" y="2286000"/>
              <a:ext cx="1413000" cy="990720"/>
            </a:xfrm>
            <a:custGeom>
              <a:avLst/>
              <a:gdLst/>
              <a:ahLst/>
              <a:rect l="l" t="t" r="r" b="b"/>
              <a:pathLst>
                <a:path w="1659" h="742">
                  <a:moveTo>
                    <a:pt x="252" y="584"/>
                  </a:moveTo>
                  <a:lnTo>
                    <a:pt x="227" y="584"/>
                  </a:lnTo>
                  <a:lnTo>
                    <a:pt x="200" y="580"/>
                  </a:lnTo>
                  <a:lnTo>
                    <a:pt x="172" y="572"/>
                  </a:lnTo>
                  <a:lnTo>
                    <a:pt x="147" y="558"/>
                  </a:lnTo>
                  <a:lnTo>
                    <a:pt x="124" y="540"/>
                  </a:lnTo>
                  <a:lnTo>
                    <a:pt x="105" y="518"/>
                  </a:lnTo>
                  <a:lnTo>
                    <a:pt x="96" y="491"/>
                  </a:lnTo>
                  <a:lnTo>
                    <a:pt x="92" y="459"/>
                  </a:lnTo>
                  <a:lnTo>
                    <a:pt x="94" y="428"/>
                  </a:lnTo>
                  <a:lnTo>
                    <a:pt x="92" y="404"/>
                  </a:lnTo>
                  <a:lnTo>
                    <a:pt x="88" y="386"/>
                  </a:lnTo>
                  <a:lnTo>
                    <a:pt x="81" y="370"/>
                  </a:lnTo>
                  <a:lnTo>
                    <a:pt x="73" y="358"/>
                  </a:lnTo>
                  <a:lnTo>
                    <a:pt x="60" y="346"/>
                  </a:lnTo>
                  <a:lnTo>
                    <a:pt x="46" y="334"/>
                  </a:lnTo>
                  <a:lnTo>
                    <a:pt x="30" y="319"/>
                  </a:lnTo>
                  <a:lnTo>
                    <a:pt x="14" y="300"/>
                  </a:lnTo>
                  <a:lnTo>
                    <a:pt x="4" y="277"/>
                  </a:lnTo>
                  <a:lnTo>
                    <a:pt x="0" y="250"/>
                  </a:lnTo>
                  <a:lnTo>
                    <a:pt x="1" y="221"/>
                  </a:lnTo>
                  <a:lnTo>
                    <a:pt x="8" y="192"/>
                  </a:lnTo>
                  <a:lnTo>
                    <a:pt x="20" y="165"/>
                  </a:lnTo>
                  <a:lnTo>
                    <a:pt x="40" y="140"/>
                  </a:lnTo>
                  <a:lnTo>
                    <a:pt x="65" y="119"/>
                  </a:lnTo>
                  <a:lnTo>
                    <a:pt x="60" y="143"/>
                  </a:lnTo>
                  <a:lnTo>
                    <a:pt x="60" y="170"/>
                  </a:lnTo>
                  <a:lnTo>
                    <a:pt x="67" y="196"/>
                  </a:lnTo>
                  <a:lnTo>
                    <a:pt x="78" y="221"/>
                  </a:lnTo>
                  <a:lnTo>
                    <a:pt x="96" y="242"/>
                  </a:lnTo>
                  <a:lnTo>
                    <a:pt x="120" y="258"/>
                  </a:lnTo>
                  <a:lnTo>
                    <a:pt x="152" y="269"/>
                  </a:lnTo>
                  <a:lnTo>
                    <a:pt x="190" y="271"/>
                  </a:lnTo>
                  <a:lnTo>
                    <a:pt x="192" y="241"/>
                  </a:lnTo>
                  <a:lnTo>
                    <a:pt x="198" y="213"/>
                  </a:lnTo>
                  <a:lnTo>
                    <a:pt x="209" y="188"/>
                  </a:lnTo>
                  <a:lnTo>
                    <a:pt x="225" y="165"/>
                  </a:lnTo>
                  <a:lnTo>
                    <a:pt x="246" y="148"/>
                  </a:lnTo>
                  <a:lnTo>
                    <a:pt x="272" y="133"/>
                  </a:lnTo>
                  <a:lnTo>
                    <a:pt x="304" y="123"/>
                  </a:lnTo>
                  <a:lnTo>
                    <a:pt x="342" y="119"/>
                  </a:lnTo>
                  <a:lnTo>
                    <a:pt x="318" y="136"/>
                  </a:lnTo>
                  <a:lnTo>
                    <a:pt x="300" y="156"/>
                  </a:lnTo>
                  <a:lnTo>
                    <a:pt x="292" y="175"/>
                  </a:lnTo>
                  <a:lnTo>
                    <a:pt x="288" y="192"/>
                  </a:lnTo>
                  <a:lnTo>
                    <a:pt x="289" y="210"/>
                  </a:lnTo>
                  <a:lnTo>
                    <a:pt x="292" y="228"/>
                  </a:lnTo>
                  <a:lnTo>
                    <a:pt x="299" y="244"/>
                  </a:lnTo>
                  <a:lnTo>
                    <a:pt x="307" y="257"/>
                  </a:lnTo>
                  <a:lnTo>
                    <a:pt x="320" y="269"/>
                  </a:lnTo>
                  <a:lnTo>
                    <a:pt x="340" y="279"/>
                  </a:lnTo>
                  <a:lnTo>
                    <a:pt x="368" y="290"/>
                  </a:lnTo>
                  <a:lnTo>
                    <a:pt x="396" y="301"/>
                  </a:lnTo>
                  <a:lnTo>
                    <a:pt x="424" y="314"/>
                  </a:lnTo>
                  <a:lnTo>
                    <a:pt x="448" y="332"/>
                  </a:lnTo>
                  <a:lnTo>
                    <a:pt x="467" y="354"/>
                  </a:lnTo>
                  <a:lnTo>
                    <a:pt x="475" y="382"/>
                  </a:lnTo>
                  <a:lnTo>
                    <a:pt x="484" y="361"/>
                  </a:lnTo>
                  <a:lnTo>
                    <a:pt x="494" y="346"/>
                  </a:lnTo>
                  <a:lnTo>
                    <a:pt x="504" y="335"/>
                  </a:lnTo>
                  <a:lnTo>
                    <a:pt x="513" y="326"/>
                  </a:lnTo>
                  <a:lnTo>
                    <a:pt x="521" y="318"/>
                  </a:lnTo>
                  <a:lnTo>
                    <a:pt x="531" y="309"/>
                  </a:lnTo>
                  <a:lnTo>
                    <a:pt x="540" y="298"/>
                  </a:lnTo>
                  <a:lnTo>
                    <a:pt x="550" y="285"/>
                  </a:lnTo>
                  <a:lnTo>
                    <a:pt x="555" y="271"/>
                  </a:lnTo>
                  <a:lnTo>
                    <a:pt x="548" y="257"/>
                  </a:lnTo>
                  <a:lnTo>
                    <a:pt x="536" y="242"/>
                  </a:lnTo>
                  <a:lnTo>
                    <a:pt x="524" y="225"/>
                  </a:lnTo>
                  <a:lnTo>
                    <a:pt x="516" y="204"/>
                  </a:lnTo>
                  <a:lnTo>
                    <a:pt x="520" y="180"/>
                  </a:lnTo>
                  <a:lnTo>
                    <a:pt x="536" y="149"/>
                  </a:lnTo>
                  <a:lnTo>
                    <a:pt x="571" y="111"/>
                  </a:lnTo>
                  <a:lnTo>
                    <a:pt x="612" y="75"/>
                  </a:lnTo>
                  <a:lnTo>
                    <a:pt x="646" y="51"/>
                  </a:lnTo>
                  <a:lnTo>
                    <a:pt x="672" y="35"/>
                  </a:lnTo>
                  <a:lnTo>
                    <a:pt x="691" y="27"/>
                  </a:lnTo>
                  <a:lnTo>
                    <a:pt x="704" y="24"/>
                  </a:lnTo>
                  <a:lnTo>
                    <a:pt x="712" y="24"/>
                  </a:lnTo>
                  <a:lnTo>
                    <a:pt x="715" y="26"/>
                  </a:lnTo>
                  <a:lnTo>
                    <a:pt x="716" y="27"/>
                  </a:lnTo>
                  <a:lnTo>
                    <a:pt x="699" y="38"/>
                  </a:lnTo>
                  <a:lnTo>
                    <a:pt x="684" y="53"/>
                  </a:lnTo>
                  <a:lnTo>
                    <a:pt x="672" y="67"/>
                  </a:lnTo>
                  <a:lnTo>
                    <a:pt x="662" y="83"/>
                  </a:lnTo>
                  <a:lnTo>
                    <a:pt x="656" y="99"/>
                  </a:lnTo>
                  <a:lnTo>
                    <a:pt x="654" y="117"/>
                  </a:lnTo>
                  <a:lnTo>
                    <a:pt x="659" y="131"/>
                  </a:lnTo>
                  <a:lnTo>
                    <a:pt x="668" y="146"/>
                  </a:lnTo>
                  <a:lnTo>
                    <a:pt x="683" y="160"/>
                  </a:lnTo>
                  <a:lnTo>
                    <a:pt x="699" y="176"/>
                  </a:lnTo>
                  <a:lnTo>
                    <a:pt x="713" y="196"/>
                  </a:lnTo>
                  <a:lnTo>
                    <a:pt x="726" y="216"/>
                  </a:lnTo>
                  <a:lnTo>
                    <a:pt x="736" y="239"/>
                  </a:lnTo>
                  <a:lnTo>
                    <a:pt x="737" y="263"/>
                  </a:lnTo>
                  <a:lnTo>
                    <a:pt x="732" y="287"/>
                  </a:lnTo>
                  <a:lnTo>
                    <a:pt x="716" y="313"/>
                  </a:lnTo>
                  <a:lnTo>
                    <a:pt x="700" y="337"/>
                  </a:lnTo>
                  <a:lnTo>
                    <a:pt x="692" y="358"/>
                  </a:lnTo>
                  <a:lnTo>
                    <a:pt x="692" y="375"/>
                  </a:lnTo>
                  <a:lnTo>
                    <a:pt x="697" y="391"/>
                  </a:lnTo>
                  <a:lnTo>
                    <a:pt x="708" y="406"/>
                  </a:lnTo>
                  <a:lnTo>
                    <a:pt x="724" y="419"/>
                  </a:lnTo>
                  <a:lnTo>
                    <a:pt x="744" y="431"/>
                  </a:lnTo>
                  <a:lnTo>
                    <a:pt x="766" y="444"/>
                  </a:lnTo>
                  <a:lnTo>
                    <a:pt x="760" y="430"/>
                  </a:lnTo>
                  <a:lnTo>
                    <a:pt x="758" y="420"/>
                  </a:lnTo>
                  <a:lnTo>
                    <a:pt x="760" y="411"/>
                  </a:lnTo>
                  <a:lnTo>
                    <a:pt x="766" y="404"/>
                  </a:lnTo>
                  <a:lnTo>
                    <a:pt x="774" y="396"/>
                  </a:lnTo>
                  <a:lnTo>
                    <a:pt x="787" y="390"/>
                  </a:lnTo>
                  <a:lnTo>
                    <a:pt x="803" y="380"/>
                  </a:lnTo>
                  <a:lnTo>
                    <a:pt x="822" y="369"/>
                  </a:lnTo>
                  <a:lnTo>
                    <a:pt x="841" y="353"/>
                  </a:lnTo>
                  <a:lnTo>
                    <a:pt x="856" y="334"/>
                  </a:lnTo>
                  <a:lnTo>
                    <a:pt x="867" y="311"/>
                  </a:lnTo>
                  <a:lnTo>
                    <a:pt x="873" y="289"/>
                  </a:lnTo>
                  <a:lnTo>
                    <a:pt x="876" y="266"/>
                  </a:lnTo>
                  <a:lnTo>
                    <a:pt x="876" y="244"/>
                  </a:lnTo>
                  <a:lnTo>
                    <a:pt x="872" y="225"/>
                  </a:lnTo>
                  <a:lnTo>
                    <a:pt x="864" y="208"/>
                  </a:lnTo>
                  <a:lnTo>
                    <a:pt x="889" y="220"/>
                  </a:lnTo>
                  <a:lnTo>
                    <a:pt x="913" y="234"/>
                  </a:lnTo>
                  <a:lnTo>
                    <a:pt x="934" y="253"/>
                  </a:lnTo>
                  <a:lnTo>
                    <a:pt x="953" y="276"/>
                  </a:lnTo>
                  <a:lnTo>
                    <a:pt x="968" y="300"/>
                  </a:lnTo>
                  <a:lnTo>
                    <a:pt x="977" y="326"/>
                  </a:lnTo>
                  <a:lnTo>
                    <a:pt x="980" y="351"/>
                  </a:lnTo>
                  <a:lnTo>
                    <a:pt x="979" y="375"/>
                  </a:lnTo>
                  <a:lnTo>
                    <a:pt x="1004" y="362"/>
                  </a:lnTo>
                  <a:lnTo>
                    <a:pt x="1035" y="348"/>
                  </a:lnTo>
                  <a:lnTo>
                    <a:pt x="1064" y="332"/>
                  </a:lnTo>
                  <a:lnTo>
                    <a:pt x="1089" y="309"/>
                  </a:lnTo>
                  <a:lnTo>
                    <a:pt x="1107" y="282"/>
                  </a:lnTo>
                  <a:lnTo>
                    <a:pt x="1113" y="247"/>
                  </a:lnTo>
                  <a:lnTo>
                    <a:pt x="1107" y="202"/>
                  </a:lnTo>
                  <a:lnTo>
                    <a:pt x="1083" y="146"/>
                  </a:lnTo>
                  <a:lnTo>
                    <a:pt x="1112" y="160"/>
                  </a:lnTo>
                  <a:lnTo>
                    <a:pt x="1140" y="181"/>
                  </a:lnTo>
                  <a:lnTo>
                    <a:pt x="1166" y="208"/>
                  </a:lnTo>
                  <a:lnTo>
                    <a:pt x="1187" y="242"/>
                  </a:lnTo>
                  <a:lnTo>
                    <a:pt x="1201" y="281"/>
                  </a:lnTo>
                  <a:lnTo>
                    <a:pt x="1206" y="322"/>
                  </a:lnTo>
                  <a:lnTo>
                    <a:pt x="1200" y="369"/>
                  </a:lnTo>
                  <a:lnTo>
                    <a:pt x="1180" y="417"/>
                  </a:lnTo>
                  <a:lnTo>
                    <a:pt x="1200" y="393"/>
                  </a:lnTo>
                  <a:lnTo>
                    <a:pt x="1217" y="370"/>
                  </a:lnTo>
                  <a:lnTo>
                    <a:pt x="1232" y="353"/>
                  </a:lnTo>
                  <a:lnTo>
                    <a:pt x="1244" y="335"/>
                  </a:lnTo>
                  <a:lnTo>
                    <a:pt x="1257" y="321"/>
                  </a:lnTo>
                  <a:lnTo>
                    <a:pt x="1270" y="308"/>
                  </a:lnTo>
                  <a:lnTo>
                    <a:pt x="1284" y="297"/>
                  </a:lnTo>
                  <a:lnTo>
                    <a:pt x="1299" y="285"/>
                  </a:lnTo>
                  <a:lnTo>
                    <a:pt x="1313" y="271"/>
                  </a:lnTo>
                  <a:lnTo>
                    <a:pt x="1323" y="249"/>
                  </a:lnTo>
                  <a:lnTo>
                    <a:pt x="1329" y="221"/>
                  </a:lnTo>
                  <a:lnTo>
                    <a:pt x="1329" y="194"/>
                  </a:lnTo>
                  <a:lnTo>
                    <a:pt x="1326" y="167"/>
                  </a:lnTo>
                  <a:lnTo>
                    <a:pt x="1316" y="143"/>
                  </a:lnTo>
                  <a:lnTo>
                    <a:pt x="1300" y="127"/>
                  </a:lnTo>
                  <a:lnTo>
                    <a:pt x="1278" y="119"/>
                  </a:lnTo>
                  <a:lnTo>
                    <a:pt x="1308" y="120"/>
                  </a:lnTo>
                  <a:lnTo>
                    <a:pt x="1337" y="131"/>
                  </a:lnTo>
                  <a:lnTo>
                    <a:pt x="1364" y="151"/>
                  </a:lnTo>
                  <a:lnTo>
                    <a:pt x="1384" y="178"/>
                  </a:lnTo>
                  <a:lnTo>
                    <a:pt x="1395" y="213"/>
                  </a:lnTo>
                  <a:lnTo>
                    <a:pt x="1392" y="255"/>
                  </a:lnTo>
                  <a:lnTo>
                    <a:pt x="1372" y="301"/>
                  </a:lnTo>
                  <a:lnTo>
                    <a:pt x="1334" y="354"/>
                  </a:lnTo>
                  <a:lnTo>
                    <a:pt x="1360" y="350"/>
                  </a:lnTo>
                  <a:lnTo>
                    <a:pt x="1387" y="334"/>
                  </a:lnTo>
                  <a:lnTo>
                    <a:pt x="1414" y="309"/>
                  </a:lnTo>
                  <a:lnTo>
                    <a:pt x="1436" y="281"/>
                  </a:lnTo>
                  <a:lnTo>
                    <a:pt x="1452" y="247"/>
                  </a:lnTo>
                  <a:lnTo>
                    <a:pt x="1459" y="212"/>
                  </a:lnTo>
                  <a:lnTo>
                    <a:pt x="1452" y="175"/>
                  </a:lnTo>
                  <a:lnTo>
                    <a:pt x="1430" y="140"/>
                  </a:lnTo>
                  <a:lnTo>
                    <a:pt x="1448" y="148"/>
                  </a:lnTo>
                  <a:lnTo>
                    <a:pt x="1462" y="157"/>
                  </a:lnTo>
                  <a:lnTo>
                    <a:pt x="1475" y="172"/>
                  </a:lnTo>
                  <a:lnTo>
                    <a:pt x="1484" y="186"/>
                  </a:lnTo>
                  <a:lnTo>
                    <a:pt x="1491" y="200"/>
                  </a:lnTo>
                  <a:lnTo>
                    <a:pt x="1496" y="212"/>
                  </a:lnTo>
                  <a:lnTo>
                    <a:pt x="1499" y="220"/>
                  </a:lnTo>
                  <a:lnTo>
                    <a:pt x="1500" y="223"/>
                  </a:lnTo>
                  <a:lnTo>
                    <a:pt x="1513" y="189"/>
                  </a:lnTo>
                  <a:lnTo>
                    <a:pt x="1534" y="159"/>
                  </a:lnTo>
                  <a:lnTo>
                    <a:pt x="1561" y="133"/>
                  </a:lnTo>
                  <a:lnTo>
                    <a:pt x="1588" y="109"/>
                  </a:lnTo>
                  <a:lnTo>
                    <a:pt x="1612" y="85"/>
                  </a:lnTo>
                  <a:lnTo>
                    <a:pt x="1632" y="59"/>
                  </a:lnTo>
                  <a:lnTo>
                    <a:pt x="1643" y="32"/>
                  </a:lnTo>
                  <a:lnTo>
                    <a:pt x="1640" y="0"/>
                  </a:lnTo>
                  <a:lnTo>
                    <a:pt x="1651" y="22"/>
                  </a:lnTo>
                  <a:lnTo>
                    <a:pt x="1657" y="42"/>
                  </a:lnTo>
                  <a:lnTo>
                    <a:pt x="1659" y="59"/>
                  </a:lnTo>
                  <a:lnTo>
                    <a:pt x="1657" y="79"/>
                  </a:lnTo>
                  <a:lnTo>
                    <a:pt x="1651" y="99"/>
                  </a:lnTo>
                  <a:lnTo>
                    <a:pt x="1638" y="123"/>
                  </a:lnTo>
                  <a:lnTo>
                    <a:pt x="1620" y="152"/>
                  </a:lnTo>
                  <a:lnTo>
                    <a:pt x="1598" y="188"/>
                  </a:lnTo>
                  <a:lnTo>
                    <a:pt x="1587" y="223"/>
                  </a:lnTo>
                  <a:lnTo>
                    <a:pt x="1584" y="269"/>
                  </a:lnTo>
                  <a:lnTo>
                    <a:pt x="1587" y="322"/>
                  </a:lnTo>
                  <a:lnTo>
                    <a:pt x="1587" y="375"/>
                  </a:lnTo>
                  <a:lnTo>
                    <a:pt x="1577" y="423"/>
                  </a:lnTo>
                  <a:lnTo>
                    <a:pt x="1555" y="462"/>
                  </a:lnTo>
                  <a:lnTo>
                    <a:pt x="1513" y="486"/>
                  </a:lnTo>
                  <a:lnTo>
                    <a:pt x="1444" y="487"/>
                  </a:lnTo>
                  <a:lnTo>
                    <a:pt x="1441" y="523"/>
                  </a:lnTo>
                  <a:lnTo>
                    <a:pt x="1433" y="561"/>
                  </a:lnTo>
                  <a:lnTo>
                    <a:pt x="1419" y="600"/>
                  </a:lnTo>
                  <a:lnTo>
                    <a:pt x="1398" y="632"/>
                  </a:lnTo>
                  <a:lnTo>
                    <a:pt x="1366" y="657"/>
                  </a:lnTo>
                  <a:lnTo>
                    <a:pt x="1323" y="672"/>
                  </a:lnTo>
                  <a:lnTo>
                    <a:pt x="1267" y="670"/>
                  </a:lnTo>
                  <a:lnTo>
                    <a:pt x="1195" y="653"/>
                  </a:lnTo>
                  <a:lnTo>
                    <a:pt x="1179" y="665"/>
                  </a:lnTo>
                  <a:lnTo>
                    <a:pt x="1160" y="678"/>
                  </a:lnTo>
                  <a:lnTo>
                    <a:pt x="1139" y="690"/>
                  </a:lnTo>
                  <a:lnTo>
                    <a:pt x="1118" y="699"/>
                  </a:lnTo>
                  <a:lnTo>
                    <a:pt x="1096" y="709"/>
                  </a:lnTo>
                  <a:lnTo>
                    <a:pt x="1073" y="715"/>
                  </a:lnTo>
                  <a:lnTo>
                    <a:pt x="1051" y="722"/>
                  </a:lnTo>
                  <a:lnTo>
                    <a:pt x="1028" y="725"/>
                  </a:lnTo>
                  <a:lnTo>
                    <a:pt x="1006" y="726"/>
                  </a:lnTo>
                  <a:lnTo>
                    <a:pt x="985" y="725"/>
                  </a:lnTo>
                  <a:lnTo>
                    <a:pt x="964" y="720"/>
                  </a:lnTo>
                  <a:lnTo>
                    <a:pt x="947" y="712"/>
                  </a:lnTo>
                  <a:lnTo>
                    <a:pt x="931" y="702"/>
                  </a:lnTo>
                  <a:lnTo>
                    <a:pt x="916" y="686"/>
                  </a:lnTo>
                  <a:lnTo>
                    <a:pt x="905" y="669"/>
                  </a:lnTo>
                  <a:lnTo>
                    <a:pt x="897" y="646"/>
                  </a:lnTo>
                  <a:lnTo>
                    <a:pt x="886" y="659"/>
                  </a:lnTo>
                  <a:lnTo>
                    <a:pt x="872" y="674"/>
                  </a:lnTo>
                  <a:lnTo>
                    <a:pt x="854" y="688"/>
                  </a:lnTo>
                  <a:lnTo>
                    <a:pt x="835" y="701"/>
                  </a:lnTo>
                  <a:lnTo>
                    <a:pt x="814" y="712"/>
                  </a:lnTo>
                  <a:lnTo>
                    <a:pt x="792" y="723"/>
                  </a:lnTo>
                  <a:lnTo>
                    <a:pt x="768" y="733"/>
                  </a:lnTo>
                  <a:lnTo>
                    <a:pt x="742" y="739"/>
                  </a:lnTo>
                  <a:lnTo>
                    <a:pt x="716" y="742"/>
                  </a:lnTo>
                  <a:lnTo>
                    <a:pt x="689" y="742"/>
                  </a:lnTo>
                  <a:lnTo>
                    <a:pt x="662" y="738"/>
                  </a:lnTo>
                  <a:lnTo>
                    <a:pt x="635" y="730"/>
                  </a:lnTo>
                  <a:lnTo>
                    <a:pt x="608" y="715"/>
                  </a:lnTo>
                  <a:lnTo>
                    <a:pt x="580" y="696"/>
                  </a:lnTo>
                  <a:lnTo>
                    <a:pt x="555" y="672"/>
                  </a:lnTo>
                  <a:lnTo>
                    <a:pt x="529" y="640"/>
                  </a:lnTo>
                  <a:lnTo>
                    <a:pt x="515" y="643"/>
                  </a:lnTo>
                  <a:lnTo>
                    <a:pt x="499" y="646"/>
                  </a:lnTo>
                  <a:lnTo>
                    <a:pt x="481" y="649"/>
                  </a:lnTo>
                  <a:lnTo>
                    <a:pt x="464" y="654"/>
                  </a:lnTo>
                  <a:lnTo>
                    <a:pt x="444" y="657"/>
                  </a:lnTo>
                  <a:lnTo>
                    <a:pt x="425" y="661"/>
                  </a:lnTo>
                  <a:lnTo>
                    <a:pt x="406" y="662"/>
                  </a:lnTo>
                  <a:lnTo>
                    <a:pt x="387" y="662"/>
                  </a:lnTo>
                  <a:lnTo>
                    <a:pt x="366" y="662"/>
                  </a:lnTo>
                  <a:lnTo>
                    <a:pt x="347" y="659"/>
                  </a:lnTo>
                  <a:lnTo>
                    <a:pt x="329" y="654"/>
                  </a:lnTo>
                  <a:lnTo>
                    <a:pt x="312" y="646"/>
                  </a:lnTo>
                  <a:lnTo>
                    <a:pt x="294" y="637"/>
                  </a:lnTo>
                  <a:lnTo>
                    <a:pt x="280" y="622"/>
                  </a:lnTo>
                  <a:lnTo>
                    <a:pt x="265" y="605"/>
                  </a:lnTo>
                  <a:lnTo>
                    <a:pt x="252" y="584"/>
                  </a:lnTo>
                  <a:close/>
                </a:path>
              </a:pathLst>
            </a:custGeom>
            <a:solidFill>
              <a:srgbClr val="ff7f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99040" y="2678400"/>
              <a:ext cx="156960" cy="180720"/>
            </a:xfrm>
            <a:custGeom>
              <a:avLst/>
              <a:gdLst/>
              <a:ahLst/>
              <a:rect l="l" t="t" r="r" b="b"/>
              <a:pathLst>
                <a:path w="198" h="228">
                  <a:moveTo>
                    <a:pt x="78" y="228"/>
                  </a:moveTo>
                  <a:lnTo>
                    <a:pt x="34" y="205"/>
                  </a:lnTo>
                  <a:lnTo>
                    <a:pt x="10" y="181"/>
                  </a:lnTo>
                  <a:lnTo>
                    <a:pt x="0" y="154"/>
                  </a:lnTo>
                  <a:lnTo>
                    <a:pt x="2" y="127"/>
                  </a:lnTo>
                  <a:lnTo>
                    <a:pt x="11" y="96"/>
                  </a:lnTo>
                  <a:lnTo>
                    <a:pt x="22" y="66"/>
                  </a:lnTo>
                  <a:lnTo>
                    <a:pt x="32" y="34"/>
                  </a:lnTo>
                  <a:lnTo>
                    <a:pt x="37" y="0"/>
                  </a:lnTo>
                  <a:lnTo>
                    <a:pt x="50" y="11"/>
                  </a:lnTo>
                  <a:lnTo>
                    <a:pt x="62" y="27"/>
                  </a:lnTo>
                  <a:lnTo>
                    <a:pt x="74" y="43"/>
                  </a:lnTo>
                  <a:lnTo>
                    <a:pt x="83" y="62"/>
                  </a:lnTo>
                  <a:lnTo>
                    <a:pt x="90" y="85"/>
                  </a:lnTo>
                  <a:lnTo>
                    <a:pt x="94" y="107"/>
                  </a:lnTo>
                  <a:lnTo>
                    <a:pt x="98" y="131"/>
                  </a:lnTo>
                  <a:lnTo>
                    <a:pt x="96" y="155"/>
                  </a:lnTo>
                  <a:lnTo>
                    <a:pt x="106" y="143"/>
                  </a:lnTo>
                  <a:lnTo>
                    <a:pt x="118" y="130"/>
                  </a:lnTo>
                  <a:lnTo>
                    <a:pt x="136" y="115"/>
                  </a:lnTo>
                  <a:lnTo>
                    <a:pt x="154" y="99"/>
                  </a:lnTo>
                  <a:lnTo>
                    <a:pt x="170" y="85"/>
                  </a:lnTo>
                  <a:lnTo>
                    <a:pt x="184" y="67"/>
                  </a:lnTo>
                  <a:lnTo>
                    <a:pt x="194" y="50"/>
                  </a:lnTo>
                  <a:lnTo>
                    <a:pt x="197" y="30"/>
                  </a:lnTo>
                  <a:lnTo>
                    <a:pt x="198" y="56"/>
                  </a:lnTo>
                  <a:lnTo>
                    <a:pt x="195" y="82"/>
                  </a:lnTo>
                  <a:lnTo>
                    <a:pt x="189" y="107"/>
                  </a:lnTo>
                  <a:lnTo>
                    <a:pt x="179" y="131"/>
                  </a:lnTo>
                  <a:lnTo>
                    <a:pt x="162" y="157"/>
                  </a:lnTo>
                  <a:lnTo>
                    <a:pt x="141" y="181"/>
                  </a:lnTo>
                  <a:lnTo>
                    <a:pt x="112" y="205"/>
                  </a:lnTo>
                  <a:lnTo>
                    <a:pt x="78" y="228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83040" y="2622600"/>
              <a:ext cx="119160" cy="160560"/>
            </a:xfrm>
            <a:custGeom>
              <a:avLst/>
              <a:gdLst/>
              <a:ahLst/>
              <a:rect l="l" t="t" r="r" b="b"/>
              <a:pathLst>
                <a:path w="150" h="202">
                  <a:moveTo>
                    <a:pt x="150" y="193"/>
                  </a:moveTo>
                  <a:lnTo>
                    <a:pt x="131" y="196"/>
                  </a:lnTo>
                  <a:lnTo>
                    <a:pt x="110" y="201"/>
                  </a:lnTo>
                  <a:lnTo>
                    <a:pt x="90" y="202"/>
                  </a:lnTo>
                  <a:lnTo>
                    <a:pt x="69" y="201"/>
                  </a:lnTo>
                  <a:lnTo>
                    <a:pt x="48" y="196"/>
                  </a:lnTo>
                  <a:lnTo>
                    <a:pt x="30" y="185"/>
                  </a:lnTo>
                  <a:lnTo>
                    <a:pt x="14" y="167"/>
                  </a:lnTo>
                  <a:lnTo>
                    <a:pt x="5" y="140"/>
                  </a:lnTo>
                  <a:lnTo>
                    <a:pt x="0" y="111"/>
                  </a:lnTo>
                  <a:lnTo>
                    <a:pt x="0" y="89"/>
                  </a:lnTo>
                  <a:lnTo>
                    <a:pt x="3" y="69"/>
                  </a:lnTo>
                  <a:lnTo>
                    <a:pt x="8" y="53"/>
                  </a:lnTo>
                  <a:lnTo>
                    <a:pt x="13" y="39"/>
                  </a:lnTo>
                  <a:lnTo>
                    <a:pt x="14" y="26"/>
                  </a:lnTo>
                  <a:lnTo>
                    <a:pt x="13" y="13"/>
                  </a:lnTo>
                  <a:lnTo>
                    <a:pt x="5" y="0"/>
                  </a:lnTo>
                  <a:lnTo>
                    <a:pt x="18" y="8"/>
                  </a:lnTo>
                  <a:lnTo>
                    <a:pt x="27" y="18"/>
                  </a:lnTo>
                  <a:lnTo>
                    <a:pt x="38" y="29"/>
                  </a:lnTo>
                  <a:lnTo>
                    <a:pt x="46" y="44"/>
                  </a:lnTo>
                  <a:lnTo>
                    <a:pt x="53" y="58"/>
                  </a:lnTo>
                  <a:lnTo>
                    <a:pt x="56" y="76"/>
                  </a:lnTo>
                  <a:lnTo>
                    <a:pt x="59" y="93"/>
                  </a:lnTo>
                  <a:lnTo>
                    <a:pt x="59" y="113"/>
                  </a:lnTo>
                  <a:lnTo>
                    <a:pt x="61" y="129"/>
                  </a:lnTo>
                  <a:lnTo>
                    <a:pt x="69" y="141"/>
                  </a:lnTo>
                  <a:lnTo>
                    <a:pt x="80" y="149"/>
                  </a:lnTo>
                  <a:lnTo>
                    <a:pt x="94" y="156"/>
                  </a:lnTo>
                  <a:lnTo>
                    <a:pt x="109" y="162"/>
                  </a:lnTo>
                  <a:lnTo>
                    <a:pt x="125" y="170"/>
                  </a:lnTo>
                  <a:lnTo>
                    <a:pt x="139" y="180"/>
                  </a:lnTo>
                  <a:lnTo>
                    <a:pt x="150" y="193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44920" y="2659320"/>
              <a:ext cx="131760" cy="163440"/>
            </a:xfrm>
            <a:custGeom>
              <a:avLst/>
              <a:gdLst/>
              <a:ahLst/>
              <a:rect l="l" t="t" r="r" b="b"/>
              <a:pathLst>
                <a:path w="167" h="205">
                  <a:moveTo>
                    <a:pt x="0" y="192"/>
                  </a:moveTo>
                  <a:lnTo>
                    <a:pt x="15" y="200"/>
                  </a:lnTo>
                  <a:lnTo>
                    <a:pt x="34" y="205"/>
                  </a:lnTo>
                  <a:lnTo>
                    <a:pt x="56" y="205"/>
                  </a:lnTo>
                  <a:lnTo>
                    <a:pt x="79" y="200"/>
                  </a:lnTo>
                  <a:lnTo>
                    <a:pt x="101" y="192"/>
                  </a:lnTo>
                  <a:lnTo>
                    <a:pt x="120" y="178"/>
                  </a:lnTo>
                  <a:lnTo>
                    <a:pt x="135" y="157"/>
                  </a:lnTo>
                  <a:lnTo>
                    <a:pt x="143" y="128"/>
                  </a:lnTo>
                  <a:lnTo>
                    <a:pt x="148" y="74"/>
                  </a:lnTo>
                  <a:lnTo>
                    <a:pt x="149" y="38"/>
                  </a:lnTo>
                  <a:lnTo>
                    <a:pt x="154" y="16"/>
                  </a:lnTo>
                  <a:lnTo>
                    <a:pt x="167" y="0"/>
                  </a:lnTo>
                  <a:lnTo>
                    <a:pt x="148" y="5"/>
                  </a:lnTo>
                  <a:lnTo>
                    <a:pt x="130" y="14"/>
                  </a:lnTo>
                  <a:lnTo>
                    <a:pt x="116" y="26"/>
                  </a:lnTo>
                  <a:lnTo>
                    <a:pt x="101" y="42"/>
                  </a:lnTo>
                  <a:lnTo>
                    <a:pt x="90" y="58"/>
                  </a:lnTo>
                  <a:lnTo>
                    <a:pt x="79" y="78"/>
                  </a:lnTo>
                  <a:lnTo>
                    <a:pt x="71" y="99"/>
                  </a:lnTo>
                  <a:lnTo>
                    <a:pt x="63" y="122"/>
                  </a:lnTo>
                  <a:lnTo>
                    <a:pt x="56" y="143"/>
                  </a:lnTo>
                  <a:lnTo>
                    <a:pt x="52" y="159"/>
                  </a:lnTo>
                  <a:lnTo>
                    <a:pt x="47" y="170"/>
                  </a:lnTo>
                  <a:lnTo>
                    <a:pt x="40" y="178"/>
                  </a:lnTo>
                  <a:lnTo>
                    <a:pt x="34" y="184"/>
                  </a:lnTo>
                  <a:lnTo>
                    <a:pt x="26" y="189"/>
                  </a:lnTo>
                  <a:lnTo>
                    <a:pt x="15" y="19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53000" y="2649600"/>
              <a:ext cx="117360" cy="139680"/>
            </a:xfrm>
            <a:custGeom>
              <a:avLst/>
              <a:gdLst/>
              <a:ahLst/>
              <a:rect l="l" t="t" r="r" b="b"/>
              <a:pathLst>
                <a:path w="149" h="174">
                  <a:moveTo>
                    <a:pt x="0" y="174"/>
                  </a:moveTo>
                  <a:lnTo>
                    <a:pt x="15" y="174"/>
                  </a:lnTo>
                  <a:lnTo>
                    <a:pt x="31" y="173"/>
                  </a:lnTo>
                  <a:lnTo>
                    <a:pt x="47" y="170"/>
                  </a:lnTo>
                  <a:lnTo>
                    <a:pt x="63" y="163"/>
                  </a:lnTo>
                  <a:lnTo>
                    <a:pt x="79" y="154"/>
                  </a:lnTo>
                  <a:lnTo>
                    <a:pt x="91" y="142"/>
                  </a:lnTo>
                  <a:lnTo>
                    <a:pt x="99" y="126"/>
                  </a:lnTo>
                  <a:lnTo>
                    <a:pt x="104" y="107"/>
                  </a:lnTo>
                  <a:lnTo>
                    <a:pt x="109" y="69"/>
                  </a:lnTo>
                  <a:lnTo>
                    <a:pt x="120" y="35"/>
                  </a:lnTo>
                  <a:lnTo>
                    <a:pt x="133" y="11"/>
                  </a:lnTo>
                  <a:lnTo>
                    <a:pt x="149" y="0"/>
                  </a:lnTo>
                  <a:lnTo>
                    <a:pt x="133" y="1"/>
                  </a:lnTo>
                  <a:lnTo>
                    <a:pt x="112" y="6"/>
                  </a:lnTo>
                  <a:lnTo>
                    <a:pt x="91" y="14"/>
                  </a:lnTo>
                  <a:lnTo>
                    <a:pt x="69" y="25"/>
                  </a:lnTo>
                  <a:lnTo>
                    <a:pt x="48" y="40"/>
                  </a:lnTo>
                  <a:lnTo>
                    <a:pt x="31" y="57"/>
                  </a:lnTo>
                  <a:lnTo>
                    <a:pt x="18" y="75"/>
                  </a:lnTo>
                  <a:lnTo>
                    <a:pt x="10" y="94"/>
                  </a:lnTo>
                  <a:lnTo>
                    <a:pt x="7" y="125"/>
                  </a:lnTo>
                  <a:lnTo>
                    <a:pt x="7" y="146"/>
                  </a:lnTo>
                  <a:lnTo>
                    <a:pt x="5" y="16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17800" y="2600280"/>
              <a:ext cx="68400" cy="12564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86" y="157"/>
                  </a:moveTo>
                  <a:lnTo>
                    <a:pt x="74" y="152"/>
                  </a:lnTo>
                  <a:lnTo>
                    <a:pt x="61" y="148"/>
                  </a:lnTo>
                  <a:lnTo>
                    <a:pt x="48" y="141"/>
                  </a:lnTo>
                  <a:lnTo>
                    <a:pt x="37" y="132"/>
                  </a:lnTo>
                  <a:lnTo>
                    <a:pt x="26" y="114"/>
                  </a:lnTo>
                  <a:lnTo>
                    <a:pt x="14" y="88"/>
                  </a:lnTo>
                  <a:lnTo>
                    <a:pt x="6" y="51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34" y="23"/>
                  </a:lnTo>
                  <a:lnTo>
                    <a:pt x="46" y="34"/>
                  </a:lnTo>
                  <a:lnTo>
                    <a:pt x="58" y="47"/>
                  </a:lnTo>
                  <a:lnTo>
                    <a:pt x="67" y="64"/>
                  </a:lnTo>
                  <a:lnTo>
                    <a:pt x="75" y="88"/>
                  </a:lnTo>
                  <a:lnTo>
                    <a:pt x="82" y="117"/>
                  </a:lnTo>
                  <a:lnTo>
                    <a:pt x="86" y="157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257800" y="1676520"/>
            <a:ext cx="1413000" cy="990360"/>
            <a:chOff x="5257800" y="1676520"/>
            <a:chExt cx="1413000" cy="990360"/>
          </a:xfrm>
        </p:grpSpPr>
        <p:sp>
          <p:nvSpPr>
            <p:cNvPr id="760" name=""/>
            <p:cNvSpPr/>
            <p:nvPr/>
          </p:nvSpPr>
          <p:spPr>
            <a:xfrm>
              <a:off x="5257800" y="1676520"/>
              <a:ext cx="1413000" cy="990360"/>
            </a:xfrm>
            <a:custGeom>
              <a:avLst/>
              <a:gdLst/>
              <a:ahLst/>
              <a:rect l="l" t="t" r="r" b="b"/>
              <a:pathLst>
                <a:path w="1659" h="742">
                  <a:moveTo>
                    <a:pt x="252" y="584"/>
                  </a:moveTo>
                  <a:lnTo>
                    <a:pt x="227" y="584"/>
                  </a:lnTo>
                  <a:lnTo>
                    <a:pt x="200" y="580"/>
                  </a:lnTo>
                  <a:lnTo>
                    <a:pt x="172" y="572"/>
                  </a:lnTo>
                  <a:lnTo>
                    <a:pt x="147" y="558"/>
                  </a:lnTo>
                  <a:lnTo>
                    <a:pt x="124" y="540"/>
                  </a:lnTo>
                  <a:lnTo>
                    <a:pt x="105" y="518"/>
                  </a:lnTo>
                  <a:lnTo>
                    <a:pt x="96" y="491"/>
                  </a:lnTo>
                  <a:lnTo>
                    <a:pt x="92" y="459"/>
                  </a:lnTo>
                  <a:lnTo>
                    <a:pt x="94" y="428"/>
                  </a:lnTo>
                  <a:lnTo>
                    <a:pt x="92" y="404"/>
                  </a:lnTo>
                  <a:lnTo>
                    <a:pt x="88" y="386"/>
                  </a:lnTo>
                  <a:lnTo>
                    <a:pt x="81" y="370"/>
                  </a:lnTo>
                  <a:lnTo>
                    <a:pt x="73" y="358"/>
                  </a:lnTo>
                  <a:lnTo>
                    <a:pt x="60" y="346"/>
                  </a:lnTo>
                  <a:lnTo>
                    <a:pt x="46" y="334"/>
                  </a:lnTo>
                  <a:lnTo>
                    <a:pt x="30" y="319"/>
                  </a:lnTo>
                  <a:lnTo>
                    <a:pt x="14" y="300"/>
                  </a:lnTo>
                  <a:lnTo>
                    <a:pt x="4" y="277"/>
                  </a:lnTo>
                  <a:lnTo>
                    <a:pt x="0" y="250"/>
                  </a:lnTo>
                  <a:lnTo>
                    <a:pt x="1" y="221"/>
                  </a:lnTo>
                  <a:lnTo>
                    <a:pt x="8" y="192"/>
                  </a:lnTo>
                  <a:lnTo>
                    <a:pt x="20" y="165"/>
                  </a:lnTo>
                  <a:lnTo>
                    <a:pt x="40" y="140"/>
                  </a:lnTo>
                  <a:lnTo>
                    <a:pt x="65" y="119"/>
                  </a:lnTo>
                  <a:lnTo>
                    <a:pt x="60" y="143"/>
                  </a:lnTo>
                  <a:lnTo>
                    <a:pt x="60" y="170"/>
                  </a:lnTo>
                  <a:lnTo>
                    <a:pt x="67" y="196"/>
                  </a:lnTo>
                  <a:lnTo>
                    <a:pt x="78" y="221"/>
                  </a:lnTo>
                  <a:lnTo>
                    <a:pt x="96" y="242"/>
                  </a:lnTo>
                  <a:lnTo>
                    <a:pt x="120" y="258"/>
                  </a:lnTo>
                  <a:lnTo>
                    <a:pt x="152" y="269"/>
                  </a:lnTo>
                  <a:lnTo>
                    <a:pt x="190" y="271"/>
                  </a:lnTo>
                  <a:lnTo>
                    <a:pt x="192" y="241"/>
                  </a:lnTo>
                  <a:lnTo>
                    <a:pt x="198" y="213"/>
                  </a:lnTo>
                  <a:lnTo>
                    <a:pt x="209" y="188"/>
                  </a:lnTo>
                  <a:lnTo>
                    <a:pt x="225" y="165"/>
                  </a:lnTo>
                  <a:lnTo>
                    <a:pt x="246" y="148"/>
                  </a:lnTo>
                  <a:lnTo>
                    <a:pt x="272" y="133"/>
                  </a:lnTo>
                  <a:lnTo>
                    <a:pt x="304" y="123"/>
                  </a:lnTo>
                  <a:lnTo>
                    <a:pt x="342" y="119"/>
                  </a:lnTo>
                  <a:lnTo>
                    <a:pt x="318" y="136"/>
                  </a:lnTo>
                  <a:lnTo>
                    <a:pt x="300" y="156"/>
                  </a:lnTo>
                  <a:lnTo>
                    <a:pt x="292" y="175"/>
                  </a:lnTo>
                  <a:lnTo>
                    <a:pt x="288" y="192"/>
                  </a:lnTo>
                  <a:lnTo>
                    <a:pt x="289" y="210"/>
                  </a:lnTo>
                  <a:lnTo>
                    <a:pt x="292" y="228"/>
                  </a:lnTo>
                  <a:lnTo>
                    <a:pt x="299" y="244"/>
                  </a:lnTo>
                  <a:lnTo>
                    <a:pt x="307" y="257"/>
                  </a:lnTo>
                  <a:lnTo>
                    <a:pt x="320" y="269"/>
                  </a:lnTo>
                  <a:lnTo>
                    <a:pt x="340" y="279"/>
                  </a:lnTo>
                  <a:lnTo>
                    <a:pt x="368" y="290"/>
                  </a:lnTo>
                  <a:lnTo>
                    <a:pt x="396" y="301"/>
                  </a:lnTo>
                  <a:lnTo>
                    <a:pt x="424" y="314"/>
                  </a:lnTo>
                  <a:lnTo>
                    <a:pt x="448" y="332"/>
                  </a:lnTo>
                  <a:lnTo>
                    <a:pt x="467" y="354"/>
                  </a:lnTo>
                  <a:lnTo>
                    <a:pt x="475" y="382"/>
                  </a:lnTo>
                  <a:lnTo>
                    <a:pt x="484" y="361"/>
                  </a:lnTo>
                  <a:lnTo>
                    <a:pt x="494" y="346"/>
                  </a:lnTo>
                  <a:lnTo>
                    <a:pt x="504" y="335"/>
                  </a:lnTo>
                  <a:lnTo>
                    <a:pt x="513" y="326"/>
                  </a:lnTo>
                  <a:lnTo>
                    <a:pt x="521" y="318"/>
                  </a:lnTo>
                  <a:lnTo>
                    <a:pt x="531" y="309"/>
                  </a:lnTo>
                  <a:lnTo>
                    <a:pt x="540" y="298"/>
                  </a:lnTo>
                  <a:lnTo>
                    <a:pt x="550" y="285"/>
                  </a:lnTo>
                  <a:lnTo>
                    <a:pt x="555" y="271"/>
                  </a:lnTo>
                  <a:lnTo>
                    <a:pt x="548" y="257"/>
                  </a:lnTo>
                  <a:lnTo>
                    <a:pt x="536" y="242"/>
                  </a:lnTo>
                  <a:lnTo>
                    <a:pt x="524" y="225"/>
                  </a:lnTo>
                  <a:lnTo>
                    <a:pt x="516" y="204"/>
                  </a:lnTo>
                  <a:lnTo>
                    <a:pt x="520" y="180"/>
                  </a:lnTo>
                  <a:lnTo>
                    <a:pt x="536" y="149"/>
                  </a:lnTo>
                  <a:lnTo>
                    <a:pt x="571" y="111"/>
                  </a:lnTo>
                  <a:lnTo>
                    <a:pt x="612" y="75"/>
                  </a:lnTo>
                  <a:lnTo>
                    <a:pt x="646" y="51"/>
                  </a:lnTo>
                  <a:lnTo>
                    <a:pt x="672" y="35"/>
                  </a:lnTo>
                  <a:lnTo>
                    <a:pt x="691" y="27"/>
                  </a:lnTo>
                  <a:lnTo>
                    <a:pt x="704" y="24"/>
                  </a:lnTo>
                  <a:lnTo>
                    <a:pt x="712" y="24"/>
                  </a:lnTo>
                  <a:lnTo>
                    <a:pt x="715" y="26"/>
                  </a:lnTo>
                  <a:lnTo>
                    <a:pt x="716" y="27"/>
                  </a:lnTo>
                  <a:lnTo>
                    <a:pt x="699" y="38"/>
                  </a:lnTo>
                  <a:lnTo>
                    <a:pt x="684" y="53"/>
                  </a:lnTo>
                  <a:lnTo>
                    <a:pt x="672" y="67"/>
                  </a:lnTo>
                  <a:lnTo>
                    <a:pt x="662" y="83"/>
                  </a:lnTo>
                  <a:lnTo>
                    <a:pt x="656" y="99"/>
                  </a:lnTo>
                  <a:lnTo>
                    <a:pt x="654" y="117"/>
                  </a:lnTo>
                  <a:lnTo>
                    <a:pt x="659" y="131"/>
                  </a:lnTo>
                  <a:lnTo>
                    <a:pt x="668" y="146"/>
                  </a:lnTo>
                  <a:lnTo>
                    <a:pt x="683" y="160"/>
                  </a:lnTo>
                  <a:lnTo>
                    <a:pt x="699" y="176"/>
                  </a:lnTo>
                  <a:lnTo>
                    <a:pt x="713" y="196"/>
                  </a:lnTo>
                  <a:lnTo>
                    <a:pt x="726" y="216"/>
                  </a:lnTo>
                  <a:lnTo>
                    <a:pt x="736" y="239"/>
                  </a:lnTo>
                  <a:lnTo>
                    <a:pt x="737" y="263"/>
                  </a:lnTo>
                  <a:lnTo>
                    <a:pt x="732" y="287"/>
                  </a:lnTo>
                  <a:lnTo>
                    <a:pt x="716" y="313"/>
                  </a:lnTo>
                  <a:lnTo>
                    <a:pt x="700" y="337"/>
                  </a:lnTo>
                  <a:lnTo>
                    <a:pt x="692" y="358"/>
                  </a:lnTo>
                  <a:lnTo>
                    <a:pt x="692" y="375"/>
                  </a:lnTo>
                  <a:lnTo>
                    <a:pt x="697" y="391"/>
                  </a:lnTo>
                  <a:lnTo>
                    <a:pt x="708" y="406"/>
                  </a:lnTo>
                  <a:lnTo>
                    <a:pt x="724" y="419"/>
                  </a:lnTo>
                  <a:lnTo>
                    <a:pt x="744" y="431"/>
                  </a:lnTo>
                  <a:lnTo>
                    <a:pt x="766" y="444"/>
                  </a:lnTo>
                  <a:lnTo>
                    <a:pt x="760" y="430"/>
                  </a:lnTo>
                  <a:lnTo>
                    <a:pt x="758" y="420"/>
                  </a:lnTo>
                  <a:lnTo>
                    <a:pt x="760" y="411"/>
                  </a:lnTo>
                  <a:lnTo>
                    <a:pt x="766" y="404"/>
                  </a:lnTo>
                  <a:lnTo>
                    <a:pt x="774" y="396"/>
                  </a:lnTo>
                  <a:lnTo>
                    <a:pt x="787" y="390"/>
                  </a:lnTo>
                  <a:lnTo>
                    <a:pt x="803" y="380"/>
                  </a:lnTo>
                  <a:lnTo>
                    <a:pt x="822" y="369"/>
                  </a:lnTo>
                  <a:lnTo>
                    <a:pt x="841" y="353"/>
                  </a:lnTo>
                  <a:lnTo>
                    <a:pt x="856" y="334"/>
                  </a:lnTo>
                  <a:lnTo>
                    <a:pt x="867" y="311"/>
                  </a:lnTo>
                  <a:lnTo>
                    <a:pt x="873" y="289"/>
                  </a:lnTo>
                  <a:lnTo>
                    <a:pt x="876" y="266"/>
                  </a:lnTo>
                  <a:lnTo>
                    <a:pt x="876" y="244"/>
                  </a:lnTo>
                  <a:lnTo>
                    <a:pt x="872" y="225"/>
                  </a:lnTo>
                  <a:lnTo>
                    <a:pt x="864" y="208"/>
                  </a:lnTo>
                  <a:lnTo>
                    <a:pt x="889" y="220"/>
                  </a:lnTo>
                  <a:lnTo>
                    <a:pt x="913" y="234"/>
                  </a:lnTo>
                  <a:lnTo>
                    <a:pt x="934" y="253"/>
                  </a:lnTo>
                  <a:lnTo>
                    <a:pt x="953" y="276"/>
                  </a:lnTo>
                  <a:lnTo>
                    <a:pt x="968" y="300"/>
                  </a:lnTo>
                  <a:lnTo>
                    <a:pt x="977" y="326"/>
                  </a:lnTo>
                  <a:lnTo>
                    <a:pt x="980" y="351"/>
                  </a:lnTo>
                  <a:lnTo>
                    <a:pt x="979" y="375"/>
                  </a:lnTo>
                  <a:lnTo>
                    <a:pt x="1004" y="362"/>
                  </a:lnTo>
                  <a:lnTo>
                    <a:pt x="1035" y="348"/>
                  </a:lnTo>
                  <a:lnTo>
                    <a:pt x="1064" y="332"/>
                  </a:lnTo>
                  <a:lnTo>
                    <a:pt x="1089" y="309"/>
                  </a:lnTo>
                  <a:lnTo>
                    <a:pt x="1107" y="282"/>
                  </a:lnTo>
                  <a:lnTo>
                    <a:pt x="1113" y="247"/>
                  </a:lnTo>
                  <a:lnTo>
                    <a:pt x="1107" y="202"/>
                  </a:lnTo>
                  <a:lnTo>
                    <a:pt x="1083" y="146"/>
                  </a:lnTo>
                  <a:lnTo>
                    <a:pt x="1112" y="160"/>
                  </a:lnTo>
                  <a:lnTo>
                    <a:pt x="1140" y="181"/>
                  </a:lnTo>
                  <a:lnTo>
                    <a:pt x="1166" y="208"/>
                  </a:lnTo>
                  <a:lnTo>
                    <a:pt x="1187" y="242"/>
                  </a:lnTo>
                  <a:lnTo>
                    <a:pt x="1201" y="281"/>
                  </a:lnTo>
                  <a:lnTo>
                    <a:pt x="1206" y="322"/>
                  </a:lnTo>
                  <a:lnTo>
                    <a:pt x="1200" y="369"/>
                  </a:lnTo>
                  <a:lnTo>
                    <a:pt x="1180" y="417"/>
                  </a:lnTo>
                  <a:lnTo>
                    <a:pt x="1200" y="393"/>
                  </a:lnTo>
                  <a:lnTo>
                    <a:pt x="1217" y="370"/>
                  </a:lnTo>
                  <a:lnTo>
                    <a:pt x="1232" y="353"/>
                  </a:lnTo>
                  <a:lnTo>
                    <a:pt x="1244" y="335"/>
                  </a:lnTo>
                  <a:lnTo>
                    <a:pt x="1257" y="321"/>
                  </a:lnTo>
                  <a:lnTo>
                    <a:pt x="1270" y="308"/>
                  </a:lnTo>
                  <a:lnTo>
                    <a:pt x="1284" y="297"/>
                  </a:lnTo>
                  <a:lnTo>
                    <a:pt x="1299" y="285"/>
                  </a:lnTo>
                  <a:lnTo>
                    <a:pt x="1313" y="271"/>
                  </a:lnTo>
                  <a:lnTo>
                    <a:pt x="1323" y="249"/>
                  </a:lnTo>
                  <a:lnTo>
                    <a:pt x="1329" y="221"/>
                  </a:lnTo>
                  <a:lnTo>
                    <a:pt x="1329" y="194"/>
                  </a:lnTo>
                  <a:lnTo>
                    <a:pt x="1326" y="167"/>
                  </a:lnTo>
                  <a:lnTo>
                    <a:pt x="1316" y="143"/>
                  </a:lnTo>
                  <a:lnTo>
                    <a:pt x="1300" y="127"/>
                  </a:lnTo>
                  <a:lnTo>
                    <a:pt x="1278" y="119"/>
                  </a:lnTo>
                  <a:lnTo>
                    <a:pt x="1308" y="120"/>
                  </a:lnTo>
                  <a:lnTo>
                    <a:pt x="1337" y="131"/>
                  </a:lnTo>
                  <a:lnTo>
                    <a:pt x="1364" y="151"/>
                  </a:lnTo>
                  <a:lnTo>
                    <a:pt x="1384" y="178"/>
                  </a:lnTo>
                  <a:lnTo>
                    <a:pt x="1395" y="213"/>
                  </a:lnTo>
                  <a:lnTo>
                    <a:pt x="1392" y="255"/>
                  </a:lnTo>
                  <a:lnTo>
                    <a:pt x="1372" y="301"/>
                  </a:lnTo>
                  <a:lnTo>
                    <a:pt x="1334" y="354"/>
                  </a:lnTo>
                  <a:lnTo>
                    <a:pt x="1360" y="350"/>
                  </a:lnTo>
                  <a:lnTo>
                    <a:pt x="1387" y="334"/>
                  </a:lnTo>
                  <a:lnTo>
                    <a:pt x="1414" y="309"/>
                  </a:lnTo>
                  <a:lnTo>
                    <a:pt x="1436" y="281"/>
                  </a:lnTo>
                  <a:lnTo>
                    <a:pt x="1452" y="247"/>
                  </a:lnTo>
                  <a:lnTo>
                    <a:pt x="1459" y="212"/>
                  </a:lnTo>
                  <a:lnTo>
                    <a:pt x="1452" y="175"/>
                  </a:lnTo>
                  <a:lnTo>
                    <a:pt x="1430" y="140"/>
                  </a:lnTo>
                  <a:lnTo>
                    <a:pt x="1448" y="148"/>
                  </a:lnTo>
                  <a:lnTo>
                    <a:pt x="1462" y="157"/>
                  </a:lnTo>
                  <a:lnTo>
                    <a:pt x="1475" y="172"/>
                  </a:lnTo>
                  <a:lnTo>
                    <a:pt x="1484" y="186"/>
                  </a:lnTo>
                  <a:lnTo>
                    <a:pt x="1491" y="200"/>
                  </a:lnTo>
                  <a:lnTo>
                    <a:pt x="1496" y="212"/>
                  </a:lnTo>
                  <a:lnTo>
                    <a:pt x="1499" y="220"/>
                  </a:lnTo>
                  <a:lnTo>
                    <a:pt x="1500" y="223"/>
                  </a:lnTo>
                  <a:lnTo>
                    <a:pt x="1513" y="189"/>
                  </a:lnTo>
                  <a:lnTo>
                    <a:pt x="1534" y="159"/>
                  </a:lnTo>
                  <a:lnTo>
                    <a:pt x="1561" y="133"/>
                  </a:lnTo>
                  <a:lnTo>
                    <a:pt x="1588" y="109"/>
                  </a:lnTo>
                  <a:lnTo>
                    <a:pt x="1612" y="85"/>
                  </a:lnTo>
                  <a:lnTo>
                    <a:pt x="1632" y="59"/>
                  </a:lnTo>
                  <a:lnTo>
                    <a:pt x="1643" y="32"/>
                  </a:lnTo>
                  <a:lnTo>
                    <a:pt x="1640" y="0"/>
                  </a:lnTo>
                  <a:lnTo>
                    <a:pt x="1651" y="22"/>
                  </a:lnTo>
                  <a:lnTo>
                    <a:pt x="1657" y="42"/>
                  </a:lnTo>
                  <a:lnTo>
                    <a:pt x="1659" y="59"/>
                  </a:lnTo>
                  <a:lnTo>
                    <a:pt x="1657" y="79"/>
                  </a:lnTo>
                  <a:lnTo>
                    <a:pt x="1651" y="99"/>
                  </a:lnTo>
                  <a:lnTo>
                    <a:pt x="1638" y="123"/>
                  </a:lnTo>
                  <a:lnTo>
                    <a:pt x="1620" y="152"/>
                  </a:lnTo>
                  <a:lnTo>
                    <a:pt x="1598" y="188"/>
                  </a:lnTo>
                  <a:lnTo>
                    <a:pt x="1587" y="223"/>
                  </a:lnTo>
                  <a:lnTo>
                    <a:pt x="1584" y="269"/>
                  </a:lnTo>
                  <a:lnTo>
                    <a:pt x="1587" y="322"/>
                  </a:lnTo>
                  <a:lnTo>
                    <a:pt x="1587" y="375"/>
                  </a:lnTo>
                  <a:lnTo>
                    <a:pt x="1577" y="423"/>
                  </a:lnTo>
                  <a:lnTo>
                    <a:pt x="1555" y="462"/>
                  </a:lnTo>
                  <a:lnTo>
                    <a:pt x="1513" y="486"/>
                  </a:lnTo>
                  <a:lnTo>
                    <a:pt x="1444" y="487"/>
                  </a:lnTo>
                  <a:lnTo>
                    <a:pt x="1441" y="523"/>
                  </a:lnTo>
                  <a:lnTo>
                    <a:pt x="1433" y="561"/>
                  </a:lnTo>
                  <a:lnTo>
                    <a:pt x="1419" y="600"/>
                  </a:lnTo>
                  <a:lnTo>
                    <a:pt x="1398" y="632"/>
                  </a:lnTo>
                  <a:lnTo>
                    <a:pt x="1366" y="657"/>
                  </a:lnTo>
                  <a:lnTo>
                    <a:pt x="1323" y="672"/>
                  </a:lnTo>
                  <a:lnTo>
                    <a:pt x="1267" y="670"/>
                  </a:lnTo>
                  <a:lnTo>
                    <a:pt x="1195" y="653"/>
                  </a:lnTo>
                  <a:lnTo>
                    <a:pt x="1179" y="665"/>
                  </a:lnTo>
                  <a:lnTo>
                    <a:pt x="1160" y="678"/>
                  </a:lnTo>
                  <a:lnTo>
                    <a:pt x="1139" y="690"/>
                  </a:lnTo>
                  <a:lnTo>
                    <a:pt x="1118" y="699"/>
                  </a:lnTo>
                  <a:lnTo>
                    <a:pt x="1096" y="709"/>
                  </a:lnTo>
                  <a:lnTo>
                    <a:pt x="1073" y="715"/>
                  </a:lnTo>
                  <a:lnTo>
                    <a:pt x="1051" y="722"/>
                  </a:lnTo>
                  <a:lnTo>
                    <a:pt x="1028" y="725"/>
                  </a:lnTo>
                  <a:lnTo>
                    <a:pt x="1006" y="726"/>
                  </a:lnTo>
                  <a:lnTo>
                    <a:pt x="985" y="725"/>
                  </a:lnTo>
                  <a:lnTo>
                    <a:pt x="964" y="720"/>
                  </a:lnTo>
                  <a:lnTo>
                    <a:pt x="947" y="712"/>
                  </a:lnTo>
                  <a:lnTo>
                    <a:pt x="931" y="702"/>
                  </a:lnTo>
                  <a:lnTo>
                    <a:pt x="916" y="686"/>
                  </a:lnTo>
                  <a:lnTo>
                    <a:pt x="905" y="669"/>
                  </a:lnTo>
                  <a:lnTo>
                    <a:pt x="897" y="646"/>
                  </a:lnTo>
                  <a:lnTo>
                    <a:pt x="886" y="659"/>
                  </a:lnTo>
                  <a:lnTo>
                    <a:pt x="872" y="674"/>
                  </a:lnTo>
                  <a:lnTo>
                    <a:pt x="854" y="688"/>
                  </a:lnTo>
                  <a:lnTo>
                    <a:pt x="835" y="701"/>
                  </a:lnTo>
                  <a:lnTo>
                    <a:pt x="814" y="712"/>
                  </a:lnTo>
                  <a:lnTo>
                    <a:pt x="792" y="723"/>
                  </a:lnTo>
                  <a:lnTo>
                    <a:pt x="768" y="733"/>
                  </a:lnTo>
                  <a:lnTo>
                    <a:pt x="742" y="739"/>
                  </a:lnTo>
                  <a:lnTo>
                    <a:pt x="716" y="742"/>
                  </a:lnTo>
                  <a:lnTo>
                    <a:pt x="689" y="742"/>
                  </a:lnTo>
                  <a:lnTo>
                    <a:pt x="662" y="738"/>
                  </a:lnTo>
                  <a:lnTo>
                    <a:pt x="635" y="730"/>
                  </a:lnTo>
                  <a:lnTo>
                    <a:pt x="608" y="715"/>
                  </a:lnTo>
                  <a:lnTo>
                    <a:pt x="580" y="696"/>
                  </a:lnTo>
                  <a:lnTo>
                    <a:pt x="555" y="672"/>
                  </a:lnTo>
                  <a:lnTo>
                    <a:pt x="529" y="640"/>
                  </a:lnTo>
                  <a:lnTo>
                    <a:pt x="515" y="643"/>
                  </a:lnTo>
                  <a:lnTo>
                    <a:pt x="499" y="646"/>
                  </a:lnTo>
                  <a:lnTo>
                    <a:pt x="481" y="649"/>
                  </a:lnTo>
                  <a:lnTo>
                    <a:pt x="464" y="654"/>
                  </a:lnTo>
                  <a:lnTo>
                    <a:pt x="444" y="657"/>
                  </a:lnTo>
                  <a:lnTo>
                    <a:pt x="425" y="661"/>
                  </a:lnTo>
                  <a:lnTo>
                    <a:pt x="406" y="662"/>
                  </a:lnTo>
                  <a:lnTo>
                    <a:pt x="387" y="662"/>
                  </a:lnTo>
                  <a:lnTo>
                    <a:pt x="366" y="662"/>
                  </a:lnTo>
                  <a:lnTo>
                    <a:pt x="347" y="659"/>
                  </a:lnTo>
                  <a:lnTo>
                    <a:pt x="329" y="654"/>
                  </a:lnTo>
                  <a:lnTo>
                    <a:pt x="312" y="646"/>
                  </a:lnTo>
                  <a:lnTo>
                    <a:pt x="294" y="637"/>
                  </a:lnTo>
                  <a:lnTo>
                    <a:pt x="280" y="622"/>
                  </a:lnTo>
                  <a:lnTo>
                    <a:pt x="265" y="605"/>
                  </a:lnTo>
                  <a:lnTo>
                    <a:pt x="252" y="584"/>
                  </a:lnTo>
                  <a:close/>
                </a:path>
              </a:pathLst>
            </a:custGeom>
            <a:solidFill>
              <a:srgbClr val="ff7f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61160" y="2068560"/>
              <a:ext cx="156960" cy="180360"/>
            </a:xfrm>
            <a:custGeom>
              <a:avLst/>
              <a:gdLst/>
              <a:ahLst/>
              <a:rect l="l" t="t" r="r" b="b"/>
              <a:pathLst>
                <a:path w="198" h="228">
                  <a:moveTo>
                    <a:pt x="78" y="228"/>
                  </a:moveTo>
                  <a:lnTo>
                    <a:pt x="34" y="205"/>
                  </a:lnTo>
                  <a:lnTo>
                    <a:pt x="10" y="181"/>
                  </a:lnTo>
                  <a:lnTo>
                    <a:pt x="0" y="154"/>
                  </a:lnTo>
                  <a:lnTo>
                    <a:pt x="2" y="127"/>
                  </a:lnTo>
                  <a:lnTo>
                    <a:pt x="11" y="96"/>
                  </a:lnTo>
                  <a:lnTo>
                    <a:pt x="22" y="66"/>
                  </a:lnTo>
                  <a:lnTo>
                    <a:pt x="32" y="34"/>
                  </a:lnTo>
                  <a:lnTo>
                    <a:pt x="37" y="0"/>
                  </a:lnTo>
                  <a:lnTo>
                    <a:pt x="50" y="11"/>
                  </a:lnTo>
                  <a:lnTo>
                    <a:pt x="62" y="27"/>
                  </a:lnTo>
                  <a:lnTo>
                    <a:pt x="74" y="43"/>
                  </a:lnTo>
                  <a:lnTo>
                    <a:pt x="83" y="62"/>
                  </a:lnTo>
                  <a:lnTo>
                    <a:pt x="90" y="85"/>
                  </a:lnTo>
                  <a:lnTo>
                    <a:pt x="94" y="107"/>
                  </a:lnTo>
                  <a:lnTo>
                    <a:pt x="98" y="131"/>
                  </a:lnTo>
                  <a:lnTo>
                    <a:pt x="96" y="155"/>
                  </a:lnTo>
                  <a:lnTo>
                    <a:pt x="106" y="143"/>
                  </a:lnTo>
                  <a:lnTo>
                    <a:pt x="118" y="130"/>
                  </a:lnTo>
                  <a:lnTo>
                    <a:pt x="136" y="115"/>
                  </a:lnTo>
                  <a:lnTo>
                    <a:pt x="154" y="99"/>
                  </a:lnTo>
                  <a:lnTo>
                    <a:pt x="170" y="85"/>
                  </a:lnTo>
                  <a:lnTo>
                    <a:pt x="184" y="67"/>
                  </a:lnTo>
                  <a:lnTo>
                    <a:pt x="194" y="50"/>
                  </a:lnTo>
                  <a:lnTo>
                    <a:pt x="197" y="30"/>
                  </a:lnTo>
                  <a:lnTo>
                    <a:pt x="198" y="56"/>
                  </a:lnTo>
                  <a:lnTo>
                    <a:pt x="195" y="82"/>
                  </a:lnTo>
                  <a:lnTo>
                    <a:pt x="189" y="107"/>
                  </a:lnTo>
                  <a:lnTo>
                    <a:pt x="179" y="131"/>
                  </a:lnTo>
                  <a:lnTo>
                    <a:pt x="162" y="157"/>
                  </a:lnTo>
                  <a:lnTo>
                    <a:pt x="141" y="181"/>
                  </a:lnTo>
                  <a:lnTo>
                    <a:pt x="112" y="205"/>
                  </a:lnTo>
                  <a:lnTo>
                    <a:pt x="78" y="228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645160" y="2012760"/>
              <a:ext cx="119160" cy="160200"/>
            </a:xfrm>
            <a:custGeom>
              <a:avLst/>
              <a:gdLst/>
              <a:ahLst/>
              <a:rect l="l" t="t" r="r" b="b"/>
              <a:pathLst>
                <a:path w="150" h="202">
                  <a:moveTo>
                    <a:pt x="150" y="193"/>
                  </a:moveTo>
                  <a:lnTo>
                    <a:pt x="131" y="196"/>
                  </a:lnTo>
                  <a:lnTo>
                    <a:pt x="110" y="201"/>
                  </a:lnTo>
                  <a:lnTo>
                    <a:pt x="90" y="202"/>
                  </a:lnTo>
                  <a:lnTo>
                    <a:pt x="69" y="201"/>
                  </a:lnTo>
                  <a:lnTo>
                    <a:pt x="48" y="196"/>
                  </a:lnTo>
                  <a:lnTo>
                    <a:pt x="30" y="185"/>
                  </a:lnTo>
                  <a:lnTo>
                    <a:pt x="14" y="167"/>
                  </a:lnTo>
                  <a:lnTo>
                    <a:pt x="5" y="140"/>
                  </a:lnTo>
                  <a:lnTo>
                    <a:pt x="0" y="111"/>
                  </a:lnTo>
                  <a:lnTo>
                    <a:pt x="0" y="89"/>
                  </a:lnTo>
                  <a:lnTo>
                    <a:pt x="3" y="69"/>
                  </a:lnTo>
                  <a:lnTo>
                    <a:pt x="8" y="53"/>
                  </a:lnTo>
                  <a:lnTo>
                    <a:pt x="13" y="39"/>
                  </a:lnTo>
                  <a:lnTo>
                    <a:pt x="14" y="26"/>
                  </a:lnTo>
                  <a:lnTo>
                    <a:pt x="13" y="13"/>
                  </a:lnTo>
                  <a:lnTo>
                    <a:pt x="5" y="0"/>
                  </a:lnTo>
                  <a:lnTo>
                    <a:pt x="18" y="8"/>
                  </a:lnTo>
                  <a:lnTo>
                    <a:pt x="27" y="18"/>
                  </a:lnTo>
                  <a:lnTo>
                    <a:pt x="38" y="29"/>
                  </a:lnTo>
                  <a:lnTo>
                    <a:pt x="46" y="44"/>
                  </a:lnTo>
                  <a:lnTo>
                    <a:pt x="53" y="58"/>
                  </a:lnTo>
                  <a:lnTo>
                    <a:pt x="56" y="76"/>
                  </a:lnTo>
                  <a:lnTo>
                    <a:pt x="59" y="93"/>
                  </a:lnTo>
                  <a:lnTo>
                    <a:pt x="59" y="113"/>
                  </a:lnTo>
                  <a:lnTo>
                    <a:pt x="61" y="129"/>
                  </a:lnTo>
                  <a:lnTo>
                    <a:pt x="69" y="141"/>
                  </a:lnTo>
                  <a:lnTo>
                    <a:pt x="80" y="149"/>
                  </a:lnTo>
                  <a:lnTo>
                    <a:pt x="94" y="156"/>
                  </a:lnTo>
                  <a:lnTo>
                    <a:pt x="109" y="162"/>
                  </a:lnTo>
                  <a:lnTo>
                    <a:pt x="125" y="170"/>
                  </a:lnTo>
                  <a:lnTo>
                    <a:pt x="139" y="180"/>
                  </a:lnTo>
                  <a:lnTo>
                    <a:pt x="150" y="193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07040" y="2049480"/>
              <a:ext cx="131760" cy="163080"/>
            </a:xfrm>
            <a:custGeom>
              <a:avLst/>
              <a:gdLst/>
              <a:ahLst/>
              <a:rect l="l" t="t" r="r" b="b"/>
              <a:pathLst>
                <a:path w="167" h="205">
                  <a:moveTo>
                    <a:pt x="0" y="192"/>
                  </a:moveTo>
                  <a:lnTo>
                    <a:pt x="15" y="200"/>
                  </a:lnTo>
                  <a:lnTo>
                    <a:pt x="34" y="205"/>
                  </a:lnTo>
                  <a:lnTo>
                    <a:pt x="56" y="205"/>
                  </a:lnTo>
                  <a:lnTo>
                    <a:pt x="79" y="200"/>
                  </a:lnTo>
                  <a:lnTo>
                    <a:pt x="101" y="192"/>
                  </a:lnTo>
                  <a:lnTo>
                    <a:pt x="120" y="178"/>
                  </a:lnTo>
                  <a:lnTo>
                    <a:pt x="135" y="157"/>
                  </a:lnTo>
                  <a:lnTo>
                    <a:pt x="143" y="128"/>
                  </a:lnTo>
                  <a:lnTo>
                    <a:pt x="148" y="74"/>
                  </a:lnTo>
                  <a:lnTo>
                    <a:pt x="149" y="38"/>
                  </a:lnTo>
                  <a:lnTo>
                    <a:pt x="154" y="16"/>
                  </a:lnTo>
                  <a:lnTo>
                    <a:pt x="167" y="0"/>
                  </a:lnTo>
                  <a:lnTo>
                    <a:pt x="148" y="5"/>
                  </a:lnTo>
                  <a:lnTo>
                    <a:pt x="130" y="14"/>
                  </a:lnTo>
                  <a:lnTo>
                    <a:pt x="116" y="26"/>
                  </a:lnTo>
                  <a:lnTo>
                    <a:pt x="101" y="42"/>
                  </a:lnTo>
                  <a:lnTo>
                    <a:pt x="90" y="58"/>
                  </a:lnTo>
                  <a:lnTo>
                    <a:pt x="79" y="78"/>
                  </a:lnTo>
                  <a:lnTo>
                    <a:pt x="71" y="99"/>
                  </a:lnTo>
                  <a:lnTo>
                    <a:pt x="63" y="122"/>
                  </a:lnTo>
                  <a:lnTo>
                    <a:pt x="56" y="143"/>
                  </a:lnTo>
                  <a:lnTo>
                    <a:pt x="52" y="159"/>
                  </a:lnTo>
                  <a:lnTo>
                    <a:pt x="47" y="170"/>
                  </a:lnTo>
                  <a:lnTo>
                    <a:pt x="40" y="178"/>
                  </a:lnTo>
                  <a:lnTo>
                    <a:pt x="34" y="184"/>
                  </a:lnTo>
                  <a:lnTo>
                    <a:pt x="26" y="189"/>
                  </a:lnTo>
                  <a:lnTo>
                    <a:pt x="15" y="19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15120" y="2039760"/>
              <a:ext cx="117360" cy="139320"/>
            </a:xfrm>
            <a:custGeom>
              <a:avLst/>
              <a:gdLst/>
              <a:ahLst/>
              <a:rect l="l" t="t" r="r" b="b"/>
              <a:pathLst>
                <a:path w="149" h="174">
                  <a:moveTo>
                    <a:pt x="0" y="174"/>
                  </a:moveTo>
                  <a:lnTo>
                    <a:pt x="15" y="174"/>
                  </a:lnTo>
                  <a:lnTo>
                    <a:pt x="31" y="173"/>
                  </a:lnTo>
                  <a:lnTo>
                    <a:pt x="47" y="170"/>
                  </a:lnTo>
                  <a:lnTo>
                    <a:pt x="63" y="163"/>
                  </a:lnTo>
                  <a:lnTo>
                    <a:pt x="79" y="154"/>
                  </a:lnTo>
                  <a:lnTo>
                    <a:pt x="91" y="142"/>
                  </a:lnTo>
                  <a:lnTo>
                    <a:pt x="99" y="126"/>
                  </a:lnTo>
                  <a:lnTo>
                    <a:pt x="104" y="107"/>
                  </a:lnTo>
                  <a:lnTo>
                    <a:pt x="109" y="69"/>
                  </a:lnTo>
                  <a:lnTo>
                    <a:pt x="120" y="35"/>
                  </a:lnTo>
                  <a:lnTo>
                    <a:pt x="133" y="11"/>
                  </a:lnTo>
                  <a:lnTo>
                    <a:pt x="149" y="0"/>
                  </a:lnTo>
                  <a:lnTo>
                    <a:pt x="133" y="1"/>
                  </a:lnTo>
                  <a:lnTo>
                    <a:pt x="112" y="6"/>
                  </a:lnTo>
                  <a:lnTo>
                    <a:pt x="91" y="14"/>
                  </a:lnTo>
                  <a:lnTo>
                    <a:pt x="69" y="25"/>
                  </a:lnTo>
                  <a:lnTo>
                    <a:pt x="48" y="40"/>
                  </a:lnTo>
                  <a:lnTo>
                    <a:pt x="31" y="57"/>
                  </a:lnTo>
                  <a:lnTo>
                    <a:pt x="18" y="75"/>
                  </a:lnTo>
                  <a:lnTo>
                    <a:pt x="10" y="94"/>
                  </a:lnTo>
                  <a:lnTo>
                    <a:pt x="7" y="125"/>
                  </a:lnTo>
                  <a:lnTo>
                    <a:pt x="7" y="146"/>
                  </a:lnTo>
                  <a:lnTo>
                    <a:pt x="5" y="16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79920" y="1990440"/>
              <a:ext cx="68400" cy="12528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86" y="157"/>
                  </a:moveTo>
                  <a:lnTo>
                    <a:pt x="74" y="152"/>
                  </a:lnTo>
                  <a:lnTo>
                    <a:pt x="61" y="148"/>
                  </a:lnTo>
                  <a:lnTo>
                    <a:pt x="48" y="141"/>
                  </a:lnTo>
                  <a:lnTo>
                    <a:pt x="37" y="132"/>
                  </a:lnTo>
                  <a:lnTo>
                    <a:pt x="26" y="114"/>
                  </a:lnTo>
                  <a:lnTo>
                    <a:pt x="14" y="88"/>
                  </a:lnTo>
                  <a:lnTo>
                    <a:pt x="6" y="51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34" y="23"/>
                  </a:lnTo>
                  <a:lnTo>
                    <a:pt x="46" y="34"/>
                  </a:lnTo>
                  <a:lnTo>
                    <a:pt x="58" y="47"/>
                  </a:lnTo>
                  <a:lnTo>
                    <a:pt x="67" y="64"/>
                  </a:lnTo>
                  <a:lnTo>
                    <a:pt x="75" y="88"/>
                  </a:lnTo>
                  <a:lnTo>
                    <a:pt x="82" y="117"/>
                  </a:lnTo>
                  <a:lnTo>
                    <a:pt x="86" y="157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019920" y="1066680"/>
            <a:ext cx="1412640" cy="990720"/>
            <a:chOff x="6019920" y="1066680"/>
            <a:chExt cx="1412640" cy="990720"/>
          </a:xfrm>
        </p:grpSpPr>
        <p:sp>
          <p:nvSpPr>
            <p:cNvPr id="767" name=""/>
            <p:cNvSpPr/>
            <p:nvPr/>
          </p:nvSpPr>
          <p:spPr>
            <a:xfrm>
              <a:off x="6019920" y="1066680"/>
              <a:ext cx="1412640" cy="990720"/>
            </a:xfrm>
            <a:custGeom>
              <a:avLst/>
              <a:gdLst/>
              <a:ahLst/>
              <a:rect l="l" t="t" r="r" b="b"/>
              <a:pathLst>
                <a:path w="1659" h="742">
                  <a:moveTo>
                    <a:pt x="252" y="584"/>
                  </a:moveTo>
                  <a:lnTo>
                    <a:pt x="227" y="584"/>
                  </a:lnTo>
                  <a:lnTo>
                    <a:pt x="200" y="580"/>
                  </a:lnTo>
                  <a:lnTo>
                    <a:pt x="172" y="572"/>
                  </a:lnTo>
                  <a:lnTo>
                    <a:pt x="147" y="558"/>
                  </a:lnTo>
                  <a:lnTo>
                    <a:pt x="124" y="540"/>
                  </a:lnTo>
                  <a:lnTo>
                    <a:pt x="105" y="518"/>
                  </a:lnTo>
                  <a:lnTo>
                    <a:pt x="96" y="491"/>
                  </a:lnTo>
                  <a:lnTo>
                    <a:pt x="92" y="459"/>
                  </a:lnTo>
                  <a:lnTo>
                    <a:pt x="94" y="428"/>
                  </a:lnTo>
                  <a:lnTo>
                    <a:pt x="92" y="404"/>
                  </a:lnTo>
                  <a:lnTo>
                    <a:pt x="88" y="386"/>
                  </a:lnTo>
                  <a:lnTo>
                    <a:pt x="81" y="370"/>
                  </a:lnTo>
                  <a:lnTo>
                    <a:pt x="73" y="358"/>
                  </a:lnTo>
                  <a:lnTo>
                    <a:pt x="60" y="346"/>
                  </a:lnTo>
                  <a:lnTo>
                    <a:pt x="46" y="334"/>
                  </a:lnTo>
                  <a:lnTo>
                    <a:pt x="30" y="319"/>
                  </a:lnTo>
                  <a:lnTo>
                    <a:pt x="14" y="300"/>
                  </a:lnTo>
                  <a:lnTo>
                    <a:pt x="4" y="277"/>
                  </a:lnTo>
                  <a:lnTo>
                    <a:pt x="0" y="250"/>
                  </a:lnTo>
                  <a:lnTo>
                    <a:pt x="1" y="221"/>
                  </a:lnTo>
                  <a:lnTo>
                    <a:pt x="8" y="192"/>
                  </a:lnTo>
                  <a:lnTo>
                    <a:pt x="20" y="165"/>
                  </a:lnTo>
                  <a:lnTo>
                    <a:pt x="40" y="140"/>
                  </a:lnTo>
                  <a:lnTo>
                    <a:pt x="65" y="119"/>
                  </a:lnTo>
                  <a:lnTo>
                    <a:pt x="60" y="143"/>
                  </a:lnTo>
                  <a:lnTo>
                    <a:pt x="60" y="170"/>
                  </a:lnTo>
                  <a:lnTo>
                    <a:pt x="67" y="196"/>
                  </a:lnTo>
                  <a:lnTo>
                    <a:pt x="78" y="221"/>
                  </a:lnTo>
                  <a:lnTo>
                    <a:pt x="96" y="242"/>
                  </a:lnTo>
                  <a:lnTo>
                    <a:pt x="120" y="258"/>
                  </a:lnTo>
                  <a:lnTo>
                    <a:pt x="152" y="269"/>
                  </a:lnTo>
                  <a:lnTo>
                    <a:pt x="190" y="271"/>
                  </a:lnTo>
                  <a:lnTo>
                    <a:pt x="192" y="241"/>
                  </a:lnTo>
                  <a:lnTo>
                    <a:pt x="198" y="213"/>
                  </a:lnTo>
                  <a:lnTo>
                    <a:pt x="209" y="188"/>
                  </a:lnTo>
                  <a:lnTo>
                    <a:pt x="225" y="165"/>
                  </a:lnTo>
                  <a:lnTo>
                    <a:pt x="246" y="148"/>
                  </a:lnTo>
                  <a:lnTo>
                    <a:pt x="272" y="133"/>
                  </a:lnTo>
                  <a:lnTo>
                    <a:pt x="304" y="123"/>
                  </a:lnTo>
                  <a:lnTo>
                    <a:pt x="342" y="119"/>
                  </a:lnTo>
                  <a:lnTo>
                    <a:pt x="318" y="136"/>
                  </a:lnTo>
                  <a:lnTo>
                    <a:pt x="300" y="156"/>
                  </a:lnTo>
                  <a:lnTo>
                    <a:pt x="292" y="175"/>
                  </a:lnTo>
                  <a:lnTo>
                    <a:pt x="288" y="192"/>
                  </a:lnTo>
                  <a:lnTo>
                    <a:pt x="289" y="210"/>
                  </a:lnTo>
                  <a:lnTo>
                    <a:pt x="292" y="228"/>
                  </a:lnTo>
                  <a:lnTo>
                    <a:pt x="299" y="244"/>
                  </a:lnTo>
                  <a:lnTo>
                    <a:pt x="307" y="257"/>
                  </a:lnTo>
                  <a:lnTo>
                    <a:pt x="320" y="269"/>
                  </a:lnTo>
                  <a:lnTo>
                    <a:pt x="340" y="279"/>
                  </a:lnTo>
                  <a:lnTo>
                    <a:pt x="368" y="290"/>
                  </a:lnTo>
                  <a:lnTo>
                    <a:pt x="396" y="301"/>
                  </a:lnTo>
                  <a:lnTo>
                    <a:pt x="424" y="314"/>
                  </a:lnTo>
                  <a:lnTo>
                    <a:pt x="448" y="332"/>
                  </a:lnTo>
                  <a:lnTo>
                    <a:pt x="467" y="354"/>
                  </a:lnTo>
                  <a:lnTo>
                    <a:pt x="475" y="382"/>
                  </a:lnTo>
                  <a:lnTo>
                    <a:pt x="484" y="361"/>
                  </a:lnTo>
                  <a:lnTo>
                    <a:pt x="494" y="346"/>
                  </a:lnTo>
                  <a:lnTo>
                    <a:pt x="504" y="335"/>
                  </a:lnTo>
                  <a:lnTo>
                    <a:pt x="513" y="326"/>
                  </a:lnTo>
                  <a:lnTo>
                    <a:pt x="521" y="318"/>
                  </a:lnTo>
                  <a:lnTo>
                    <a:pt x="531" y="309"/>
                  </a:lnTo>
                  <a:lnTo>
                    <a:pt x="540" y="298"/>
                  </a:lnTo>
                  <a:lnTo>
                    <a:pt x="550" y="285"/>
                  </a:lnTo>
                  <a:lnTo>
                    <a:pt x="555" y="271"/>
                  </a:lnTo>
                  <a:lnTo>
                    <a:pt x="548" y="257"/>
                  </a:lnTo>
                  <a:lnTo>
                    <a:pt x="536" y="242"/>
                  </a:lnTo>
                  <a:lnTo>
                    <a:pt x="524" y="225"/>
                  </a:lnTo>
                  <a:lnTo>
                    <a:pt x="516" y="204"/>
                  </a:lnTo>
                  <a:lnTo>
                    <a:pt x="520" y="180"/>
                  </a:lnTo>
                  <a:lnTo>
                    <a:pt x="536" y="149"/>
                  </a:lnTo>
                  <a:lnTo>
                    <a:pt x="571" y="111"/>
                  </a:lnTo>
                  <a:lnTo>
                    <a:pt x="612" y="75"/>
                  </a:lnTo>
                  <a:lnTo>
                    <a:pt x="646" y="51"/>
                  </a:lnTo>
                  <a:lnTo>
                    <a:pt x="672" y="35"/>
                  </a:lnTo>
                  <a:lnTo>
                    <a:pt x="691" y="27"/>
                  </a:lnTo>
                  <a:lnTo>
                    <a:pt x="704" y="24"/>
                  </a:lnTo>
                  <a:lnTo>
                    <a:pt x="712" y="24"/>
                  </a:lnTo>
                  <a:lnTo>
                    <a:pt x="715" y="26"/>
                  </a:lnTo>
                  <a:lnTo>
                    <a:pt x="716" y="27"/>
                  </a:lnTo>
                  <a:lnTo>
                    <a:pt x="699" y="38"/>
                  </a:lnTo>
                  <a:lnTo>
                    <a:pt x="684" y="53"/>
                  </a:lnTo>
                  <a:lnTo>
                    <a:pt x="672" y="67"/>
                  </a:lnTo>
                  <a:lnTo>
                    <a:pt x="662" y="83"/>
                  </a:lnTo>
                  <a:lnTo>
                    <a:pt x="656" y="99"/>
                  </a:lnTo>
                  <a:lnTo>
                    <a:pt x="654" y="117"/>
                  </a:lnTo>
                  <a:lnTo>
                    <a:pt x="659" y="131"/>
                  </a:lnTo>
                  <a:lnTo>
                    <a:pt x="668" y="146"/>
                  </a:lnTo>
                  <a:lnTo>
                    <a:pt x="683" y="160"/>
                  </a:lnTo>
                  <a:lnTo>
                    <a:pt x="699" y="176"/>
                  </a:lnTo>
                  <a:lnTo>
                    <a:pt x="713" y="196"/>
                  </a:lnTo>
                  <a:lnTo>
                    <a:pt x="726" y="216"/>
                  </a:lnTo>
                  <a:lnTo>
                    <a:pt x="736" y="239"/>
                  </a:lnTo>
                  <a:lnTo>
                    <a:pt x="737" y="263"/>
                  </a:lnTo>
                  <a:lnTo>
                    <a:pt x="732" y="287"/>
                  </a:lnTo>
                  <a:lnTo>
                    <a:pt x="716" y="313"/>
                  </a:lnTo>
                  <a:lnTo>
                    <a:pt x="700" y="337"/>
                  </a:lnTo>
                  <a:lnTo>
                    <a:pt x="692" y="358"/>
                  </a:lnTo>
                  <a:lnTo>
                    <a:pt x="692" y="375"/>
                  </a:lnTo>
                  <a:lnTo>
                    <a:pt x="697" y="391"/>
                  </a:lnTo>
                  <a:lnTo>
                    <a:pt x="708" y="406"/>
                  </a:lnTo>
                  <a:lnTo>
                    <a:pt x="724" y="419"/>
                  </a:lnTo>
                  <a:lnTo>
                    <a:pt x="744" y="431"/>
                  </a:lnTo>
                  <a:lnTo>
                    <a:pt x="766" y="444"/>
                  </a:lnTo>
                  <a:lnTo>
                    <a:pt x="760" y="430"/>
                  </a:lnTo>
                  <a:lnTo>
                    <a:pt x="758" y="420"/>
                  </a:lnTo>
                  <a:lnTo>
                    <a:pt x="760" y="411"/>
                  </a:lnTo>
                  <a:lnTo>
                    <a:pt x="766" y="404"/>
                  </a:lnTo>
                  <a:lnTo>
                    <a:pt x="774" y="396"/>
                  </a:lnTo>
                  <a:lnTo>
                    <a:pt x="787" y="390"/>
                  </a:lnTo>
                  <a:lnTo>
                    <a:pt x="803" y="380"/>
                  </a:lnTo>
                  <a:lnTo>
                    <a:pt x="822" y="369"/>
                  </a:lnTo>
                  <a:lnTo>
                    <a:pt x="841" y="353"/>
                  </a:lnTo>
                  <a:lnTo>
                    <a:pt x="856" y="334"/>
                  </a:lnTo>
                  <a:lnTo>
                    <a:pt x="867" y="311"/>
                  </a:lnTo>
                  <a:lnTo>
                    <a:pt x="873" y="289"/>
                  </a:lnTo>
                  <a:lnTo>
                    <a:pt x="876" y="266"/>
                  </a:lnTo>
                  <a:lnTo>
                    <a:pt x="876" y="244"/>
                  </a:lnTo>
                  <a:lnTo>
                    <a:pt x="872" y="225"/>
                  </a:lnTo>
                  <a:lnTo>
                    <a:pt x="864" y="208"/>
                  </a:lnTo>
                  <a:lnTo>
                    <a:pt x="889" y="220"/>
                  </a:lnTo>
                  <a:lnTo>
                    <a:pt x="913" y="234"/>
                  </a:lnTo>
                  <a:lnTo>
                    <a:pt x="934" y="253"/>
                  </a:lnTo>
                  <a:lnTo>
                    <a:pt x="953" y="276"/>
                  </a:lnTo>
                  <a:lnTo>
                    <a:pt x="968" y="300"/>
                  </a:lnTo>
                  <a:lnTo>
                    <a:pt x="977" y="326"/>
                  </a:lnTo>
                  <a:lnTo>
                    <a:pt x="980" y="351"/>
                  </a:lnTo>
                  <a:lnTo>
                    <a:pt x="979" y="375"/>
                  </a:lnTo>
                  <a:lnTo>
                    <a:pt x="1004" y="362"/>
                  </a:lnTo>
                  <a:lnTo>
                    <a:pt x="1035" y="348"/>
                  </a:lnTo>
                  <a:lnTo>
                    <a:pt x="1064" y="332"/>
                  </a:lnTo>
                  <a:lnTo>
                    <a:pt x="1089" y="309"/>
                  </a:lnTo>
                  <a:lnTo>
                    <a:pt x="1107" y="282"/>
                  </a:lnTo>
                  <a:lnTo>
                    <a:pt x="1113" y="247"/>
                  </a:lnTo>
                  <a:lnTo>
                    <a:pt x="1107" y="202"/>
                  </a:lnTo>
                  <a:lnTo>
                    <a:pt x="1083" y="146"/>
                  </a:lnTo>
                  <a:lnTo>
                    <a:pt x="1112" y="160"/>
                  </a:lnTo>
                  <a:lnTo>
                    <a:pt x="1140" y="181"/>
                  </a:lnTo>
                  <a:lnTo>
                    <a:pt x="1166" y="208"/>
                  </a:lnTo>
                  <a:lnTo>
                    <a:pt x="1187" y="242"/>
                  </a:lnTo>
                  <a:lnTo>
                    <a:pt x="1201" y="281"/>
                  </a:lnTo>
                  <a:lnTo>
                    <a:pt x="1206" y="322"/>
                  </a:lnTo>
                  <a:lnTo>
                    <a:pt x="1200" y="369"/>
                  </a:lnTo>
                  <a:lnTo>
                    <a:pt x="1180" y="417"/>
                  </a:lnTo>
                  <a:lnTo>
                    <a:pt x="1200" y="393"/>
                  </a:lnTo>
                  <a:lnTo>
                    <a:pt x="1217" y="370"/>
                  </a:lnTo>
                  <a:lnTo>
                    <a:pt x="1232" y="353"/>
                  </a:lnTo>
                  <a:lnTo>
                    <a:pt x="1244" y="335"/>
                  </a:lnTo>
                  <a:lnTo>
                    <a:pt x="1257" y="321"/>
                  </a:lnTo>
                  <a:lnTo>
                    <a:pt x="1270" y="308"/>
                  </a:lnTo>
                  <a:lnTo>
                    <a:pt x="1284" y="297"/>
                  </a:lnTo>
                  <a:lnTo>
                    <a:pt x="1299" y="285"/>
                  </a:lnTo>
                  <a:lnTo>
                    <a:pt x="1313" y="271"/>
                  </a:lnTo>
                  <a:lnTo>
                    <a:pt x="1323" y="249"/>
                  </a:lnTo>
                  <a:lnTo>
                    <a:pt x="1329" y="221"/>
                  </a:lnTo>
                  <a:lnTo>
                    <a:pt x="1329" y="194"/>
                  </a:lnTo>
                  <a:lnTo>
                    <a:pt x="1326" y="167"/>
                  </a:lnTo>
                  <a:lnTo>
                    <a:pt x="1316" y="143"/>
                  </a:lnTo>
                  <a:lnTo>
                    <a:pt x="1300" y="127"/>
                  </a:lnTo>
                  <a:lnTo>
                    <a:pt x="1278" y="119"/>
                  </a:lnTo>
                  <a:lnTo>
                    <a:pt x="1308" y="120"/>
                  </a:lnTo>
                  <a:lnTo>
                    <a:pt x="1337" y="131"/>
                  </a:lnTo>
                  <a:lnTo>
                    <a:pt x="1364" y="151"/>
                  </a:lnTo>
                  <a:lnTo>
                    <a:pt x="1384" y="178"/>
                  </a:lnTo>
                  <a:lnTo>
                    <a:pt x="1395" y="213"/>
                  </a:lnTo>
                  <a:lnTo>
                    <a:pt x="1392" y="255"/>
                  </a:lnTo>
                  <a:lnTo>
                    <a:pt x="1372" y="301"/>
                  </a:lnTo>
                  <a:lnTo>
                    <a:pt x="1334" y="354"/>
                  </a:lnTo>
                  <a:lnTo>
                    <a:pt x="1360" y="350"/>
                  </a:lnTo>
                  <a:lnTo>
                    <a:pt x="1387" y="334"/>
                  </a:lnTo>
                  <a:lnTo>
                    <a:pt x="1414" y="309"/>
                  </a:lnTo>
                  <a:lnTo>
                    <a:pt x="1436" y="281"/>
                  </a:lnTo>
                  <a:lnTo>
                    <a:pt x="1452" y="247"/>
                  </a:lnTo>
                  <a:lnTo>
                    <a:pt x="1459" y="212"/>
                  </a:lnTo>
                  <a:lnTo>
                    <a:pt x="1452" y="175"/>
                  </a:lnTo>
                  <a:lnTo>
                    <a:pt x="1430" y="140"/>
                  </a:lnTo>
                  <a:lnTo>
                    <a:pt x="1448" y="148"/>
                  </a:lnTo>
                  <a:lnTo>
                    <a:pt x="1462" y="157"/>
                  </a:lnTo>
                  <a:lnTo>
                    <a:pt x="1475" y="172"/>
                  </a:lnTo>
                  <a:lnTo>
                    <a:pt x="1484" y="186"/>
                  </a:lnTo>
                  <a:lnTo>
                    <a:pt x="1491" y="200"/>
                  </a:lnTo>
                  <a:lnTo>
                    <a:pt x="1496" y="212"/>
                  </a:lnTo>
                  <a:lnTo>
                    <a:pt x="1499" y="220"/>
                  </a:lnTo>
                  <a:lnTo>
                    <a:pt x="1500" y="223"/>
                  </a:lnTo>
                  <a:lnTo>
                    <a:pt x="1513" y="189"/>
                  </a:lnTo>
                  <a:lnTo>
                    <a:pt x="1534" y="159"/>
                  </a:lnTo>
                  <a:lnTo>
                    <a:pt x="1561" y="133"/>
                  </a:lnTo>
                  <a:lnTo>
                    <a:pt x="1588" y="109"/>
                  </a:lnTo>
                  <a:lnTo>
                    <a:pt x="1612" y="85"/>
                  </a:lnTo>
                  <a:lnTo>
                    <a:pt x="1632" y="59"/>
                  </a:lnTo>
                  <a:lnTo>
                    <a:pt x="1643" y="32"/>
                  </a:lnTo>
                  <a:lnTo>
                    <a:pt x="1640" y="0"/>
                  </a:lnTo>
                  <a:lnTo>
                    <a:pt x="1651" y="22"/>
                  </a:lnTo>
                  <a:lnTo>
                    <a:pt x="1657" y="42"/>
                  </a:lnTo>
                  <a:lnTo>
                    <a:pt x="1659" y="59"/>
                  </a:lnTo>
                  <a:lnTo>
                    <a:pt x="1657" y="79"/>
                  </a:lnTo>
                  <a:lnTo>
                    <a:pt x="1651" y="99"/>
                  </a:lnTo>
                  <a:lnTo>
                    <a:pt x="1638" y="123"/>
                  </a:lnTo>
                  <a:lnTo>
                    <a:pt x="1620" y="152"/>
                  </a:lnTo>
                  <a:lnTo>
                    <a:pt x="1598" y="188"/>
                  </a:lnTo>
                  <a:lnTo>
                    <a:pt x="1587" y="223"/>
                  </a:lnTo>
                  <a:lnTo>
                    <a:pt x="1584" y="269"/>
                  </a:lnTo>
                  <a:lnTo>
                    <a:pt x="1587" y="322"/>
                  </a:lnTo>
                  <a:lnTo>
                    <a:pt x="1587" y="375"/>
                  </a:lnTo>
                  <a:lnTo>
                    <a:pt x="1577" y="423"/>
                  </a:lnTo>
                  <a:lnTo>
                    <a:pt x="1555" y="462"/>
                  </a:lnTo>
                  <a:lnTo>
                    <a:pt x="1513" y="486"/>
                  </a:lnTo>
                  <a:lnTo>
                    <a:pt x="1444" y="487"/>
                  </a:lnTo>
                  <a:lnTo>
                    <a:pt x="1441" y="523"/>
                  </a:lnTo>
                  <a:lnTo>
                    <a:pt x="1433" y="561"/>
                  </a:lnTo>
                  <a:lnTo>
                    <a:pt x="1419" y="600"/>
                  </a:lnTo>
                  <a:lnTo>
                    <a:pt x="1398" y="632"/>
                  </a:lnTo>
                  <a:lnTo>
                    <a:pt x="1366" y="657"/>
                  </a:lnTo>
                  <a:lnTo>
                    <a:pt x="1323" y="672"/>
                  </a:lnTo>
                  <a:lnTo>
                    <a:pt x="1267" y="670"/>
                  </a:lnTo>
                  <a:lnTo>
                    <a:pt x="1195" y="653"/>
                  </a:lnTo>
                  <a:lnTo>
                    <a:pt x="1179" y="665"/>
                  </a:lnTo>
                  <a:lnTo>
                    <a:pt x="1160" y="678"/>
                  </a:lnTo>
                  <a:lnTo>
                    <a:pt x="1139" y="690"/>
                  </a:lnTo>
                  <a:lnTo>
                    <a:pt x="1118" y="699"/>
                  </a:lnTo>
                  <a:lnTo>
                    <a:pt x="1096" y="709"/>
                  </a:lnTo>
                  <a:lnTo>
                    <a:pt x="1073" y="715"/>
                  </a:lnTo>
                  <a:lnTo>
                    <a:pt x="1051" y="722"/>
                  </a:lnTo>
                  <a:lnTo>
                    <a:pt x="1028" y="725"/>
                  </a:lnTo>
                  <a:lnTo>
                    <a:pt x="1006" y="726"/>
                  </a:lnTo>
                  <a:lnTo>
                    <a:pt x="985" y="725"/>
                  </a:lnTo>
                  <a:lnTo>
                    <a:pt x="964" y="720"/>
                  </a:lnTo>
                  <a:lnTo>
                    <a:pt x="947" y="712"/>
                  </a:lnTo>
                  <a:lnTo>
                    <a:pt x="931" y="702"/>
                  </a:lnTo>
                  <a:lnTo>
                    <a:pt x="916" y="686"/>
                  </a:lnTo>
                  <a:lnTo>
                    <a:pt x="905" y="669"/>
                  </a:lnTo>
                  <a:lnTo>
                    <a:pt x="897" y="646"/>
                  </a:lnTo>
                  <a:lnTo>
                    <a:pt x="886" y="659"/>
                  </a:lnTo>
                  <a:lnTo>
                    <a:pt x="872" y="674"/>
                  </a:lnTo>
                  <a:lnTo>
                    <a:pt x="854" y="688"/>
                  </a:lnTo>
                  <a:lnTo>
                    <a:pt x="835" y="701"/>
                  </a:lnTo>
                  <a:lnTo>
                    <a:pt x="814" y="712"/>
                  </a:lnTo>
                  <a:lnTo>
                    <a:pt x="792" y="723"/>
                  </a:lnTo>
                  <a:lnTo>
                    <a:pt x="768" y="733"/>
                  </a:lnTo>
                  <a:lnTo>
                    <a:pt x="742" y="739"/>
                  </a:lnTo>
                  <a:lnTo>
                    <a:pt x="716" y="742"/>
                  </a:lnTo>
                  <a:lnTo>
                    <a:pt x="689" y="742"/>
                  </a:lnTo>
                  <a:lnTo>
                    <a:pt x="662" y="738"/>
                  </a:lnTo>
                  <a:lnTo>
                    <a:pt x="635" y="730"/>
                  </a:lnTo>
                  <a:lnTo>
                    <a:pt x="608" y="715"/>
                  </a:lnTo>
                  <a:lnTo>
                    <a:pt x="580" y="696"/>
                  </a:lnTo>
                  <a:lnTo>
                    <a:pt x="555" y="672"/>
                  </a:lnTo>
                  <a:lnTo>
                    <a:pt x="529" y="640"/>
                  </a:lnTo>
                  <a:lnTo>
                    <a:pt x="515" y="643"/>
                  </a:lnTo>
                  <a:lnTo>
                    <a:pt x="499" y="646"/>
                  </a:lnTo>
                  <a:lnTo>
                    <a:pt x="481" y="649"/>
                  </a:lnTo>
                  <a:lnTo>
                    <a:pt x="464" y="654"/>
                  </a:lnTo>
                  <a:lnTo>
                    <a:pt x="444" y="657"/>
                  </a:lnTo>
                  <a:lnTo>
                    <a:pt x="425" y="661"/>
                  </a:lnTo>
                  <a:lnTo>
                    <a:pt x="406" y="662"/>
                  </a:lnTo>
                  <a:lnTo>
                    <a:pt x="387" y="662"/>
                  </a:lnTo>
                  <a:lnTo>
                    <a:pt x="366" y="662"/>
                  </a:lnTo>
                  <a:lnTo>
                    <a:pt x="347" y="659"/>
                  </a:lnTo>
                  <a:lnTo>
                    <a:pt x="329" y="654"/>
                  </a:lnTo>
                  <a:lnTo>
                    <a:pt x="312" y="646"/>
                  </a:lnTo>
                  <a:lnTo>
                    <a:pt x="294" y="637"/>
                  </a:lnTo>
                  <a:lnTo>
                    <a:pt x="280" y="622"/>
                  </a:lnTo>
                  <a:lnTo>
                    <a:pt x="265" y="605"/>
                  </a:lnTo>
                  <a:lnTo>
                    <a:pt x="252" y="584"/>
                  </a:lnTo>
                  <a:close/>
                </a:path>
              </a:pathLst>
            </a:custGeom>
            <a:solidFill>
              <a:srgbClr val="ff7f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622920" y="1459080"/>
              <a:ext cx="156600" cy="180720"/>
            </a:xfrm>
            <a:custGeom>
              <a:avLst/>
              <a:gdLst/>
              <a:ahLst/>
              <a:rect l="l" t="t" r="r" b="b"/>
              <a:pathLst>
                <a:path w="198" h="228">
                  <a:moveTo>
                    <a:pt x="78" y="228"/>
                  </a:moveTo>
                  <a:lnTo>
                    <a:pt x="34" y="205"/>
                  </a:lnTo>
                  <a:lnTo>
                    <a:pt x="10" y="181"/>
                  </a:lnTo>
                  <a:lnTo>
                    <a:pt x="0" y="154"/>
                  </a:lnTo>
                  <a:lnTo>
                    <a:pt x="2" y="127"/>
                  </a:lnTo>
                  <a:lnTo>
                    <a:pt x="11" y="96"/>
                  </a:lnTo>
                  <a:lnTo>
                    <a:pt x="22" y="66"/>
                  </a:lnTo>
                  <a:lnTo>
                    <a:pt x="32" y="34"/>
                  </a:lnTo>
                  <a:lnTo>
                    <a:pt x="37" y="0"/>
                  </a:lnTo>
                  <a:lnTo>
                    <a:pt x="50" y="11"/>
                  </a:lnTo>
                  <a:lnTo>
                    <a:pt x="62" y="27"/>
                  </a:lnTo>
                  <a:lnTo>
                    <a:pt x="74" y="43"/>
                  </a:lnTo>
                  <a:lnTo>
                    <a:pt x="83" y="62"/>
                  </a:lnTo>
                  <a:lnTo>
                    <a:pt x="90" y="85"/>
                  </a:lnTo>
                  <a:lnTo>
                    <a:pt x="94" y="107"/>
                  </a:lnTo>
                  <a:lnTo>
                    <a:pt x="98" y="131"/>
                  </a:lnTo>
                  <a:lnTo>
                    <a:pt x="96" y="155"/>
                  </a:lnTo>
                  <a:lnTo>
                    <a:pt x="106" y="143"/>
                  </a:lnTo>
                  <a:lnTo>
                    <a:pt x="118" y="130"/>
                  </a:lnTo>
                  <a:lnTo>
                    <a:pt x="136" y="115"/>
                  </a:lnTo>
                  <a:lnTo>
                    <a:pt x="154" y="99"/>
                  </a:lnTo>
                  <a:lnTo>
                    <a:pt x="170" y="85"/>
                  </a:lnTo>
                  <a:lnTo>
                    <a:pt x="184" y="67"/>
                  </a:lnTo>
                  <a:lnTo>
                    <a:pt x="194" y="50"/>
                  </a:lnTo>
                  <a:lnTo>
                    <a:pt x="197" y="30"/>
                  </a:lnTo>
                  <a:lnTo>
                    <a:pt x="198" y="56"/>
                  </a:lnTo>
                  <a:lnTo>
                    <a:pt x="195" y="82"/>
                  </a:lnTo>
                  <a:lnTo>
                    <a:pt x="189" y="107"/>
                  </a:lnTo>
                  <a:lnTo>
                    <a:pt x="179" y="131"/>
                  </a:lnTo>
                  <a:lnTo>
                    <a:pt x="162" y="157"/>
                  </a:lnTo>
                  <a:lnTo>
                    <a:pt x="141" y="181"/>
                  </a:lnTo>
                  <a:lnTo>
                    <a:pt x="112" y="205"/>
                  </a:lnTo>
                  <a:lnTo>
                    <a:pt x="78" y="228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406920" y="1403280"/>
              <a:ext cx="118800" cy="160560"/>
            </a:xfrm>
            <a:custGeom>
              <a:avLst/>
              <a:gdLst/>
              <a:ahLst/>
              <a:rect l="l" t="t" r="r" b="b"/>
              <a:pathLst>
                <a:path w="150" h="202">
                  <a:moveTo>
                    <a:pt x="150" y="193"/>
                  </a:moveTo>
                  <a:lnTo>
                    <a:pt x="131" y="196"/>
                  </a:lnTo>
                  <a:lnTo>
                    <a:pt x="110" y="201"/>
                  </a:lnTo>
                  <a:lnTo>
                    <a:pt x="90" y="202"/>
                  </a:lnTo>
                  <a:lnTo>
                    <a:pt x="69" y="201"/>
                  </a:lnTo>
                  <a:lnTo>
                    <a:pt x="48" y="196"/>
                  </a:lnTo>
                  <a:lnTo>
                    <a:pt x="30" y="185"/>
                  </a:lnTo>
                  <a:lnTo>
                    <a:pt x="14" y="167"/>
                  </a:lnTo>
                  <a:lnTo>
                    <a:pt x="5" y="140"/>
                  </a:lnTo>
                  <a:lnTo>
                    <a:pt x="0" y="111"/>
                  </a:lnTo>
                  <a:lnTo>
                    <a:pt x="0" y="89"/>
                  </a:lnTo>
                  <a:lnTo>
                    <a:pt x="3" y="69"/>
                  </a:lnTo>
                  <a:lnTo>
                    <a:pt x="8" y="53"/>
                  </a:lnTo>
                  <a:lnTo>
                    <a:pt x="13" y="39"/>
                  </a:lnTo>
                  <a:lnTo>
                    <a:pt x="14" y="26"/>
                  </a:lnTo>
                  <a:lnTo>
                    <a:pt x="13" y="13"/>
                  </a:lnTo>
                  <a:lnTo>
                    <a:pt x="5" y="0"/>
                  </a:lnTo>
                  <a:lnTo>
                    <a:pt x="18" y="8"/>
                  </a:lnTo>
                  <a:lnTo>
                    <a:pt x="27" y="18"/>
                  </a:lnTo>
                  <a:lnTo>
                    <a:pt x="38" y="29"/>
                  </a:lnTo>
                  <a:lnTo>
                    <a:pt x="46" y="44"/>
                  </a:lnTo>
                  <a:lnTo>
                    <a:pt x="53" y="58"/>
                  </a:lnTo>
                  <a:lnTo>
                    <a:pt x="56" y="76"/>
                  </a:lnTo>
                  <a:lnTo>
                    <a:pt x="59" y="93"/>
                  </a:lnTo>
                  <a:lnTo>
                    <a:pt x="59" y="113"/>
                  </a:lnTo>
                  <a:lnTo>
                    <a:pt x="61" y="129"/>
                  </a:lnTo>
                  <a:lnTo>
                    <a:pt x="69" y="141"/>
                  </a:lnTo>
                  <a:lnTo>
                    <a:pt x="80" y="149"/>
                  </a:lnTo>
                  <a:lnTo>
                    <a:pt x="94" y="156"/>
                  </a:lnTo>
                  <a:lnTo>
                    <a:pt x="109" y="162"/>
                  </a:lnTo>
                  <a:lnTo>
                    <a:pt x="125" y="170"/>
                  </a:lnTo>
                  <a:lnTo>
                    <a:pt x="139" y="180"/>
                  </a:lnTo>
                  <a:lnTo>
                    <a:pt x="150" y="193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68800" y="1440000"/>
              <a:ext cx="131400" cy="163440"/>
            </a:xfrm>
            <a:custGeom>
              <a:avLst/>
              <a:gdLst/>
              <a:ahLst/>
              <a:rect l="l" t="t" r="r" b="b"/>
              <a:pathLst>
                <a:path w="167" h="205">
                  <a:moveTo>
                    <a:pt x="0" y="192"/>
                  </a:moveTo>
                  <a:lnTo>
                    <a:pt x="15" y="200"/>
                  </a:lnTo>
                  <a:lnTo>
                    <a:pt x="34" y="205"/>
                  </a:lnTo>
                  <a:lnTo>
                    <a:pt x="56" y="205"/>
                  </a:lnTo>
                  <a:lnTo>
                    <a:pt x="79" y="200"/>
                  </a:lnTo>
                  <a:lnTo>
                    <a:pt x="101" y="192"/>
                  </a:lnTo>
                  <a:lnTo>
                    <a:pt x="120" y="178"/>
                  </a:lnTo>
                  <a:lnTo>
                    <a:pt x="135" y="157"/>
                  </a:lnTo>
                  <a:lnTo>
                    <a:pt x="143" y="128"/>
                  </a:lnTo>
                  <a:lnTo>
                    <a:pt x="148" y="74"/>
                  </a:lnTo>
                  <a:lnTo>
                    <a:pt x="149" y="38"/>
                  </a:lnTo>
                  <a:lnTo>
                    <a:pt x="154" y="16"/>
                  </a:lnTo>
                  <a:lnTo>
                    <a:pt x="167" y="0"/>
                  </a:lnTo>
                  <a:lnTo>
                    <a:pt x="148" y="5"/>
                  </a:lnTo>
                  <a:lnTo>
                    <a:pt x="130" y="14"/>
                  </a:lnTo>
                  <a:lnTo>
                    <a:pt x="116" y="26"/>
                  </a:lnTo>
                  <a:lnTo>
                    <a:pt x="101" y="42"/>
                  </a:lnTo>
                  <a:lnTo>
                    <a:pt x="90" y="58"/>
                  </a:lnTo>
                  <a:lnTo>
                    <a:pt x="79" y="78"/>
                  </a:lnTo>
                  <a:lnTo>
                    <a:pt x="71" y="99"/>
                  </a:lnTo>
                  <a:lnTo>
                    <a:pt x="63" y="122"/>
                  </a:lnTo>
                  <a:lnTo>
                    <a:pt x="56" y="143"/>
                  </a:lnTo>
                  <a:lnTo>
                    <a:pt x="52" y="159"/>
                  </a:lnTo>
                  <a:lnTo>
                    <a:pt x="47" y="170"/>
                  </a:lnTo>
                  <a:lnTo>
                    <a:pt x="40" y="178"/>
                  </a:lnTo>
                  <a:lnTo>
                    <a:pt x="34" y="184"/>
                  </a:lnTo>
                  <a:lnTo>
                    <a:pt x="26" y="189"/>
                  </a:lnTo>
                  <a:lnTo>
                    <a:pt x="15" y="19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76880" y="1430280"/>
              <a:ext cx="117000" cy="139680"/>
            </a:xfrm>
            <a:custGeom>
              <a:avLst/>
              <a:gdLst/>
              <a:ahLst/>
              <a:rect l="l" t="t" r="r" b="b"/>
              <a:pathLst>
                <a:path w="149" h="174">
                  <a:moveTo>
                    <a:pt x="0" y="174"/>
                  </a:moveTo>
                  <a:lnTo>
                    <a:pt x="15" y="174"/>
                  </a:lnTo>
                  <a:lnTo>
                    <a:pt x="31" y="173"/>
                  </a:lnTo>
                  <a:lnTo>
                    <a:pt x="47" y="170"/>
                  </a:lnTo>
                  <a:lnTo>
                    <a:pt x="63" y="163"/>
                  </a:lnTo>
                  <a:lnTo>
                    <a:pt x="79" y="154"/>
                  </a:lnTo>
                  <a:lnTo>
                    <a:pt x="91" y="142"/>
                  </a:lnTo>
                  <a:lnTo>
                    <a:pt x="99" y="126"/>
                  </a:lnTo>
                  <a:lnTo>
                    <a:pt x="104" y="107"/>
                  </a:lnTo>
                  <a:lnTo>
                    <a:pt x="109" y="69"/>
                  </a:lnTo>
                  <a:lnTo>
                    <a:pt x="120" y="35"/>
                  </a:lnTo>
                  <a:lnTo>
                    <a:pt x="133" y="11"/>
                  </a:lnTo>
                  <a:lnTo>
                    <a:pt x="149" y="0"/>
                  </a:lnTo>
                  <a:lnTo>
                    <a:pt x="133" y="1"/>
                  </a:lnTo>
                  <a:lnTo>
                    <a:pt x="112" y="6"/>
                  </a:lnTo>
                  <a:lnTo>
                    <a:pt x="91" y="14"/>
                  </a:lnTo>
                  <a:lnTo>
                    <a:pt x="69" y="25"/>
                  </a:lnTo>
                  <a:lnTo>
                    <a:pt x="48" y="40"/>
                  </a:lnTo>
                  <a:lnTo>
                    <a:pt x="31" y="57"/>
                  </a:lnTo>
                  <a:lnTo>
                    <a:pt x="18" y="75"/>
                  </a:lnTo>
                  <a:lnTo>
                    <a:pt x="10" y="94"/>
                  </a:lnTo>
                  <a:lnTo>
                    <a:pt x="7" y="125"/>
                  </a:lnTo>
                  <a:lnTo>
                    <a:pt x="7" y="146"/>
                  </a:lnTo>
                  <a:lnTo>
                    <a:pt x="5" y="16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41680" y="1380960"/>
              <a:ext cx="68040" cy="12564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86" y="157"/>
                  </a:moveTo>
                  <a:lnTo>
                    <a:pt x="74" y="152"/>
                  </a:lnTo>
                  <a:lnTo>
                    <a:pt x="61" y="148"/>
                  </a:lnTo>
                  <a:lnTo>
                    <a:pt x="48" y="141"/>
                  </a:lnTo>
                  <a:lnTo>
                    <a:pt x="37" y="132"/>
                  </a:lnTo>
                  <a:lnTo>
                    <a:pt x="26" y="114"/>
                  </a:lnTo>
                  <a:lnTo>
                    <a:pt x="14" y="88"/>
                  </a:lnTo>
                  <a:lnTo>
                    <a:pt x="6" y="51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34" y="23"/>
                  </a:lnTo>
                  <a:lnTo>
                    <a:pt x="46" y="34"/>
                  </a:lnTo>
                  <a:lnTo>
                    <a:pt x="58" y="47"/>
                  </a:lnTo>
                  <a:lnTo>
                    <a:pt x="67" y="64"/>
                  </a:lnTo>
                  <a:lnTo>
                    <a:pt x="75" y="88"/>
                  </a:lnTo>
                  <a:lnTo>
                    <a:pt x="82" y="117"/>
                  </a:lnTo>
                  <a:lnTo>
                    <a:pt x="86" y="157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467480" y="1219320"/>
            <a:ext cx="1413000" cy="990360"/>
            <a:chOff x="7467480" y="1219320"/>
            <a:chExt cx="1413000" cy="990360"/>
          </a:xfrm>
        </p:grpSpPr>
        <p:sp>
          <p:nvSpPr>
            <p:cNvPr id="774" name=""/>
            <p:cNvSpPr/>
            <p:nvPr/>
          </p:nvSpPr>
          <p:spPr>
            <a:xfrm>
              <a:off x="7467480" y="1219320"/>
              <a:ext cx="1413000" cy="990360"/>
            </a:xfrm>
            <a:custGeom>
              <a:avLst/>
              <a:gdLst/>
              <a:ahLst/>
              <a:rect l="l" t="t" r="r" b="b"/>
              <a:pathLst>
                <a:path w="1659" h="742">
                  <a:moveTo>
                    <a:pt x="252" y="584"/>
                  </a:moveTo>
                  <a:lnTo>
                    <a:pt x="227" y="584"/>
                  </a:lnTo>
                  <a:lnTo>
                    <a:pt x="200" y="580"/>
                  </a:lnTo>
                  <a:lnTo>
                    <a:pt x="172" y="572"/>
                  </a:lnTo>
                  <a:lnTo>
                    <a:pt x="147" y="558"/>
                  </a:lnTo>
                  <a:lnTo>
                    <a:pt x="124" y="540"/>
                  </a:lnTo>
                  <a:lnTo>
                    <a:pt x="105" y="518"/>
                  </a:lnTo>
                  <a:lnTo>
                    <a:pt x="96" y="491"/>
                  </a:lnTo>
                  <a:lnTo>
                    <a:pt x="92" y="459"/>
                  </a:lnTo>
                  <a:lnTo>
                    <a:pt x="94" y="428"/>
                  </a:lnTo>
                  <a:lnTo>
                    <a:pt x="92" y="404"/>
                  </a:lnTo>
                  <a:lnTo>
                    <a:pt x="88" y="386"/>
                  </a:lnTo>
                  <a:lnTo>
                    <a:pt x="81" y="370"/>
                  </a:lnTo>
                  <a:lnTo>
                    <a:pt x="73" y="358"/>
                  </a:lnTo>
                  <a:lnTo>
                    <a:pt x="60" y="346"/>
                  </a:lnTo>
                  <a:lnTo>
                    <a:pt x="46" y="334"/>
                  </a:lnTo>
                  <a:lnTo>
                    <a:pt x="30" y="319"/>
                  </a:lnTo>
                  <a:lnTo>
                    <a:pt x="14" y="300"/>
                  </a:lnTo>
                  <a:lnTo>
                    <a:pt x="4" y="277"/>
                  </a:lnTo>
                  <a:lnTo>
                    <a:pt x="0" y="250"/>
                  </a:lnTo>
                  <a:lnTo>
                    <a:pt x="1" y="221"/>
                  </a:lnTo>
                  <a:lnTo>
                    <a:pt x="8" y="192"/>
                  </a:lnTo>
                  <a:lnTo>
                    <a:pt x="20" y="165"/>
                  </a:lnTo>
                  <a:lnTo>
                    <a:pt x="40" y="140"/>
                  </a:lnTo>
                  <a:lnTo>
                    <a:pt x="65" y="119"/>
                  </a:lnTo>
                  <a:lnTo>
                    <a:pt x="60" y="143"/>
                  </a:lnTo>
                  <a:lnTo>
                    <a:pt x="60" y="170"/>
                  </a:lnTo>
                  <a:lnTo>
                    <a:pt x="67" y="196"/>
                  </a:lnTo>
                  <a:lnTo>
                    <a:pt x="78" y="221"/>
                  </a:lnTo>
                  <a:lnTo>
                    <a:pt x="96" y="242"/>
                  </a:lnTo>
                  <a:lnTo>
                    <a:pt x="120" y="258"/>
                  </a:lnTo>
                  <a:lnTo>
                    <a:pt x="152" y="269"/>
                  </a:lnTo>
                  <a:lnTo>
                    <a:pt x="190" y="271"/>
                  </a:lnTo>
                  <a:lnTo>
                    <a:pt x="192" y="241"/>
                  </a:lnTo>
                  <a:lnTo>
                    <a:pt x="198" y="213"/>
                  </a:lnTo>
                  <a:lnTo>
                    <a:pt x="209" y="188"/>
                  </a:lnTo>
                  <a:lnTo>
                    <a:pt x="225" y="165"/>
                  </a:lnTo>
                  <a:lnTo>
                    <a:pt x="246" y="148"/>
                  </a:lnTo>
                  <a:lnTo>
                    <a:pt x="272" y="133"/>
                  </a:lnTo>
                  <a:lnTo>
                    <a:pt x="304" y="123"/>
                  </a:lnTo>
                  <a:lnTo>
                    <a:pt x="342" y="119"/>
                  </a:lnTo>
                  <a:lnTo>
                    <a:pt x="318" y="136"/>
                  </a:lnTo>
                  <a:lnTo>
                    <a:pt x="300" y="156"/>
                  </a:lnTo>
                  <a:lnTo>
                    <a:pt x="292" y="175"/>
                  </a:lnTo>
                  <a:lnTo>
                    <a:pt x="288" y="192"/>
                  </a:lnTo>
                  <a:lnTo>
                    <a:pt x="289" y="210"/>
                  </a:lnTo>
                  <a:lnTo>
                    <a:pt x="292" y="228"/>
                  </a:lnTo>
                  <a:lnTo>
                    <a:pt x="299" y="244"/>
                  </a:lnTo>
                  <a:lnTo>
                    <a:pt x="307" y="257"/>
                  </a:lnTo>
                  <a:lnTo>
                    <a:pt x="320" y="269"/>
                  </a:lnTo>
                  <a:lnTo>
                    <a:pt x="340" y="279"/>
                  </a:lnTo>
                  <a:lnTo>
                    <a:pt x="368" y="290"/>
                  </a:lnTo>
                  <a:lnTo>
                    <a:pt x="396" y="301"/>
                  </a:lnTo>
                  <a:lnTo>
                    <a:pt x="424" y="314"/>
                  </a:lnTo>
                  <a:lnTo>
                    <a:pt x="448" y="332"/>
                  </a:lnTo>
                  <a:lnTo>
                    <a:pt x="467" y="354"/>
                  </a:lnTo>
                  <a:lnTo>
                    <a:pt x="475" y="382"/>
                  </a:lnTo>
                  <a:lnTo>
                    <a:pt x="484" y="361"/>
                  </a:lnTo>
                  <a:lnTo>
                    <a:pt x="494" y="346"/>
                  </a:lnTo>
                  <a:lnTo>
                    <a:pt x="504" y="335"/>
                  </a:lnTo>
                  <a:lnTo>
                    <a:pt x="513" y="326"/>
                  </a:lnTo>
                  <a:lnTo>
                    <a:pt x="521" y="318"/>
                  </a:lnTo>
                  <a:lnTo>
                    <a:pt x="531" y="309"/>
                  </a:lnTo>
                  <a:lnTo>
                    <a:pt x="540" y="298"/>
                  </a:lnTo>
                  <a:lnTo>
                    <a:pt x="550" y="285"/>
                  </a:lnTo>
                  <a:lnTo>
                    <a:pt x="555" y="271"/>
                  </a:lnTo>
                  <a:lnTo>
                    <a:pt x="548" y="257"/>
                  </a:lnTo>
                  <a:lnTo>
                    <a:pt x="536" y="242"/>
                  </a:lnTo>
                  <a:lnTo>
                    <a:pt x="524" y="225"/>
                  </a:lnTo>
                  <a:lnTo>
                    <a:pt x="516" y="204"/>
                  </a:lnTo>
                  <a:lnTo>
                    <a:pt x="520" y="180"/>
                  </a:lnTo>
                  <a:lnTo>
                    <a:pt x="536" y="149"/>
                  </a:lnTo>
                  <a:lnTo>
                    <a:pt x="571" y="111"/>
                  </a:lnTo>
                  <a:lnTo>
                    <a:pt x="612" y="75"/>
                  </a:lnTo>
                  <a:lnTo>
                    <a:pt x="646" y="51"/>
                  </a:lnTo>
                  <a:lnTo>
                    <a:pt x="672" y="35"/>
                  </a:lnTo>
                  <a:lnTo>
                    <a:pt x="691" y="27"/>
                  </a:lnTo>
                  <a:lnTo>
                    <a:pt x="704" y="24"/>
                  </a:lnTo>
                  <a:lnTo>
                    <a:pt x="712" y="24"/>
                  </a:lnTo>
                  <a:lnTo>
                    <a:pt x="715" y="26"/>
                  </a:lnTo>
                  <a:lnTo>
                    <a:pt x="716" y="27"/>
                  </a:lnTo>
                  <a:lnTo>
                    <a:pt x="699" y="38"/>
                  </a:lnTo>
                  <a:lnTo>
                    <a:pt x="684" y="53"/>
                  </a:lnTo>
                  <a:lnTo>
                    <a:pt x="672" y="67"/>
                  </a:lnTo>
                  <a:lnTo>
                    <a:pt x="662" y="83"/>
                  </a:lnTo>
                  <a:lnTo>
                    <a:pt x="656" y="99"/>
                  </a:lnTo>
                  <a:lnTo>
                    <a:pt x="654" y="117"/>
                  </a:lnTo>
                  <a:lnTo>
                    <a:pt x="659" y="131"/>
                  </a:lnTo>
                  <a:lnTo>
                    <a:pt x="668" y="146"/>
                  </a:lnTo>
                  <a:lnTo>
                    <a:pt x="683" y="160"/>
                  </a:lnTo>
                  <a:lnTo>
                    <a:pt x="699" y="176"/>
                  </a:lnTo>
                  <a:lnTo>
                    <a:pt x="713" y="196"/>
                  </a:lnTo>
                  <a:lnTo>
                    <a:pt x="726" y="216"/>
                  </a:lnTo>
                  <a:lnTo>
                    <a:pt x="736" y="239"/>
                  </a:lnTo>
                  <a:lnTo>
                    <a:pt x="737" y="263"/>
                  </a:lnTo>
                  <a:lnTo>
                    <a:pt x="732" y="287"/>
                  </a:lnTo>
                  <a:lnTo>
                    <a:pt x="716" y="313"/>
                  </a:lnTo>
                  <a:lnTo>
                    <a:pt x="700" y="337"/>
                  </a:lnTo>
                  <a:lnTo>
                    <a:pt x="692" y="358"/>
                  </a:lnTo>
                  <a:lnTo>
                    <a:pt x="692" y="375"/>
                  </a:lnTo>
                  <a:lnTo>
                    <a:pt x="697" y="391"/>
                  </a:lnTo>
                  <a:lnTo>
                    <a:pt x="708" y="406"/>
                  </a:lnTo>
                  <a:lnTo>
                    <a:pt x="724" y="419"/>
                  </a:lnTo>
                  <a:lnTo>
                    <a:pt x="744" y="431"/>
                  </a:lnTo>
                  <a:lnTo>
                    <a:pt x="766" y="444"/>
                  </a:lnTo>
                  <a:lnTo>
                    <a:pt x="760" y="430"/>
                  </a:lnTo>
                  <a:lnTo>
                    <a:pt x="758" y="420"/>
                  </a:lnTo>
                  <a:lnTo>
                    <a:pt x="760" y="411"/>
                  </a:lnTo>
                  <a:lnTo>
                    <a:pt x="766" y="404"/>
                  </a:lnTo>
                  <a:lnTo>
                    <a:pt x="774" y="396"/>
                  </a:lnTo>
                  <a:lnTo>
                    <a:pt x="787" y="390"/>
                  </a:lnTo>
                  <a:lnTo>
                    <a:pt x="803" y="380"/>
                  </a:lnTo>
                  <a:lnTo>
                    <a:pt x="822" y="369"/>
                  </a:lnTo>
                  <a:lnTo>
                    <a:pt x="841" y="353"/>
                  </a:lnTo>
                  <a:lnTo>
                    <a:pt x="856" y="334"/>
                  </a:lnTo>
                  <a:lnTo>
                    <a:pt x="867" y="311"/>
                  </a:lnTo>
                  <a:lnTo>
                    <a:pt x="873" y="289"/>
                  </a:lnTo>
                  <a:lnTo>
                    <a:pt x="876" y="266"/>
                  </a:lnTo>
                  <a:lnTo>
                    <a:pt x="876" y="244"/>
                  </a:lnTo>
                  <a:lnTo>
                    <a:pt x="872" y="225"/>
                  </a:lnTo>
                  <a:lnTo>
                    <a:pt x="864" y="208"/>
                  </a:lnTo>
                  <a:lnTo>
                    <a:pt x="889" y="220"/>
                  </a:lnTo>
                  <a:lnTo>
                    <a:pt x="913" y="234"/>
                  </a:lnTo>
                  <a:lnTo>
                    <a:pt x="934" y="253"/>
                  </a:lnTo>
                  <a:lnTo>
                    <a:pt x="953" y="276"/>
                  </a:lnTo>
                  <a:lnTo>
                    <a:pt x="968" y="300"/>
                  </a:lnTo>
                  <a:lnTo>
                    <a:pt x="977" y="326"/>
                  </a:lnTo>
                  <a:lnTo>
                    <a:pt x="980" y="351"/>
                  </a:lnTo>
                  <a:lnTo>
                    <a:pt x="979" y="375"/>
                  </a:lnTo>
                  <a:lnTo>
                    <a:pt x="1004" y="362"/>
                  </a:lnTo>
                  <a:lnTo>
                    <a:pt x="1035" y="348"/>
                  </a:lnTo>
                  <a:lnTo>
                    <a:pt x="1064" y="332"/>
                  </a:lnTo>
                  <a:lnTo>
                    <a:pt x="1089" y="309"/>
                  </a:lnTo>
                  <a:lnTo>
                    <a:pt x="1107" y="282"/>
                  </a:lnTo>
                  <a:lnTo>
                    <a:pt x="1113" y="247"/>
                  </a:lnTo>
                  <a:lnTo>
                    <a:pt x="1107" y="202"/>
                  </a:lnTo>
                  <a:lnTo>
                    <a:pt x="1083" y="146"/>
                  </a:lnTo>
                  <a:lnTo>
                    <a:pt x="1112" y="160"/>
                  </a:lnTo>
                  <a:lnTo>
                    <a:pt x="1140" y="181"/>
                  </a:lnTo>
                  <a:lnTo>
                    <a:pt x="1166" y="208"/>
                  </a:lnTo>
                  <a:lnTo>
                    <a:pt x="1187" y="242"/>
                  </a:lnTo>
                  <a:lnTo>
                    <a:pt x="1201" y="281"/>
                  </a:lnTo>
                  <a:lnTo>
                    <a:pt x="1206" y="322"/>
                  </a:lnTo>
                  <a:lnTo>
                    <a:pt x="1200" y="369"/>
                  </a:lnTo>
                  <a:lnTo>
                    <a:pt x="1180" y="417"/>
                  </a:lnTo>
                  <a:lnTo>
                    <a:pt x="1200" y="393"/>
                  </a:lnTo>
                  <a:lnTo>
                    <a:pt x="1217" y="370"/>
                  </a:lnTo>
                  <a:lnTo>
                    <a:pt x="1232" y="353"/>
                  </a:lnTo>
                  <a:lnTo>
                    <a:pt x="1244" y="335"/>
                  </a:lnTo>
                  <a:lnTo>
                    <a:pt x="1257" y="321"/>
                  </a:lnTo>
                  <a:lnTo>
                    <a:pt x="1270" y="308"/>
                  </a:lnTo>
                  <a:lnTo>
                    <a:pt x="1284" y="297"/>
                  </a:lnTo>
                  <a:lnTo>
                    <a:pt x="1299" y="285"/>
                  </a:lnTo>
                  <a:lnTo>
                    <a:pt x="1313" y="271"/>
                  </a:lnTo>
                  <a:lnTo>
                    <a:pt x="1323" y="249"/>
                  </a:lnTo>
                  <a:lnTo>
                    <a:pt x="1329" y="221"/>
                  </a:lnTo>
                  <a:lnTo>
                    <a:pt x="1329" y="194"/>
                  </a:lnTo>
                  <a:lnTo>
                    <a:pt x="1326" y="167"/>
                  </a:lnTo>
                  <a:lnTo>
                    <a:pt x="1316" y="143"/>
                  </a:lnTo>
                  <a:lnTo>
                    <a:pt x="1300" y="127"/>
                  </a:lnTo>
                  <a:lnTo>
                    <a:pt x="1278" y="119"/>
                  </a:lnTo>
                  <a:lnTo>
                    <a:pt x="1308" y="120"/>
                  </a:lnTo>
                  <a:lnTo>
                    <a:pt x="1337" y="131"/>
                  </a:lnTo>
                  <a:lnTo>
                    <a:pt x="1364" y="151"/>
                  </a:lnTo>
                  <a:lnTo>
                    <a:pt x="1384" y="178"/>
                  </a:lnTo>
                  <a:lnTo>
                    <a:pt x="1395" y="213"/>
                  </a:lnTo>
                  <a:lnTo>
                    <a:pt x="1392" y="255"/>
                  </a:lnTo>
                  <a:lnTo>
                    <a:pt x="1372" y="301"/>
                  </a:lnTo>
                  <a:lnTo>
                    <a:pt x="1334" y="354"/>
                  </a:lnTo>
                  <a:lnTo>
                    <a:pt x="1360" y="350"/>
                  </a:lnTo>
                  <a:lnTo>
                    <a:pt x="1387" y="334"/>
                  </a:lnTo>
                  <a:lnTo>
                    <a:pt x="1414" y="309"/>
                  </a:lnTo>
                  <a:lnTo>
                    <a:pt x="1436" y="281"/>
                  </a:lnTo>
                  <a:lnTo>
                    <a:pt x="1452" y="247"/>
                  </a:lnTo>
                  <a:lnTo>
                    <a:pt x="1459" y="212"/>
                  </a:lnTo>
                  <a:lnTo>
                    <a:pt x="1452" y="175"/>
                  </a:lnTo>
                  <a:lnTo>
                    <a:pt x="1430" y="140"/>
                  </a:lnTo>
                  <a:lnTo>
                    <a:pt x="1448" y="148"/>
                  </a:lnTo>
                  <a:lnTo>
                    <a:pt x="1462" y="157"/>
                  </a:lnTo>
                  <a:lnTo>
                    <a:pt x="1475" y="172"/>
                  </a:lnTo>
                  <a:lnTo>
                    <a:pt x="1484" y="186"/>
                  </a:lnTo>
                  <a:lnTo>
                    <a:pt x="1491" y="200"/>
                  </a:lnTo>
                  <a:lnTo>
                    <a:pt x="1496" y="212"/>
                  </a:lnTo>
                  <a:lnTo>
                    <a:pt x="1499" y="220"/>
                  </a:lnTo>
                  <a:lnTo>
                    <a:pt x="1500" y="223"/>
                  </a:lnTo>
                  <a:lnTo>
                    <a:pt x="1513" y="189"/>
                  </a:lnTo>
                  <a:lnTo>
                    <a:pt x="1534" y="159"/>
                  </a:lnTo>
                  <a:lnTo>
                    <a:pt x="1561" y="133"/>
                  </a:lnTo>
                  <a:lnTo>
                    <a:pt x="1588" y="109"/>
                  </a:lnTo>
                  <a:lnTo>
                    <a:pt x="1612" y="85"/>
                  </a:lnTo>
                  <a:lnTo>
                    <a:pt x="1632" y="59"/>
                  </a:lnTo>
                  <a:lnTo>
                    <a:pt x="1643" y="32"/>
                  </a:lnTo>
                  <a:lnTo>
                    <a:pt x="1640" y="0"/>
                  </a:lnTo>
                  <a:lnTo>
                    <a:pt x="1651" y="22"/>
                  </a:lnTo>
                  <a:lnTo>
                    <a:pt x="1657" y="42"/>
                  </a:lnTo>
                  <a:lnTo>
                    <a:pt x="1659" y="59"/>
                  </a:lnTo>
                  <a:lnTo>
                    <a:pt x="1657" y="79"/>
                  </a:lnTo>
                  <a:lnTo>
                    <a:pt x="1651" y="99"/>
                  </a:lnTo>
                  <a:lnTo>
                    <a:pt x="1638" y="123"/>
                  </a:lnTo>
                  <a:lnTo>
                    <a:pt x="1620" y="152"/>
                  </a:lnTo>
                  <a:lnTo>
                    <a:pt x="1598" y="188"/>
                  </a:lnTo>
                  <a:lnTo>
                    <a:pt x="1587" y="223"/>
                  </a:lnTo>
                  <a:lnTo>
                    <a:pt x="1584" y="269"/>
                  </a:lnTo>
                  <a:lnTo>
                    <a:pt x="1587" y="322"/>
                  </a:lnTo>
                  <a:lnTo>
                    <a:pt x="1587" y="375"/>
                  </a:lnTo>
                  <a:lnTo>
                    <a:pt x="1577" y="423"/>
                  </a:lnTo>
                  <a:lnTo>
                    <a:pt x="1555" y="462"/>
                  </a:lnTo>
                  <a:lnTo>
                    <a:pt x="1513" y="486"/>
                  </a:lnTo>
                  <a:lnTo>
                    <a:pt x="1444" y="487"/>
                  </a:lnTo>
                  <a:lnTo>
                    <a:pt x="1441" y="523"/>
                  </a:lnTo>
                  <a:lnTo>
                    <a:pt x="1433" y="561"/>
                  </a:lnTo>
                  <a:lnTo>
                    <a:pt x="1419" y="600"/>
                  </a:lnTo>
                  <a:lnTo>
                    <a:pt x="1398" y="632"/>
                  </a:lnTo>
                  <a:lnTo>
                    <a:pt x="1366" y="657"/>
                  </a:lnTo>
                  <a:lnTo>
                    <a:pt x="1323" y="672"/>
                  </a:lnTo>
                  <a:lnTo>
                    <a:pt x="1267" y="670"/>
                  </a:lnTo>
                  <a:lnTo>
                    <a:pt x="1195" y="653"/>
                  </a:lnTo>
                  <a:lnTo>
                    <a:pt x="1179" y="665"/>
                  </a:lnTo>
                  <a:lnTo>
                    <a:pt x="1160" y="678"/>
                  </a:lnTo>
                  <a:lnTo>
                    <a:pt x="1139" y="690"/>
                  </a:lnTo>
                  <a:lnTo>
                    <a:pt x="1118" y="699"/>
                  </a:lnTo>
                  <a:lnTo>
                    <a:pt x="1096" y="709"/>
                  </a:lnTo>
                  <a:lnTo>
                    <a:pt x="1073" y="715"/>
                  </a:lnTo>
                  <a:lnTo>
                    <a:pt x="1051" y="722"/>
                  </a:lnTo>
                  <a:lnTo>
                    <a:pt x="1028" y="725"/>
                  </a:lnTo>
                  <a:lnTo>
                    <a:pt x="1006" y="726"/>
                  </a:lnTo>
                  <a:lnTo>
                    <a:pt x="985" y="725"/>
                  </a:lnTo>
                  <a:lnTo>
                    <a:pt x="964" y="720"/>
                  </a:lnTo>
                  <a:lnTo>
                    <a:pt x="947" y="712"/>
                  </a:lnTo>
                  <a:lnTo>
                    <a:pt x="931" y="702"/>
                  </a:lnTo>
                  <a:lnTo>
                    <a:pt x="916" y="686"/>
                  </a:lnTo>
                  <a:lnTo>
                    <a:pt x="905" y="669"/>
                  </a:lnTo>
                  <a:lnTo>
                    <a:pt x="897" y="646"/>
                  </a:lnTo>
                  <a:lnTo>
                    <a:pt x="886" y="659"/>
                  </a:lnTo>
                  <a:lnTo>
                    <a:pt x="872" y="674"/>
                  </a:lnTo>
                  <a:lnTo>
                    <a:pt x="854" y="688"/>
                  </a:lnTo>
                  <a:lnTo>
                    <a:pt x="835" y="701"/>
                  </a:lnTo>
                  <a:lnTo>
                    <a:pt x="814" y="712"/>
                  </a:lnTo>
                  <a:lnTo>
                    <a:pt x="792" y="723"/>
                  </a:lnTo>
                  <a:lnTo>
                    <a:pt x="768" y="733"/>
                  </a:lnTo>
                  <a:lnTo>
                    <a:pt x="742" y="739"/>
                  </a:lnTo>
                  <a:lnTo>
                    <a:pt x="716" y="742"/>
                  </a:lnTo>
                  <a:lnTo>
                    <a:pt x="689" y="742"/>
                  </a:lnTo>
                  <a:lnTo>
                    <a:pt x="662" y="738"/>
                  </a:lnTo>
                  <a:lnTo>
                    <a:pt x="635" y="730"/>
                  </a:lnTo>
                  <a:lnTo>
                    <a:pt x="608" y="715"/>
                  </a:lnTo>
                  <a:lnTo>
                    <a:pt x="580" y="696"/>
                  </a:lnTo>
                  <a:lnTo>
                    <a:pt x="555" y="672"/>
                  </a:lnTo>
                  <a:lnTo>
                    <a:pt x="529" y="640"/>
                  </a:lnTo>
                  <a:lnTo>
                    <a:pt x="515" y="643"/>
                  </a:lnTo>
                  <a:lnTo>
                    <a:pt x="499" y="646"/>
                  </a:lnTo>
                  <a:lnTo>
                    <a:pt x="481" y="649"/>
                  </a:lnTo>
                  <a:lnTo>
                    <a:pt x="464" y="654"/>
                  </a:lnTo>
                  <a:lnTo>
                    <a:pt x="444" y="657"/>
                  </a:lnTo>
                  <a:lnTo>
                    <a:pt x="425" y="661"/>
                  </a:lnTo>
                  <a:lnTo>
                    <a:pt x="406" y="662"/>
                  </a:lnTo>
                  <a:lnTo>
                    <a:pt x="387" y="662"/>
                  </a:lnTo>
                  <a:lnTo>
                    <a:pt x="366" y="662"/>
                  </a:lnTo>
                  <a:lnTo>
                    <a:pt x="347" y="659"/>
                  </a:lnTo>
                  <a:lnTo>
                    <a:pt x="329" y="654"/>
                  </a:lnTo>
                  <a:lnTo>
                    <a:pt x="312" y="646"/>
                  </a:lnTo>
                  <a:lnTo>
                    <a:pt x="294" y="637"/>
                  </a:lnTo>
                  <a:lnTo>
                    <a:pt x="280" y="622"/>
                  </a:lnTo>
                  <a:lnTo>
                    <a:pt x="265" y="605"/>
                  </a:lnTo>
                  <a:lnTo>
                    <a:pt x="252" y="584"/>
                  </a:lnTo>
                  <a:close/>
                </a:path>
              </a:pathLst>
            </a:custGeom>
            <a:solidFill>
              <a:srgbClr val="ff7f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070840" y="1611360"/>
              <a:ext cx="156960" cy="180360"/>
            </a:xfrm>
            <a:custGeom>
              <a:avLst/>
              <a:gdLst/>
              <a:ahLst/>
              <a:rect l="l" t="t" r="r" b="b"/>
              <a:pathLst>
                <a:path w="198" h="228">
                  <a:moveTo>
                    <a:pt x="78" y="228"/>
                  </a:moveTo>
                  <a:lnTo>
                    <a:pt x="34" y="205"/>
                  </a:lnTo>
                  <a:lnTo>
                    <a:pt x="10" y="181"/>
                  </a:lnTo>
                  <a:lnTo>
                    <a:pt x="0" y="154"/>
                  </a:lnTo>
                  <a:lnTo>
                    <a:pt x="2" y="127"/>
                  </a:lnTo>
                  <a:lnTo>
                    <a:pt x="11" y="96"/>
                  </a:lnTo>
                  <a:lnTo>
                    <a:pt x="22" y="66"/>
                  </a:lnTo>
                  <a:lnTo>
                    <a:pt x="32" y="34"/>
                  </a:lnTo>
                  <a:lnTo>
                    <a:pt x="37" y="0"/>
                  </a:lnTo>
                  <a:lnTo>
                    <a:pt x="50" y="11"/>
                  </a:lnTo>
                  <a:lnTo>
                    <a:pt x="62" y="27"/>
                  </a:lnTo>
                  <a:lnTo>
                    <a:pt x="74" y="43"/>
                  </a:lnTo>
                  <a:lnTo>
                    <a:pt x="83" y="62"/>
                  </a:lnTo>
                  <a:lnTo>
                    <a:pt x="90" y="85"/>
                  </a:lnTo>
                  <a:lnTo>
                    <a:pt x="94" y="107"/>
                  </a:lnTo>
                  <a:lnTo>
                    <a:pt x="98" y="131"/>
                  </a:lnTo>
                  <a:lnTo>
                    <a:pt x="96" y="155"/>
                  </a:lnTo>
                  <a:lnTo>
                    <a:pt x="106" y="143"/>
                  </a:lnTo>
                  <a:lnTo>
                    <a:pt x="118" y="130"/>
                  </a:lnTo>
                  <a:lnTo>
                    <a:pt x="136" y="115"/>
                  </a:lnTo>
                  <a:lnTo>
                    <a:pt x="154" y="99"/>
                  </a:lnTo>
                  <a:lnTo>
                    <a:pt x="170" y="85"/>
                  </a:lnTo>
                  <a:lnTo>
                    <a:pt x="184" y="67"/>
                  </a:lnTo>
                  <a:lnTo>
                    <a:pt x="194" y="50"/>
                  </a:lnTo>
                  <a:lnTo>
                    <a:pt x="197" y="30"/>
                  </a:lnTo>
                  <a:lnTo>
                    <a:pt x="198" y="56"/>
                  </a:lnTo>
                  <a:lnTo>
                    <a:pt x="195" y="82"/>
                  </a:lnTo>
                  <a:lnTo>
                    <a:pt x="189" y="107"/>
                  </a:lnTo>
                  <a:lnTo>
                    <a:pt x="179" y="131"/>
                  </a:lnTo>
                  <a:lnTo>
                    <a:pt x="162" y="157"/>
                  </a:lnTo>
                  <a:lnTo>
                    <a:pt x="141" y="181"/>
                  </a:lnTo>
                  <a:lnTo>
                    <a:pt x="112" y="205"/>
                  </a:lnTo>
                  <a:lnTo>
                    <a:pt x="78" y="228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54840" y="1555560"/>
              <a:ext cx="119160" cy="160200"/>
            </a:xfrm>
            <a:custGeom>
              <a:avLst/>
              <a:gdLst/>
              <a:ahLst/>
              <a:rect l="l" t="t" r="r" b="b"/>
              <a:pathLst>
                <a:path w="150" h="202">
                  <a:moveTo>
                    <a:pt x="150" y="193"/>
                  </a:moveTo>
                  <a:lnTo>
                    <a:pt x="131" y="196"/>
                  </a:lnTo>
                  <a:lnTo>
                    <a:pt x="110" y="201"/>
                  </a:lnTo>
                  <a:lnTo>
                    <a:pt x="90" y="202"/>
                  </a:lnTo>
                  <a:lnTo>
                    <a:pt x="69" y="201"/>
                  </a:lnTo>
                  <a:lnTo>
                    <a:pt x="48" y="196"/>
                  </a:lnTo>
                  <a:lnTo>
                    <a:pt x="30" y="185"/>
                  </a:lnTo>
                  <a:lnTo>
                    <a:pt x="14" y="167"/>
                  </a:lnTo>
                  <a:lnTo>
                    <a:pt x="5" y="140"/>
                  </a:lnTo>
                  <a:lnTo>
                    <a:pt x="0" y="111"/>
                  </a:lnTo>
                  <a:lnTo>
                    <a:pt x="0" y="89"/>
                  </a:lnTo>
                  <a:lnTo>
                    <a:pt x="3" y="69"/>
                  </a:lnTo>
                  <a:lnTo>
                    <a:pt x="8" y="53"/>
                  </a:lnTo>
                  <a:lnTo>
                    <a:pt x="13" y="39"/>
                  </a:lnTo>
                  <a:lnTo>
                    <a:pt x="14" y="26"/>
                  </a:lnTo>
                  <a:lnTo>
                    <a:pt x="13" y="13"/>
                  </a:lnTo>
                  <a:lnTo>
                    <a:pt x="5" y="0"/>
                  </a:lnTo>
                  <a:lnTo>
                    <a:pt x="18" y="8"/>
                  </a:lnTo>
                  <a:lnTo>
                    <a:pt x="27" y="18"/>
                  </a:lnTo>
                  <a:lnTo>
                    <a:pt x="38" y="29"/>
                  </a:lnTo>
                  <a:lnTo>
                    <a:pt x="46" y="44"/>
                  </a:lnTo>
                  <a:lnTo>
                    <a:pt x="53" y="58"/>
                  </a:lnTo>
                  <a:lnTo>
                    <a:pt x="56" y="76"/>
                  </a:lnTo>
                  <a:lnTo>
                    <a:pt x="59" y="93"/>
                  </a:lnTo>
                  <a:lnTo>
                    <a:pt x="59" y="113"/>
                  </a:lnTo>
                  <a:lnTo>
                    <a:pt x="61" y="129"/>
                  </a:lnTo>
                  <a:lnTo>
                    <a:pt x="69" y="141"/>
                  </a:lnTo>
                  <a:lnTo>
                    <a:pt x="80" y="149"/>
                  </a:lnTo>
                  <a:lnTo>
                    <a:pt x="94" y="156"/>
                  </a:lnTo>
                  <a:lnTo>
                    <a:pt x="109" y="162"/>
                  </a:lnTo>
                  <a:lnTo>
                    <a:pt x="125" y="170"/>
                  </a:lnTo>
                  <a:lnTo>
                    <a:pt x="139" y="180"/>
                  </a:lnTo>
                  <a:lnTo>
                    <a:pt x="150" y="193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316720" y="1592280"/>
              <a:ext cx="131760" cy="163080"/>
            </a:xfrm>
            <a:custGeom>
              <a:avLst/>
              <a:gdLst/>
              <a:ahLst/>
              <a:rect l="l" t="t" r="r" b="b"/>
              <a:pathLst>
                <a:path w="167" h="205">
                  <a:moveTo>
                    <a:pt x="0" y="192"/>
                  </a:moveTo>
                  <a:lnTo>
                    <a:pt x="15" y="200"/>
                  </a:lnTo>
                  <a:lnTo>
                    <a:pt x="34" y="205"/>
                  </a:lnTo>
                  <a:lnTo>
                    <a:pt x="56" y="205"/>
                  </a:lnTo>
                  <a:lnTo>
                    <a:pt x="79" y="200"/>
                  </a:lnTo>
                  <a:lnTo>
                    <a:pt x="101" y="192"/>
                  </a:lnTo>
                  <a:lnTo>
                    <a:pt x="120" y="178"/>
                  </a:lnTo>
                  <a:lnTo>
                    <a:pt x="135" y="157"/>
                  </a:lnTo>
                  <a:lnTo>
                    <a:pt x="143" y="128"/>
                  </a:lnTo>
                  <a:lnTo>
                    <a:pt x="148" y="74"/>
                  </a:lnTo>
                  <a:lnTo>
                    <a:pt x="149" y="38"/>
                  </a:lnTo>
                  <a:lnTo>
                    <a:pt x="154" y="16"/>
                  </a:lnTo>
                  <a:lnTo>
                    <a:pt x="167" y="0"/>
                  </a:lnTo>
                  <a:lnTo>
                    <a:pt x="148" y="5"/>
                  </a:lnTo>
                  <a:lnTo>
                    <a:pt x="130" y="14"/>
                  </a:lnTo>
                  <a:lnTo>
                    <a:pt x="116" y="26"/>
                  </a:lnTo>
                  <a:lnTo>
                    <a:pt x="101" y="42"/>
                  </a:lnTo>
                  <a:lnTo>
                    <a:pt x="90" y="58"/>
                  </a:lnTo>
                  <a:lnTo>
                    <a:pt x="79" y="78"/>
                  </a:lnTo>
                  <a:lnTo>
                    <a:pt x="71" y="99"/>
                  </a:lnTo>
                  <a:lnTo>
                    <a:pt x="63" y="122"/>
                  </a:lnTo>
                  <a:lnTo>
                    <a:pt x="56" y="143"/>
                  </a:lnTo>
                  <a:lnTo>
                    <a:pt x="52" y="159"/>
                  </a:lnTo>
                  <a:lnTo>
                    <a:pt x="47" y="170"/>
                  </a:lnTo>
                  <a:lnTo>
                    <a:pt x="40" y="178"/>
                  </a:lnTo>
                  <a:lnTo>
                    <a:pt x="34" y="184"/>
                  </a:lnTo>
                  <a:lnTo>
                    <a:pt x="26" y="189"/>
                  </a:lnTo>
                  <a:lnTo>
                    <a:pt x="15" y="19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524800" y="1582560"/>
              <a:ext cx="117360" cy="139320"/>
            </a:xfrm>
            <a:custGeom>
              <a:avLst/>
              <a:gdLst/>
              <a:ahLst/>
              <a:rect l="l" t="t" r="r" b="b"/>
              <a:pathLst>
                <a:path w="149" h="174">
                  <a:moveTo>
                    <a:pt x="0" y="174"/>
                  </a:moveTo>
                  <a:lnTo>
                    <a:pt x="15" y="174"/>
                  </a:lnTo>
                  <a:lnTo>
                    <a:pt x="31" y="173"/>
                  </a:lnTo>
                  <a:lnTo>
                    <a:pt x="47" y="170"/>
                  </a:lnTo>
                  <a:lnTo>
                    <a:pt x="63" y="163"/>
                  </a:lnTo>
                  <a:lnTo>
                    <a:pt x="79" y="154"/>
                  </a:lnTo>
                  <a:lnTo>
                    <a:pt x="91" y="142"/>
                  </a:lnTo>
                  <a:lnTo>
                    <a:pt x="99" y="126"/>
                  </a:lnTo>
                  <a:lnTo>
                    <a:pt x="104" y="107"/>
                  </a:lnTo>
                  <a:lnTo>
                    <a:pt x="109" y="69"/>
                  </a:lnTo>
                  <a:lnTo>
                    <a:pt x="120" y="35"/>
                  </a:lnTo>
                  <a:lnTo>
                    <a:pt x="133" y="11"/>
                  </a:lnTo>
                  <a:lnTo>
                    <a:pt x="149" y="0"/>
                  </a:lnTo>
                  <a:lnTo>
                    <a:pt x="133" y="1"/>
                  </a:lnTo>
                  <a:lnTo>
                    <a:pt x="112" y="6"/>
                  </a:lnTo>
                  <a:lnTo>
                    <a:pt x="91" y="14"/>
                  </a:lnTo>
                  <a:lnTo>
                    <a:pt x="69" y="25"/>
                  </a:lnTo>
                  <a:lnTo>
                    <a:pt x="48" y="40"/>
                  </a:lnTo>
                  <a:lnTo>
                    <a:pt x="31" y="57"/>
                  </a:lnTo>
                  <a:lnTo>
                    <a:pt x="18" y="75"/>
                  </a:lnTo>
                  <a:lnTo>
                    <a:pt x="10" y="94"/>
                  </a:lnTo>
                  <a:lnTo>
                    <a:pt x="7" y="125"/>
                  </a:lnTo>
                  <a:lnTo>
                    <a:pt x="7" y="146"/>
                  </a:lnTo>
                  <a:lnTo>
                    <a:pt x="5" y="16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689600" y="1533240"/>
              <a:ext cx="68400" cy="12528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86" y="157"/>
                  </a:moveTo>
                  <a:lnTo>
                    <a:pt x="74" y="152"/>
                  </a:lnTo>
                  <a:lnTo>
                    <a:pt x="61" y="148"/>
                  </a:lnTo>
                  <a:lnTo>
                    <a:pt x="48" y="141"/>
                  </a:lnTo>
                  <a:lnTo>
                    <a:pt x="37" y="132"/>
                  </a:lnTo>
                  <a:lnTo>
                    <a:pt x="26" y="114"/>
                  </a:lnTo>
                  <a:lnTo>
                    <a:pt x="14" y="88"/>
                  </a:lnTo>
                  <a:lnTo>
                    <a:pt x="6" y="51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34" y="23"/>
                  </a:lnTo>
                  <a:lnTo>
                    <a:pt x="46" y="34"/>
                  </a:lnTo>
                  <a:lnTo>
                    <a:pt x="58" y="47"/>
                  </a:lnTo>
                  <a:lnTo>
                    <a:pt x="67" y="64"/>
                  </a:lnTo>
                  <a:lnTo>
                    <a:pt x="75" y="88"/>
                  </a:lnTo>
                  <a:lnTo>
                    <a:pt x="82" y="117"/>
                  </a:lnTo>
                  <a:lnTo>
                    <a:pt x="86" y="157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7238880" y="228600"/>
            <a:ext cx="1413000" cy="990720"/>
            <a:chOff x="7238880" y="228600"/>
            <a:chExt cx="1413000" cy="990720"/>
          </a:xfrm>
        </p:grpSpPr>
        <p:sp>
          <p:nvSpPr>
            <p:cNvPr id="781" name=""/>
            <p:cNvSpPr/>
            <p:nvPr/>
          </p:nvSpPr>
          <p:spPr>
            <a:xfrm>
              <a:off x="7238880" y="228600"/>
              <a:ext cx="1413000" cy="990720"/>
            </a:xfrm>
            <a:custGeom>
              <a:avLst/>
              <a:gdLst/>
              <a:ahLst/>
              <a:rect l="l" t="t" r="r" b="b"/>
              <a:pathLst>
                <a:path w="1659" h="742">
                  <a:moveTo>
                    <a:pt x="252" y="584"/>
                  </a:moveTo>
                  <a:lnTo>
                    <a:pt x="227" y="584"/>
                  </a:lnTo>
                  <a:lnTo>
                    <a:pt x="200" y="580"/>
                  </a:lnTo>
                  <a:lnTo>
                    <a:pt x="172" y="572"/>
                  </a:lnTo>
                  <a:lnTo>
                    <a:pt x="147" y="558"/>
                  </a:lnTo>
                  <a:lnTo>
                    <a:pt x="124" y="540"/>
                  </a:lnTo>
                  <a:lnTo>
                    <a:pt x="105" y="518"/>
                  </a:lnTo>
                  <a:lnTo>
                    <a:pt x="96" y="491"/>
                  </a:lnTo>
                  <a:lnTo>
                    <a:pt x="92" y="459"/>
                  </a:lnTo>
                  <a:lnTo>
                    <a:pt x="94" y="428"/>
                  </a:lnTo>
                  <a:lnTo>
                    <a:pt x="92" y="404"/>
                  </a:lnTo>
                  <a:lnTo>
                    <a:pt x="88" y="386"/>
                  </a:lnTo>
                  <a:lnTo>
                    <a:pt x="81" y="370"/>
                  </a:lnTo>
                  <a:lnTo>
                    <a:pt x="73" y="358"/>
                  </a:lnTo>
                  <a:lnTo>
                    <a:pt x="60" y="346"/>
                  </a:lnTo>
                  <a:lnTo>
                    <a:pt x="46" y="334"/>
                  </a:lnTo>
                  <a:lnTo>
                    <a:pt x="30" y="319"/>
                  </a:lnTo>
                  <a:lnTo>
                    <a:pt x="14" y="300"/>
                  </a:lnTo>
                  <a:lnTo>
                    <a:pt x="4" y="277"/>
                  </a:lnTo>
                  <a:lnTo>
                    <a:pt x="0" y="250"/>
                  </a:lnTo>
                  <a:lnTo>
                    <a:pt x="1" y="221"/>
                  </a:lnTo>
                  <a:lnTo>
                    <a:pt x="8" y="192"/>
                  </a:lnTo>
                  <a:lnTo>
                    <a:pt x="20" y="165"/>
                  </a:lnTo>
                  <a:lnTo>
                    <a:pt x="40" y="140"/>
                  </a:lnTo>
                  <a:lnTo>
                    <a:pt x="65" y="119"/>
                  </a:lnTo>
                  <a:lnTo>
                    <a:pt x="60" y="143"/>
                  </a:lnTo>
                  <a:lnTo>
                    <a:pt x="60" y="170"/>
                  </a:lnTo>
                  <a:lnTo>
                    <a:pt x="67" y="196"/>
                  </a:lnTo>
                  <a:lnTo>
                    <a:pt x="78" y="221"/>
                  </a:lnTo>
                  <a:lnTo>
                    <a:pt x="96" y="242"/>
                  </a:lnTo>
                  <a:lnTo>
                    <a:pt x="120" y="258"/>
                  </a:lnTo>
                  <a:lnTo>
                    <a:pt x="152" y="269"/>
                  </a:lnTo>
                  <a:lnTo>
                    <a:pt x="190" y="271"/>
                  </a:lnTo>
                  <a:lnTo>
                    <a:pt x="192" y="241"/>
                  </a:lnTo>
                  <a:lnTo>
                    <a:pt x="198" y="213"/>
                  </a:lnTo>
                  <a:lnTo>
                    <a:pt x="209" y="188"/>
                  </a:lnTo>
                  <a:lnTo>
                    <a:pt x="225" y="165"/>
                  </a:lnTo>
                  <a:lnTo>
                    <a:pt x="246" y="148"/>
                  </a:lnTo>
                  <a:lnTo>
                    <a:pt x="272" y="133"/>
                  </a:lnTo>
                  <a:lnTo>
                    <a:pt x="304" y="123"/>
                  </a:lnTo>
                  <a:lnTo>
                    <a:pt x="342" y="119"/>
                  </a:lnTo>
                  <a:lnTo>
                    <a:pt x="318" y="136"/>
                  </a:lnTo>
                  <a:lnTo>
                    <a:pt x="300" y="156"/>
                  </a:lnTo>
                  <a:lnTo>
                    <a:pt x="292" y="175"/>
                  </a:lnTo>
                  <a:lnTo>
                    <a:pt x="288" y="192"/>
                  </a:lnTo>
                  <a:lnTo>
                    <a:pt x="289" y="210"/>
                  </a:lnTo>
                  <a:lnTo>
                    <a:pt x="292" y="228"/>
                  </a:lnTo>
                  <a:lnTo>
                    <a:pt x="299" y="244"/>
                  </a:lnTo>
                  <a:lnTo>
                    <a:pt x="307" y="257"/>
                  </a:lnTo>
                  <a:lnTo>
                    <a:pt x="320" y="269"/>
                  </a:lnTo>
                  <a:lnTo>
                    <a:pt x="340" y="279"/>
                  </a:lnTo>
                  <a:lnTo>
                    <a:pt x="368" y="290"/>
                  </a:lnTo>
                  <a:lnTo>
                    <a:pt x="396" y="301"/>
                  </a:lnTo>
                  <a:lnTo>
                    <a:pt x="424" y="314"/>
                  </a:lnTo>
                  <a:lnTo>
                    <a:pt x="448" y="332"/>
                  </a:lnTo>
                  <a:lnTo>
                    <a:pt x="467" y="354"/>
                  </a:lnTo>
                  <a:lnTo>
                    <a:pt x="475" y="382"/>
                  </a:lnTo>
                  <a:lnTo>
                    <a:pt x="484" y="361"/>
                  </a:lnTo>
                  <a:lnTo>
                    <a:pt x="494" y="346"/>
                  </a:lnTo>
                  <a:lnTo>
                    <a:pt x="504" y="335"/>
                  </a:lnTo>
                  <a:lnTo>
                    <a:pt x="513" y="326"/>
                  </a:lnTo>
                  <a:lnTo>
                    <a:pt x="521" y="318"/>
                  </a:lnTo>
                  <a:lnTo>
                    <a:pt x="531" y="309"/>
                  </a:lnTo>
                  <a:lnTo>
                    <a:pt x="540" y="298"/>
                  </a:lnTo>
                  <a:lnTo>
                    <a:pt x="550" y="285"/>
                  </a:lnTo>
                  <a:lnTo>
                    <a:pt x="555" y="271"/>
                  </a:lnTo>
                  <a:lnTo>
                    <a:pt x="548" y="257"/>
                  </a:lnTo>
                  <a:lnTo>
                    <a:pt x="536" y="242"/>
                  </a:lnTo>
                  <a:lnTo>
                    <a:pt x="524" y="225"/>
                  </a:lnTo>
                  <a:lnTo>
                    <a:pt x="516" y="204"/>
                  </a:lnTo>
                  <a:lnTo>
                    <a:pt x="520" y="180"/>
                  </a:lnTo>
                  <a:lnTo>
                    <a:pt x="536" y="149"/>
                  </a:lnTo>
                  <a:lnTo>
                    <a:pt x="571" y="111"/>
                  </a:lnTo>
                  <a:lnTo>
                    <a:pt x="612" y="75"/>
                  </a:lnTo>
                  <a:lnTo>
                    <a:pt x="646" y="51"/>
                  </a:lnTo>
                  <a:lnTo>
                    <a:pt x="672" y="35"/>
                  </a:lnTo>
                  <a:lnTo>
                    <a:pt x="691" y="27"/>
                  </a:lnTo>
                  <a:lnTo>
                    <a:pt x="704" y="24"/>
                  </a:lnTo>
                  <a:lnTo>
                    <a:pt x="712" y="24"/>
                  </a:lnTo>
                  <a:lnTo>
                    <a:pt x="715" y="26"/>
                  </a:lnTo>
                  <a:lnTo>
                    <a:pt x="716" y="27"/>
                  </a:lnTo>
                  <a:lnTo>
                    <a:pt x="699" y="38"/>
                  </a:lnTo>
                  <a:lnTo>
                    <a:pt x="684" y="53"/>
                  </a:lnTo>
                  <a:lnTo>
                    <a:pt x="672" y="67"/>
                  </a:lnTo>
                  <a:lnTo>
                    <a:pt x="662" y="83"/>
                  </a:lnTo>
                  <a:lnTo>
                    <a:pt x="656" y="99"/>
                  </a:lnTo>
                  <a:lnTo>
                    <a:pt x="654" y="117"/>
                  </a:lnTo>
                  <a:lnTo>
                    <a:pt x="659" y="131"/>
                  </a:lnTo>
                  <a:lnTo>
                    <a:pt x="668" y="146"/>
                  </a:lnTo>
                  <a:lnTo>
                    <a:pt x="683" y="160"/>
                  </a:lnTo>
                  <a:lnTo>
                    <a:pt x="699" y="176"/>
                  </a:lnTo>
                  <a:lnTo>
                    <a:pt x="713" y="196"/>
                  </a:lnTo>
                  <a:lnTo>
                    <a:pt x="726" y="216"/>
                  </a:lnTo>
                  <a:lnTo>
                    <a:pt x="736" y="239"/>
                  </a:lnTo>
                  <a:lnTo>
                    <a:pt x="737" y="263"/>
                  </a:lnTo>
                  <a:lnTo>
                    <a:pt x="732" y="287"/>
                  </a:lnTo>
                  <a:lnTo>
                    <a:pt x="716" y="313"/>
                  </a:lnTo>
                  <a:lnTo>
                    <a:pt x="700" y="337"/>
                  </a:lnTo>
                  <a:lnTo>
                    <a:pt x="692" y="358"/>
                  </a:lnTo>
                  <a:lnTo>
                    <a:pt x="692" y="375"/>
                  </a:lnTo>
                  <a:lnTo>
                    <a:pt x="697" y="391"/>
                  </a:lnTo>
                  <a:lnTo>
                    <a:pt x="708" y="406"/>
                  </a:lnTo>
                  <a:lnTo>
                    <a:pt x="724" y="419"/>
                  </a:lnTo>
                  <a:lnTo>
                    <a:pt x="744" y="431"/>
                  </a:lnTo>
                  <a:lnTo>
                    <a:pt x="766" y="444"/>
                  </a:lnTo>
                  <a:lnTo>
                    <a:pt x="760" y="430"/>
                  </a:lnTo>
                  <a:lnTo>
                    <a:pt x="758" y="420"/>
                  </a:lnTo>
                  <a:lnTo>
                    <a:pt x="760" y="411"/>
                  </a:lnTo>
                  <a:lnTo>
                    <a:pt x="766" y="404"/>
                  </a:lnTo>
                  <a:lnTo>
                    <a:pt x="774" y="396"/>
                  </a:lnTo>
                  <a:lnTo>
                    <a:pt x="787" y="390"/>
                  </a:lnTo>
                  <a:lnTo>
                    <a:pt x="803" y="380"/>
                  </a:lnTo>
                  <a:lnTo>
                    <a:pt x="822" y="369"/>
                  </a:lnTo>
                  <a:lnTo>
                    <a:pt x="841" y="353"/>
                  </a:lnTo>
                  <a:lnTo>
                    <a:pt x="856" y="334"/>
                  </a:lnTo>
                  <a:lnTo>
                    <a:pt x="867" y="311"/>
                  </a:lnTo>
                  <a:lnTo>
                    <a:pt x="873" y="289"/>
                  </a:lnTo>
                  <a:lnTo>
                    <a:pt x="876" y="266"/>
                  </a:lnTo>
                  <a:lnTo>
                    <a:pt x="876" y="244"/>
                  </a:lnTo>
                  <a:lnTo>
                    <a:pt x="872" y="225"/>
                  </a:lnTo>
                  <a:lnTo>
                    <a:pt x="864" y="208"/>
                  </a:lnTo>
                  <a:lnTo>
                    <a:pt x="889" y="220"/>
                  </a:lnTo>
                  <a:lnTo>
                    <a:pt x="913" y="234"/>
                  </a:lnTo>
                  <a:lnTo>
                    <a:pt x="934" y="253"/>
                  </a:lnTo>
                  <a:lnTo>
                    <a:pt x="953" y="276"/>
                  </a:lnTo>
                  <a:lnTo>
                    <a:pt x="968" y="300"/>
                  </a:lnTo>
                  <a:lnTo>
                    <a:pt x="977" y="326"/>
                  </a:lnTo>
                  <a:lnTo>
                    <a:pt x="980" y="351"/>
                  </a:lnTo>
                  <a:lnTo>
                    <a:pt x="979" y="375"/>
                  </a:lnTo>
                  <a:lnTo>
                    <a:pt x="1004" y="362"/>
                  </a:lnTo>
                  <a:lnTo>
                    <a:pt x="1035" y="348"/>
                  </a:lnTo>
                  <a:lnTo>
                    <a:pt x="1064" y="332"/>
                  </a:lnTo>
                  <a:lnTo>
                    <a:pt x="1089" y="309"/>
                  </a:lnTo>
                  <a:lnTo>
                    <a:pt x="1107" y="282"/>
                  </a:lnTo>
                  <a:lnTo>
                    <a:pt x="1113" y="247"/>
                  </a:lnTo>
                  <a:lnTo>
                    <a:pt x="1107" y="202"/>
                  </a:lnTo>
                  <a:lnTo>
                    <a:pt x="1083" y="146"/>
                  </a:lnTo>
                  <a:lnTo>
                    <a:pt x="1112" y="160"/>
                  </a:lnTo>
                  <a:lnTo>
                    <a:pt x="1140" y="181"/>
                  </a:lnTo>
                  <a:lnTo>
                    <a:pt x="1166" y="208"/>
                  </a:lnTo>
                  <a:lnTo>
                    <a:pt x="1187" y="242"/>
                  </a:lnTo>
                  <a:lnTo>
                    <a:pt x="1201" y="281"/>
                  </a:lnTo>
                  <a:lnTo>
                    <a:pt x="1206" y="322"/>
                  </a:lnTo>
                  <a:lnTo>
                    <a:pt x="1200" y="369"/>
                  </a:lnTo>
                  <a:lnTo>
                    <a:pt x="1180" y="417"/>
                  </a:lnTo>
                  <a:lnTo>
                    <a:pt x="1200" y="393"/>
                  </a:lnTo>
                  <a:lnTo>
                    <a:pt x="1217" y="370"/>
                  </a:lnTo>
                  <a:lnTo>
                    <a:pt x="1232" y="353"/>
                  </a:lnTo>
                  <a:lnTo>
                    <a:pt x="1244" y="335"/>
                  </a:lnTo>
                  <a:lnTo>
                    <a:pt x="1257" y="321"/>
                  </a:lnTo>
                  <a:lnTo>
                    <a:pt x="1270" y="308"/>
                  </a:lnTo>
                  <a:lnTo>
                    <a:pt x="1284" y="297"/>
                  </a:lnTo>
                  <a:lnTo>
                    <a:pt x="1299" y="285"/>
                  </a:lnTo>
                  <a:lnTo>
                    <a:pt x="1313" y="271"/>
                  </a:lnTo>
                  <a:lnTo>
                    <a:pt x="1323" y="249"/>
                  </a:lnTo>
                  <a:lnTo>
                    <a:pt x="1329" y="221"/>
                  </a:lnTo>
                  <a:lnTo>
                    <a:pt x="1329" y="194"/>
                  </a:lnTo>
                  <a:lnTo>
                    <a:pt x="1326" y="167"/>
                  </a:lnTo>
                  <a:lnTo>
                    <a:pt x="1316" y="143"/>
                  </a:lnTo>
                  <a:lnTo>
                    <a:pt x="1300" y="127"/>
                  </a:lnTo>
                  <a:lnTo>
                    <a:pt x="1278" y="119"/>
                  </a:lnTo>
                  <a:lnTo>
                    <a:pt x="1308" y="120"/>
                  </a:lnTo>
                  <a:lnTo>
                    <a:pt x="1337" y="131"/>
                  </a:lnTo>
                  <a:lnTo>
                    <a:pt x="1364" y="151"/>
                  </a:lnTo>
                  <a:lnTo>
                    <a:pt x="1384" y="178"/>
                  </a:lnTo>
                  <a:lnTo>
                    <a:pt x="1395" y="213"/>
                  </a:lnTo>
                  <a:lnTo>
                    <a:pt x="1392" y="255"/>
                  </a:lnTo>
                  <a:lnTo>
                    <a:pt x="1372" y="301"/>
                  </a:lnTo>
                  <a:lnTo>
                    <a:pt x="1334" y="354"/>
                  </a:lnTo>
                  <a:lnTo>
                    <a:pt x="1360" y="350"/>
                  </a:lnTo>
                  <a:lnTo>
                    <a:pt x="1387" y="334"/>
                  </a:lnTo>
                  <a:lnTo>
                    <a:pt x="1414" y="309"/>
                  </a:lnTo>
                  <a:lnTo>
                    <a:pt x="1436" y="281"/>
                  </a:lnTo>
                  <a:lnTo>
                    <a:pt x="1452" y="247"/>
                  </a:lnTo>
                  <a:lnTo>
                    <a:pt x="1459" y="212"/>
                  </a:lnTo>
                  <a:lnTo>
                    <a:pt x="1452" y="175"/>
                  </a:lnTo>
                  <a:lnTo>
                    <a:pt x="1430" y="140"/>
                  </a:lnTo>
                  <a:lnTo>
                    <a:pt x="1448" y="148"/>
                  </a:lnTo>
                  <a:lnTo>
                    <a:pt x="1462" y="157"/>
                  </a:lnTo>
                  <a:lnTo>
                    <a:pt x="1475" y="172"/>
                  </a:lnTo>
                  <a:lnTo>
                    <a:pt x="1484" y="186"/>
                  </a:lnTo>
                  <a:lnTo>
                    <a:pt x="1491" y="200"/>
                  </a:lnTo>
                  <a:lnTo>
                    <a:pt x="1496" y="212"/>
                  </a:lnTo>
                  <a:lnTo>
                    <a:pt x="1499" y="220"/>
                  </a:lnTo>
                  <a:lnTo>
                    <a:pt x="1500" y="223"/>
                  </a:lnTo>
                  <a:lnTo>
                    <a:pt x="1513" y="189"/>
                  </a:lnTo>
                  <a:lnTo>
                    <a:pt x="1534" y="159"/>
                  </a:lnTo>
                  <a:lnTo>
                    <a:pt x="1561" y="133"/>
                  </a:lnTo>
                  <a:lnTo>
                    <a:pt x="1588" y="109"/>
                  </a:lnTo>
                  <a:lnTo>
                    <a:pt x="1612" y="85"/>
                  </a:lnTo>
                  <a:lnTo>
                    <a:pt x="1632" y="59"/>
                  </a:lnTo>
                  <a:lnTo>
                    <a:pt x="1643" y="32"/>
                  </a:lnTo>
                  <a:lnTo>
                    <a:pt x="1640" y="0"/>
                  </a:lnTo>
                  <a:lnTo>
                    <a:pt x="1651" y="22"/>
                  </a:lnTo>
                  <a:lnTo>
                    <a:pt x="1657" y="42"/>
                  </a:lnTo>
                  <a:lnTo>
                    <a:pt x="1659" y="59"/>
                  </a:lnTo>
                  <a:lnTo>
                    <a:pt x="1657" y="79"/>
                  </a:lnTo>
                  <a:lnTo>
                    <a:pt x="1651" y="99"/>
                  </a:lnTo>
                  <a:lnTo>
                    <a:pt x="1638" y="123"/>
                  </a:lnTo>
                  <a:lnTo>
                    <a:pt x="1620" y="152"/>
                  </a:lnTo>
                  <a:lnTo>
                    <a:pt x="1598" y="188"/>
                  </a:lnTo>
                  <a:lnTo>
                    <a:pt x="1587" y="223"/>
                  </a:lnTo>
                  <a:lnTo>
                    <a:pt x="1584" y="269"/>
                  </a:lnTo>
                  <a:lnTo>
                    <a:pt x="1587" y="322"/>
                  </a:lnTo>
                  <a:lnTo>
                    <a:pt x="1587" y="375"/>
                  </a:lnTo>
                  <a:lnTo>
                    <a:pt x="1577" y="423"/>
                  </a:lnTo>
                  <a:lnTo>
                    <a:pt x="1555" y="462"/>
                  </a:lnTo>
                  <a:lnTo>
                    <a:pt x="1513" y="486"/>
                  </a:lnTo>
                  <a:lnTo>
                    <a:pt x="1444" y="487"/>
                  </a:lnTo>
                  <a:lnTo>
                    <a:pt x="1441" y="523"/>
                  </a:lnTo>
                  <a:lnTo>
                    <a:pt x="1433" y="561"/>
                  </a:lnTo>
                  <a:lnTo>
                    <a:pt x="1419" y="600"/>
                  </a:lnTo>
                  <a:lnTo>
                    <a:pt x="1398" y="632"/>
                  </a:lnTo>
                  <a:lnTo>
                    <a:pt x="1366" y="657"/>
                  </a:lnTo>
                  <a:lnTo>
                    <a:pt x="1323" y="672"/>
                  </a:lnTo>
                  <a:lnTo>
                    <a:pt x="1267" y="670"/>
                  </a:lnTo>
                  <a:lnTo>
                    <a:pt x="1195" y="653"/>
                  </a:lnTo>
                  <a:lnTo>
                    <a:pt x="1179" y="665"/>
                  </a:lnTo>
                  <a:lnTo>
                    <a:pt x="1160" y="678"/>
                  </a:lnTo>
                  <a:lnTo>
                    <a:pt x="1139" y="690"/>
                  </a:lnTo>
                  <a:lnTo>
                    <a:pt x="1118" y="699"/>
                  </a:lnTo>
                  <a:lnTo>
                    <a:pt x="1096" y="709"/>
                  </a:lnTo>
                  <a:lnTo>
                    <a:pt x="1073" y="715"/>
                  </a:lnTo>
                  <a:lnTo>
                    <a:pt x="1051" y="722"/>
                  </a:lnTo>
                  <a:lnTo>
                    <a:pt x="1028" y="725"/>
                  </a:lnTo>
                  <a:lnTo>
                    <a:pt x="1006" y="726"/>
                  </a:lnTo>
                  <a:lnTo>
                    <a:pt x="985" y="725"/>
                  </a:lnTo>
                  <a:lnTo>
                    <a:pt x="964" y="720"/>
                  </a:lnTo>
                  <a:lnTo>
                    <a:pt x="947" y="712"/>
                  </a:lnTo>
                  <a:lnTo>
                    <a:pt x="931" y="702"/>
                  </a:lnTo>
                  <a:lnTo>
                    <a:pt x="916" y="686"/>
                  </a:lnTo>
                  <a:lnTo>
                    <a:pt x="905" y="669"/>
                  </a:lnTo>
                  <a:lnTo>
                    <a:pt x="897" y="646"/>
                  </a:lnTo>
                  <a:lnTo>
                    <a:pt x="886" y="659"/>
                  </a:lnTo>
                  <a:lnTo>
                    <a:pt x="872" y="674"/>
                  </a:lnTo>
                  <a:lnTo>
                    <a:pt x="854" y="688"/>
                  </a:lnTo>
                  <a:lnTo>
                    <a:pt x="835" y="701"/>
                  </a:lnTo>
                  <a:lnTo>
                    <a:pt x="814" y="712"/>
                  </a:lnTo>
                  <a:lnTo>
                    <a:pt x="792" y="723"/>
                  </a:lnTo>
                  <a:lnTo>
                    <a:pt x="768" y="733"/>
                  </a:lnTo>
                  <a:lnTo>
                    <a:pt x="742" y="739"/>
                  </a:lnTo>
                  <a:lnTo>
                    <a:pt x="716" y="742"/>
                  </a:lnTo>
                  <a:lnTo>
                    <a:pt x="689" y="742"/>
                  </a:lnTo>
                  <a:lnTo>
                    <a:pt x="662" y="738"/>
                  </a:lnTo>
                  <a:lnTo>
                    <a:pt x="635" y="730"/>
                  </a:lnTo>
                  <a:lnTo>
                    <a:pt x="608" y="715"/>
                  </a:lnTo>
                  <a:lnTo>
                    <a:pt x="580" y="696"/>
                  </a:lnTo>
                  <a:lnTo>
                    <a:pt x="555" y="672"/>
                  </a:lnTo>
                  <a:lnTo>
                    <a:pt x="529" y="640"/>
                  </a:lnTo>
                  <a:lnTo>
                    <a:pt x="515" y="643"/>
                  </a:lnTo>
                  <a:lnTo>
                    <a:pt x="499" y="646"/>
                  </a:lnTo>
                  <a:lnTo>
                    <a:pt x="481" y="649"/>
                  </a:lnTo>
                  <a:lnTo>
                    <a:pt x="464" y="654"/>
                  </a:lnTo>
                  <a:lnTo>
                    <a:pt x="444" y="657"/>
                  </a:lnTo>
                  <a:lnTo>
                    <a:pt x="425" y="661"/>
                  </a:lnTo>
                  <a:lnTo>
                    <a:pt x="406" y="662"/>
                  </a:lnTo>
                  <a:lnTo>
                    <a:pt x="387" y="662"/>
                  </a:lnTo>
                  <a:lnTo>
                    <a:pt x="366" y="662"/>
                  </a:lnTo>
                  <a:lnTo>
                    <a:pt x="347" y="659"/>
                  </a:lnTo>
                  <a:lnTo>
                    <a:pt x="329" y="654"/>
                  </a:lnTo>
                  <a:lnTo>
                    <a:pt x="312" y="646"/>
                  </a:lnTo>
                  <a:lnTo>
                    <a:pt x="294" y="637"/>
                  </a:lnTo>
                  <a:lnTo>
                    <a:pt x="280" y="622"/>
                  </a:lnTo>
                  <a:lnTo>
                    <a:pt x="265" y="605"/>
                  </a:lnTo>
                  <a:lnTo>
                    <a:pt x="252" y="584"/>
                  </a:lnTo>
                  <a:close/>
                </a:path>
              </a:pathLst>
            </a:custGeom>
            <a:solidFill>
              <a:srgbClr val="ff7f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42240" y="621000"/>
              <a:ext cx="156960" cy="180720"/>
            </a:xfrm>
            <a:custGeom>
              <a:avLst/>
              <a:gdLst/>
              <a:ahLst/>
              <a:rect l="l" t="t" r="r" b="b"/>
              <a:pathLst>
                <a:path w="198" h="228">
                  <a:moveTo>
                    <a:pt x="78" y="228"/>
                  </a:moveTo>
                  <a:lnTo>
                    <a:pt x="34" y="205"/>
                  </a:lnTo>
                  <a:lnTo>
                    <a:pt x="10" y="181"/>
                  </a:lnTo>
                  <a:lnTo>
                    <a:pt x="0" y="154"/>
                  </a:lnTo>
                  <a:lnTo>
                    <a:pt x="2" y="127"/>
                  </a:lnTo>
                  <a:lnTo>
                    <a:pt x="11" y="96"/>
                  </a:lnTo>
                  <a:lnTo>
                    <a:pt x="22" y="66"/>
                  </a:lnTo>
                  <a:lnTo>
                    <a:pt x="32" y="34"/>
                  </a:lnTo>
                  <a:lnTo>
                    <a:pt x="37" y="0"/>
                  </a:lnTo>
                  <a:lnTo>
                    <a:pt x="50" y="11"/>
                  </a:lnTo>
                  <a:lnTo>
                    <a:pt x="62" y="27"/>
                  </a:lnTo>
                  <a:lnTo>
                    <a:pt x="74" y="43"/>
                  </a:lnTo>
                  <a:lnTo>
                    <a:pt x="83" y="62"/>
                  </a:lnTo>
                  <a:lnTo>
                    <a:pt x="90" y="85"/>
                  </a:lnTo>
                  <a:lnTo>
                    <a:pt x="94" y="107"/>
                  </a:lnTo>
                  <a:lnTo>
                    <a:pt x="98" y="131"/>
                  </a:lnTo>
                  <a:lnTo>
                    <a:pt x="96" y="155"/>
                  </a:lnTo>
                  <a:lnTo>
                    <a:pt x="106" y="143"/>
                  </a:lnTo>
                  <a:lnTo>
                    <a:pt x="118" y="130"/>
                  </a:lnTo>
                  <a:lnTo>
                    <a:pt x="136" y="115"/>
                  </a:lnTo>
                  <a:lnTo>
                    <a:pt x="154" y="99"/>
                  </a:lnTo>
                  <a:lnTo>
                    <a:pt x="170" y="85"/>
                  </a:lnTo>
                  <a:lnTo>
                    <a:pt x="184" y="67"/>
                  </a:lnTo>
                  <a:lnTo>
                    <a:pt x="194" y="50"/>
                  </a:lnTo>
                  <a:lnTo>
                    <a:pt x="197" y="30"/>
                  </a:lnTo>
                  <a:lnTo>
                    <a:pt x="198" y="56"/>
                  </a:lnTo>
                  <a:lnTo>
                    <a:pt x="195" y="82"/>
                  </a:lnTo>
                  <a:lnTo>
                    <a:pt x="189" y="107"/>
                  </a:lnTo>
                  <a:lnTo>
                    <a:pt x="179" y="131"/>
                  </a:lnTo>
                  <a:lnTo>
                    <a:pt x="162" y="157"/>
                  </a:lnTo>
                  <a:lnTo>
                    <a:pt x="141" y="181"/>
                  </a:lnTo>
                  <a:lnTo>
                    <a:pt x="112" y="205"/>
                  </a:lnTo>
                  <a:lnTo>
                    <a:pt x="78" y="228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26240" y="565200"/>
              <a:ext cx="119160" cy="160560"/>
            </a:xfrm>
            <a:custGeom>
              <a:avLst/>
              <a:gdLst/>
              <a:ahLst/>
              <a:rect l="l" t="t" r="r" b="b"/>
              <a:pathLst>
                <a:path w="150" h="202">
                  <a:moveTo>
                    <a:pt x="150" y="193"/>
                  </a:moveTo>
                  <a:lnTo>
                    <a:pt x="131" y="196"/>
                  </a:lnTo>
                  <a:lnTo>
                    <a:pt x="110" y="201"/>
                  </a:lnTo>
                  <a:lnTo>
                    <a:pt x="90" y="202"/>
                  </a:lnTo>
                  <a:lnTo>
                    <a:pt x="69" y="201"/>
                  </a:lnTo>
                  <a:lnTo>
                    <a:pt x="48" y="196"/>
                  </a:lnTo>
                  <a:lnTo>
                    <a:pt x="30" y="185"/>
                  </a:lnTo>
                  <a:lnTo>
                    <a:pt x="14" y="167"/>
                  </a:lnTo>
                  <a:lnTo>
                    <a:pt x="5" y="140"/>
                  </a:lnTo>
                  <a:lnTo>
                    <a:pt x="0" y="111"/>
                  </a:lnTo>
                  <a:lnTo>
                    <a:pt x="0" y="89"/>
                  </a:lnTo>
                  <a:lnTo>
                    <a:pt x="3" y="69"/>
                  </a:lnTo>
                  <a:lnTo>
                    <a:pt x="8" y="53"/>
                  </a:lnTo>
                  <a:lnTo>
                    <a:pt x="13" y="39"/>
                  </a:lnTo>
                  <a:lnTo>
                    <a:pt x="14" y="26"/>
                  </a:lnTo>
                  <a:lnTo>
                    <a:pt x="13" y="13"/>
                  </a:lnTo>
                  <a:lnTo>
                    <a:pt x="5" y="0"/>
                  </a:lnTo>
                  <a:lnTo>
                    <a:pt x="18" y="8"/>
                  </a:lnTo>
                  <a:lnTo>
                    <a:pt x="27" y="18"/>
                  </a:lnTo>
                  <a:lnTo>
                    <a:pt x="38" y="29"/>
                  </a:lnTo>
                  <a:lnTo>
                    <a:pt x="46" y="44"/>
                  </a:lnTo>
                  <a:lnTo>
                    <a:pt x="53" y="58"/>
                  </a:lnTo>
                  <a:lnTo>
                    <a:pt x="56" y="76"/>
                  </a:lnTo>
                  <a:lnTo>
                    <a:pt x="59" y="93"/>
                  </a:lnTo>
                  <a:lnTo>
                    <a:pt x="59" y="113"/>
                  </a:lnTo>
                  <a:lnTo>
                    <a:pt x="61" y="129"/>
                  </a:lnTo>
                  <a:lnTo>
                    <a:pt x="69" y="141"/>
                  </a:lnTo>
                  <a:lnTo>
                    <a:pt x="80" y="149"/>
                  </a:lnTo>
                  <a:lnTo>
                    <a:pt x="94" y="156"/>
                  </a:lnTo>
                  <a:lnTo>
                    <a:pt x="109" y="162"/>
                  </a:lnTo>
                  <a:lnTo>
                    <a:pt x="125" y="170"/>
                  </a:lnTo>
                  <a:lnTo>
                    <a:pt x="139" y="180"/>
                  </a:lnTo>
                  <a:lnTo>
                    <a:pt x="150" y="193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088120" y="601920"/>
              <a:ext cx="131760" cy="163440"/>
            </a:xfrm>
            <a:custGeom>
              <a:avLst/>
              <a:gdLst/>
              <a:ahLst/>
              <a:rect l="l" t="t" r="r" b="b"/>
              <a:pathLst>
                <a:path w="167" h="205">
                  <a:moveTo>
                    <a:pt x="0" y="192"/>
                  </a:moveTo>
                  <a:lnTo>
                    <a:pt x="15" y="200"/>
                  </a:lnTo>
                  <a:lnTo>
                    <a:pt x="34" y="205"/>
                  </a:lnTo>
                  <a:lnTo>
                    <a:pt x="56" y="205"/>
                  </a:lnTo>
                  <a:lnTo>
                    <a:pt x="79" y="200"/>
                  </a:lnTo>
                  <a:lnTo>
                    <a:pt x="101" y="192"/>
                  </a:lnTo>
                  <a:lnTo>
                    <a:pt x="120" y="178"/>
                  </a:lnTo>
                  <a:lnTo>
                    <a:pt x="135" y="157"/>
                  </a:lnTo>
                  <a:lnTo>
                    <a:pt x="143" y="128"/>
                  </a:lnTo>
                  <a:lnTo>
                    <a:pt x="148" y="74"/>
                  </a:lnTo>
                  <a:lnTo>
                    <a:pt x="149" y="38"/>
                  </a:lnTo>
                  <a:lnTo>
                    <a:pt x="154" y="16"/>
                  </a:lnTo>
                  <a:lnTo>
                    <a:pt x="167" y="0"/>
                  </a:lnTo>
                  <a:lnTo>
                    <a:pt x="148" y="5"/>
                  </a:lnTo>
                  <a:lnTo>
                    <a:pt x="130" y="14"/>
                  </a:lnTo>
                  <a:lnTo>
                    <a:pt x="116" y="26"/>
                  </a:lnTo>
                  <a:lnTo>
                    <a:pt x="101" y="42"/>
                  </a:lnTo>
                  <a:lnTo>
                    <a:pt x="90" y="58"/>
                  </a:lnTo>
                  <a:lnTo>
                    <a:pt x="79" y="78"/>
                  </a:lnTo>
                  <a:lnTo>
                    <a:pt x="71" y="99"/>
                  </a:lnTo>
                  <a:lnTo>
                    <a:pt x="63" y="122"/>
                  </a:lnTo>
                  <a:lnTo>
                    <a:pt x="56" y="143"/>
                  </a:lnTo>
                  <a:lnTo>
                    <a:pt x="52" y="159"/>
                  </a:lnTo>
                  <a:lnTo>
                    <a:pt x="47" y="170"/>
                  </a:lnTo>
                  <a:lnTo>
                    <a:pt x="40" y="178"/>
                  </a:lnTo>
                  <a:lnTo>
                    <a:pt x="34" y="184"/>
                  </a:lnTo>
                  <a:lnTo>
                    <a:pt x="26" y="189"/>
                  </a:lnTo>
                  <a:lnTo>
                    <a:pt x="15" y="19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296200" y="592200"/>
              <a:ext cx="117360" cy="139680"/>
            </a:xfrm>
            <a:custGeom>
              <a:avLst/>
              <a:gdLst/>
              <a:ahLst/>
              <a:rect l="l" t="t" r="r" b="b"/>
              <a:pathLst>
                <a:path w="149" h="174">
                  <a:moveTo>
                    <a:pt x="0" y="174"/>
                  </a:moveTo>
                  <a:lnTo>
                    <a:pt x="15" y="174"/>
                  </a:lnTo>
                  <a:lnTo>
                    <a:pt x="31" y="173"/>
                  </a:lnTo>
                  <a:lnTo>
                    <a:pt x="47" y="170"/>
                  </a:lnTo>
                  <a:lnTo>
                    <a:pt x="63" y="163"/>
                  </a:lnTo>
                  <a:lnTo>
                    <a:pt x="79" y="154"/>
                  </a:lnTo>
                  <a:lnTo>
                    <a:pt x="91" y="142"/>
                  </a:lnTo>
                  <a:lnTo>
                    <a:pt x="99" y="126"/>
                  </a:lnTo>
                  <a:lnTo>
                    <a:pt x="104" y="107"/>
                  </a:lnTo>
                  <a:lnTo>
                    <a:pt x="109" y="69"/>
                  </a:lnTo>
                  <a:lnTo>
                    <a:pt x="120" y="35"/>
                  </a:lnTo>
                  <a:lnTo>
                    <a:pt x="133" y="11"/>
                  </a:lnTo>
                  <a:lnTo>
                    <a:pt x="149" y="0"/>
                  </a:lnTo>
                  <a:lnTo>
                    <a:pt x="133" y="1"/>
                  </a:lnTo>
                  <a:lnTo>
                    <a:pt x="112" y="6"/>
                  </a:lnTo>
                  <a:lnTo>
                    <a:pt x="91" y="14"/>
                  </a:lnTo>
                  <a:lnTo>
                    <a:pt x="69" y="25"/>
                  </a:lnTo>
                  <a:lnTo>
                    <a:pt x="48" y="40"/>
                  </a:lnTo>
                  <a:lnTo>
                    <a:pt x="31" y="57"/>
                  </a:lnTo>
                  <a:lnTo>
                    <a:pt x="18" y="75"/>
                  </a:lnTo>
                  <a:lnTo>
                    <a:pt x="10" y="94"/>
                  </a:lnTo>
                  <a:lnTo>
                    <a:pt x="7" y="125"/>
                  </a:lnTo>
                  <a:lnTo>
                    <a:pt x="7" y="146"/>
                  </a:lnTo>
                  <a:lnTo>
                    <a:pt x="5" y="16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461000" y="542880"/>
              <a:ext cx="68400" cy="12564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86" y="157"/>
                  </a:moveTo>
                  <a:lnTo>
                    <a:pt x="74" y="152"/>
                  </a:lnTo>
                  <a:lnTo>
                    <a:pt x="61" y="148"/>
                  </a:lnTo>
                  <a:lnTo>
                    <a:pt x="48" y="141"/>
                  </a:lnTo>
                  <a:lnTo>
                    <a:pt x="37" y="132"/>
                  </a:lnTo>
                  <a:lnTo>
                    <a:pt x="26" y="114"/>
                  </a:lnTo>
                  <a:lnTo>
                    <a:pt x="14" y="88"/>
                  </a:lnTo>
                  <a:lnTo>
                    <a:pt x="6" y="51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34" y="23"/>
                  </a:lnTo>
                  <a:lnTo>
                    <a:pt x="46" y="34"/>
                  </a:lnTo>
                  <a:lnTo>
                    <a:pt x="58" y="47"/>
                  </a:lnTo>
                  <a:lnTo>
                    <a:pt x="67" y="64"/>
                  </a:lnTo>
                  <a:lnTo>
                    <a:pt x="75" y="88"/>
                  </a:lnTo>
                  <a:lnTo>
                    <a:pt x="82" y="117"/>
                  </a:lnTo>
                  <a:lnTo>
                    <a:pt x="86" y="157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3657600" y="609480"/>
            <a:ext cx="4876920" cy="3429000"/>
            <a:chOff x="3657600" y="609480"/>
            <a:chExt cx="4876920" cy="3429000"/>
          </a:xfrm>
        </p:grpSpPr>
        <p:sp>
          <p:nvSpPr>
            <p:cNvPr id="788" name=""/>
            <p:cNvSpPr/>
            <p:nvPr/>
          </p:nvSpPr>
          <p:spPr>
            <a:xfrm>
              <a:off x="3657600" y="609480"/>
              <a:ext cx="4876920" cy="3429000"/>
            </a:xfrm>
            <a:custGeom>
              <a:avLst/>
              <a:gdLst/>
              <a:ahLst/>
              <a:rect l="l" t="t" r="r" b="b"/>
              <a:pathLst>
                <a:path w="1659" h="742">
                  <a:moveTo>
                    <a:pt x="252" y="584"/>
                  </a:moveTo>
                  <a:lnTo>
                    <a:pt x="227" y="584"/>
                  </a:lnTo>
                  <a:lnTo>
                    <a:pt x="200" y="580"/>
                  </a:lnTo>
                  <a:lnTo>
                    <a:pt x="172" y="572"/>
                  </a:lnTo>
                  <a:lnTo>
                    <a:pt x="147" y="558"/>
                  </a:lnTo>
                  <a:lnTo>
                    <a:pt x="124" y="540"/>
                  </a:lnTo>
                  <a:lnTo>
                    <a:pt x="105" y="518"/>
                  </a:lnTo>
                  <a:lnTo>
                    <a:pt x="96" y="491"/>
                  </a:lnTo>
                  <a:lnTo>
                    <a:pt x="92" y="459"/>
                  </a:lnTo>
                  <a:lnTo>
                    <a:pt x="94" y="428"/>
                  </a:lnTo>
                  <a:lnTo>
                    <a:pt x="92" y="404"/>
                  </a:lnTo>
                  <a:lnTo>
                    <a:pt x="88" y="386"/>
                  </a:lnTo>
                  <a:lnTo>
                    <a:pt x="81" y="370"/>
                  </a:lnTo>
                  <a:lnTo>
                    <a:pt x="73" y="358"/>
                  </a:lnTo>
                  <a:lnTo>
                    <a:pt x="60" y="346"/>
                  </a:lnTo>
                  <a:lnTo>
                    <a:pt x="46" y="334"/>
                  </a:lnTo>
                  <a:lnTo>
                    <a:pt x="30" y="319"/>
                  </a:lnTo>
                  <a:lnTo>
                    <a:pt x="14" y="300"/>
                  </a:lnTo>
                  <a:lnTo>
                    <a:pt x="4" y="277"/>
                  </a:lnTo>
                  <a:lnTo>
                    <a:pt x="0" y="250"/>
                  </a:lnTo>
                  <a:lnTo>
                    <a:pt x="1" y="221"/>
                  </a:lnTo>
                  <a:lnTo>
                    <a:pt x="8" y="192"/>
                  </a:lnTo>
                  <a:lnTo>
                    <a:pt x="20" y="165"/>
                  </a:lnTo>
                  <a:lnTo>
                    <a:pt x="40" y="140"/>
                  </a:lnTo>
                  <a:lnTo>
                    <a:pt x="65" y="119"/>
                  </a:lnTo>
                  <a:lnTo>
                    <a:pt x="60" y="143"/>
                  </a:lnTo>
                  <a:lnTo>
                    <a:pt x="60" y="170"/>
                  </a:lnTo>
                  <a:lnTo>
                    <a:pt x="67" y="196"/>
                  </a:lnTo>
                  <a:lnTo>
                    <a:pt x="78" y="221"/>
                  </a:lnTo>
                  <a:lnTo>
                    <a:pt x="96" y="242"/>
                  </a:lnTo>
                  <a:lnTo>
                    <a:pt x="120" y="258"/>
                  </a:lnTo>
                  <a:lnTo>
                    <a:pt x="152" y="269"/>
                  </a:lnTo>
                  <a:lnTo>
                    <a:pt x="190" y="271"/>
                  </a:lnTo>
                  <a:lnTo>
                    <a:pt x="192" y="241"/>
                  </a:lnTo>
                  <a:lnTo>
                    <a:pt x="198" y="213"/>
                  </a:lnTo>
                  <a:lnTo>
                    <a:pt x="209" y="188"/>
                  </a:lnTo>
                  <a:lnTo>
                    <a:pt x="225" y="165"/>
                  </a:lnTo>
                  <a:lnTo>
                    <a:pt x="246" y="148"/>
                  </a:lnTo>
                  <a:lnTo>
                    <a:pt x="272" y="133"/>
                  </a:lnTo>
                  <a:lnTo>
                    <a:pt x="304" y="123"/>
                  </a:lnTo>
                  <a:lnTo>
                    <a:pt x="342" y="119"/>
                  </a:lnTo>
                  <a:lnTo>
                    <a:pt x="318" y="136"/>
                  </a:lnTo>
                  <a:lnTo>
                    <a:pt x="300" y="156"/>
                  </a:lnTo>
                  <a:lnTo>
                    <a:pt x="292" y="175"/>
                  </a:lnTo>
                  <a:lnTo>
                    <a:pt x="288" y="192"/>
                  </a:lnTo>
                  <a:lnTo>
                    <a:pt x="289" y="210"/>
                  </a:lnTo>
                  <a:lnTo>
                    <a:pt x="292" y="228"/>
                  </a:lnTo>
                  <a:lnTo>
                    <a:pt x="299" y="244"/>
                  </a:lnTo>
                  <a:lnTo>
                    <a:pt x="307" y="257"/>
                  </a:lnTo>
                  <a:lnTo>
                    <a:pt x="320" y="269"/>
                  </a:lnTo>
                  <a:lnTo>
                    <a:pt x="340" y="279"/>
                  </a:lnTo>
                  <a:lnTo>
                    <a:pt x="368" y="290"/>
                  </a:lnTo>
                  <a:lnTo>
                    <a:pt x="396" y="301"/>
                  </a:lnTo>
                  <a:lnTo>
                    <a:pt x="424" y="314"/>
                  </a:lnTo>
                  <a:lnTo>
                    <a:pt x="448" y="332"/>
                  </a:lnTo>
                  <a:lnTo>
                    <a:pt x="467" y="354"/>
                  </a:lnTo>
                  <a:lnTo>
                    <a:pt x="475" y="382"/>
                  </a:lnTo>
                  <a:lnTo>
                    <a:pt x="484" y="361"/>
                  </a:lnTo>
                  <a:lnTo>
                    <a:pt x="494" y="346"/>
                  </a:lnTo>
                  <a:lnTo>
                    <a:pt x="504" y="335"/>
                  </a:lnTo>
                  <a:lnTo>
                    <a:pt x="513" y="326"/>
                  </a:lnTo>
                  <a:lnTo>
                    <a:pt x="521" y="318"/>
                  </a:lnTo>
                  <a:lnTo>
                    <a:pt x="531" y="309"/>
                  </a:lnTo>
                  <a:lnTo>
                    <a:pt x="540" y="298"/>
                  </a:lnTo>
                  <a:lnTo>
                    <a:pt x="550" y="285"/>
                  </a:lnTo>
                  <a:lnTo>
                    <a:pt x="555" y="271"/>
                  </a:lnTo>
                  <a:lnTo>
                    <a:pt x="548" y="257"/>
                  </a:lnTo>
                  <a:lnTo>
                    <a:pt x="536" y="242"/>
                  </a:lnTo>
                  <a:lnTo>
                    <a:pt x="524" y="225"/>
                  </a:lnTo>
                  <a:lnTo>
                    <a:pt x="516" y="204"/>
                  </a:lnTo>
                  <a:lnTo>
                    <a:pt x="520" y="180"/>
                  </a:lnTo>
                  <a:lnTo>
                    <a:pt x="536" y="149"/>
                  </a:lnTo>
                  <a:lnTo>
                    <a:pt x="571" y="111"/>
                  </a:lnTo>
                  <a:lnTo>
                    <a:pt x="612" y="75"/>
                  </a:lnTo>
                  <a:lnTo>
                    <a:pt x="646" y="51"/>
                  </a:lnTo>
                  <a:lnTo>
                    <a:pt x="672" y="35"/>
                  </a:lnTo>
                  <a:lnTo>
                    <a:pt x="691" y="27"/>
                  </a:lnTo>
                  <a:lnTo>
                    <a:pt x="704" y="24"/>
                  </a:lnTo>
                  <a:lnTo>
                    <a:pt x="712" y="24"/>
                  </a:lnTo>
                  <a:lnTo>
                    <a:pt x="715" y="26"/>
                  </a:lnTo>
                  <a:lnTo>
                    <a:pt x="716" y="27"/>
                  </a:lnTo>
                  <a:lnTo>
                    <a:pt x="699" y="38"/>
                  </a:lnTo>
                  <a:lnTo>
                    <a:pt x="684" y="53"/>
                  </a:lnTo>
                  <a:lnTo>
                    <a:pt x="672" y="67"/>
                  </a:lnTo>
                  <a:lnTo>
                    <a:pt x="662" y="83"/>
                  </a:lnTo>
                  <a:lnTo>
                    <a:pt x="656" y="99"/>
                  </a:lnTo>
                  <a:lnTo>
                    <a:pt x="654" y="117"/>
                  </a:lnTo>
                  <a:lnTo>
                    <a:pt x="659" y="131"/>
                  </a:lnTo>
                  <a:lnTo>
                    <a:pt x="668" y="146"/>
                  </a:lnTo>
                  <a:lnTo>
                    <a:pt x="683" y="160"/>
                  </a:lnTo>
                  <a:lnTo>
                    <a:pt x="699" y="176"/>
                  </a:lnTo>
                  <a:lnTo>
                    <a:pt x="713" y="196"/>
                  </a:lnTo>
                  <a:lnTo>
                    <a:pt x="726" y="216"/>
                  </a:lnTo>
                  <a:lnTo>
                    <a:pt x="736" y="239"/>
                  </a:lnTo>
                  <a:lnTo>
                    <a:pt x="737" y="263"/>
                  </a:lnTo>
                  <a:lnTo>
                    <a:pt x="732" y="287"/>
                  </a:lnTo>
                  <a:lnTo>
                    <a:pt x="716" y="313"/>
                  </a:lnTo>
                  <a:lnTo>
                    <a:pt x="700" y="337"/>
                  </a:lnTo>
                  <a:lnTo>
                    <a:pt x="692" y="358"/>
                  </a:lnTo>
                  <a:lnTo>
                    <a:pt x="692" y="375"/>
                  </a:lnTo>
                  <a:lnTo>
                    <a:pt x="697" y="391"/>
                  </a:lnTo>
                  <a:lnTo>
                    <a:pt x="708" y="406"/>
                  </a:lnTo>
                  <a:lnTo>
                    <a:pt x="724" y="419"/>
                  </a:lnTo>
                  <a:lnTo>
                    <a:pt x="744" y="431"/>
                  </a:lnTo>
                  <a:lnTo>
                    <a:pt x="766" y="444"/>
                  </a:lnTo>
                  <a:lnTo>
                    <a:pt x="760" y="430"/>
                  </a:lnTo>
                  <a:lnTo>
                    <a:pt x="758" y="420"/>
                  </a:lnTo>
                  <a:lnTo>
                    <a:pt x="760" y="411"/>
                  </a:lnTo>
                  <a:lnTo>
                    <a:pt x="766" y="404"/>
                  </a:lnTo>
                  <a:lnTo>
                    <a:pt x="774" y="396"/>
                  </a:lnTo>
                  <a:lnTo>
                    <a:pt x="787" y="390"/>
                  </a:lnTo>
                  <a:lnTo>
                    <a:pt x="803" y="380"/>
                  </a:lnTo>
                  <a:lnTo>
                    <a:pt x="822" y="369"/>
                  </a:lnTo>
                  <a:lnTo>
                    <a:pt x="841" y="353"/>
                  </a:lnTo>
                  <a:lnTo>
                    <a:pt x="856" y="334"/>
                  </a:lnTo>
                  <a:lnTo>
                    <a:pt x="867" y="311"/>
                  </a:lnTo>
                  <a:lnTo>
                    <a:pt x="873" y="289"/>
                  </a:lnTo>
                  <a:lnTo>
                    <a:pt x="876" y="266"/>
                  </a:lnTo>
                  <a:lnTo>
                    <a:pt x="876" y="244"/>
                  </a:lnTo>
                  <a:lnTo>
                    <a:pt x="872" y="225"/>
                  </a:lnTo>
                  <a:lnTo>
                    <a:pt x="864" y="208"/>
                  </a:lnTo>
                  <a:lnTo>
                    <a:pt x="889" y="220"/>
                  </a:lnTo>
                  <a:lnTo>
                    <a:pt x="913" y="234"/>
                  </a:lnTo>
                  <a:lnTo>
                    <a:pt x="934" y="253"/>
                  </a:lnTo>
                  <a:lnTo>
                    <a:pt x="953" y="276"/>
                  </a:lnTo>
                  <a:lnTo>
                    <a:pt x="968" y="300"/>
                  </a:lnTo>
                  <a:lnTo>
                    <a:pt x="977" y="326"/>
                  </a:lnTo>
                  <a:lnTo>
                    <a:pt x="980" y="351"/>
                  </a:lnTo>
                  <a:lnTo>
                    <a:pt x="979" y="375"/>
                  </a:lnTo>
                  <a:lnTo>
                    <a:pt x="1004" y="362"/>
                  </a:lnTo>
                  <a:lnTo>
                    <a:pt x="1035" y="348"/>
                  </a:lnTo>
                  <a:lnTo>
                    <a:pt x="1064" y="332"/>
                  </a:lnTo>
                  <a:lnTo>
                    <a:pt x="1089" y="309"/>
                  </a:lnTo>
                  <a:lnTo>
                    <a:pt x="1107" y="282"/>
                  </a:lnTo>
                  <a:lnTo>
                    <a:pt x="1113" y="247"/>
                  </a:lnTo>
                  <a:lnTo>
                    <a:pt x="1107" y="202"/>
                  </a:lnTo>
                  <a:lnTo>
                    <a:pt x="1083" y="146"/>
                  </a:lnTo>
                  <a:lnTo>
                    <a:pt x="1112" y="160"/>
                  </a:lnTo>
                  <a:lnTo>
                    <a:pt x="1140" y="181"/>
                  </a:lnTo>
                  <a:lnTo>
                    <a:pt x="1166" y="208"/>
                  </a:lnTo>
                  <a:lnTo>
                    <a:pt x="1187" y="242"/>
                  </a:lnTo>
                  <a:lnTo>
                    <a:pt x="1201" y="281"/>
                  </a:lnTo>
                  <a:lnTo>
                    <a:pt x="1206" y="322"/>
                  </a:lnTo>
                  <a:lnTo>
                    <a:pt x="1200" y="369"/>
                  </a:lnTo>
                  <a:lnTo>
                    <a:pt x="1180" y="417"/>
                  </a:lnTo>
                  <a:lnTo>
                    <a:pt x="1200" y="393"/>
                  </a:lnTo>
                  <a:lnTo>
                    <a:pt x="1217" y="370"/>
                  </a:lnTo>
                  <a:lnTo>
                    <a:pt x="1232" y="353"/>
                  </a:lnTo>
                  <a:lnTo>
                    <a:pt x="1244" y="335"/>
                  </a:lnTo>
                  <a:lnTo>
                    <a:pt x="1257" y="321"/>
                  </a:lnTo>
                  <a:lnTo>
                    <a:pt x="1270" y="308"/>
                  </a:lnTo>
                  <a:lnTo>
                    <a:pt x="1284" y="297"/>
                  </a:lnTo>
                  <a:lnTo>
                    <a:pt x="1299" y="285"/>
                  </a:lnTo>
                  <a:lnTo>
                    <a:pt x="1313" y="271"/>
                  </a:lnTo>
                  <a:lnTo>
                    <a:pt x="1323" y="249"/>
                  </a:lnTo>
                  <a:lnTo>
                    <a:pt x="1329" y="221"/>
                  </a:lnTo>
                  <a:lnTo>
                    <a:pt x="1329" y="194"/>
                  </a:lnTo>
                  <a:lnTo>
                    <a:pt x="1326" y="167"/>
                  </a:lnTo>
                  <a:lnTo>
                    <a:pt x="1316" y="143"/>
                  </a:lnTo>
                  <a:lnTo>
                    <a:pt x="1300" y="127"/>
                  </a:lnTo>
                  <a:lnTo>
                    <a:pt x="1278" y="119"/>
                  </a:lnTo>
                  <a:lnTo>
                    <a:pt x="1308" y="120"/>
                  </a:lnTo>
                  <a:lnTo>
                    <a:pt x="1337" y="131"/>
                  </a:lnTo>
                  <a:lnTo>
                    <a:pt x="1364" y="151"/>
                  </a:lnTo>
                  <a:lnTo>
                    <a:pt x="1384" y="178"/>
                  </a:lnTo>
                  <a:lnTo>
                    <a:pt x="1395" y="213"/>
                  </a:lnTo>
                  <a:lnTo>
                    <a:pt x="1392" y="255"/>
                  </a:lnTo>
                  <a:lnTo>
                    <a:pt x="1372" y="301"/>
                  </a:lnTo>
                  <a:lnTo>
                    <a:pt x="1334" y="354"/>
                  </a:lnTo>
                  <a:lnTo>
                    <a:pt x="1360" y="350"/>
                  </a:lnTo>
                  <a:lnTo>
                    <a:pt x="1387" y="334"/>
                  </a:lnTo>
                  <a:lnTo>
                    <a:pt x="1414" y="309"/>
                  </a:lnTo>
                  <a:lnTo>
                    <a:pt x="1436" y="281"/>
                  </a:lnTo>
                  <a:lnTo>
                    <a:pt x="1452" y="247"/>
                  </a:lnTo>
                  <a:lnTo>
                    <a:pt x="1459" y="212"/>
                  </a:lnTo>
                  <a:lnTo>
                    <a:pt x="1452" y="175"/>
                  </a:lnTo>
                  <a:lnTo>
                    <a:pt x="1430" y="140"/>
                  </a:lnTo>
                  <a:lnTo>
                    <a:pt x="1448" y="148"/>
                  </a:lnTo>
                  <a:lnTo>
                    <a:pt x="1462" y="157"/>
                  </a:lnTo>
                  <a:lnTo>
                    <a:pt x="1475" y="172"/>
                  </a:lnTo>
                  <a:lnTo>
                    <a:pt x="1484" y="186"/>
                  </a:lnTo>
                  <a:lnTo>
                    <a:pt x="1491" y="200"/>
                  </a:lnTo>
                  <a:lnTo>
                    <a:pt x="1496" y="212"/>
                  </a:lnTo>
                  <a:lnTo>
                    <a:pt x="1499" y="220"/>
                  </a:lnTo>
                  <a:lnTo>
                    <a:pt x="1500" y="223"/>
                  </a:lnTo>
                  <a:lnTo>
                    <a:pt x="1513" y="189"/>
                  </a:lnTo>
                  <a:lnTo>
                    <a:pt x="1534" y="159"/>
                  </a:lnTo>
                  <a:lnTo>
                    <a:pt x="1561" y="133"/>
                  </a:lnTo>
                  <a:lnTo>
                    <a:pt x="1588" y="109"/>
                  </a:lnTo>
                  <a:lnTo>
                    <a:pt x="1612" y="85"/>
                  </a:lnTo>
                  <a:lnTo>
                    <a:pt x="1632" y="59"/>
                  </a:lnTo>
                  <a:lnTo>
                    <a:pt x="1643" y="32"/>
                  </a:lnTo>
                  <a:lnTo>
                    <a:pt x="1640" y="0"/>
                  </a:lnTo>
                  <a:lnTo>
                    <a:pt x="1651" y="22"/>
                  </a:lnTo>
                  <a:lnTo>
                    <a:pt x="1657" y="42"/>
                  </a:lnTo>
                  <a:lnTo>
                    <a:pt x="1659" y="59"/>
                  </a:lnTo>
                  <a:lnTo>
                    <a:pt x="1657" y="79"/>
                  </a:lnTo>
                  <a:lnTo>
                    <a:pt x="1651" y="99"/>
                  </a:lnTo>
                  <a:lnTo>
                    <a:pt x="1638" y="123"/>
                  </a:lnTo>
                  <a:lnTo>
                    <a:pt x="1620" y="152"/>
                  </a:lnTo>
                  <a:lnTo>
                    <a:pt x="1598" y="188"/>
                  </a:lnTo>
                  <a:lnTo>
                    <a:pt x="1587" y="223"/>
                  </a:lnTo>
                  <a:lnTo>
                    <a:pt x="1584" y="269"/>
                  </a:lnTo>
                  <a:lnTo>
                    <a:pt x="1587" y="322"/>
                  </a:lnTo>
                  <a:lnTo>
                    <a:pt x="1587" y="375"/>
                  </a:lnTo>
                  <a:lnTo>
                    <a:pt x="1577" y="423"/>
                  </a:lnTo>
                  <a:lnTo>
                    <a:pt x="1555" y="462"/>
                  </a:lnTo>
                  <a:lnTo>
                    <a:pt x="1513" y="486"/>
                  </a:lnTo>
                  <a:lnTo>
                    <a:pt x="1444" y="487"/>
                  </a:lnTo>
                  <a:lnTo>
                    <a:pt x="1441" y="523"/>
                  </a:lnTo>
                  <a:lnTo>
                    <a:pt x="1433" y="561"/>
                  </a:lnTo>
                  <a:lnTo>
                    <a:pt x="1419" y="600"/>
                  </a:lnTo>
                  <a:lnTo>
                    <a:pt x="1398" y="632"/>
                  </a:lnTo>
                  <a:lnTo>
                    <a:pt x="1366" y="657"/>
                  </a:lnTo>
                  <a:lnTo>
                    <a:pt x="1323" y="672"/>
                  </a:lnTo>
                  <a:lnTo>
                    <a:pt x="1267" y="670"/>
                  </a:lnTo>
                  <a:lnTo>
                    <a:pt x="1195" y="653"/>
                  </a:lnTo>
                  <a:lnTo>
                    <a:pt x="1179" y="665"/>
                  </a:lnTo>
                  <a:lnTo>
                    <a:pt x="1160" y="678"/>
                  </a:lnTo>
                  <a:lnTo>
                    <a:pt x="1139" y="690"/>
                  </a:lnTo>
                  <a:lnTo>
                    <a:pt x="1118" y="699"/>
                  </a:lnTo>
                  <a:lnTo>
                    <a:pt x="1096" y="709"/>
                  </a:lnTo>
                  <a:lnTo>
                    <a:pt x="1073" y="715"/>
                  </a:lnTo>
                  <a:lnTo>
                    <a:pt x="1051" y="722"/>
                  </a:lnTo>
                  <a:lnTo>
                    <a:pt x="1028" y="725"/>
                  </a:lnTo>
                  <a:lnTo>
                    <a:pt x="1006" y="726"/>
                  </a:lnTo>
                  <a:lnTo>
                    <a:pt x="985" y="725"/>
                  </a:lnTo>
                  <a:lnTo>
                    <a:pt x="964" y="720"/>
                  </a:lnTo>
                  <a:lnTo>
                    <a:pt x="947" y="712"/>
                  </a:lnTo>
                  <a:lnTo>
                    <a:pt x="931" y="702"/>
                  </a:lnTo>
                  <a:lnTo>
                    <a:pt x="916" y="686"/>
                  </a:lnTo>
                  <a:lnTo>
                    <a:pt x="905" y="669"/>
                  </a:lnTo>
                  <a:lnTo>
                    <a:pt x="897" y="646"/>
                  </a:lnTo>
                  <a:lnTo>
                    <a:pt x="886" y="659"/>
                  </a:lnTo>
                  <a:lnTo>
                    <a:pt x="872" y="674"/>
                  </a:lnTo>
                  <a:lnTo>
                    <a:pt x="854" y="688"/>
                  </a:lnTo>
                  <a:lnTo>
                    <a:pt x="835" y="701"/>
                  </a:lnTo>
                  <a:lnTo>
                    <a:pt x="814" y="712"/>
                  </a:lnTo>
                  <a:lnTo>
                    <a:pt x="792" y="723"/>
                  </a:lnTo>
                  <a:lnTo>
                    <a:pt x="768" y="733"/>
                  </a:lnTo>
                  <a:lnTo>
                    <a:pt x="742" y="739"/>
                  </a:lnTo>
                  <a:lnTo>
                    <a:pt x="716" y="742"/>
                  </a:lnTo>
                  <a:lnTo>
                    <a:pt x="689" y="742"/>
                  </a:lnTo>
                  <a:lnTo>
                    <a:pt x="662" y="738"/>
                  </a:lnTo>
                  <a:lnTo>
                    <a:pt x="635" y="730"/>
                  </a:lnTo>
                  <a:lnTo>
                    <a:pt x="608" y="715"/>
                  </a:lnTo>
                  <a:lnTo>
                    <a:pt x="580" y="696"/>
                  </a:lnTo>
                  <a:lnTo>
                    <a:pt x="555" y="672"/>
                  </a:lnTo>
                  <a:lnTo>
                    <a:pt x="529" y="640"/>
                  </a:lnTo>
                  <a:lnTo>
                    <a:pt x="515" y="643"/>
                  </a:lnTo>
                  <a:lnTo>
                    <a:pt x="499" y="646"/>
                  </a:lnTo>
                  <a:lnTo>
                    <a:pt x="481" y="649"/>
                  </a:lnTo>
                  <a:lnTo>
                    <a:pt x="464" y="654"/>
                  </a:lnTo>
                  <a:lnTo>
                    <a:pt x="444" y="657"/>
                  </a:lnTo>
                  <a:lnTo>
                    <a:pt x="425" y="661"/>
                  </a:lnTo>
                  <a:lnTo>
                    <a:pt x="406" y="662"/>
                  </a:lnTo>
                  <a:lnTo>
                    <a:pt x="387" y="662"/>
                  </a:lnTo>
                  <a:lnTo>
                    <a:pt x="366" y="662"/>
                  </a:lnTo>
                  <a:lnTo>
                    <a:pt x="347" y="659"/>
                  </a:lnTo>
                  <a:lnTo>
                    <a:pt x="329" y="654"/>
                  </a:lnTo>
                  <a:lnTo>
                    <a:pt x="312" y="646"/>
                  </a:lnTo>
                  <a:lnTo>
                    <a:pt x="294" y="637"/>
                  </a:lnTo>
                  <a:lnTo>
                    <a:pt x="280" y="622"/>
                  </a:lnTo>
                  <a:lnTo>
                    <a:pt x="265" y="605"/>
                  </a:lnTo>
                  <a:lnTo>
                    <a:pt x="252" y="584"/>
                  </a:lnTo>
                  <a:close/>
                </a:path>
              </a:pathLst>
            </a:custGeom>
            <a:solidFill>
              <a:srgbClr val="ffa245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40560" y="1967040"/>
              <a:ext cx="541080" cy="626760"/>
            </a:xfrm>
            <a:custGeom>
              <a:avLst/>
              <a:gdLst/>
              <a:ahLst/>
              <a:rect l="l" t="t" r="r" b="b"/>
              <a:pathLst>
                <a:path w="198" h="228">
                  <a:moveTo>
                    <a:pt x="78" y="228"/>
                  </a:moveTo>
                  <a:lnTo>
                    <a:pt x="34" y="205"/>
                  </a:lnTo>
                  <a:lnTo>
                    <a:pt x="10" y="181"/>
                  </a:lnTo>
                  <a:lnTo>
                    <a:pt x="0" y="154"/>
                  </a:lnTo>
                  <a:lnTo>
                    <a:pt x="2" y="127"/>
                  </a:lnTo>
                  <a:lnTo>
                    <a:pt x="11" y="96"/>
                  </a:lnTo>
                  <a:lnTo>
                    <a:pt x="22" y="66"/>
                  </a:lnTo>
                  <a:lnTo>
                    <a:pt x="32" y="34"/>
                  </a:lnTo>
                  <a:lnTo>
                    <a:pt x="37" y="0"/>
                  </a:lnTo>
                  <a:lnTo>
                    <a:pt x="50" y="11"/>
                  </a:lnTo>
                  <a:lnTo>
                    <a:pt x="62" y="27"/>
                  </a:lnTo>
                  <a:lnTo>
                    <a:pt x="74" y="43"/>
                  </a:lnTo>
                  <a:lnTo>
                    <a:pt x="83" y="62"/>
                  </a:lnTo>
                  <a:lnTo>
                    <a:pt x="90" y="85"/>
                  </a:lnTo>
                  <a:lnTo>
                    <a:pt x="94" y="107"/>
                  </a:lnTo>
                  <a:lnTo>
                    <a:pt x="98" y="131"/>
                  </a:lnTo>
                  <a:lnTo>
                    <a:pt x="96" y="155"/>
                  </a:lnTo>
                  <a:lnTo>
                    <a:pt x="106" y="143"/>
                  </a:lnTo>
                  <a:lnTo>
                    <a:pt x="118" y="130"/>
                  </a:lnTo>
                  <a:lnTo>
                    <a:pt x="136" y="115"/>
                  </a:lnTo>
                  <a:lnTo>
                    <a:pt x="154" y="99"/>
                  </a:lnTo>
                  <a:lnTo>
                    <a:pt x="170" y="85"/>
                  </a:lnTo>
                  <a:lnTo>
                    <a:pt x="184" y="67"/>
                  </a:lnTo>
                  <a:lnTo>
                    <a:pt x="194" y="50"/>
                  </a:lnTo>
                  <a:lnTo>
                    <a:pt x="197" y="30"/>
                  </a:lnTo>
                  <a:lnTo>
                    <a:pt x="198" y="56"/>
                  </a:lnTo>
                  <a:lnTo>
                    <a:pt x="195" y="82"/>
                  </a:lnTo>
                  <a:lnTo>
                    <a:pt x="189" y="107"/>
                  </a:lnTo>
                  <a:lnTo>
                    <a:pt x="179" y="131"/>
                  </a:lnTo>
                  <a:lnTo>
                    <a:pt x="162" y="157"/>
                  </a:lnTo>
                  <a:lnTo>
                    <a:pt x="141" y="181"/>
                  </a:lnTo>
                  <a:lnTo>
                    <a:pt x="112" y="205"/>
                  </a:lnTo>
                  <a:lnTo>
                    <a:pt x="78" y="228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94280" y="1774800"/>
              <a:ext cx="411120" cy="554040"/>
            </a:xfrm>
            <a:custGeom>
              <a:avLst/>
              <a:gdLst/>
              <a:ahLst/>
              <a:rect l="l" t="t" r="r" b="b"/>
              <a:pathLst>
                <a:path w="150" h="202">
                  <a:moveTo>
                    <a:pt x="150" y="193"/>
                  </a:moveTo>
                  <a:lnTo>
                    <a:pt x="131" y="196"/>
                  </a:lnTo>
                  <a:lnTo>
                    <a:pt x="110" y="201"/>
                  </a:lnTo>
                  <a:lnTo>
                    <a:pt x="90" y="202"/>
                  </a:lnTo>
                  <a:lnTo>
                    <a:pt x="69" y="201"/>
                  </a:lnTo>
                  <a:lnTo>
                    <a:pt x="48" y="196"/>
                  </a:lnTo>
                  <a:lnTo>
                    <a:pt x="30" y="185"/>
                  </a:lnTo>
                  <a:lnTo>
                    <a:pt x="14" y="167"/>
                  </a:lnTo>
                  <a:lnTo>
                    <a:pt x="5" y="140"/>
                  </a:lnTo>
                  <a:lnTo>
                    <a:pt x="0" y="111"/>
                  </a:lnTo>
                  <a:lnTo>
                    <a:pt x="0" y="89"/>
                  </a:lnTo>
                  <a:lnTo>
                    <a:pt x="3" y="69"/>
                  </a:lnTo>
                  <a:lnTo>
                    <a:pt x="8" y="53"/>
                  </a:lnTo>
                  <a:lnTo>
                    <a:pt x="13" y="39"/>
                  </a:lnTo>
                  <a:lnTo>
                    <a:pt x="14" y="26"/>
                  </a:lnTo>
                  <a:lnTo>
                    <a:pt x="13" y="13"/>
                  </a:lnTo>
                  <a:lnTo>
                    <a:pt x="5" y="0"/>
                  </a:lnTo>
                  <a:lnTo>
                    <a:pt x="18" y="8"/>
                  </a:lnTo>
                  <a:lnTo>
                    <a:pt x="27" y="18"/>
                  </a:lnTo>
                  <a:lnTo>
                    <a:pt x="38" y="29"/>
                  </a:lnTo>
                  <a:lnTo>
                    <a:pt x="46" y="44"/>
                  </a:lnTo>
                  <a:lnTo>
                    <a:pt x="53" y="58"/>
                  </a:lnTo>
                  <a:lnTo>
                    <a:pt x="56" y="76"/>
                  </a:lnTo>
                  <a:lnTo>
                    <a:pt x="59" y="93"/>
                  </a:lnTo>
                  <a:lnTo>
                    <a:pt x="59" y="113"/>
                  </a:lnTo>
                  <a:lnTo>
                    <a:pt x="61" y="129"/>
                  </a:lnTo>
                  <a:lnTo>
                    <a:pt x="69" y="141"/>
                  </a:lnTo>
                  <a:lnTo>
                    <a:pt x="80" y="149"/>
                  </a:lnTo>
                  <a:lnTo>
                    <a:pt x="94" y="156"/>
                  </a:lnTo>
                  <a:lnTo>
                    <a:pt x="109" y="162"/>
                  </a:lnTo>
                  <a:lnTo>
                    <a:pt x="125" y="170"/>
                  </a:lnTo>
                  <a:lnTo>
                    <a:pt x="139" y="180"/>
                  </a:lnTo>
                  <a:lnTo>
                    <a:pt x="150" y="193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589800" y="1900080"/>
              <a:ext cx="453960" cy="567000"/>
            </a:xfrm>
            <a:custGeom>
              <a:avLst/>
              <a:gdLst/>
              <a:ahLst/>
              <a:rect l="l" t="t" r="r" b="b"/>
              <a:pathLst>
                <a:path w="167" h="205">
                  <a:moveTo>
                    <a:pt x="0" y="192"/>
                  </a:moveTo>
                  <a:lnTo>
                    <a:pt x="15" y="200"/>
                  </a:lnTo>
                  <a:lnTo>
                    <a:pt x="34" y="205"/>
                  </a:lnTo>
                  <a:lnTo>
                    <a:pt x="56" y="205"/>
                  </a:lnTo>
                  <a:lnTo>
                    <a:pt x="79" y="200"/>
                  </a:lnTo>
                  <a:lnTo>
                    <a:pt x="101" y="192"/>
                  </a:lnTo>
                  <a:lnTo>
                    <a:pt x="120" y="178"/>
                  </a:lnTo>
                  <a:lnTo>
                    <a:pt x="135" y="157"/>
                  </a:lnTo>
                  <a:lnTo>
                    <a:pt x="143" y="128"/>
                  </a:lnTo>
                  <a:lnTo>
                    <a:pt x="148" y="74"/>
                  </a:lnTo>
                  <a:lnTo>
                    <a:pt x="149" y="38"/>
                  </a:lnTo>
                  <a:lnTo>
                    <a:pt x="154" y="16"/>
                  </a:lnTo>
                  <a:lnTo>
                    <a:pt x="167" y="0"/>
                  </a:lnTo>
                  <a:lnTo>
                    <a:pt x="148" y="5"/>
                  </a:lnTo>
                  <a:lnTo>
                    <a:pt x="130" y="14"/>
                  </a:lnTo>
                  <a:lnTo>
                    <a:pt x="116" y="26"/>
                  </a:lnTo>
                  <a:lnTo>
                    <a:pt x="101" y="42"/>
                  </a:lnTo>
                  <a:lnTo>
                    <a:pt x="90" y="58"/>
                  </a:lnTo>
                  <a:lnTo>
                    <a:pt x="79" y="78"/>
                  </a:lnTo>
                  <a:lnTo>
                    <a:pt x="71" y="99"/>
                  </a:lnTo>
                  <a:lnTo>
                    <a:pt x="63" y="122"/>
                  </a:lnTo>
                  <a:lnTo>
                    <a:pt x="56" y="143"/>
                  </a:lnTo>
                  <a:lnTo>
                    <a:pt x="52" y="159"/>
                  </a:lnTo>
                  <a:lnTo>
                    <a:pt x="47" y="170"/>
                  </a:lnTo>
                  <a:lnTo>
                    <a:pt x="40" y="178"/>
                  </a:lnTo>
                  <a:lnTo>
                    <a:pt x="34" y="184"/>
                  </a:lnTo>
                  <a:lnTo>
                    <a:pt x="26" y="189"/>
                  </a:lnTo>
                  <a:lnTo>
                    <a:pt x="15" y="19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307280" y="1868400"/>
              <a:ext cx="404640" cy="482760"/>
            </a:xfrm>
            <a:custGeom>
              <a:avLst/>
              <a:gdLst/>
              <a:ahLst/>
              <a:rect l="l" t="t" r="r" b="b"/>
              <a:pathLst>
                <a:path w="149" h="174">
                  <a:moveTo>
                    <a:pt x="0" y="174"/>
                  </a:moveTo>
                  <a:lnTo>
                    <a:pt x="15" y="174"/>
                  </a:lnTo>
                  <a:lnTo>
                    <a:pt x="31" y="173"/>
                  </a:lnTo>
                  <a:lnTo>
                    <a:pt x="47" y="170"/>
                  </a:lnTo>
                  <a:lnTo>
                    <a:pt x="63" y="163"/>
                  </a:lnTo>
                  <a:lnTo>
                    <a:pt x="79" y="154"/>
                  </a:lnTo>
                  <a:lnTo>
                    <a:pt x="91" y="142"/>
                  </a:lnTo>
                  <a:lnTo>
                    <a:pt x="99" y="126"/>
                  </a:lnTo>
                  <a:lnTo>
                    <a:pt x="104" y="107"/>
                  </a:lnTo>
                  <a:lnTo>
                    <a:pt x="109" y="69"/>
                  </a:lnTo>
                  <a:lnTo>
                    <a:pt x="120" y="35"/>
                  </a:lnTo>
                  <a:lnTo>
                    <a:pt x="133" y="11"/>
                  </a:lnTo>
                  <a:lnTo>
                    <a:pt x="149" y="0"/>
                  </a:lnTo>
                  <a:lnTo>
                    <a:pt x="133" y="1"/>
                  </a:lnTo>
                  <a:lnTo>
                    <a:pt x="112" y="6"/>
                  </a:lnTo>
                  <a:lnTo>
                    <a:pt x="91" y="14"/>
                  </a:lnTo>
                  <a:lnTo>
                    <a:pt x="69" y="25"/>
                  </a:lnTo>
                  <a:lnTo>
                    <a:pt x="48" y="40"/>
                  </a:lnTo>
                  <a:lnTo>
                    <a:pt x="31" y="57"/>
                  </a:lnTo>
                  <a:lnTo>
                    <a:pt x="18" y="75"/>
                  </a:lnTo>
                  <a:lnTo>
                    <a:pt x="10" y="94"/>
                  </a:lnTo>
                  <a:lnTo>
                    <a:pt x="7" y="125"/>
                  </a:lnTo>
                  <a:lnTo>
                    <a:pt x="7" y="146"/>
                  </a:lnTo>
                  <a:lnTo>
                    <a:pt x="5" y="16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24400" y="1697040"/>
              <a:ext cx="236520" cy="43488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86" y="157"/>
                  </a:moveTo>
                  <a:lnTo>
                    <a:pt x="74" y="152"/>
                  </a:lnTo>
                  <a:lnTo>
                    <a:pt x="61" y="148"/>
                  </a:lnTo>
                  <a:lnTo>
                    <a:pt x="48" y="141"/>
                  </a:lnTo>
                  <a:lnTo>
                    <a:pt x="37" y="132"/>
                  </a:lnTo>
                  <a:lnTo>
                    <a:pt x="26" y="114"/>
                  </a:lnTo>
                  <a:lnTo>
                    <a:pt x="14" y="88"/>
                  </a:lnTo>
                  <a:lnTo>
                    <a:pt x="6" y="51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34" y="23"/>
                  </a:lnTo>
                  <a:lnTo>
                    <a:pt x="46" y="34"/>
                  </a:lnTo>
                  <a:lnTo>
                    <a:pt x="58" y="47"/>
                  </a:lnTo>
                  <a:lnTo>
                    <a:pt x="67" y="64"/>
                  </a:lnTo>
                  <a:lnTo>
                    <a:pt x="75" y="88"/>
                  </a:lnTo>
                  <a:lnTo>
                    <a:pt x="82" y="117"/>
                  </a:lnTo>
                  <a:lnTo>
                    <a:pt x="86" y="157"/>
                  </a:lnTo>
                  <a:close/>
                </a:path>
              </a:pathLst>
            </a:custGeom>
            <a:solidFill>
              <a:srgbClr val="ffe500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6095880" y="4968720"/>
            <a:ext cx="2514600" cy="1143000"/>
            <a:chOff x="6095880" y="4968720"/>
            <a:chExt cx="2514600" cy="1143000"/>
          </a:xfrm>
        </p:grpSpPr>
        <p:sp>
          <p:nvSpPr>
            <p:cNvPr id="795" name=""/>
            <p:cNvSpPr/>
            <p:nvPr/>
          </p:nvSpPr>
          <p:spPr>
            <a:xfrm>
              <a:off x="6095880" y="4968720"/>
              <a:ext cx="2514600" cy="1143000"/>
            </a:xfrm>
            <a:custGeom>
              <a:avLst/>
              <a:gdLst/>
              <a:ahLst/>
              <a:rect l="l" t="t" r="r" b="b"/>
              <a:pathLst>
                <a:path w="3667" h="1903">
                  <a:moveTo>
                    <a:pt x="0" y="1903"/>
                  </a:moveTo>
                  <a:lnTo>
                    <a:pt x="169" y="1660"/>
                  </a:lnTo>
                  <a:lnTo>
                    <a:pt x="381" y="1470"/>
                  </a:lnTo>
                  <a:lnTo>
                    <a:pt x="616" y="1404"/>
                  </a:lnTo>
                  <a:lnTo>
                    <a:pt x="682" y="1155"/>
                  </a:lnTo>
                  <a:lnTo>
                    <a:pt x="882" y="951"/>
                  </a:lnTo>
                  <a:lnTo>
                    <a:pt x="1151" y="951"/>
                  </a:lnTo>
                  <a:lnTo>
                    <a:pt x="1282" y="862"/>
                  </a:lnTo>
                  <a:lnTo>
                    <a:pt x="1372" y="638"/>
                  </a:lnTo>
                  <a:lnTo>
                    <a:pt x="1575" y="394"/>
                  </a:lnTo>
                  <a:lnTo>
                    <a:pt x="1684" y="56"/>
                  </a:lnTo>
                  <a:lnTo>
                    <a:pt x="1885" y="99"/>
                  </a:lnTo>
                  <a:lnTo>
                    <a:pt x="2120" y="0"/>
                  </a:lnTo>
                  <a:lnTo>
                    <a:pt x="2187" y="122"/>
                  </a:lnTo>
                  <a:lnTo>
                    <a:pt x="2315" y="215"/>
                  </a:lnTo>
                  <a:lnTo>
                    <a:pt x="2424" y="462"/>
                  </a:lnTo>
                  <a:lnTo>
                    <a:pt x="2643" y="601"/>
                  </a:lnTo>
                  <a:lnTo>
                    <a:pt x="2754" y="850"/>
                  </a:lnTo>
                  <a:lnTo>
                    <a:pt x="2997" y="985"/>
                  </a:lnTo>
                  <a:lnTo>
                    <a:pt x="3053" y="1288"/>
                  </a:lnTo>
                  <a:lnTo>
                    <a:pt x="3502" y="1614"/>
                  </a:lnTo>
                  <a:lnTo>
                    <a:pt x="3667" y="1903"/>
                  </a:lnTo>
                  <a:lnTo>
                    <a:pt x="0" y="1903"/>
                  </a:lnTo>
                  <a:close/>
                </a:path>
              </a:pathLst>
            </a:custGeom>
            <a:solidFill>
              <a:srgbClr val="a0a0a0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7606800" y="5095800"/>
              <a:ext cx="582120" cy="793440"/>
              <a:chOff x="7606800" y="5095800"/>
              <a:chExt cx="582120" cy="793440"/>
            </a:xfrm>
          </p:grpSpPr>
          <p:sp>
            <p:nvSpPr>
              <p:cNvPr id="797" name=""/>
              <p:cNvSpPr/>
              <p:nvPr/>
            </p:nvSpPr>
            <p:spPr>
              <a:xfrm>
                <a:off x="7606800" y="5095800"/>
                <a:ext cx="168120" cy="264960"/>
              </a:xfrm>
              <a:custGeom>
                <a:avLst/>
                <a:gdLst/>
                <a:ahLst/>
                <a:rect l="l" t="t" r="r" b="b"/>
                <a:pathLst>
                  <a:path w="245" h="441">
                    <a:moveTo>
                      <a:pt x="110" y="0"/>
                    </a:moveTo>
                    <a:lnTo>
                      <a:pt x="80" y="166"/>
                    </a:lnTo>
                    <a:lnTo>
                      <a:pt x="110" y="249"/>
                    </a:lnTo>
                    <a:lnTo>
                      <a:pt x="28" y="331"/>
                    </a:lnTo>
                    <a:lnTo>
                      <a:pt x="0" y="441"/>
                    </a:lnTo>
                    <a:lnTo>
                      <a:pt x="135" y="412"/>
                    </a:lnTo>
                    <a:lnTo>
                      <a:pt x="135" y="359"/>
                    </a:lnTo>
                    <a:lnTo>
                      <a:pt x="245" y="412"/>
                    </a:lnTo>
                    <a:lnTo>
                      <a:pt x="219" y="249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20560" y="5324760"/>
                <a:ext cx="262800" cy="300240"/>
              </a:xfrm>
              <a:custGeom>
                <a:avLst/>
                <a:gdLst/>
                <a:ahLst/>
                <a:rect l="l" t="t" r="r" b="b"/>
                <a:pathLst>
                  <a:path w="385" h="499">
                    <a:moveTo>
                      <a:pt x="274" y="0"/>
                    </a:moveTo>
                    <a:lnTo>
                      <a:pt x="385" y="251"/>
                    </a:lnTo>
                    <a:lnTo>
                      <a:pt x="274" y="279"/>
                    </a:lnTo>
                    <a:lnTo>
                      <a:pt x="165" y="415"/>
                    </a:lnTo>
                    <a:lnTo>
                      <a:pt x="81" y="335"/>
                    </a:lnTo>
                    <a:lnTo>
                      <a:pt x="0" y="499"/>
                    </a:lnTo>
                    <a:lnTo>
                      <a:pt x="0" y="251"/>
                    </a:lnTo>
                    <a:lnTo>
                      <a:pt x="165" y="224"/>
                    </a:lnTo>
                    <a:lnTo>
                      <a:pt x="192" y="59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27200" y="5559120"/>
                <a:ext cx="261720" cy="330120"/>
              </a:xfrm>
              <a:custGeom>
                <a:avLst/>
                <a:gdLst/>
                <a:ahLst/>
                <a:rect l="l" t="t" r="r" b="b"/>
                <a:pathLst>
                  <a:path w="382" h="551">
                    <a:moveTo>
                      <a:pt x="326" y="0"/>
                    </a:moveTo>
                    <a:lnTo>
                      <a:pt x="163" y="54"/>
                    </a:lnTo>
                    <a:lnTo>
                      <a:pt x="163" y="249"/>
                    </a:lnTo>
                    <a:lnTo>
                      <a:pt x="53" y="221"/>
                    </a:lnTo>
                    <a:lnTo>
                      <a:pt x="0" y="384"/>
                    </a:lnTo>
                    <a:lnTo>
                      <a:pt x="137" y="414"/>
                    </a:lnTo>
                    <a:lnTo>
                      <a:pt x="216" y="551"/>
                    </a:lnTo>
                    <a:lnTo>
                      <a:pt x="302" y="384"/>
                    </a:lnTo>
                    <a:lnTo>
                      <a:pt x="382" y="445"/>
                    </a:lnTo>
                    <a:lnTo>
                      <a:pt x="382" y="305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4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00" name="" descr=""/>
          <p:cNvPicPr/>
          <p:nvPr/>
        </p:nvPicPr>
        <p:blipFill>
          <a:blip r:embed="rId6"/>
          <a:stretch/>
        </p:blipFill>
        <p:spPr>
          <a:xfrm>
            <a:off x="6994440" y="4740120"/>
            <a:ext cx="1077840" cy="538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019920" y="60357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Times New Roman"/>
              </a:rPr>
              <a:t>מֵהַר הַמִּשְׁחָה לְסַרְטְבָא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91120" y="579132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00"/>
                </a:solidFill>
                <a:latin typeface="Times New Roman"/>
              </a:rPr>
              <a:t>וּמִסַּרְטְבָא לִגְרוֹפִינָ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548640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00"/>
                </a:solidFill>
                <a:latin typeface="Times New Roman"/>
              </a:rPr>
              <a:t>וּמִגְּרוֹפִינָא לְחַוְרָ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371600" y="4724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00"/>
                </a:solidFill>
                <a:latin typeface="Times New Roman"/>
              </a:rPr>
              <a:t>וּמֵחַוְרָן לְבֵית בִּלְתִּי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320" y="3962520"/>
            <a:ext cx="2514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00"/>
                </a:solidFill>
                <a:latin typeface="Times New Roman"/>
              </a:rPr>
              <a:t>וּמִבֵּית בִּלְתִּין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e-IL" sz="2200" spc="-1" strike="noStrike">
                <a:solidFill>
                  <a:srgbClr val="000000"/>
                </a:solidFill>
                <a:latin typeface="Times New Roman"/>
              </a:rPr>
              <a:t>לֹא זָזוּ מִשָּׁ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8600" y="533520"/>
            <a:ext cx="3429000" cy="2666880"/>
          </a:xfrm>
          <a:prstGeom prst="irregularSeal2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267080" y="2514600"/>
            <a:ext cx="342900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עַד שֶׁהָיָה רוֹאֶה כָל הַגּוֹלָה לְפָנָיו כִּמְדוּרַת הָאֵש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9962000">
            <a:off x="485640" y="151776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Times New Roman"/>
              </a:rPr>
              <a:t>אלא מוליך ומביא ומעלה ומורי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28600" y="6172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(ע”פ מסכת ראש השנה פרק ב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876560" y="4572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00"/>
                </a:solidFill>
                <a:latin typeface="Times New Roman"/>
              </a:rPr>
              <a:t>מי שאמר “הריני נזיר</a:t>
            </a:r>
            <a:r>
              <a:rPr b="1" i="1" lang="he-IL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95480" y="10666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00"/>
                </a:solidFill>
                <a:latin typeface="Times New Roman"/>
              </a:rPr>
              <a:t>ושמע חברו ואמר “ואני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20001600">
            <a:off x="287280" y="1117080"/>
            <a:ext cx="27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66"/>
                </a:solidFill>
                <a:latin typeface="Times New Roman"/>
              </a:rPr>
              <a:t>הרי כולם נזיר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58000" y="1676520"/>
            <a:ext cx="1974960" cy="4267080"/>
            <a:chOff x="6858000" y="1676520"/>
            <a:chExt cx="1974960" cy="4267080"/>
          </a:xfrm>
        </p:grpSpPr>
        <p:grpSp>
          <p:nvGrpSpPr>
            <p:cNvPr id="814" name=""/>
            <p:cNvGrpSpPr/>
            <p:nvPr/>
          </p:nvGrpSpPr>
          <p:grpSpPr>
            <a:xfrm>
              <a:off x="6858000" y="1676520"/>
              <a:ext cx="1974960" cy="2422440"/>
              <a:chOff x="6858000" y="1676520"/>
              <a:chExt cx="1974960" cy="2422440"/>
            </a:xfrm>
          </p:grpSpPr>
          <p:grpSp>
            <p:nvGrpSpPr>
              <p:cNvPr id="815" name=""/>
              <p:cNvGrpSpPr/>
              <p:nvPr/>
            </p:nvGrpSpPr>
            <p:grpSpPr>
              <a:xfrm>
                <a:off x="6858000" y="1676520"/>
                <a:ext cx="1974960" cy="2422440"/>
                <a:chOff x="6858000" y="1676520"/>
                <a:chExt cx="1974960" cy="2422440"/>
              </a:xfrm>
            </p:grpSpPr>
            <p:grpSp>
              <p:nvGrpSpPr>
                <p:cNvPr id="816" name=""/>
                <p:cNvGrpSpPr/>
                <p:nvPr/>
              </p:nvGrpSpPr>
              <p:grpSpPr>
                <a:xfrm>
                  <a:off x="6858000" y="1801800"/>
                  <a:ext cx="923760" cy="2297160"/>
                  <a:chOff x="6858000" y="1801800"/>
                  <a:chExt cx="923760" cy="22971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>
                    <a:off x="7018200" y="1917720"/>
                    <a:ext cx="5335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653">
                        <a:moveTo>
                          <a:pt x="205" y="276"/>
                        </a:moveTo>
                        <a:lnTo>
                          <a:pt x="264" y="189"/>
                        </a:lnTo>
                        <a:lnTo>
                          <a:pt x="330" y="123"/>
                        </a:lnTo>
                        <a:lnTo>
                          <a:pt x="395" y="44"/>
                        </a:lnTo>
                        <a:lnTo>
                          <a:pt x="475" y="7"/>
                        </a:lnTo>
                        <a:lnTo>
                          <a:pt x="541" y="0"/>
                        </a:lnTo>
                        <a:lnTo>
                          <a:pt x="606" y="23"/>
                        </a:lnTo>
                        <a:lnTo>
                          <a:pt x="644" y="73"/>
                        </a:lnTo>
                        <a:lnTo>
                          <a:pt x="672" y="167"/>
                        </a:lnTo>
                        <a:lnTo>
                          <a:pt x="665" y="269"/>
                        </a:lnTo>
                        <a:lnTo>
                          <a:pt x="636" y="356"/>
                        </a:lnTo>
                        <a:lnTo>
                          <a:pt x="563" y="457"/>
                        </a:lnTo>
                        <a:lnTo>
                          <a:pt x="483" y="529"/>
                        </a:lnTo>
                        <a:lnTo>
                          <a:pt x="395" y="595"/>
                        </a:lnTo>
                        <a:lnTo>
                          <a:pt x="300" y="638"/>
                        </a:lnTo>
                        <a:lnTo>
                          <a:pt x="219" y="653"/>
                        </a:lnTo>
                        <a:lnTo>
                          <a:pt x="183" y="630"/>
                        </a:lnTo>
                        <a:lnTo>
                          <a:pt x="154" y="543"/>
                        </a:lnTo>
                        <a:lnTo>
                          <a:pt x="162" y="427"/>
                        </a:lnTo>
                        <a:lnTo>
                          <a:pt x="22" y="435"/>
                        </a:lnTo>
                        <a:lnTo>
                          <a:pt x="0" y="413"/>
                        </a:lnTo>
                        <a:lnTo>
                          <a:pt x="22" y="370"/>
                        </a:lnTo>
                        <a:lnTo>
                          <a:pt x="169" y="363"/>
                        </a:lnTo>
                        <a:lnTo>
                          <a:pt x="205" y="2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7208280" y="2465640"/>
                    <a:ext cx="368280" cy="76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962">
                        <a:moveTo>
                          <a:pt x="130" y="80"/>
                        </a:moveTo>
                        <a:lnTo>
                          <a:pt x="196" y="22"/>
                        </a:lnTo>
                        <a:lnTo>
                          <a:pt x="298" y="0"/>
                        </a:lnTo>
                        <a:lnTo>
                          <a:pt x="385" y="14"/>
                        </a:lnTo>
                        <a:lnTo>
                          <a:pt x="451" y="73"/>
                        </a:lnTo>
                        <a:lnTo>
                          <a:pt x="465" y="116"/>
                        </a:lnTo>
                        <a:lnTo>
                          <a:pt x="465" y="175"/>
                        </a:lnTo>
                        <a:lnTo>
                          <a:pt x="435" y="226"/>
                        </a:lnTo>
                        <a:lnTo>
                          <a:pt x="385" y="313"/>
                        </a:lnTo>
                        <a:lnTo>
                          <a:pt x="363" y="415"/>
                        </a:lnTo>
                        <a:lnTo>
                          <a:pt x="356" y="503"/>
                        </a:lnTo>
                        <a:lnTo>
                          <a:pt x="378" y="597"/>
                        </a:lnTo>
                        <a:lnTo>
                          <a:pt x="435" y="685"/>
                        </a:lnTo>
                        <a:lnTo>
                          <a:pt x="458" y="772"/>
                        </a:lnTo>
                        <a:lnTo>
                          <a:pt x="451" y="853"/>
                        </a:lnTo>
                        <a:lnTo>
                          <a:pt x="407" y="918"/>
                        </a:lnTo>
                        <a:lnTo>
                          <a:pt x="349" y="955"/>
                        </a:lnTo>
                        <a:lnTo>
                          <a:pt x="276" y="962"/>
                        </a:lnTo>
                        <a:lnTo>
                          <a:pt x="189" y="962"/>
                        </a:lnTo>
                        <a:lnTo>
                          <a:pt x="123" y="926"/>
                        </a:lnTo>
                        <a:lnTo>
                          <a:pt x="59" y="816"/>
                        </a:lnTo>
                        <a:lnTo>
                          <a:pt x="14" y="721"/>
                        </a:lnTo>
                        <a:lnTo>
                          <a:pt x="0" y="576"/>
                        </a:lnTo>
                        <a:lnTo>
                          <a:pt x="14" y="445"/>
                        </a:lnTo>
                        <a:lnTo>
                          <a:pt x="43" y="306"/>
                        </a:lnTo>
                        <a:lnTo>
                          <a:pt x="87" y="168"/>
                        </a:lnTo>
                        <a:lnTo>
                          <a:pt x="130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>
                    <a:off x="6875280" y="2489400"/>
                    <a:ext cx="409680" cy="68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18" h="863">
                        <a:moveTo>
                          <a:pt x="0" y="43"/>
                        </a:moveTo>
                        <a:lnTo>
                          <a:pt x="9" y="7"/>
                        </a:lnTo>
                        <a:lnTo>
                          <a:pt x="88" y="0"/>
                        </a:lnTo>
                        <a:lnTo>
                          <a:pt x="132" y="36"/>
                        </a:lnTo>
                        <a:lnTo>
                          <a:pt x="198" y="130"/>
                        </a:lnTo>
                        <a:lnTo>
                          <a:pt x="286" y="253"/>
                        </a:lnTo>
                        <a:lnTo>
                          <a:pt x="365" y="341"/>
                        </a:lnTo>
                        <a:lnTo>
                          <a:pt x="511" y="500"/>
                        </a:lnTo>
                        <a:lnTo>
                          <a:pt x="518" y="537"/>
                        </a:lnTo>
                        <a:lnTo>
                          <a:pt x="490" y="558"/>
                        </a:lnTo>
                        <a:lnTo>
                          <a:pt x="417" y="587"/>
                        </a:lnTo>
                        <a:lnTo>
                          <a:pt x="315" y="609"/>
                        </a:lnTo>
                        <a:lnTo>
                          <a:pt x="191" y="617"/>
                        </a:lnTo>
                        <a:lnTo>
                          <a:pt x="147" y="624"/>
                        </a:lnTo>
                        <a:lnTo>
                          <a:pt x="132" y="653"/>
                        </a:lnTo>
                        <a:lnTo>
                          <a:pt x="161" y="703"/>
                        </a:lnTo>
                        <a:lnTo>
                          <a:pt x="263" y="790"/>
                        </a:lnTo>
                        <a:lnTo>
                          <a:pt x="336" y="812"/>
                        </a:lnTo>
                        <a:lnTo>
                          <a:pt x="351" y="841"/>
                        </a:lnTo>
                        <a:lnTo>
                          <a:pt x="322" y="863"/>
                        </a:lnTo>
                        <a:lnTo>
                          <a:pt x="256" y="863"/>
                        </a:lnTo>
                        <a:lnTo>
                          <a:pt x="168" y="812"/>
                        </a:lnTo>
                        <a:lnTo>
                          <a:pt x="96" y="740"/>
                        </a:lnTo>
                        <a:lnTo>
                          <a:pt x="52" y="674"/>
                        </a:lnTo>
                        <a:lnTo>
                          <a:pt x="52" y="624"/>
                        </a:lnTo>
                        <a:lnTo>
                          <a:pt x="81" y="587"/>
                        </a:lnTo>
                        <a:lnTo>
                          <a:pt x="125" y="573"/>
                        </a:lnTo>
                        <a:lnTo>
                          <a:pt x="191" y="565"/>
                        </a:lnTo>
                        <a:lnTo>
                          <a:pt x="263" y="565"/>
                        </a:lnTo>
                        <a:lnTo>
                          <a:pt x="351" y="551"/>
                        </a:lnTo>
                        <a:lnTo>
                          <a:pt x="395" y="537"/>
                        </a:lnTo>
                        <a:lnTo>
                          <a:pt x="417" y="514"/>
                        </a:lnTo>
                        <a:lnTo>
                          <a:pt x="409" y="493"/>
                        </a:lnTo>
                        <a:lnTo>
                          <a:pt x="343" y="435"/>
                        </a:lnTo>
                        <a:lnTo>
                          <a:pt x="241" y="334"/>
                        </a:lnTo>
                        <a:lnTo>
                          <a:pt x="147" y="246"/>
                        </a:lnTo>
                        <a:lnTo>
                          <a:pt x="45" y="152"/>
                        </a:lnTo>
                        <a:lnTo>
                          <a:pt x="9" y="86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7103520" y="3065760"/>
                    <a:ext cx="446040" cy="10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562" h="1302">
                        <a:moveTo>
                          <a:pt x="277" y="0"/>
                        </a:moveTo>
                        <a:lnTo>
                          <a:pt x="357" y="15"/>
                        </a:lnTo>
                        <a:lnTo>
                          <a:pt x="393" y="73"/>
                        </a:lnTo>
                        <a:lnTo>
                          <a:pt x="386" y="211"/>
                        </a:lnTo>
                        <a:lnTo>
                          <a:pt x="372" y="356"/>
                        </a:lnTo>
                        <a:lnTo>
                          <a:pt x="372" y="509"/>
                        </a:lnTo>
                        <a:lnTo>
                          <a:pt x="445" y="691"/>
                        </a:lnTo>
                        <a:lnTo>
                          <a:pt x="503" y="822"/>
                        </a:lnTo>
                        <a:lnTo>
                          <a:pt x="533" y="952"/>
                        </a:lnTo>
                        <a:lnTo>
                          <a:pt x="525" y="1068"/>
                        </a:lnTo>
                        <a:lnTo>
                          <a:pt x="525" y="1112"/>
                        </a:lnTo>
                        <a:lnTo>
                          <a:pt x="554" y="1156"/>
                        </a:lnTo>
                        <a:lnTo>
                          <a:pt x="562" y="1200"/>
                        </a:lnTo>
                        <a:lnTo>
                          <a:pt x="540" y="1221"/>
                        </a:lnTo>
                        <a:lnTo>
                          <a:pt x="481" y="1207"/>
                        </a:lnTo>
                        <a:lnTo>
                          <a:pt x="372" y="1193"/>
                        </a:lnTo>
                        <a:lnTo>
                          <a:pt x="241" y="1221"/>
                        </a:lnTo>
                        <a:lnTo>
                          <a:pt x="153" y="1273"/>
                        </a:lnTo>
                        <a:lnTo>
                          <a:pt x="109" y="1302"/>
                        </a:lnTo>
                        <a:lnTo>
                          <a:pt x="65" y="1302"/>
                        </a:lnTo>
                        <a:lnTo>
                          <a:pt x="0" y="1207"/>
                        </a:lnTo>
                        <a:lnTo>
                          <a:pt x="7" y="1193"/>
                        </a:lnTo>
                        <a:lnTo>
                          <a:pt x="139" y="1148"/>
                        </a:lnTo>
                        <a:lnTo>
                          <a:pt x="291" y="1127"/>
                        </a:lnTo>
                        <a:lnTo>
                          <a:pt x="401" y="1120"/>
                        </a:lnTo>
                        <a:lnTo>
                          <a:pt x="467" y="1120"/>
                        </a:lnTo>
                        <a:lnTo>
                          <a:pt x="481" y="1075"/>
                        </a:lnTo>
                        <a:lnTo>
                          <a:pt x="459" y="952"/>
                        </a:lnTo>
                        <a:lnTo>
                          <a:pt x="408" y="822"/>
                        </a:lnTo>
                        <a:lnTo>
                          <a:pt x="327" y="654"/>
                        </a:lnTo>
                        <a:lnTo>
                          <a:pt x="262" y="509"/>
                        </a:lnTo>
                        <a:lnTo>
                          <a:pt x="234" y="379"/>
                        </a:lnTo>
                        <a:lnTo>
                          <a:pt x="225" y="233"/>
                        </a:lnTo>
                        <a:lnTo>
                          <a:pt x="225" y="95"/>
                        </a:lnTo>
                        <a:lnTo>
                          <a:pt x="255" y="36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>
                    <a:off x="7400520" y="3092400"/>
                    <a:ext cx="368280" cy="8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1087">
                        <a:moveTo>
                          <a:pt x="349" y="0"/>
                        </a:moveTo>
                        <a:lnTo>
                          <a:pt x="415" y="0"/>
                        </a:lnTo>
                        <a:lnTo>
                          <a:pt x="436" y="43"/>
                        </a:lnTo>
                        <a:lnTo>
                          <a:pt x="451" y="138"/>
                        </a:lnTo>
                        <a:lnTo>
                          <a:pt x="436" y="240"/>
                        </a:lnTo>
                        <a:lnTo>
                          <a:pt x="399" y="444"/>
                        </a:lnTo>
                        <a:lnTo>
                          <a:pt x="407" y="532"/>
                        </a:lnTo>
                        <a:lnTo>
                          <a:pt x="451" y="707"/>
                        </a:lnTo>
                        <a:lnTo>
                          <a:pt x="465" y="831"/>
                        </a:lnTo>
                        <a:lnTo>
                          <a:pt x="465" y="926"/>
                        </a:lnTo>
                        <a:lnTo>
                          <a:pt x="443" y="948"/>
                        </a:lnTo>
                        <a:lnTo>
                          <a:pt x="378" y="963"/>
                        </a:lnTo>
                        <a:lnTo>
                          <a:pt x="291" y="984"/>
                        </a:lnTo>
                        <a:lnTo>
                          <a:pt x="203" y="1029"/>
                        </a:lnTo>
                        <a:lnTo>
                          <a:pt x="117" y="1087"/>
                        </a:lnTo>
                        <a:lnTo>
                          <a:pt x="80" y="1087"/>
                        </a:lnTo>
                        <a:lnTo>
                          <a:pt x="0" y="1021"/>
                        </a:lnTo>
                        <a:lnTo>
                          <a:pt x="7" y="992"/>
                        </a:lnTo>
                        <a:lnTo>
                          <a:pt x="109" y="948"/>
                        </a:lnTo>
                        <a:lnTo>
                          <a:pt x="283" y="904"/>
                        </a:lnTo>
                        <a:lnTo>
                          <a:pt x="363" y="875"/>
                        </a:lnTo>
                        <a:lnTo>
                          <a:pt x="378" y="846"/>
                        </a:lnTo>
                        <a:lnTo>
                          <a:pt x="378" y="721"/>
                        </a:lnTo>
                        <a:lnTo>
                          <a:pt x="349" y="562"/>
                        </a:lnTo>
                        <a:lnTo>
                          <a:pt x="335" y="458"/>
                        </a:lnTo>
                        <a:lnTo>
                          <a:pt x="319" y="299"/>
                        </a:lnTo>
                        <a:lnTo>
                          <a:pt x="312" y="123"/>
                        </a:lnTo>
                        <a:lnTo>
                          <a:pt x="319" y="43"/>
                        </a:lnTo>
                        <a:lnTo>
                          <a:pt x="3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>
                    <a:off x="6857640" y="1819440"/>
                    <a:ext cx="42516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6" h="637">
                        <a:moveTo>
                          <a:pt x="142" y="452"/>
                        </a:moveTo>
                        <a:lnTo>
                          <a:pt x="69" y="324"/>
                        </a:lnTo>
                        <a:lnTo>
                          <a:pt x="26" y="215"/>
                        </a:lnTo>
                        <a:lnTo>
                          <a:pt x="0" y="95"/>
                        </a:lnTo>
                        <a:lnTo>
                          <a:pt x="10" y="47"/>
                        </a:lnTo>
                        <a:lnTo>
                          <a:pt x="47" y="47"/>
                        </a:lnTo>
                        <a:lnTo>
                          <a:pt x="91" y="83"/>
                        </a:lnTo>
                        <a:lnTo>
                          <a:pt x="135" y="135"/>
                        </a:lnTo>
                        <a:lnTo>
                          <a:pt x="266" y="62"/>
                        </a:lnTo>
                        <a:lnTo>
                          <a:pt x="335" y="0"/>
                        </a:lnTo>
                        <a:lnTo>
                          <a:pt x="398" y="40"/>
                        </a:lnTo>
                        <a:lnTo>
                          <a:pt x="467" y="132"/>
                        </a:lnTo>
                        <a:lnTo>
                          <a:pt x="518" y="262"/>
                        </a:lnTo>
                        <a:lnTo>
                          <a:pt x="536" y="346"/>
                        </a:lnTo>
                        <a:lnTo>
                          <a:pt x="536" y="376"/>
                        </a:lnTo>
                        <a:lnTo>
                          <a:pt x="467" y="397"/>
                        </a:lnTo>
                        <a:lnTo>
                          <a:pt x="372" y="455"/>
                        </a:lnTo>
                        <a:lnTo>
                          <a:pt x="328" y="481"/>
                        </a:lnTo>
                        <a:lnTo>
                          <a:pt x="365" y="583"/>
                        </a:lnTo>
                        <a:lnTo>
                          <a:pt x="351" y="630"/>
                        </a:lnTo>
                        <a:lnTo>
                          <a:pt x="321" y="637"/>
                        </a:lnTo>
                        <a:lnTo>
                          <a:pt x="240" y="571"/>
                        </a:lnTo>
                        <a:lnTo>
                          <a:pt x="142" y="4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H="1">
                    <a:off x="7254720" y="1801800"/>
                    <a:ext cx="527040" cy="790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996">
                        <a:moveTo>
                          <a:pt x="408" y="996"/>
                        </a:moveTo>
                        <a:lnTo>
                          <a:pt x="445" y="952"/>
                        </a:lnTo>
                        <a:lnTo>
                          <a:pt x="431" y="888"/>
                        </a:lnTo>
                        <a:lnTo>
                          <a:pt x="401" y="800"/>
                        </a:lnTo>
                        <a:lnTo>
                          <a:pt x="292" y="698"/>
                        </a:lnTo>
                        <a:lnTo>
                          <a:pt x="182" y="604"/>
                        </a:lnTo>
                        <a:lnTo>
                          <a:pt x="132" y="502"/>
                        </a:lnTo>
                        <a:lnTo>
                          <a:pt x="109" y="342"/>
                        </a:lnTo>
                        <a:lnTo>
                          <a:pt x="234" y="299"/>
                        </a:lnTo>
                        <a:lnTo>
                          <a:pt x="431" y="277"/>
                        </a:lnTo>
                        <a:lnTo>
                          <a:pt x="510" y="284"/>
                        </a:lnTo>
                        <a:lnTo>
                          <a:pt x="533" y="306"/>
                        </a:lnTo>
                        <a:lnTo>
                          <a:pt x="569" y="270"/>
                        </a:lnTo>
                        <a:lnTo>
                          <a:pt x="555" y="233"/>
                        </a:lnTo>
                        <a:lnTo>
                          <a:pt x="591" y="138"/>
                        </a:lnTo>
                        <a:lnTo>
                          <a:pt x="606" y="102"/>
                        </a:lnTo>
                        <a:lnTo>
                          <a:pt x="635" y="44"/>
                        </a:lnTo>
                        <a:lnTo>
                          <a:pt x="664" y="44"/>
                        </a:lnTo>
                        <a:lnTo>
                          <a:pt x="664" y="15"/>
                        </a:lnTo>
                        <a:lnTo>
                          <a:pt x="606" y="0"/>
                        </a:lnTo>
                        <a:lnTo>
                          <a:pt x="569" y="66"/>
                        </a:lnTo>
                        <a:lnTo>
                          <a:pt x="519" y="161"/>
                        </a:lnTo>
                        <a:lnTo>
                          <a:pt x="453" y="204"/>
                        </a:lnTo>
                        <a:lnTo>
                          <a:pt x="351" y="218"/>
                        </a:lnTo>
                        <a:lnTo>
                          <a:pt x="168" y="240"/>
                        </a:lnTo>
                        <a:lnTo>
                          <a:pt x="22" y="284"/>
                        </a:lnTo>
                        <a:lnTo>
                          <a:pt x="0" y="320"/>
                        </a:lnTo>
                        <a:lnTo>
                          <a:pt x="14" y="436"/>
                        </a:lnTo>
                        <a:lnTo>
                          <a:pt x="66" y="597"/>
                        </a:lnTo>
                        <a:lnTo>
                          <a:pt x="139" y="727"/>
                        </a:lnTo>
                        <a:lnTo>
                          <a:pt x="211" y="843"/>
                        </a:lnTo>
                        <a:lnTo>
                          <a:pt x="277" y="924"/>
                        </a:lnTo>
                        <a:lnTo>
                          <a:pt x="343" y="982"/>
                        </a:lnTo>
                        <a:lnTo>
                          <a:pt x="408" y="99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4" name=""/>
                <p:cNvSpPr/>
                <p:nvPr/>
              </p:nvSpPr>
              <p:spPr>
                <a:xfrm>
                  <a:off x="7461360" y="1676520"/>
                  <a:ext cx="1371600" cy="533520"/>
                </a:xfrm>
                <a:prstGeom prst="wedgeEllipseCallout">
                  <a:avLst>
                    <a:gd name="adj1" fmla="val -49652"/>
                    <a:gd name="adj2" fmla="val 35712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400" spc="-1" strike="noStrike">
                      <a:solidFill>
                        <a:srgbClr val="000000"/>
                      </a:solidFill>
                      <a:latin typeface="Times New Roman"/>
                    </a:rPr>
                    <a:t>הריני נזיר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5" name=""/>
              <p:cNvSpPr/>
              <p:nvPr/>
            </p:nvSpPr>
            <p:spPr>
              <a:xfrm>
                <a:off x="7315200" y="2666880"/>
                <a:ext cx="228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800" spc="-1" strike="noStrike">
                    <a:solidFill>
                      <a:srgbClr val="ff0066"/>
                    </a:solidFill>
                    <a:latin typeface="Times New Roman"/>
                  </a:rPr>
                  <a:t>א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7695720" y="5562720"/>
              <a:ext cx="914760" cy="380880"/>
              <a:chOff x="7695720" y="5562720"/>
              <a:chExt cx="914760" cy="380880"/>
            </a:xfrm>
          </p:grpSpPr>
          <p:grpSp>
            <p:nvGrpSpPr>
              <p:cNvPr id="827" name=""/>
              <p:cNvGrpSpPr/>
              <p:nvPr/>
            </p:nvGrpSpPr>
            <p:grpSpPr>
              <a:xfrm>
                <a:off x="7695720" y="5562720"/>
                <a:ext cx="914760" cy="380880"/>
                <a:chOff x="7695720" y="5562720"/>
                <a:chExt cx="914760" cy="38088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8001000" y="5562720"/>
                  <a:ext cx="609480" cy="380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15328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>
                  <a:off x="769572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822960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2" name=""/>
          <p:cNvGrpSpPr/>
          <p:nvPr/>
        </p:nvGrpSpPr>
        <p:grpSpPr>
          <a:xfrm>
            <a:off x="5943600" y="2895480"/>
            <a:ext cx="1752480" cy="3048120"/>
            <a:chOff x="5943600" y="2895480"/>
            <a:chExt cx="1752480" cy="3048120"/>
          </a:xfrm>
        </p:grpSpPr>
        <p:grpSp>
          <p:nvGrpSpPr>
            <p:cNvPr id="833" name=""/>
            <p:cNvGrpSpPr/>
            <p:nvPr/>
          </p:nvGrpSpPr>
          <p:grpSpPr>
            <a:xfrm>
              <a:off x="5943600" y="2895480"/>
              <a:ext cx="1371240" cy="2209320"/>
              <a:chOff x="5943600" y="2895480"/>
              <a:chExt cx="1371240" cy="220932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5943600" y="3009960"/>
                <a:ext cx="830880" cy="2094840"/>
                <a:chOff x="5943600" y="3009960"/>
                <a:chExt cx="830880" cy="2094840"/>
              </a:xfrm>
            </p:grpSpPr>
            <p:sp>
              <p:nvSpPr>
                <p:cNvPr id="835" name=""/>
                <p:cNvSpPr/>
                <p:nvPr/>
              </p:nvSpPr>
              <p:spPr>
                <a:xfrm flipH="1">
                  <a:off x="6087240" y="3115440"/>
                  <a:ext cx="479880" cy="47196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6258960" y="3615120"/>
                  <a:ext cx="331200" cy="69444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>
                  <a:off x="5959080" y="3637080"/>
                  <a:ext cx="368640" cy="62352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>
                  <a:off x="6165000" y="4162680"/>
                  <a:ext cx="401040" cy="94212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6432120" y="4186800"/>
                  <a:ext cx="331200" cy="78768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5943600" y="3025800"/>
                  <a:ext cx="382320" cy="46188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6300000" y="3009960"/>
                  <a:ext cx="474120" cy="72072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>
                <a:off x="6486480" y="2895480"/>
                <a:ext cx="828360" cy="486360"/>
              </a:xfrm>
              <a:prstGeom prst="wedgeEllipseCallout">
                <a:avLst>
                  <a:gd name="adj1" fmla="val -47412"/>
                  <a:gd name="adj2" fmla="val 57143"/>
                </a:avLst>
              </a:prstGeom>
              <a:solidFill>
                <a:srgbClr val="00f8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</a:rPr>
                  <a:t>גם אנ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355080" y="3799080"/>
                <a:ext cx="2055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800" spc="-1" strike="noStrike">
                    <a:solidFill>
                      <a:srgbClr val="ff0066"/>
                    </a:solidFill>
                    <a:latin typeface="Times New Roman"/>
                  </a:rPr>
                  <a:t>ב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781320" y="5562720"/>
              <a:ext cx="914760" cy="380880"/>
              <a:chOff x="6781320" y="5562720"/>
              <a:chExt cx="914760" cy="38088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6781320" y="5562720"/>
                <a:ext cx="914760" cy="380880"/>
                <a:chOff x="6781320" y="5562720"/>
                <a:chExt cx="914760" cy="380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086600" y="5562720"/>
                  <a:ext cx="609480" cy="380880"/>
                </a:xfrm>
                <a:prstGeom prst="rect">
                  <a:avLst/>
                </a:prstGeom>
                <a:solidFill>
                  <a:srgbClr val="00f8b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23888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678132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9" name=""/>
              <p:cNvSpPr/>
              <p:nvPr/>
            </p:nvSpPr>
            <p:spPr>
              <a:xfrm>
                <a:off x="731520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0" name=""/>
          <p:cNvGrpSpPr/>
          <p:nvPr/>
        </p:nvGrpSpPr>
        <p:grpSpPr>
          <a:xfrm>
            <a:off x="4952880" y="2666880"/>
            <a:ext cx="1828800" cy="3276720"/>
            <a:chOff x="4952880" y="2666880"/>
            <a:chExt cx="1828800" cy="3276720"/>
          </a:xfrm>
        </p:grpSpPr>
        <p:grpSp>
          <p:nvGrpSpPr>
            <p:cNvPr id="851" name=""/>
            <p:cNvGrpSpPr/>
            <p:nvPr/>
          </p:nvGrpSpPr>
          <p:grpSpPr>
            <a:xfrm>
              <a:off x="4952880" y="2666880"/>
              <a:ext cx="1218960" cy="1980720"/>
              <a:chOff x="4952880" y="2666880"/>
              <a:chExt cx="1218960" cy="198072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4952880" y="2769480"/>
                <a:ext cx="738720" cy="1878120"/>
                <a:chOff x="4952880" y="2769480"/>
                <a:chExt cx="738720" cy="1878120"/>
              </a:xfrm>
            </p:grpSpPr>
            <p:sp>
              <p:nvSpPr>
                <p:cNvPr id="853" name=""/>
                <p:cNvSpPr/>
                <p:nvPr/>
              </p:nvSpPr>
              <p:spPr>
                <a:xfrm flipH="1">
                  <a:off x="5080680" y="2864160"/>
                  <a:ext cx="426600" cy="42300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5233320" y="3312000"/>
                  <a:ext cx="294480" cy="62280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4966560" y="3331440"/>
                  <a:ext cx="327600" cy="55908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5149080" y="3803040"/>
                  <a:ext cx="356760" cy="84456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>
                  <a:off x="5387040" y="3824640"/>
                  <a:ext cx="294480" cy="70596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>
                  <a:off x="4952880" y="2783880"/>
                  <a:ext cx="339840" cy="41400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5269680" y="2769480"/>
                  <a:ext cx="421560" cy="64620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" name=""/>
              <p:cNvSpPr/>
              <p:nvPr/>
            </p:nvSpPr>
            <p:spPr>
              <a:xfrm>
                <a:off x="5435280" y="2666880"/>
                <a:ext cx="736560" cy="435240"/>
              </a:xfrm>
              <a:prstGeom prst="wedgeEllipseCallout">
                <a:avLst>
                  <a:gd name="adj1" fmla="val -47412"/>
                  <a:gd name="adj2" fmla="val 57143"/>
                </a:avLst>
              </a:prstGeom>
              <a:solidFill>
                <a:srgbClr val="a3f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</a:rPr>
                  <a:t>גם אנ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223600" y="3486600"/>
                <a:ext cx="270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800" spc="-1" strike="noStrike">
                    <a:solidFill>
                      <a:srgbClr val="ff0066"/>
                    </a:solidFill>
                    <a:latin typeface="Times New Roman"/>
                  </a:rPr>
                  <a:t>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5866920" y="5562720"/>
              <a:ext cx="914760" cy="380880"/>
              <a:chOff x="5866920" y="5562720"/>
              <a:chExt cx="914760" cy="380880"/>
            </a:xfrm>
          </p:grpSpPr>
          <p:grpSp>
            <p:nvGrpSpPr>
              <p:cNvPr id="863" name=""/>
              <p:cNvGrpSpPr/>
              <p:nvPr/>
            </p:nvGrpSpPr>
            <p:grpSpPr>
              <a:xfrm>
                <a:off x="5866920" y="5562720"/>
                <a:ext cx="914760" cy="380880"/>
                <a:chOff x="5866920" y="5562720"/>
                <a:chExt cx="914760" cy="38088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6172200" y="5562720"/>
                  <a:ext cx="609480" cy="380880"/>
                </a:xfrm>
                <a:prstGeom prst="rect">
                  <a:avLst/>
                </a:prstGeom>
                <a:solidFill>
                  <a:srgbClr val="57ff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32448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586692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7" name=""/>
              <p:cNvSpPr/>
              <p:nvPr/>
            </p:nvSpPr>
            <p:spPr>
              <a:xfrm>
                <a:off x="640080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3962880" y="3276720"/>
            <a:ext cx="1904400" cy="2666880"/>
            <a:chOff x="3962880" y="3276720"/>
            <a:chExt cx="1904400" cy="2666880"/>
          </a:xfrm>
        </p:grpSpPr>
        <p:grpSp>
          <p:nvGrpSpPr>
            <p:cNvPr id="869" name=""/>
            <p:cNvGrpSpPr/>
            <p:nvPr/>
          </p:nvGrpSpPr>
          <p:grpSpPr>
            <a:xfrm>
              <a:off x="3962880" y="3276720"/>
              <a:ext cx="1065960" cy="1751760"/>
              <a:chOff x="3962880" y="3276720"/>
              <a:chExt cx="1065960" cy="175176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3962880" y="3367440"/>
                <a:ext cx="646200" cy="1661040"/>
                <a:chOff x="3962880" y="3367440"/>
                <a:chExt cx="646200" cy="1661040"/>
              </a:xfrm>
            </p:grpSpPr>
            <p:sp>
              <p:nvSpPr>
                <p:cNvPr id="871" name=""/>
                <p:cNvSpPr/>
                <p:nvPr/>
              </p:nvSpPr>
              <p:spPr>
                <a:xfrm flipH="1">
                  <a:off x="4074480" y="3450960"/>
                  <a:ext cx="373320" cy="37440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4208040" y="3847320"/>
                  <a:ext cx="257760" cy="55080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>
                  <a:off x="3974760" y="3864600"/>
                  <a:ext cx="286560" cy="49464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4134600" y="4281480"/>
                  <a:ext cx="312120" cy="74700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>
                  <a:off x="4342680" y="4300560"/>
                  <a:ext cx="257760" cy="62460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>
                  <a:off x="3962880" y="3380040"/>
                  <a:ext cx="297360" cy="36612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>
                  <a:off x="4240440" y="3367440"/>
                  <a:ext cx="368640" cy="57168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4384440" y="3276720"/>
                <a:ext cx="644400" cy="384840"/>
              </a:xfrm>
              <a:prstGeom prst="wedgeEllipseCallout">
                <a:avLst>
                  <a:gd name="adj1" fmla="val -47412"/>
                  <a:gd name="adj2" fmla="val 57143"/>
                </a:avLst>
              </a:prstGeom>
              <a:solidFill>
                <a:srgbClr val="a3f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200" spc="-1" strike="noStrike">
                    <a:solidFill>
                      <a:srgbClr val="000000"/>
                    </a:solidFill>
                    <a:latin typeface="Times New Roman"/>
                  </a:rPr>
                  <a:t>גם אני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99040" y="400176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800" spc="-1" strike="noStrike">
                    <a:solidFill>
                      <a:srgbClr val="ff0066"/>
                    </a:solidFill>
                    <a:latin typeface="Times New Roman"/>
                  </a:rPr>
                  <a:t>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4952520" y="5562720"/>
              <a:ext cx="914760" cy="380880"/>
              <a:chOff x="4952520" y="5562720"/>
              <a:chExt cx="914760" cy="380880"/>
            </a:xfrm>
          </p:grpSpPr>
          <p:grpSp>
            <p:nvGrpSpPr>
              <p:cNvPr id="881" name=""/>
              <p:cNvGrpSpPr/>
              <p:nvPr/>
            </p:nvGrpSpPr>
            <p:grpSpPr>
              <a:xfrm>
                <a:off x="4952520" y="5562720"/>
                <a:ext cx="914760" cy="380880"/>
                <a:chOff x="4952520" y="5562720"/>
                <a:chExt cx="914760" cy="38088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5257800" y="5562720"/>
                  <a:ext cx="609480" cy="380880"/>
                </a:xfrm>
                <a:prstGeom prst="rect">
                  <a:avLst/>
                </a:prstGeom>
                <a:solidFill>
                  <a:srgbClr val="57ff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41008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495252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548640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6" name=""/>
          <p:cNvGrpSpPr/>
          <p:nvPr/>
        </p:nvGrpSpPr>
        <p:grpSpPr>
          <a:xfrm>
            <a:off x="3352320" y="2971800"/>
            <a:ext cx="1600560" cy="2971800"/>
            <a:chOff x="3352320" y="2971800"/>
            <a:chExt cx="1600560" cy="2971800"/>
          </a:xfrm>
        </p:grpSpPr>
        <p:grpSp>
          <p:nvGrpSpPr>
            <p:cNvPr id="887" name=""/>
            <p:cNvGrpSpPr/>
            <p:nvPr/>
          </p:nvGrpSpPr>
          <p:grpSpPr>
            <a:xfrm>
              <a:off x="3352320" y="2971800"/>
              <a:ext cx="1067040" cy="1751760"/>
              <a:chOff x="3352320" y="2971800"/>
              <a:chExt cx="1067040" cy="1751760"/>
            </a:xfrm>
          </p:grpSpPr>
          <p:grpSp>
            <p:nvGrpSpPr>
              <p:cNvPr id="888" name=""/>
              <p:cNvGrpSpPr/>
              <p:nvPr/>
            </p:nvGrpSpPr>
            <p:grpSpPr>
              <a:xfrm>
                <a:off x="3352320" y="3062520"/>
                <a:ext cx="646920" cy="1661040"/>
                <a:chOff x="3352320" y="3062520"/>
                <a:chExt cx="646920" cy="1661040"/>
              </a:xfrm>
            </p:grpSpPr>
            <p:sp>
              <p:nvSpPr>
                <p:cNvPr id="889" name=""/>
                <p:cNvSpPr/>
                <p:nvPr/>
              </p:nvSpPr>
              <p:spPr>
                <a:xfrm flipH="1">
                  <a:off x="3464640" y="3146040"/>
                  <a:ext cx="373680" cy="37440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>
                  <a:off x="3598200" y="3542400"/>
                  <a:ext cx="257760" cy="55080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>
                  <a:off x="3364200" y="3559680"/>
                  <a:ext cx="286920" cy="49464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3524400" y="3976560"/>
                  <a:ext cx="312120" cy="74700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3732840" y="3995640"/>
                  <a:ext cx="257760" cy="62460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>
                  <a:off x="3351960" y="3075120"/>
                  <a:ext cx="297720" cy="36612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3629880" y="3062520"/>
                  <a:ext cx="369000" cy="57168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6" name=""/>
              <p:cNvSpPr/>
              <p:nvPr/>
            </p:nvSpPr>
            <p:spPr>
              <a:xfrm>
                <a:off x="3774960" y="2971800"/>
                <a:ext cx="644400" cy="384840"/>
              </a:xfrm>
              <a:prstGeom prst="wedgeEllipseCallout">
                <a:avLst>
                  <a:gd name="adj1" fmla="val -47412"/>
                  <a:gd name="adj2" fmla="val 57143"/>
                </a:avLst>
              </a:prstGeom>
              <a:solidFill>
                <a:srgbClr val="a3f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000" spc="-1" strike="noStrike">
                    <a:solidFill>
                      <a:srgbClr val="000000"/>
                    </a:solidFill>
                    <a:latin typeface="Times New Roman"/>
                  </a:rPr>
                  <a:t>גם אנ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589560" y="3696840"/>
                <a:ext cx="236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800" spc="-1" strike="noStrike">
                    <a:solidFill>
                      <a:srgbClr val="ff0066"/>
                    </a:solidFill>
                    <a:latin typeface="Times New Roman"/>
                  </a:rPr>
                  <a:t>ה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4038120" y="5562720"/>
              <a:ext cx="914760" cy="380880"/>
              <a:chOff x="4038120" y="5562720"/>
              <a:chExt cx="914760" cy="380880"/>
            </a:xfrm>
          </p:grpSpPr>
          <p:grpSp>
            <p:nvGrpSpPr>
              <p:cNvPr id="899" name=""/>
              <p:cNvGrpSpPr/>
              <p:nvPr/>
            </p:nvGrpSpPr>
            <p:grpSpPr>
              <a:xfrm>
                <a:off x="4038120" y="5562720"/>
                <a:ext cx="914760" cy="380880"/>
                <a:chOff x="4038120" y="5562720"/>
                <a:chExt cx="914760" cy="38088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4343400" y="5562720"/>
                  <a:ext cx="609480" cy="380880"/>
                </a:xfrm>
                <a:prstGeom prst="rect">
                  <a:avLst/>
                </a:prstGeom>
                <a:solidFill>
                  <a:srgbClr val="a3ffe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49568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403812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"/>
              <p:cNvSpPr/>
              <p:nvPr/>
            </p:nvSpPr>
            <p:spPr>
              <a:xfrm>
                <a:off x="457200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4" name=""/>
          <p:cNvGrpSpPr/>
          <p:nvPr/>
        </p:nvGrpSpPr>
        <p:grpSpPr>
          <a:xfrm>
            <a:off x="2895840" y="2590920"/>
            <a:ext cx="1066680" cy="3352680"/>
            <a:chOff x="2895840" y="2590920"/>
            <a:chExt cx="1066680" cy="3352680"/>
          </a:xfrm>
        </p:grpSpPr>
        <p:grpSp>
          <p:nvGrpSpPr>
            <p:cNvPr id="905" name=""/>
            <p:cNvGrpSpPr/>
            <p:nvPr/>
          </p:nvGrpSpPr>
          <p:grpSpPr>
            <a:xfrm>
              <a:off x="2895840" y="2590920"/>
              <a:ext cx="913680" cy="1599480"/>
              <a:chOff x="2895840" y="2590920"/>
              <a:chExt cx="913680" cy="159948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2895840" y="2673720"/>
                <a:ext cx="554040" cy="1516680"/>
                <a:chOff x="2895840" y="2673720"/>
                <a:chExt cx="554040" cy="1516680"/>
              </a:xfrm>
            </p:grpSpPr>
            <p:sp>
              <p:nvSpPr>
                <p:cNvPr id="907" name=""/>
                <p:cNvSpPr/>
                <p:nvPr/>
              </p:nvSpPr>
              <p:spPr>
                <a:xfrm flipH="1">
                  <a:off x="2991600" y="2750040"/>
                  <a:ext cx="320040" cy="34164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>
                  <a:off x="3106080" y="3111840"/>
                  <a:ext cx="221040" cy="50292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>
                  <a:off x="2905560" y="3127680"/>
                  <a:ext cx="245880" cy="45144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>
                  <a:off x="3043080" y="3508200"/>
                  <a:ext cx="267480" cy="68220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3221280" y="3525840"/>
                  <a:ext cx="221040" cy="57024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>
                  <a:off x="2895840" y="2685240"/>
                  <a:ext cx="254880" cy="33444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>
                  <a:off x="3133800" y="2673720"/>
                  <a:ext cx="316080" cy="52200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3257280" y="2590920"/>
                <a:ext cx="552240" cy="351360"/>
              </a:xfrm>
              <a:prstGeom prst="wedgeEllipseCallout">
                <a:avLst>
                  <a:gd name="adj1" fmla="val -47412"/>
                  <a:gd name="adj2" fmla="val 57143"/>
                </a:avLst>
              </a:prstGeom>
              <a:solidFill>
                <a:srgbClr val="a3f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Times New Roman"/>
                  </a:rPr>
                  <a:t>גם אנ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098520" y="3252960"/>
                <a:ext cx="203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800" spc="-1" strike="noStrike">
                    <a:solidFill>
                      <a:srgbClr val="ff0066"/>
                    </a:solidFill>
                    <a:latin typeface="Times New Roman"/>
                  </a:rPr>
                  <a:t>ו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3047760" y="5562720"/>
              <a:ext cx="914760" cy="380880"/>
              <a:chOff x="3047760" y="5562720"/>
              <a:chExt cx="914760" cy="380880"/>
            </a:xfrm>
          </p:grpSpPr>
          <p:grpSp>
            <p:nvGrpSpPr>
              <p:cNvPr id="917" name=""/>
              <p:cNvGrpSpPr/>
              <p:nvPr/>
            </p:nvGrpSpPr>
            <p:grpSpPr>
              <a:xfrm>
                <a:off x="3047760" y="5562720"/>
                <a:ext cx="914760" cy="380880"/>
                <a:chOff x="3047760" y="5562720"/>
                <a:chExt cx="914760" cy="38088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3353040" y="5562720"/>
                  <a:ext cx="609480" cy="380880"/>
                </a:xfrm>
                <a:prstGeom prst="rect">
                  <a:avLst/>
                </a:prstGeom>
                <a:solidFill>
                  <a:srgbClr val="a3ffe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50532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>
                  <a:off x="304776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358128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2" name=""/>
          <p:cNvGrpSpPr/>
          <p:nvPr/>
        </p:nvGrpSpPr>
        <p:grpSpPr>
          <a:xfrm>
            <a:off x="2133360" y="2362320"/>
            <a:ext cx="914760" cy="3581280"/>
            <a:chOff x="2133360" y="2362320"/>
            <a:chExt cx="914760" cy="3581280"/>
          </a:xfrm>
        </p:grpSpPr>
        <p:grpSp>
          <p:nvGrpSpPr>
            <p:cNvPr id="923" name=""/>
            <p:cNvGrpSpPr/>
            <p:nvPr/>
          </p:nvGrpSpPr>
          <p:grpSpPr>
            <a:xfrm>
              <a:off x="2286000" y="2362320"/>
              <a:ext cx="609480" cy="1370880"/>
              <a:chOff x="2286000" y="2362320"/>
              <a:chExt cx="609480" cy="137088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2286000" y="2433240"/>
                <a:ext cx="369360" cy="1299960"/>
                <a:chOff x="2286000" y="2433240"/>
                <a:chExt cx="369360" cy="1299960"/>
              </a:xfrm>
            </p:grpSpPr>
            <p:sp>
              <p:nvSpPr>
                <p:cNvPr id="925" name=""/>
                <p:cNvSpPr/>
                <p:nvPr/>
              </p:nvSpPr>
              <p:spPr>
                <a:xfrm flipH="1">
                  <a:off x="2350440" y="2498760"/>
                  <a:ext cx="213120" cy="29304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>
                  <a:off x="2426040" y="2808720"/>
                  <a:ext cx="147240" cy="43092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2292480" y="2822400"/>
                  <a:ext cx="163800" cy="38700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>
                  <a:off x="2384280" y="3148560"/>
                  <a:ext cx="178200" cy="58464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>
                  <a:off x="2502720" y="3163680"/>
                  <a:ext cx="147240" cy="48888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>
                  <a:off x="2286000" y="2442960"/>
                  <a:ext cx="169920" cy="28656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2444400" y="2433240"/>
                  <a:ext cx="210600" cy="44748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>
                <a:off x="2527200" y="2362320"/>
                <a:ext cx="368280" cy="302040"/>
              </a:xfrm>
              <a:prstGeom prst="wedgeEllipseCallout">
                <a:avLst>
                  <a:gd name="adj1" fmla="val -47412"/>
                  <a:gd name="adj2" fmla="val 57143"/>
                </a:avLst>
              </a:prstGeom>
              <a:solidFill>
                <a:srgbClr val="d1fff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Times New Roman"/>
                  </a:rPr>
                  <a:t>ואנ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421360" y="2929680"/>
                <a:ext cx="1364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800" spc="-1" strike="noStrike">
                    <a:solidFill>
                      <a:srgbClr val="ff0066"/>
                    </a:solidFill>
                    <a:latin typeface="Times New Roman"/>
                  </a:rPr>
                  <a:t>ז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2133360" y="5562720"/>
              <a:ext cx="914760" cy="380880"/>
              <a:chOff x="2133360" y="5562720"/>
              <a:chExt cx="914760" cy="38088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2133360" y="5562720"/>
                <a:ext cx="914760" cy="380880"/>
                <a:chOff x="2133360" y="5562720"/>
                <a:chExt cx="914760" cy="3808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2438640" y="5562720"/>
                  <a:ext cx="609480" cy="380880"/>
                </a:xfrm>
                <a:prstGeom prst="rect">
                  <a:avLst/>
                </a:prstGeom>
                <a:solidFill>
                  <a:srgbClr val="d1fff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59092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213336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9" name=""/>
              <p:cNvSpPr/>
              <p:nvPr/>
            </p:nvSpPr>
            <p:spPr>
              <a:xfrm>
                <a:off x="266688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ז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0" name=""/>
          <p:cNvGrpSpPr/>
          <p:nvPr/>
        </p:nvGrpSpPr>
        <p:grpSpPr>
          <a:xfrm>
            <a:off x="1218960" y="2133720"/>
            <a:ext cx="1143000" cy="3809880"/>
            <a:chOff x="1218960" y="2133720"/>
            <a:chExt cx="1143000" cy="3809880"/>
          </a:xfrm>
        </p:grpSpPr>
        <p:grpSp>
          <p:nvGrpSpPr>
            <p:cNvPr id="941" name=""/>
            <p:cNvGrpSpPr/>
            <p:nvPr/>
          </p:nvGrpSpPr>
          <p:grpSpPr>
            <a:xfrm>
              <a:off x="1752480" y="2133720"/>
              <a:ext cx="609480" cy="1370880"/>
              <a:chOff x="1752480" y="2133720"/>
              <a:chExt cx="609480" cy="137088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1752480" y="2204640"/>
                <a:ext cx="369360" cy="1299960"/>
                <a:chOff x="1752480" y="2204640"/>
                <a:chExt cx="369360" cy="1299960"/>
              </a:xfrm>
            </p:grpSpPr>
            <p:sp>
              <p:nvSpPr>
                <p:cNvPr id="943" name=""/>
                <p:cNvSpPr/>
                <p:nvPr/>
              </p:nvSpPr>
              <p:spPr>
                <a:xfrm flipH="1">
                  <a:off x="1816920" y="2270160"/>
                  <a:ext cx="213120" cy="29304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1892520" y="2580120"/>
                  <a:ext cx="147240" cy="43092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1758960" y="2593800"/>
                  <a:ext cx="163800" cy="38700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1850760" y="2919960"/>
                  <a:ext cx="178200" cy="58464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1969200" y="2935080"/>
                  <a:ext cx="147240" cy="48888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1752480" y="2214360"/>
                  <a:ext cx="169920" cy="28656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1910880" y="2204640"/>
                  <a:ext cx="210600" cy="44748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>
                <a:off x="1993680" y="2133720"/>
                <a:ext cx="368280" cy="302040"/>
              </a:xfrm>
              <a:prstGeom prst="wedgeEllipseCallout">
                <a:avLst>
                  <a:gd name="adj1" fmla="val -47412"/>
                  <a:gd name="adj2" fmla="val 57143"/>
                </a:avLst>
              </a:prstGeom>
              <a:solidFill>
                <a:srgbClr val="d1fff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1800" spc="-1" strike="noStrike">
                    <a:solidFill>
                      <a:srgbClr val="000000"/>
                    </a:solidFill>
                    <a:latin typeface="Times New Roman"/>
                  </a:rPr>
                  <a:t>ואנ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887840" y="2701080"/>
                <a:ext cx="1364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e-IL" sz="2800" spc="-1" strike="noStrike">
                    <a:solidFill>
                      <a:srgbClr val="ff0066"/>
                    </a:solidFill>
                    <a:latin typeface="Times New Roman"/>
                  </a:rPr>
                  <a:t>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1218960" y="5562720"/>
              <a:ext cx="914760" cy="380880"/>
              <a:chOff x="1218960" y="5562720"/>
              <a:chExt cx="914760" cy="38088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1218960" y="5562720"/>
                <a:ext cx="914760" cy="380880"/>
                <a:chOff x="1218960" y="5562720"/>
                <a:chExt cx="914760" cy="38088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1524240" y="5562720"/>
                  <a:ext cx="609480" cy="380880"/>
                </a:xfrm>
                <a:prstGeom prst="rect">
                  <a:avLst/>
                </a:prstGeom>
                <a:solidFill>
                  <a:srgbClr val="d1fff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67652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121896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7" name=""/>
              <p:cNvSpPr/>
              <p:nvPr/>
            </p:nvSpPr>
            <p:spPr>
              <a:xfrm>
                <a:off x="175248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304560" y="2438280"/>
            <a:ext cx="1447920" cy="3505320"/>
            <a:chOff x="304560" y="2438280"/>
            <a:chExt cx="1447920" cy="3505320"/>
          </a:xfrm>
        </p:grpSpPr>
        <p:grpSp>
          <p:nvGrpSpPr>
            <p:cNvPr id="959" name=""/>
            <p:cNvGrpSpPr/>
            <p:nvPr/>
          </p:nvGrpSpPr>
          <p:grpSpPr>
            <a:xfrm>
              <a:off x="1142640" y="2438280"/>
              <a:ext cx="609840" cy="990720"/>
              <a:chOff x="1142640" y="2438280"/>
              <a:chExt cx="609840" cy="990720"/>
            </a:xfrm>
          </p:grpSpPr>
          <p:grpSp>
            <p:nvGrpSpPr>
              <p:cNvPr id="960" name=""/>
              <p:cNvGrpSpPr/>
              <p:nvPr/>
            </p:nvGrpSpPr>
            <p:grpSpPr>
              <a:xfrm>
                <a:off x="1142640" y="2509920"/>
                <a:ext cx="228600" cy="919080"/>
                <a:chOff x="1142640" y="2509920"/>
                <a:chExt cx="228600" cy="919080"/>
              </a:xfrm>
            </p:grpSpPr>
            <p:sp>
              <p:nvSpPr>
                <p:cNvPr id="961" name=""/>
                <p:cNvSpPr/>
                <p:nvPr/>
              </p:nvSpPr>
              <p:spPr>
                <a:xfrm flipH="1">
                  <a:off x="1181880" y="2556000"/>
                  <a:ext cx="132120" cy="20700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>
                  <a:off x="1229400" y="2775240"/>
                  <a:ext cx="91080" cy="30456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>
                  <a:off x="1146960" y="2784960"/>
                  <a:ext cx="101160" cy="27360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1203840" y="3015720"/>
                  <a:ext cx="110160" cy="41328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1276920" y="3026160"/>
                  <a:ext cx="91080" cy="34560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1142640" y="2516760"/>
                  <a:ext cx="105120" cy="20268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1240920" y="2509920"/>
                  <a:ext cx="130320" cy="31608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8" name=""/>
              <p:cNvSpPr/>
              <p:nvPr/>
            </p:nvSpPr>
            <p:spPr>
              <a:xfrm>
                <a:off x="1384200" y="2438280"/>
                <a:ext cx="368280" cy="301680"/>
              </a:xfrm>
              <a:prstGeom prst="wedgeEllipseCallout">
                <a:avLst>
                  <a:gd name="adj1" fmla="val -47412"/>
                  <a:gd name="adj2" fmla="val 57143"/>
                </a:avLst>
              </a:prstGeom>
              <a:solidFill>
                <a:srgbClr val="d5fff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837720" y="2743200"/>
              <a:ext cx="609840" cy="990720"/>
              <a:chOff x="837720" y="2743200"/>
              <a:chExt cx="609840" cy="99072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837720" y="2814840"/>
                <a:ext cx="228600" cy="919080"/>
                <a:chOff x="837720" y="2814840"/>
                <a:chExt cx="228600" cy="919080"/>
              </a:xfrm>
            </p:grpSpPr>
            <p:sp>
              <p:nvSpPr>
                <p:cNvPr id="971" name=""/>
                <p:cNvSpPr/>
                <p:nvPr/>
              </p:nvSpPr>
              <p:spPr>
                <a:xfrm flipH="1">
                  <a:off x="876960" y="2860920"/>
                  <a:ext cx="132120" cy="20700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>
                  <a:off x="924480" y="3080160"/>
                  <a:ext cx="91080" cy="30456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>
                  <a:off x="842040" y="3089880"/>
                  <a:ext cx="101160" cy="27360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>
                  <a:off x="898920" y="3320640"/>
                  <a:ext cx="110160" cy="41328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>
                  <a:off x="972000" y="3331080"/>
                  <a:ext cx="91080" cy="34560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>
                  <a:off x="837720" y="2821680"/>
                  <a:ext cx="105120" cy="20268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>
                  <a:off x="936000" y="2814840"/>
                  <a:ext cx="130320" cy="31608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>
                <a:off x="1079280" y="2743200"/>
                <a:ext cx="368280" cy="301680"/>
              </a:xfrm>
              <a:prstGeom prst="wedgeEllipseCallout">
                <a:avLst>
                  <a:gd name="adj1" fmla="val -47412"/>
                  <a:gd name="adj2" fmla="val 57143"/>
                </a:avLst>
              </a:prstGeom>
              <a:solidFill>
                <a:srgbClr val="d5fff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457200" y="2590920"/>
              <a:ext cx="456840" cy="685440"/>
              <a:chOff x="457200" y="2590920"/>
              <a:chExt cx="456840" cy="685440"/>
            </a:xfrm>
          </p:grpSpPr>
          <p:grpSp>
            <p:nvGrpSpPr>
              <p:cNvPr id="980" name=""/>
              <p:cNvGrpSpPr/>
              <p:nvPr/>
            </p:nvGrpSpPr>
            <p:grpSpPr>
              <a:xfrm>
                <a:off x="457200" y="2640240"/>
                <a:ext cx="171360" cy="636120"/>
                <a:chOff x="457200" y="2640240"/>
                <a:chExt cx="171360" cy="636120"/>
              </a:xfrm>
            </p:grpSpPr>
            <p:sp>
              <p:nvSpPr>
                <p:cNvPr id="981" name=""/>
                <p:cNvSpPr/>
                <p:nvPr/>
              </p:nvSpPr>
              <p:spPr>
                <a:xfrm flipH="1">
                  <a:off x="486720" y="2672280"/>
                  <a:ext cx="99000" cy="14328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522360" y="2823840"/>
                  <a:ext cx="68400" cy="21096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460080" y="2830680"/>
                  <a:ext cx="75960" cy="18936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>
                  <a:off x="502920" y="2990160"/>
                  <a:ext cx="82800" cy="28620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>
                  <a:off x="558000" y="2997720"/>
                  <a:ext cx="68400" cy="23904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>
                  <a:off x="456840" y="2644920"/>
                  <a:ext cx="78840" cy="14004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530640" y="2640240"/>
                  <a:ext cx="97920" cy="21888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>
                <a:off x="637920" y="2590920"/>
                <a:ext cx="276120" cy="208800"/>
              </a:xfrm>
              <a:prstGeom prst="wedgeEllipseCallout">
                <a:avLst>
                  <a:gd name="adj1" fmla="val -47412"/>
                  <a:gd name="adj2" fmla="val 57143"/>
                </a:avLst>
              </a:prstGeom>
              <a:solidFill>
                <a:srgbClr val="d5fff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304560" y="5562720"/>
              <a:ext cx="914760" cy="380880"/>
              <a:chOff x="304560" y="5562720"/>
              <a:chExt cx="914760" cy="380880"/>
            </a:xfrm>
          </p:grpSpPr>
          <p:grpSp>
            <p:nvGrpSpPr>
              <p:cNvPr id="990" name=""/>
              <p:cNvGrpSpPr/>
              <p:nvPr/>
            </p:nvGrpSpPr>
            <p:grpSpPr>
              <a:xfrm>
                <a:off x="304560" y="5562720"/>
                <a:ext cx="914760" cy="380880"/>
                <a:chOff x="304560" y="5562720"/>
                <a:chExt cx="914760" cy="38088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609840" y="5562720"/>
                  <a:ext cx="609480" cy="380880"/>
                </a:xfrm>
                <a:prstGeom prst="rect">
                  <a:avLst/>
                </a:prstGeom>
                <a:solidFill>
                  <a:srgbClr val="d1fff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6212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>
                  <a:off x="30456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83808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ט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267080" y="533160"/>
            <a:ext cx="3200400" cy="53316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d1fff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ותר הראשו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7086600" y="1828800"/>
            <a:ext cx="923760" cy="2297160"/>
            <a:chOff x="7086600" y="1828800"/>
            <a:chExt cx="923760" cy="2297160"/>
          </a:xfrm>
        </p:grpSpPr>
        <p:sp>
          <p:nvSpPr>
            <p:cNvPr id="997" name=""/>
            <p:cNvSpPr/>
            <p:nvPr/>
          </p:nvSpPr>
          <p:spPr>
            <a:xfrm>
              <a:off x="7316640" y="1944720"/>
              <a:ext cx="533520" cy="51768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291440" y="2492640"/>
              <a:ext cx="368280" cy="7617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583400" y="2516400"/>
              <a:ext cx="409680" cy="6840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18440" y="3092760"/>
              <a:ext cx="446040" cy="103320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99200" y="3119400"/>
              <a:ext cx="368280" cy="86364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585200" y="1846440"/>
              <a:ext cx="425160" cy="50652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86600" y="1828800"/>
              <a:ext cx="527040" cy="79056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7315200" y="266688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943600" y="2895480"/>
            <a:ext cx="1371240" cy="2209320"/>
            <a:chOff x="5943600" y="2895480"/>
            <a:chExt cx="1371240" cy="2209320"/>
          </a:xfrm>
        </p:grpSpPr>
        <p:grpSp>
          <p:nvGrpSpPr>
            <p:cNvPr id="1006" name=""/>
            <p:cNvGrpSpPr/>
            <p:nvPr/>
          </p:nvGrpSpPr>
          <p:grpSpPr>
            <a:xfrm>
              <a:off x="5943600" y="3009960"/>
              <a:ext cx="830880" cy="2094840"/>
              <a:chOff x="5943600" y="3009960"/>
              <a:chExt cx="830880" cy="2094840"/>
            </a:xfrm>
          </p:grpSpPr>
          <p:sp>
            <p:nvSpPr>
              <p:cNvPr id="1007" name=""/>
              <p:cNvSpPr/>
              <p:nvPr/>
            </p:nvSpPr>
            <p:spPr>
              <a:xfrm flipH="1">
                <a:off x="6087240" y="3115440"/>
                <a:ext cx="479880" cy="47196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6258960" y="3615120"/>
                <a:ext cx="331200" cy="69444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5959080" y="3637080"/>
                <a:ext cx="368640" cy="62352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6165000" y="4162680"/>
                <a:ext cx="401040" cy="94212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6432120" y="4186800"/>
                <a:ext cx="331200" cy="78768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5943600" y="3025800"/>
                <a:ext cx="382320" cy="46188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6300000" y="3009960"/>
                <a:ext cx="474120" cy="72072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6486480" y="2895480"/>
              <a:ext cx="828360" cy="48636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00f8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355080" y="3799080"/>
              <a:ext cx="205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4952880" y="2666880"/>
            <a:ext cx="1218960" cy="1980720"/>
            <a:chOff x="4952880" y="2666880"/>
            <a:chExt cx="1218960" cy="1980720"/>
          </a:xfrm>
        </p:grpSpPr>
        <p:grpSp>
          <p:nvGrpSpPr>
            <p:cNvPr id="1017" name=""/>
            <p:cNvGrpSpPr/>
            <p:nvPr/>
          </p:nvGrpSpPr>
          <p:grpSpPr>
            <a:xfrm>
              <a:off x="4952880" y="2769480"/>
              <a:ext cx="738720" cy="1878120"/>
              <a:chOff x="4952880" y="2769480"/>
              <a:chExt cx="738720" cy="1878120"/>
            </a:xfrm>
          </p:grpSpPr>
          <p:sp>
            <p:nvSpPr>
              <p:cNvPr id="1018" name=""/>
              <p:cNvSpPr/>
              <p:nvPr/>
            </p:nvSpPr>
            <p:spPr>
              <a:xfrm flipH="1">
                <a:off x="5080680" y="2864160"/>
                <a:ext cx="426600" cy="4230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5233320" y="3312000"/>
                <a:ext cx="294480" cy="62280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4966560" y="3331440"/>
                <a:ext cx="327600" cy="55908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5149080" y="3803040"/>
                <a:ext cx="356760" cy="84456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5387040" y="3824640"/>
                <a:ext cx="294480" cy="70596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4952880" y="2783880"/>
                <a:ext cx="339840" cy="41400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5269680" y="2769480"/>
                <a:ext cx="421560" cy="64620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5435280" y="2666880"/>
              <a:ext cx="736560" cy="4352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a3ff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23600" y="3486600"/>
              <a:ext cx="27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3962880" y="3276720"/>
            <a:ext cx="1065960" cy="1751760"/>
            <a:chOff x="3962880" y="3276720"/>
            <a:chExt cx="1065960" cy="1751760"/>
          </a:xfrm>
        </p:grpSpPr>
        <p:grpSp>
          <p:nvGrpSpPr>
            <p:cNvPr id="1028" name=""/>
            <p:cNvGrpSpPr/>
            <p:nvPr/>
          </p:nvGrpSpPr>
          <p:grpSpPr>
            <a:xfrm>
              <a:off x="3962880" y="3367440"/>
              <a:ext cx="646200" cy="1661040"/>
              <a:chOff x="3962880" y="3367440"/>
              <a:chExt cx="646200" cy="1661040"/>
            </a:xfrm>
          </p:grpSpPr>
          <p:sp>
            <p:nvSpPr>
              <p:cNvPr id="1029" name=""/>
              <p:cNvSpPr/>
              <p:nvPr/>
            </p:nvSpPr>
            <p:spPr>
              <a:xfrm flipH="1">
                <a:off x="4074480" y="3450960"/>
                <a:ext cx="373320" cy="3744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4208040" y="3847320"/>
                <a:ext cx="257760" cy="55080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3974760" y="3864600"/>
                <a:ext cx="286560" cy="49464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4134600" y="4281480"/>
                <a:ext cx="312120" cy="74700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4342680" y="4300560"/>
                <a:ext cx="257760" cy="62460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3962880" y="3380040"/>
                <a:ext cx="297360" cy="36612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4240440" y="3367440"/>
                <a:ext cx="368640" cy="5716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4384440" y="3276720"/>
              <a:ext cx="644400" cy="3848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a3ff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99040" y="400176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352320" y="2971800"/>
            <a:ext cx="1067040" cy="1751760"/>
            <a:chOff x="3352320" y="2971800"/>
            <a:chExt cx="1067040" cy="1751760"/>
          </a:xfrm>
        </p:grpSpPr>
        <p:grpSp>
          <p:nvGrpSpPr>
            <p:cNvPr id="1039" name=""/>
            <p:cNvGrpSpPr/>
            <p:nvPr/>
          </p:nvGrpSpPr>
          <p:grpSpPr>
            <a:xfrm>
              <a:off x="3352320" y="3062520"/>
              <a:ext cx="646920" cy="1661040"/>
              <a:chOff x="3352320" y="3062520"/>
              <a:chExt cx="646920" cy="1661040"/>
            </a:xfrm>
          </p:grpSpPr>
          <p:sp>
            <p:nvSpPr>
              <p:cNvPr id="1040" name=""/>
              <p:cNvSpPr/>
              <p:nvPr/>
            </p:nvSpPr>
            <p:spPr>
              <a:xfrm flipH="1">
                <a:off x="3464640" y="3146040"/>
                <a:ext cx="373680" cy="3744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3598200" y="3542400"/>
                <a:ext cx="257760" cy="55080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3364200" y="3559680"/>
                <a:ext cx="286920" cy="49464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3524400" y="3976560"/>
                <a:ext cx="312120" cy="74700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3732840" y="3995640"/>
                <a:ext cx="257760" cy="62460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3351960" y="3075120"/>
                <a:ext cx="297720" cy="36612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3629880" y="3062520"/>
                <a:ext cx="369000" cy="5716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3774960" y="2971800"/>
              <a:ext cx="644400" cy="3848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a3ff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589560" y="36968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2895840" y="2590920"/>
            <a:ext cx="913680" cy="1599480"/>
            <a:chOff x="2895840" y="2590920"/>
            <a:chExt cx="913680" cy="1599480"/>
          </a:xfrm>
        </p:grpSpPr>
        <p:grpSp>
          <p:nvGrpSpPr>
            <p:cNvPr id="1050" name=""/>
            <p:cNvGrpSpPr/>
            <p:nvPr/>
          </p:nvGrpSpPr>
          <p:grpSpPr>
            <a:xfrm>
              <a:off x="2895840" y="2673720"/>
              <a:ext cx="554040" cy="1516680"/>
              <a:chOff x="2895840" y="2673720"/>
              <a:chExt cx="554040" cy="1516680"/>
            </a:xfrm>
          </p:grpSpPr>
          <p:sp>
            <p:nvSpPr>
              <p:cNvPr id="1051" name=""/>
              <p:cNvSpPr/>
              <p:nvPr/>
            </p:nvSpPr>
            <p:spPr>
              <a:xfrm flipH="1">
                <a:off x="2991600" y="2750040"/>
                <a:ext cx="320040" cy="34164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3106080" y="3111840"/>
                <a:ext cx="221040" cy="50292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2905560" y="3127680"/>
                <a:ext cx="245880" cy="45144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3043080" y="3508200"/>
                <a:ext cx="267480" cy="68220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3221280" y="3525840"/>
                <a:ext cx="221040" cy="57024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2895840" y="2685240"/>
                <a:ext cx="254880" cy="33444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3133800" y="2673720"/>
                <a:ext cx="316080" cy="52200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3257280" y="2590920"/>
              <a:ext cx="552240" cy="35136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a3ff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098520" y="3252960"/>
              <a:ext cx="20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286000" y="2362320"/>
            <a:ext cx="609480" cy="1370880"/>
            <a:chOff x="2286000" y="2362320"/>
            <a:chExt cx="609480" cy="1370880"/>
          </a:xfrm>
        </p:grpSpPr>
        <p:grpSp>
          <p:nvGrpSpPr>
            <p:cNvPr id="1061" name=""/>
            <p:cNvGrpSpPr/>
            <p:nvPr/>
          </p:nvGrpSpPr>
          <p:grpSpPr>
            <a:xfrm>
              <a:off x="2286000" y="2433240"/>
              <a:ext cx="369360" cy="1299960"/>
              <a:chOff x="2286000" y="2433240"/>
              <a:chExt cx="369360" cy="129996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2350440" y="2498760"/>
                <a:ext cx="213120" cy="29304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2426040" y="2808720"/>
                <a:ext cx="147240" cy="43092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292480" y="2822400"/>
                <a:ext cx="163800" cy="38700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2384280" y="3148560"/>
                <a:ext cx="178200" cy="58464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502720" y="3163680"/>
                <a:ext cx="147240" cy="48888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2286000" y="2442960"/>
                <a:ext cx="169920" cy="28656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2444400" y="2433240"/>
                <a:ext cx="210600" cy="4474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2527200" y="2362320"/>
              <a:ext cx="368280" cy="3020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d1ff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</a:rPr>
                <a:t>ואנ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21360" y="2929680"/>
              <a:ext cx="13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1752480" y="2133720"/>
            <a:ext cx="609480" cy="1370880"/>
            <a:chOff x="1752480" y="2133720"/>
            <a:chExt cx="609480" cy="1370880"/>
          </a:xfrm>
        </p:grpSpPr>
        <p:grpSp>
          <p:nvGrpSpPr>
            <p:cNvPr id="1072" name=""/>
            <p:cNvGrpSpPr/>
            <p:nvPr/>
          </p:nvGrpSpPr>
          <p:grpSpPr>
            <a:xfrm>
              <a:off x="1752480" y="2204640"/>
              <a:ext cx="369360" cy="1299960"/>
              <a:chOff x="1752480" y="2204640"/>
              <a:chExt cx="369360" cy="1299960"/>
            </a:xfrm>
          </p:grpSpPr>
          <p:sp>
            <p:nvSpPr>
              <p:cNvPr id="1073" name=""/>
              <p:cNvSpPr/>
              <p:nvPr/>
            </p:nvSpPr>
            <p:spPr>
              <a:xfrm flipH="1">
                <a:off x="1816920" y="2270160"/>
                <a:ext cx="213120" cy="29304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1892520" y="2580120"/>
                <a:ext cx="147240" cy="43092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1758960" y="2593800"/>
                <a:ext cx="163800" cy="38700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1850760" y="2919960"/>
                <a:ext cx="178200" cy="58464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1969200" y="2935080"/>
                <a:ext cx="147240" cy="48888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1752480" y="2214360"/>
                <a:ext cx="169920" cy="28656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1910880" y="2204640"/>
                <a:ext cx="210600" cy="4474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1993680" y="2133720"/>
              <a:ext cx="368280" cy="3020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d1ff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</a:rPr>
                <a:t>ואנ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87840" y="2701080"/>
              <a:ext cx="13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142640" y="2438280"/>
            <a:ext cx="609840" cy="990720"/>
            <a:chOff x="1142640" y="2438280"/>
            <a:chExt cx="609840" cy="990720"/>
          </a:xfrm>
        </p:grpSpPr>
        <p:grpSp>
          <p:nvGrpSpPr>
            <p:cNvPr id="1083" name=""/>
            <p:cNvGrpSpPr/>
            <p:nvPr/>
          </p:nvGrpSpPr>
          <p:grpSpPr>
            <a:xfrm>
              <a:off x="1142640" y="2509920"/>
              <a:ext cx="228600" cy="919080"/>
              <a:chOff x="1142640" y="2509920"/>
              <a:chExt cx="228600" cy="919080"/>
            </a:xfrm>
          </p:grpSpPr>
          <p:sp>
            <p:nvSpPr>
              <p:cNvPr id="1084" name=""/>
              <p:cNvSpPr/>
              <p:nvPr/>
            </p:nvSpPr>
            <p:spPr>
              <a:xfrm flipH="1">
                <a:off x="1181880" y="2556000"/>
                <a:ext cx="132120" cy="2070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>
                <a:off x="1229400" y="2775240"/>
                <a:ext cx="91080" cy="30456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1146960" y="2784960"/>
                <a:ext cx="101160" cy="27360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1203840" y="3015720"/>
                <a:ext cx="110160" cy="41328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>
                <a:off x="1276920" y="3026160"/>
                <a:ext cx="91080" cy="34560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1142640" y="2516760"/>
                <a:ext cx="105120" cy="20268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1240920" y="2509920"/>
                <a:ext cx="130320" cy="3160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1384200" y="2438280"/>
              <a:ext cx="368280" cy="30168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d5ff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837720" y="2743200"/>
            <a:ext cx="609840" cy="990720"/>
            <a:chOff x="837720" y="2743200"/>
            <a:chExt cx="609840" cy="990720"/>
          </a:xfrm>
        </p:grpSpPr>
        <p:grpSp>
          <p:nvGrpSpPr>
            <p:cNvPr id="1093" name=""/>
            <p:cNvGrpSpPr/>
            <p:nvPr/>
          </p:nvGrpSpPr>
          <p:grpSpPr>
            <a:xfrm>
              <a:off x="837720" y="2814840"/>
              <a:ext cx="228600" cy="919080"/>
              <a:chOff x="837720" y="2814840"/>
              <a:chExt cx="228600" cy="919080"/>
            </a:xfrm>
          </p:grpSpPr>
          <p:sp>
            <p:nvSpPr>
              <p:cNvPr id="1094" name=""/>
              <p:cNvSpPr/>
              <p:nvPr/>
            </p:nvSpPr>
            <p:spPr>
              <a:xfrm flipH="1">
                <a:off x="876960" y="2860920"/>
                <a:ext cx="132120" cy="2070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924480" y="3080160"/>
                <a:ext cx="91080" cy="30456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842040" y="3089880"/>
                <a:ext cx="101160" cy="27360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>
                <a:off x="898920" y="3320640"/>
                <a:ext cx="110160" cy="41328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>
                <a:off x="972000" y="3331080"/>
                <a:ext cx="91080" cy="34560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837720" y="2821680"/>
                <a:ext cx="105120" cy="20268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936000" y="2814840"/>
                <a:ext cx="130320" cy="3160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1079280" y="2743200"/>
              <a:ext cx="368280" cy="30168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d5ff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457200" y="2590920"/>
            <a:ext cx="456840" cy="685440"/>
            <a:chOff x="457200" y="2590920"/>
            <a:chExt cx="456840" cy="685440"/>
          </a:xfrm>
        </p:grpSpPr>
        <p:grpSp>
          <p:nvGrpSpPr>
            <p:cNvPr id="1103" name=""/>
            <p:cNvGrpSpPr/>
            <p:nvPr/>
          </p:nvGrpSpPr>
          <p:grpSpPr>
            <a:xfrm>
              <a:off x="457200" y="2640240"/>
              <a:ext cx="171360" cy="636120"/>
              <a:chOff x="457200" y="2640240"/>
              <a:chExt cx="171360" cy="636120"/>
            </a:xfrm>
          </p:grpSpPr>
          <p:sp>
            <p:nvSpPr>
              <p:cNvPr id="1104" name=""/>
              <p:cNvSpPr/>
              <p:nvPr/>
            </p:nvSpPr>
            <p:spPr>
              <a:xfrm flipH="1">
                <a:off x="486720" y="2672280"/>
                <a:ext cx="99000" cy="14328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522360" y="2823840"/>
                <a:ext cx="68400" cy="21096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460080" y="2830680"/>
                <a:ext cx="75960" cy="18936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502920" y="2990160"/>
                <a:ext cx="82800" cy="28620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558000" y="2997720"/>
                <a:ext cx="68400" cy="23904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456840" y="2644920"/>
                <a:ext cx="78840" cy="14004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530640" y="2640240"/>
                <a:ext cx="97920" cy="2188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637920" y="2590920"/>
              <a:ext cx="276120" cy="20880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d5ff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304560" y="5562720"/>
            <a:ext cx="8305920" cy="380880"/>
            <a:chOff x="304560" y="5562720"/>
            <a:chExt cx="8305920" cy="380880"/>
          </a:xfrm>
        </p:grpSpPr>
        <p:grpSp>
          <p:nvGrpSpPr>
            <p:cNvPr id="1113" name=""/>
            <p:cNvGrpSpPr/>
            <p:nvPr/>
          </p:nvGrpSpPr>
          <p:grpSpPr>
            <a:xfrm>
              <a:off x="7695720" y="5562720"/>
              <a:ext cx="914760" cy="380880"/>
              <a:chOff x="7695720" y="5562720"/>
              <a:chExt cx="914760" cy="38088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7695720" y="5562720"/>
                <a:ext cx="914760" cy="380880"/>
                <a:chOff x="7695720" y="5562720"/>
                <a:chExt cx="914760" cy="38088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8001000" y="5562720"/>
                  <a:ext cx="609480" cy="380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815328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H="1">
                  <a:off x="769572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>
                <a:off x="822960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6781320" y="5562720"/>
              <a:ext cx="914760" cy="380880"/>
              <a:chOff x="6781320" y="5562720"/>
              <a:chExt cx="914760" cy="380880"/>
            </a:xfrm>
          </p:grpSpPr>
          <p:grpSp>
            <p:nvGrpSpPr>
              <p:cNvPr id="1120" name=""/>
              <p:cNvGrpSpPr/>
              <p:nvPr/>
            </p:nvGrpSpPr>
            <p:grpSpPr>
              <a:xfrm>
                <a:off x="6781320" y="5562720"/>
                <a:ext cx="914760" cy="380880"/>
                <a:chOff x="6781320" y="5562720"/>
                <a:chExt cx="914760" cy="38088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7086600" y="5562720"/>
                  <a:ext cx="609480" cy="380880"/>
                </a:xfrm>
                <a:prstGeom prst="rect">
                  <a:avLst/>
                </a:prstGeom>
                <a:solidFill>
                  <a:srgbClr val="00f8b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23888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H="1">
                  <a:off x="678132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4" name=""/>
              <p:cNvSpPr/>
              <p:nvPr/>
            </p:nvSpPr>
            <p:spPr>
              <a:xfrm>
                <a:off x="731520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5866920" y="5562720"/>
              <a:ext cx="914760" cy="380880"/>
              <a:chOff x="5866920" y="5562720"/>
              <a:chExt cx="914760" cy="380880"/>
            </a:xfrm>
          </p:grpSpPr>
          <p:grpSp>
            <p:nvGrpSpPr>
              <p:cNvPr id="1126" name=""/>
              <p:cNvGrpSpPr/>
              <p:nvPr/>
            </p:nvGrpSpPr>
            <p:grpSpPr>
              <a:xfrm>
                <a:off x="5866920" y="5562720"/>
                <a:ext cx="914760" cy="380880"/>
                <a:chOff x="5866920" y="5562720"/>
                <a:chExt cx="914760" cy="38088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6172200" y="5562720"/>
                  <a:ext cx="609480" cy="380880"/>
                </a:xfrm>
                <a:prstGeom prst="rect">
                  <a:avLst/>
                </a:prstGeom>
                <a:solidFill>
                  <a:srgbClr val="57ff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632448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>
                  <a:off x="586692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"/>
              <p:cNvSpPr/>
              <p:nvPr/>
            </p:nvSpPr>
            <p:spPr>
              <a:xfrm>
                <a:off x="640080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4952520" y="5562720"/>
              <a:ext cx="914760" cy="380880"/>
              <a:chOff x="4952520" y="5562720"/>
              <a:chExt cx="914760" cy="380880"/>
            </a:xfrm>
          </p:grpSpPr>
          <p:grpSp>
            <p:nvGrpSpPr>
              <p:cNvPr id="1132" name=""/>
              <p:cNvGrpSpPr/>
              <p:nvPr/>
            </p:nvGrpSpPr>
            <p:grpSpPr>
              <a:xfrm>
                <a:off x="4952520" y="5562720"/>
                <a:ext cx="914760" cy="380880"/>
                <a:chOff x="4952520" y="5562720"/>
                <a:chExt cx="914760" cy="38088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5257800" y="5562720"/>
                  <a:ext cx="609480" cy="380880"/>
                </a:xfrm>
                <a:prstGeom prst="rect">
                  <a:avLst/>
                </a:prstGeom>
                <a:solidFill>
                  <a:srgbClr val="57ff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41008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495252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6" name=""/>
              <p:cNvSpPr/>
              <p:nvPr/>
            </p:nvSpPr>
            <p:spPr>
              <a:xfrm>
                <a:off x="548640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4038120" y="5562720"/>
              <a:ext cx="914760" cy="380880"/>
              <a:chOff x="4038120" y="5562720"/>
              <a:chExt cx="914760" cy="380880"/>
            </a:xfrm>
          </p:grpSpPr>
          <p:grpSp>
            <p:nvGrpSpPr>
              <p:cNvPr id="1138" name=""/>
              <p:cNvGrpSpPr/>
              <p:nvPr/>
            </p:nvGrpSpPr>
            <p:grpSpPr>
              <a:xfrm>
                <a:off x="4038120" y="5562720"/>
                <a:ext cx="914760" cy="380880"/>
                <a:chOff x="4038120" y="5562720"/>
                <a:chExt cx="914760" cy="38088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4343400" y="5562720"/>
                  <a:ext cx="609480" cy="380880"/>
                </a:xfrm>
                <a:prstGeom prst="rect">
                  <a:avLst/>
                </a:prstGeom>
                <a:solidFill>
                  <a:srgbClr val="a3ffe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49568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403812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2" name=""/>
              <p:cNvSpPr/>
              <p:nvPr/>
            </p:nvSpPr>
            <p:spPr>
              <a:xfrm>
                <a:off x="457200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3047760" y="5562720"/>
              <a:ext cx="914760" cy="380880"/>
              <a:chOff x="3047760" y="5562720"/>
              <a:chExt cx="914760" cy="380880"/>
            </a:xfrm>
          </p:grpSpPr>
          <p:grpSp>
            <p:nvGrpSpPr>
              <p:cNvPr id="1144" name=""/>
              <p:cNvGrpSpPr/>
              <p:nvPr/>
            </p:nvGrpSpPr>
            <p:grpSpPr>
              <a:xfrm>
                <a:off x="3047760" y="5562720"/>
                <a:ext cx="914760" cy="380880"/>
                <a:chOff x="3047760" y="5562720"/>
                <a:chExt cx="914760" cy="38088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3353040" y="5562720"/>
                  <a:ext cx="609480" cy="380880"/>
                </a:xfrm>
                <a:prstGeom prst="rect">
                  <a:avLst/>
                </a:prstGeom>
                <a:solidFill>
                  <a:srgbClr val="a3ffe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50532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304776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358128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2133360" y="5562720"/>
              <a:ext cx="914760" cy="380880"/>
              <a:chOff x="2133360" y="5562720"/>
              <a:chExt cx="914760" cy="380880"/>
            </a:xfrm>
          </p:grpSpPr>
          <p:grpSp>
            <p:nvGrpSpPr>
              <p:cNvPr id="1150" name=""/>
              <p:cNvGrpSpPr/>
              <p:nvPr/>
            </p:nvGrpSpPr>
            <p:grpSpPr>
              <a:xfrm>
                <a:off x="2133360" y="5562720"/>
                <a:ext cx="914760" cy="380880"/>
                <a:chOff x="2133360" y="5562720"/>
                <a:chExt cx="914760" cy="38088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2438640" y="5562720"/>
                  <a:ext cx="609480" cy="380880"/>
                </a:xfrm>
                <a:prstGeom prst="rect">
                  <a:avLst/>
                </a:prstGeom>
                <a:solidFill>
                  <a:srgbClr val="d1fff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59092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>
                  <a:off x="213336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4" name=""/>
              <p:cNvSpPr/>
              <p:nvPr/>
            </p:nvSpPr>
            <p:spPr>
              <a:xfrm>
                <a:off x="266688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ז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1218960" y="5562720"/>
              <a:ext cx="914760" cy="380880"/>
              <a:chOff x="1218960" y="5562720"/>
              <a:chExt cx="914760" cy="38088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1218960" y="5562720"/>
                <a:ext cx="914760" cy="380880"/>
                <a:chOff x="1218960" y="5562720"/>
                <a:chExt cx="914760" cy="38088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524240" y="5562720"/>
                  <a:ext cx="609480" cy="380880"/>
                </a:xfrm>
                <a:prstGeom prst="rect">
                  <a:avLst/>
                </a:prstGeom>
                <a:solidFill>
                  <a:srgbClr val="d1fff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167652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>
                  <a:off x="121896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0" name=""/>
              <p:cNvSpPr/>
              <p:nvPr/>
            </p:nvSpPr>
            <p:spPr>
              <a:xfrm>
                <a:off x="175248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04560" y="5562720"/>
              <a:ext cx="914760" cy="380880"/>
              <a:chOff x="304560" y="5562720"/>
              <a:chExt cx="914760" cy="38088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304560" y="5562720"/>
                <a:ext cx="914760" cy="380880"/>
                <a:chOff x="304560" y="5562720"/>
                <a:chExt cx="914760" cy="38088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09840" y="5562720"/>
                  <a:ext cx="609480" cy="380880"/>
                </a:xfrm>
                <a:prstGeom prst="rect">
                  <a:avLst/>
                </a:prstGeom>
                <a:solidFill>
                  <a:srgbClr val="d1fff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762120" y="55627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>
                  <a:off x="304560" y="579132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838080" y="556272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ט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7" name=""/>
          <p:cNvSpPr/>
          <p:nvPr/>
        </p:nvSpPr>
        <p:spPr>
          <a:xfrm>
            <a:off x="7924680" y="1676520"/>
            <a:ext cx="914400" cy="685800"/>
          </a:xfrm>
          <a:prstGeom prst="wedgeRoundRectCallout">
            <a:avLst>
              <a:gd name="adj1" fmla="val -68750"/>
              <a:gd name="adj2" fmla="val 19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ני ל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נזי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 rot="20001600">
            <a:off x="572040" y="1039320"/>
            <a:ext cx="24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66"/>
                </a:solidFill>
                <a:latin typeface="Times New Roman"/>
              </a:rPr>
              <a:t>הותרו כול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7086600" y="1828800"/>
            <a:ext cx="923760" cy="2297160"/>
            <a:chOff x="7086600" y="1828800"/>
            <a:chExt cx="923760" cy="2297160"/>
          </a:xfrm>
        </p:grpSpPr>
        <p:sp>
          <p:nvSpPr>
            <p:cNvPr id="1170" name=""/>
            <p:cNvSpPr/>
            <p:nvPr/>
          </p:nvSpPr>
          <p:spPr>
            <a:xfrm>
              <a:off x="7316640" y="1944720"/>
              <a:ext cx="533520" cy="51768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91440" y="2492640"/>
              <a:ext cx="368280" cy="7617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83400" y="2516400"/>
              <a:ext cx="409680" cy="6840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18440" y="3092760"/>
              <a:ext cx="446040" cy="103320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099200" y="3119400"/>
              <a:ext cx="368280" cy="86364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585200" y="1846440"/>
              <a:ext cx="425160" cy="50652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86600" y="1828800"/>
              <a:ext cx="527040" cy="79056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7315200" y="266688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7695720" y="5562720"/>
            <a:ext cx="914760" cy="380880"/>
            <a:chOff x="7695720" y="5562720"/>
            <a:chExt cx="914760" cy="380880"/>
          </a:xfrm>
        </p:grpSpPr>
        <p:grpSp>
          <p:nvGrpSpPr>
            <p:cNvPr id="1179" name=""/>
            <p:cNvGrpSpPr/>
            <p:nvPr/>
          </p:nvGrpSpPr>
          <p:grpSpPr>
            <a:xfrm>
              <a:off x="7695720" y="5562720"/>
              <a:ext cx="914760" cy="380880"/>
              <a:chOff x="7695720" y="5562720"/>
              <a:chExt cx="914760" cy="380880"/>
            </a:xfrm>
          </p:grpSpPr>
          <p:sp>
            <p:nvSpPr>
              <p:cNvPr id="1180" name=""/>
              <p:cNvSpPr/>
              <p:nvPr/>
            </p:nvSpPr>
            <p:spPr>
              <a:xfrm>
                <a:off x="8001000" y="5562720"/>
                <a:ext cx="6094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15328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769572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8229600" y="5562720"/>
              <a:ext cx="22860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5943600" y="3009960"/>
            <a:ext cx="831600" cy="2095200"/>
            <a:chOff x="5943600" y="3009960"/>
            <a:chExt cx="831600" cy="2095200"/>
          </a:xfrm>
        </p:grpSpPr>
        <p:sp>
          <p:nvSpPr>
            <p:cNvPr id="1185" name=""/>
            <p:cNvSpPr/>
            <p:nvPr/>
          </p:nvSpPr>
          <p:spPr>
            <a:xfrm flipH="1">
              <a:off x="6087960" y="3115440"/>
              <a:ext cx="480240" cy="47196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6258960" y="3615480"/>
              <a:ext cx="331560" cy="69480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5959440" y="3637080"/>
              <a:ext cx="368640" cy="62388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6164640" y="4162680"/>
              <a:ext cx="401400" cy="94248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6432120" y="4187160"/>
              <a:ext cx="331560" cy="78768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943240" y="3025800"/>
              <a:ext cx="382680" cy="46188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6300720" y="3009960"/>
              <a:ext cx="474480" cy="72108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6486480" y="2895480"/>
            <a:ext cx="828720" cy="48600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54720" y="3798720"/>
            <a:ext cx="20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6781320" y="5562720"/>
            <a:ext cx="914760" cy="380880"/>
            <a:chOff x="6781320" y="5562720"/>
            <a:chExt cx="914760" cy="380880"/>
          </a:xfrm>
        </p:grpSpPr>
        <p:grpSp>
          <p:nvGrpSpPr>
            <p:cNvPr id="1195" name=""/>
            <p:cNvGrpSpPr/>
            <p:nvPr/>
          </p:nvGrpSpPr>
          <p:grpSpPr>
            <a:xfrm>
              <a:off x="6781320" y="5562720"/>
              <a:ext cx="914760" cy="380880"/>
              <a:chOff x="6781320" y="5562720"/>
              <a:chExt cx="914760" cy="380880"/>
            </a:xfrm>
          </p:grpSpPr>
          <p:sp>
            <p:nvSpPr>
              <p:cNvPr id="1196" name=""/>
              <p:cNvSpPr/>
              <p:nvPr/>
            </p:nvSpPr>
            <p:spPr>
              <a:xfrm>
                <a:off x="7086600" y="5562720"/>
                <a:ext cx="6094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23888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678132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7315200" y="5562720"/>
              <a:ext cx="22860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4952880" y="2770200"/>
            <a:ext cx="739440" cy="1877760"/>
            <a:chOff x="4952880" y="2770200"/>
            <a:chExt cx="739440" cy="1877760"/>
          </a:xfrm>
        </p:grpSpPr>
        <p:sp>
          <p:nvSpPr>
            <p:cNvPr id="1201" name=""/>
            <p:cNvSpPr/>
            <p:nvPr/>
          </p:nvSpPr>
          <p:spPr>
            <a:xfrm flipH="1">
              <a:off x="5081400" y="2864880"/>
              <a:ext cx="426960" cy="4230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5233320" y="3312720"/>
              <a:ext cx="294840" cy="62280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4966200" y="3332160"/>
              <a:ext cx="327960" cy="55908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5149800" y="3803400"/>
              <a:ext cx="357120" cy="84456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5387040" y="3825360"/>
              <a:ext cx="294840" cy="70596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4952520" y="2784600"/>
              <a:ext cx="340200" cy="41400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5270400" y="2770200"/>
              <a:ext cx="421920" cy="64620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5435640" y="2666880"/>
            <a:ext cx="736560" cy="43524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224320" y="3486240"/>
            <a:ext cx="27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5866920" y="5562720"/>
            <a:ext cx="914760" cy="380880"/>
            <a:chOff x="5866920" y="5562720"/>
            <a:chExt cx="914760" cy="380880"/>
          </a:xfrm>
        </p:grpSpPr>
        <p:grpSp>
          <p:nvGrpSpPr>
            <p:cNvPr id="1211" name=""/>
            <p:cNvGrpSpPr/>
            <p:nvPr/>
          </p:nvGrpSpPr>
          <p:grpSpPr>
            <a:xfrm>
              <a:off x="5866920" y="5562720"/>
              <a:ext cx="914760" cy="380880"/>
              <a:chOff x="5866920" y="5562720"/>
              <a:chExt cx="914760" cy="380880"/>
            </a:xfrm>
          </p:grpSpPr>
          <p:sp>
            <p:nvSpPr>
              <p:cNvPr id="1212" name=""/>
              <p:cNvSpPr/>
              <p:nvPr/>
            </p:nvSpPr>
            <p:spPr>
              <a:xfrm>
                <a:off x="6172200" y="5562720"/>
                <a:ext cx="6094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32448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586692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6400800" y="5562720"/>
              <a:ext cx="22860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3962160" y="3367080"/>
            <a:ext cx="647640" cy="1661760"/>
            <a:chOff x="3962160" y="3367080"/>
            <a:chExt cx="647640" cy="1661760"/>
          </a:xfrm>
        </p:grpSpPr>
        <p:sp>
          <p:nvSpPr>
            <p:cNvPr id="1217" name=""/>
            <p:cNvSpPr/>
            <p:nvPr/>
          </p:nvSpPr>
          <p:spPr>
            <a:xfrm flipH="1">
              <a:off x="4074120" y="3450600"/>
              <a:ext cx="374040" cy="3744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4208040" y="3847320"/>
              <a:ext cx="258120" cy="5511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3974400" y="3864600"/>
              <a:ext cx="286920" cy="49464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4134960" y="4281480"/>
              <a:ext cx="312480" cy="74736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4342680" y="4300920"/>
              <a:ext cx="258120" cy="624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3962160" y="3379680"/>
              <a:ext cx="298080" cy="36648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4240440" y="3367080"/>
              <a:ext cx="369360" cy="57204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4384800" y="3276720"/>
            <a:ext cx="644400" cy="38556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99040" y="4002120"/>
            <a:ext cx="23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4952520" y="5562720"/>
            <a:ext cx="914760" cy="380880"/>
            <a:chOff x="4952520" y="5562720"/>
            <a:chExt cx="914760" cy="380880"/>
          </a:xfrm>
        </p:grpSpPr>
        <p:grpSp>
          <p:nvGrpSpPr>
            <p:cNvPr id="1227" name=""/>
            <p:cNvGrpSpPr/>
            <p:nvPr/>
          </p:nvGrpSpPr>
          <p:grpSpPr>
            <a:xfrm>
              <a:off x="4952520" y="5562720"/>
              <a:ext cx="914760" cy="380880"/>
              <a:chOff x="4952520" y="5562720"/>
              <a:chExt cx="914760" cy="380880"/>
            </a:xfrm>
          </p:grpSpPr>
          <p:sp>
            <p:nvSpPr>
              <p:cNvPr id="1228" name=""/>
              <p:cNvSpPr/>
              <p:nvPr/>
            </p:nvSpPr>
            <p:spPr>
              <a:xfrm>
                <a:off x="5257800" y="5562720"/>
                <a:ext cx="6094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41008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495252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>
              <a:off x="5486400" y="5562720"/>
              <a:ext cx="22860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353040" y="3062160"/>
            <a:ext cx="647640" cy="1661760"/>
            <a:chOff x="3353040" y="3062160"/>
            <a:chExt cx="647640" cy="1661760"/>
          </a:xfrm>
        </p:grpSpPr>
        <p:sp>
          <p:nvSpPr>
            <p:cNvPr id="1233" name=""/>
            <p:cNvSpPr/>
            <p:nvPr/>
          </p:nvSpPr>
          <p:spPr>
            <a:xfrm flipH="1">
              <a:off x="3465000" y="3145680"/>
              <a:ext cx="374040" cy="3744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3598560" y="3542400"/>
              <a:ext cx="258120" cy="5511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3364920" y="3559680"/>
              <a:ext cx="287280" cy="49464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3525120" y="3976560"/>
              <a:ext cx="312840" cy="74736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3733560" y="3996000"/>
              <a:ext cx="258120" cy="624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3353040" y="3074760"/>
              <a:ext cx="298080" cy="36648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3630600" y="3062160"/>
              <a:ext cx="369720" cy="57204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3733920" y="2971800"/>
            <a:ext cx="644400" cy="38592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9200" y="3697200"/>
            <a:ext cx="23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4038120" y="5562720"/>
            <a:ext cx="914760" cy="380880"/>
            <a:chOff x="4038120" y="5562720"/>
            <a:chExt cx="914760" cy="380880"/>
          </a:xfrm>
        </p:grpSpPr>
        <p:grpSp>
          <p:nvGrpSpPr>
            <p:cNvPr id="1243" name=""/>
            <p:cNvGrpSpPr/>
            <p:nvPr/>
          </p:nvGrpSpPr>
          <p:grpSpPr>
            <a:xfrm>
              <a:off x="4038120" y="5562720"/>
              <a:ext cx="914760" cy="380880"/>
              <a:chOff x="4038120" y="5562720"/>
              <a:chExt cx="914760" cy="380880"/>
            </a:xfrm>
          </p:grpSpPr>
          <p:sp>
            <p:nvSpPr>
              <p:cNvPr id="1244" name=""/>
              <p:cNvSpPr/>
              <p:nvPr/>
            </p:nvSpPr>
            <p:spPr>
              <a:xfrm>
                <a:off x="4343400" y="5562720"/>
                <a:ext cx="6094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49568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403812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7" name=""/>
            <p:cNvSpPr/>
            <p:nvPr/>
          </p:nvSpPr>
          <p:spPr>
            <a:xfrm>
              <a:off x="4572000" y="5562720"/>
              <a:ext cx="22860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2895480" y="2673360"/>
            <a:ext cx="553680" cy="1517400"/>
            <a:chOff x="2895480" y="2673360"/>
            <a:chExt cx="553680" cy="1517400"/>
          </a:xfrm>
        </p:grpSpPr>
        <p:sp>
          <p:nvSpPr>
            <p:cNvPr id="1249" name=""/>
            <p:cNvSpPr/>
            <p:nvPr/>
          </p:nvSpPr>
          <p:spPr>
            <a:xfrm flipH="1">
              <a:off x="2990880" y="2749680"/>
              <a:ext cx="320040" cy="3420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105360" y="3111840"/>
              <a:ext cx="220680" cy="50328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2905920" y="3127680"/>
              <a:ext cx="245520" cy="4518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042360" y="3508200"/>
              <a:ext cx="267480" cy="68256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3220920" y="3525840"/>
              <a:ext cx="220680" cy="570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2895480" y="2684880"/>
              <a:ext cx="254880" cy="33444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3133080" y="2673360"/>
              <a:ext cx="316080" cy="52236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3257640" y="2590920"/>
            <a:ext cx="552240" cy="35244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98880" y="3252960"/>
            <a:ext cx="20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3047760" y="5562720"/>
            <a:ext cx="914760" cy="380880"/>
            <a:chOff x="3047760" y="5562720"/>
            <a:chExt cx="914760" cy="380880"/>
          </a:xfrm>
        </p:grpSpPr>
        <p:grpSp>
          <p:nvGrpSpPr>
            <p:cNvPr id="1259" name=""/>
            <p:cNvGrpSpPr/>
            <p:nvPr/>
          </p:nvGrpSpPr>
          <p:grpSpPr>
            <a:xfrm>
              <a:off x="3047760" y="5562720"/>
              <a:ext cx="914760" cy="380880"/>
              <a:chOff x="3047760" y="5562720"/>
              <a:chExt cx="914760" cy="380880"/>
            </a:xfrm>
          </p:grpSpPr>
          <p:sp>
            <p:nvSpPr>
              <p:cNvPr id="1260" name=""/>
              <p:cNvSpPr/>
              <p:nvPr/>
            </p:nvSpPr>
            <p:spPr>
              <a:xfrm>
                <a:off x="3353040" y="5562720"/>
                <a:ext cx="6094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50532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304776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" name=""/>
            <p:cNvSpPr/>
            <p:nvPr/>
          </p:nvSpPr>
          <p:spPr>
            <a:xfrm>
              <a:off x="3581280" y="5562720"/>
              <a:ext cx="22860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2286000" y="2433600"/>
            <a:ext cx="369360" cy="1299960"/>
            <a:chOff x="2286000" y="2433600"/>
            <a:chExt cx="369360" cy="1299960"/>
          </a:xfrm>
        </p:grpSpPr>
        <p:sp>
          <p:nvSpPr>
            <p:cNvPr id="1265" name=""/>
            <p:cNvSpPr/>
            <p:nvPr/>
          </p:nvSpPr>
          <p:spPr>
            <a:xfrm flipH="1">
              <a:off x="2349720" y="2499120"/>
              <a:ext cx="213480" cy="29304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2426040" y="2809080"/>
              <a:ext cx="147240" cy="43092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2292480" y="2822760"/>
              <a:ext cx="163800" cy="3870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2384280" y="3148920"/>
              <a:ext cx="178560" cy="58464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2502720" y="3164040"/>
              <a:ext cx="147240" cy="48888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2286000" y="2443320"/>
              <a:ext cx="169920" cy="28656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2444400" y="2433600"/>
              <a:ext cx="210960" cy="44748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2527200" y="236232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421000" y="2928960"/>
            <a:ext cx="13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2133360" y="5562720"/>
            <a:ext cx="914760" cy="380880"/>
            <a:chOff x="2133360" y="5562720"/>
            <a:chExt cx="914760" cy="380880"/>
          </a:xfrm>
        </p:grpSpPr>
        <p:grpSp>
          <p:nvGrpSpPr>
            <p:cNvPr id="1275" name=""/>
            <p:cNvGrpSpPr/>
            <p:nvPr/>
          </p:nvGrpSpPr>
          <p:grpSpPr>
            <a:xfrm>
              <a:off x="2133360" y="5562720"/>
              <a:ext cx="914760" cy="380880"/>
              <a:chOff x="2133360" y="5562720"/>
              <a:chExt cx="914760" cy="380880"/>
            </a:xfrm>
          </p:grpSpPr>
          <p:sp>
            <p:nvSpPr>
              <p:cNvPr id="1276" name=""/>
              <p:cNvSpPr/>
              <p:nvPr/>
            </p:nvSpPr>
            <p:spPr>
              <a:xfrm>
                <a:off x="2438640" y="5562720"/>
                <a:ext cx="6094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59092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213336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9" name=""/>
            <p:cNvSpPr/>
            <p:nvPr/>
          </p:nvSpPr>
          <p:spPr>
            <a:xfrm>
              <a:off x="2666880" y="5562720"/>
              <a:ext cx="22860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752480" y="2205000"/>
            <a:ext cx="370080" cy="1299960"/>
            <a:chOff x="1752480" y="2205000"/>
            <a:chExt cx="370080" cy="1299960"/>
          </a:xfrm>
        </p:grpSpPr>
        <p:sp>
          <p:nvSpPr>
            <p:cNvPr id="1281" name=""/>
            <p:cNvSpPr/>
            <p:nvPr/>
          </p:nvSpPr>
          <p:spPr>
            <a:xfrm flipH="1">
              <a:off x="1816560" y="2270520"/>
              <a:ext cx="213840" cy="29304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1892880" y="2580480"/>
              <a:ext cx="147600" cy="43092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759320" y="2594160"/>
              <a:ext cx="164160" cy="3870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1851120" y="2920320"/>
              <a:ext cx="178560" cy="58464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1969920" y="2935440"/>
              <a:ext cx="147600" cy="48888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1752120" y="2214720"/>
              <a:ext cx="170280" cy="28656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911600" y="2205000"/>
              <a:ext cx="210960" cy="44748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1994040" y="213372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887480" y="2700360"/>
            <a:ext cx="13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1218960" y="5562720"/>
            <a:ext cx="914760" cy="380880"/>
            <a:chOff x="1218960" y="5562720"/>
            <a:chExt cx="914760" cy="380880"/>
          </a:xfrm>
        </p:grpSpPr>
        <p:grpSp>
          <p:nvGrpSpPr>
            <p:cNvPr id="1291" name=""/>
            <p:cNvGrpSpPr/>
            <p:nvPr/>
          </p:nvGrpSpPr>
          <p:grpSpPr>
            <a:xfrm>
              <a:off x="1218960" y="5562720"/>
              <a:ext cx="914760" cy="380880"/>
              <a:chOff x="1218960" y="5562720"/>
              <a:chExt cx="914760" cy="380880"/>
            </a:xfrm>
          </p:grpSpPr>
          <p:sp>
            <p:nvSpPr>
              <p:cNvPr id="1292" name=""/>
              <p:cNvSpPr/>
              <p:nvPr/>
            </p:nvSpPr>
            <p:spPr>
              <a:xfrm>
                <a:off x="1524240" y="5562720"/>
                <a:ext cx="6094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67652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121896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5" name=""/>
            <p:cNvSpPr/>
            <p:nvPr/>
          </p:nvSpPr>
          <p:spPr>
            <a:xfrm>
              <a:off x="1752480" y="5562720"/>
              <a:ext cx="22860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1142640" y="2509920"/>
            <a:ext cx="228600" cy="919080"/>
            <a:chOff x="1142640" y="2509920"/>
            <a:chExt cx="228600" cy="919080"/>
          </a:xfrm>
        </p:grpSpPr>
        <p:sp>
          <p:nvSpPr>
            <p:cNvPr id="1297" name=""/>
            <p:cNvSpPr/>
            <p:nvPr/>
          </p:nvSpPr>
          <p:spPr>
            <a:xfrm flipH="1">
              <a:off x="1181880" y="2556000"/>
              <a:ext cx="132120" cy="2070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1229400" y="2775240"/>
              <a:ext cx="91080" cy="3045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1146960" y="2784960"/>
              <a:ext cx="101160" cy="2736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1203840" y="3015720"/>
              <a:ext cx="110160" cy="41328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1276920" y="3026160"/>
              <a:ext cx="91080" cy="345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1142640" y="2516760"/>
              <a:ext cx="105120" cy="20268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1240920" y="2509920"/>
              <a:ext cx="130320" cy="31608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1384200" y="243828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837720" y="2814480"/>
            <a:ext cx="228600" cy="919080"/>
            <a:chOff x="837720" y="2814480"/>
            <a:chExt cx="228600" cy="919080"/>
          </a:xfrm>
        </p:grpSpPr>
        <p:sp>
          <p:nvSpPr>
            <p:cNvPr id="1306" name=""/>
            <p:cNvSpPr/>
            <p:nvPr/>
          </p:nvSpPr>
          <p:spPr>
            <a:xfrm flipH="1">
              <a:off x="876960" y="2860560"/>
              <a:ext cx="132120" cy="2070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924480" y="3080160"/>
              <a:ext cx="91080" cy="30492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842040" y="3089520"/>
              <a:ext cx="101160" cy="2736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898920" y="3320280"/>
              <a:ext cx="110160" cy="41328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972000" y="3331080"/>
              <a:ext cx="91080" cy="345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837720" y="2821320"/>
              <a:ext cx="105120" cy="20268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936000" y="2814480"/>
              <a:ext cx="130320" cy="31644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3" name=""/>
          <p:cNvSpPr/>
          <p:nvPr/>
        </p:nvSpPr>
        <p:spPr>
          <a:xfrm>
            <a:off x="1079640" y="274320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457200" y="2639880"/>
            <a:ext cx="171360" cy="636480"/>
            <a:chOff x="457200" y="2639880"/>
            <a:chExt cx="171360" cy="636480"/>
          </a:xfrm>
        </p:grpSpPr>
        <p:sp>
          <p:nvSpPr>
            <p:cNvPr id="1315" name=""/>
            <p:cNvSpPr/>
            <p:nvPr/>
          </p:nvSpPr>
          <p:spPr>
            <a:xfrm flipH="1">
              <a:off x="486720" y="2671920"/>
              <a:ext cx="99000" cy="14328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522360" y="2823840"/>
              <a:ext cx="68400" cy="2109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460080" y="2830320"/>
              <a:ext cx="75960" cy="18936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502920" y="2990160"/>
              <a:ext cx="82800" cy="28620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558000" y="2997720"/>
              <a:ext cx="68400" cy="2394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456840" y="2644560"/>
              <a:ext cx="78840" cy="14040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530640" y="2639880"/>
              <a:ext cx="97920" cy="21924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>
            <a:off x="638280" y="2590920"/>
            <a:ext cx="276120" cy="20952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304560" y="5562720"/>
            <a:ext cx="914760" cy="380880"/>
            <a:chOff x="304560" y="5562720"/>
            <a:chExt cx="914760" cy="380880"/>
          </a:xfrm>
        </p:grpSpPr>
        <p:grpSp>
          <p:nvGrpSpPr>
            <p:cNvPr id="1324" name=""/>
            <p:cNvGrpSpPr/>
            <p:nvPr/>
          </p:nvGrpSpPr>
          <p:grpSpPr>
            <a:xfrm>
              <a:off x="304560" y="5562720"/>
              <a:ext cx="914760" cy="380880"/>
              <a:chOff x="304560" y="5562720"/>
              <a:chExt cx="914760" cy="380880"/>
            </a:xfrm>
          </p:grpSpPr>
          <p:sp>
            <p:nvSpPr>
              <p:cNvPr id="1325" name=""/>
              <p:cNvSpPr/>
              <p:nvPr/>
            </p:nvSpPr>
            <p:spPr>
              <a:xfrm>
                <a:off x="609840" y="5562720"/>
                <a:ext cx="6094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6212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30456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>
              <a:off x="838080" y="5562720"/>
              <a:ext cx="22860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7924680" y="1676520"/>
            <a:ext cx="914400" cy="685800"/>
          </a:xfrm>
          <a:prstGeom prst="wedgeRoundRectCallout">
            <a:avLst>
              <a:gd name="adj1" fmla="val -68750"/>
              <a:gd name="adj2" fmla="val 19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ני ל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נזי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267080" y="533520"/>
            <a:ext cx="3200400" cy="53316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d1fff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419720" y="533160"/>
            <a:ext cx="3047760" cy="53316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ותר הראשו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486040" y="4572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Times New Roman"/>
              </a:rPr>
              <a:t>הותר האחרו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086600" y="1828800"/>
            <a:ext cx="923760" cy="2297160"/>
            <a:chOff x="7086600" y="1828800"/>
            <a:chExt cx="923760" cy="2297160"/>
          </a:xfrm>
        </p:grpSpPr>
        <p:sp>
          <p:nvSpPr>
            <p:cNvPr id="1334" name=""/>
            <p:cNvSpPr/>
            <p:nvPr/>
          </p:nvSpPr>
          <p:spPr>
            <a:xfrm flipH="1">
              <a:off x="7246800" y="1944720"/>
              <a:ext cx="533520" cy="51768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7436880" y="2492640"/>
              <a:ext cx="368280" cy="7617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7103880" y="2516400"/>
              <a:ext cx="409680" cy="6840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7332120" y="3092760"/>
              <a:ext cx="446040" cy="103320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7629120" y="3119400"/>
              <a:ext cx="368280" cy="86364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7086240" y="1846440"/>
              <a:ext cx="425160" cy="50652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7483320" y="1828800"/>
              <a:ext cx="527040" cy="79056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7543800" y="266688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5943600" y="2895480"/>
            <a:ext cx="1371240" cy="2209320"/>
            <a:chOff x="5943600" y="2895480"/>
            <a:chExt cx="1371240" cy="2209320"/>
          </a:xfrm>
        </p:grpSpPr>
        <p:grpSp>
          <p:nvGrpSpPr>
            <p:cNvPr id="1343" name=""/>
            <p:cNvGrpSpPr/>
            <p:nvPr/>
          </p:nvGrpSpPr>
          <p:grpSpPr>
            <a:xfrm>
              <a:off x="5943600" y="3009960"/>
              <a:ext cx="830880" cy="2094840"/>
              <a:chOff x="5943600" y="3009960"/>
              <a:chExt cx="830880" cy="2094840"/>
            </a:xfrm>
          </p:grpSpPr>
          <p:sp>
            <p:nvSpPr>
              <p:cNvPr id="1344" name=""/>
              <p:cNvSpPr/>
              <p:nvPr/>
            </p:nvSpPr>
            <p:spPr>
              <a:xfrm flipH="1">
                <a:off x="6087240" y="3115440"/>
                <a:ext cx="479880" cy="47196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6258960" y="3615120"/>
                <a:ext cx="331200" cy="69444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5959080" y="3637080"/>
                <a:ext cx="368640" cy="62352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6165000" y="4162680"/>
                <a:ext cx="401040" cy="94212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6432120" y="4186800"/>
                <a:ext cx="331200" cy="78768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5943600" y="3025800"/>
                <a:ext cx="382320" cy="46188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6300000" y="3009960"/>
                <a:ext cx="474120" cy="72072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1" name=""/>
            <p:cNvSpPr/>
            <p:nvPr/>
          </p:nvSpPr>
          <p:spPr>
            <a:xfrm>
              <a:off x="6486480" y="2895480"/>
              <a:ext cx="828360" cy="48636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00f8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55080" y="3799080"/>
              <a:ext cx="205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952880" y="2666880"/>
            <a:ext cx="1218960" cy="1980720"/>
            <a:chOff x="4952880" y="2666880"/>
            <a:chExt cx="1218960" cy="1980720"/>
          </a:xfrm>
        </p:grpSpPr>
        <p:grpSp>
          <p:nvGrpSpPr>
            <p:cNvPr id="1354" name=""/>
            <p:cNvGrpSpPr/>
            <p:nvPr/>
          </p:nvGrpSpPr>
          <p:grpSpPr>
            <a:xfrm>
              <a:off x="4952880" y="2769480"/>
              <a:ext cx="738720" cy="1878120"/>
              <a:chOff x="4952880" y="2769480"/>
              <a:chExt cx="738720" cy="1878120"/>
            </a:xfrm>
          </p:grpSpPr>
          <p:sp>
            <p:nvSpPr>
              <p:cNvPr id="1355" name=""/>
              <p:cNvSpPr/>
              <p:nvPr/>
            </p:nvSpPr>
            <p:spPr>
              <a:xfrm flipH="1">
                <a:off x="5080680" y="2864160"/>
                <a:ext cx="426600" cy="4230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5233320" y="3312000"/>
                <a:ext cx="294480" cy="62280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4966560" y="3331440"/>
                <a:ext cx="327600" cy="55908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5149080" y="3803040"/>
                <a:ext cx="356760" cy="84456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>
                <a:off x="5387040" y="3824640"/>
                <a:ext cx="294480" cy="70596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4952880" y="2783880"/>
                <a:ext cx="339840" cy="41400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>
                <a:off x="5269680" y="2769480"/>
                <a:ext cx="421560" cy="64620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>
              <a:off x="5435280" y="2666880"/>
              <a:ext cx="736560" cy="4352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a3ff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223600" y="3486600"/>
              <a:ext cx="27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3962880" y="3276720"/>
            <a:ext cx="1065960" cy="1751760"/>
            <a:chOff x="3962880" y="3276720"/>
            <a:chExt cx="1065960" cy="1751760"/>
          </a:xfrm>
        </p:grpSpPr>
        <p:grpSp>
          <p:nvGrpSpPr>
            <p:cNvPr id="1365" name=""/>
            <p:cNvGrpSpPr/>
            <p:nvPr/>
          </p:nvGrpSpPr>
          <p:grpSpPr>
            <a:xfrm>
              <a:off x="3962880" y="3367440"/>
              <a:ext cx="646200" cy="1661040"/>
              <a:chOff x="3962880" y="3367440"/>
              <a:chExt cx="646200" cy="1661040"/>
            </a:xfrm>
          </p:grpSpPr>
          <p:sp>
            <p:nvSpPr>
              <p:cNvPr id="1366" name=""/>
              <p:cNvSpPr/>
              <p:nvPr/>
            </p:nvSpPr>
            <p:spPr>
              <a:xfrm flipH="1">
                <a:off x="4074480" y="3450960"/>
                <a:ext cx="373320" cy="3744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4208040" y="3847320"/>
                <a:ext cx="257760" cy="55080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3974760" y="3864600"/>
                <a:ext cx="286560" cy="49464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4134600" y="4281480"/>
                <a:ext cx="312120" cy="74700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342680" y="4300560"/>
                <a:ext cx="257760" cy="62460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3962880" y="3380040"/>
                <a:ext cx="297360" cy="36612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4240440" y="3367440"/>
                <a:ext cx="368640" cy="5716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>
              <a:off x="4384440" y="3276720"/>
              <a:ext cx="644400" cy="3848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a3ff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2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99040" y="400176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3352320" y="2971800"/>
            <a:ext cx="1067040" cy="1751760"/>
            <a:chOff x="3352320" y="2971800"/>
            <a:chExt cx="1067040" cy="1751760"/>
          </a:xfrm>
        </p:grpSpPr>
        <p:grpSp>
          <p:nvGrpSpPr>
            <p:cNvPr id="1376" name=""/>
            <p:cNvGrpSpPr/>
            <p:nvPr/>
          </p:nvGrpSpPr>
          <p:grpSpPr>
            <a:xfrm>
              <a:off x="3352320" y="3062520"/>
              <a:ext cx="646920" cy="1661040"/>
              <a:chOff x="3352320" y="3062520"/>
              <a:chExt cx="646920" cy="1661040"/>
            </a:xfrm>
          </p:grpSpPr>
          <p:sp>
            <p:nvSpPr>
              <p:cNvPr id="1377" name=""/>
              <p:cNvSpPr/>
              <p:nvPr/>
            </p:nvSpPr>
            <p:spPr>
              <a:xfrm flipH="1">
                <a:off x="3464640" y="3146040"/>
                <a:ext cx="373680" cy="3744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3598200" y="3542400"/>
                <a:ext cx="257760" cy="55080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3364200" y="3559680"/>
                <a:ext cx="286920" cy="49464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3524400" y="3976560"/>
                <a:ext cx="312120" cy="74700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3732840" y="3995640"/>
                <a:ext cx="257760" cy="62460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3351960" y="3075120"/>
                <a:ext cx="297720" cy="36612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3629880" y="3062520"/>
                <a:ext cx="369000" cy="5716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3774960" y="2971800"/>
              <a:ext cx="644400" cy="3848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a3ff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0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589560" y="36968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2895840" y="2590920"/>
            <a:ext cx="913680" cy="1599480"/>
            <a:chOff x="2895840" y="2590920"/>
            <a:chExt cx="913680" cy="1599480"/>
          </a:xfrm>
        </p:grpSpPr>
        <p:grpSp>
          <p:nvGrpSpPr>
            <p:cNvPr id="1387" name=""/>
            <p:cNvGrpSpPr/>
            <p:nvPr/>
          </p:nvGrpSpPr>
          <p:grpSpPr>
            <a:xfrm>
              <a:off x="2895840" y="2673720"/>
              <a:ext cx="554040" cy="1516680"/>
              <a:chOff x="2895840" y="2673720"/>
              <a:chExt cx="554040" cy="1516680"/>
            </a:xfrm>
          </p:grpSpPr>
          <p:sp>
            <p:nvSpPr>
              <p:cNvPr id="1388" name=""/>
              <p:cNvSpPr/>
              <p:nvPr/>
            </p:nvSpPr>
            <p:spPr>
              <a:xfrm flipH="1">
                <a:off x="2991600" y="2750040"/>
                <a:ext cx="320040" cy="34164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3106080" y="3111840"/>
                <a:ext cx="221040" cy="50292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>
                <a:off x="2905560" y="3127680"/>
                <a:ext cx="245880" cy="45144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3043080" y="3508200"/>
                <a:ext cx="267480" cy="68220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3221280" y="3525840"/>
                <a:ext cx="221040" cy="57024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2895840" y="2685240"/>
                <a:ext cx="254880" cy="33444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3133800" y="2673720"/>
                <a:ext cx="316080" cy="52200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5" name=""/>
            <p:cNvSpPr/>
            <p:nvPr/>
          </p:nvSpPr>
          <p:spPr>
            <a:xfrm>
              <a:off x="3257280" y="2590920"/>
              <a:ext cx="552240" cy="35136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a3ff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98520" y="3252960"/>
              <a:ext cx="20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2286000" y="2362320"/>
            <a:ext cx="609480" cy="1370880"/>
            <a:chOff x="2286000" y="2362320"/>
            <a:chExt cx="609480" cy="1370880"/>
          </a:xfrm>
        </p:grpSpPr>
        <p:grpSp>
          <p:nvGrpSpPr>
            <p:cNvPr id="1398" name=""/>
            <p:cNvGrpSpPr/>
            <p:nvPr/>
          </p:nvGrpSpPr>
          <p:grpSpPr>
            <a:xfrm>
              <a:off x="2286000" y="2433240"/>
              <a:ext cx="369360" cy="1299960"/>
              <a:chOff x="2286000" y="2433240"/>
              <a:chExt cx="369360" cy="1299960"/>
            </a:xfrm>
          </p:grpSpPr>
          <p:sp>
            <p:nvSpPr>
              <p:cNvPr id="1399" name=""/>
              <p:cNvSpPr/>
              <p:nvPr/>
            </p:nvSpPr>
            <p:spPr>
              <a:xfrm flipH="1">
                <a:off x="2350440" y="2498760"/>
                <a:ext cx="213120" cy="29304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2426040" y="2808720"/>
                <a:ext cx="147240" cy="43092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2292480" y="2822400"/>
                <a:ext cx="163800" cy="38700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2384280" y="3148560"/>
                <a:ext cx="178200" cy="58464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2502720" y="3163680"/>
                <a:ext cx="147240" cy="48888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2286000" y="2442960"/>
                <a:ext cx="169920" cy="28656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2444400" y="2433240"/>
                <a:ext cx="210600" cy="4474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6" name=""/>
            <p:cNvSpPr/>
            <p:nvPr/>
          </p:nvSpPr>
          <p:spPr>
            <a:xfrm>
              <a:off x="2527200" y="2362320"/>
              <a:ext cx="368280" cy="3020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d1ff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</a:rPr>
                <a:t>ואנ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421360" y="2929680"/>
              <a:ext cx="13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1752480" y="2133720"/>
            <a:ext cx="609480" cy="1370880"/>
            <a:chOff x="1752480" y="2133720"/>
            <a:chExt cx="609480" cy="1370880"/>
          </a:xfrm>
        </p:grpSpPr>
        <p:grpSp>
          <p:nvGrpSpPr>
            <p:cNvPr id="1409" name=""/>
            <p:cNvGrpSpPr/>
            <p:nvPr/>
          </p:nvGrpSpPr>
          <p:grpSpPr>
            <a:xfrm>
              <a:off x="1752480" y="2204640"/>
              <a:ext cx="369360" cy="1299960"/>
              <a:chOff x="1752480" y="2204640"/>
              <a:chExt cx="369360" cy="1299960"/>
            </a:xfrm>
          </p:grpSpPr>
          <p:sp>
            <p:nvSpPr>
              <p:cNvPr id="1410" name=""/>
              <p:cNvSpPr/>
              <p:nvPr/>
            </p:nvSpPr>
            <p:spPr>
              <a:xfrm flipH="1">
                <a:off x="1816920" y="2270160"/>
                <a:ext cx="213120" cy="29304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1892520" y="2580120"/>
                <a:ext cx="147240" cy="43092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1758960" y="2593800"/>
                <a:ext cx="163800" cy="38700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1850760" y="2919960"/>
                <a:ext cx="178200" cy="58464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1969200" y="2935080"/>
                <a:ext cx="147240" cy="48888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1752480" y="2214360"/>
                <a:ext cx="169920" cy="28656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1910880" y="2204640"/>
                <a:ext cx="210600" cy="4474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7" name=""/>
            <p:cNvSpPr/>
            <p:nvPr/>
          </p:nvSpPr>
          <p:spPr>
            <a:xfrm>
              <a:off x="1993680" y="2133720"/>
              <a:ext cx="368280" cy="3020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d1ff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000000"/>
                  </a:solidFill>
                  <a:latin typeface="Times New Roman"/>
                </a:rPr>
                <a:t>ואנ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87840" y="2701080"/>
              <a:ext cx="13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1752480" y="5257800"/>
            <a:ext cx="7086600" cy="380880"/>
            <a:chOff x="1752480" y="5257800"/>
            <a:chExt cx="7086600" cy="380880"/>
          </a:xfrm>
        </p:grpSpPr>
        <p:grpSp>
          <p:nvGrpSpPr>
            <p:cNvPr id="1420" name=""/>
            <p:cNvGrpSpPr/>
            <p:nvPr/>
          </p:nvGrpSpPr>
          <p:grpSpPr>
            <a:xfrm>
              <a:off x="7924320" y="5257800"/>
              <a:ext cx="914760" cy="380880"/>
              <a:chOff x="7924320" y="5257800"/>
              <a:chExt cx="914760" cy="380880"/>
            </a:xfrm>
          </p:grpSpPr>
          <p:grpSp>
            <p:nvGrpSpPr>
              <p:cNvPr id="1421" name=""/>
              <p:cNvGrpSpPr/>
              <p:nvPr/>
            </p:nvGrpSpPr>
            <p:grpSpPr>
              <a:xfrm>
                <a:off x="7924320" y="5257800"/>
                <a:ext cx="914760" cy="380880"/>
                <a:chOff x="7924320" y="5257800"/>
                <a:chExt cx="914760" cy="38088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8229600" y="5257800"/>
                  <a:ext cx="609480" cy="380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838188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H="1">
                  <a:off x="7924320" y="548640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5" name=""/>
              <p:cNvSpPr/>
              <p:nvPr/>
            </p:nvSpPr>
            <p:spPr>
              <a:xfrm>
                <a:off x="8458200" y="525780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7009920" y="5257800"/>
              <a:ext cx="914760" cy="380880"/>
              <a:chOff x="7009920" y="5257800"/>
              <a:chExt cx="914760" cy="380880"/>
            </a:xfrm>
          </p:grpSpPr>
          <p:grpSp>
            <p:nvGrpSpPr>
              <p:cNvPr id="1427" name=""/>
              <p:cNvGrpSpPr/>
              <p:nvPr/>
            </p:nvGrpSpPr>
            <p:grpSpPr>
              <a:xfrm>
                <a:off x="7009920" y="5257800"/>
                <a:ext cx="914760" cy="380880"/>
                <a:chOff x="7009920" y="5257800"/>
                <a:chExt cx="914760" cy="3808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7315200" y="5257800"/>
                  <a:ext cx="609480" cy="380880"/>
                </a:xfrm>
                <a:prstGeom prst="rect">
                  <a:avLst/>
                </a:prstGeom>
                <a:solidFill>
                  <a:srgbClr val="00f8b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746748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H="1">
                  <a:off x="7009920" y="548640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1" name=""/>
              <p:cNvSpPr/>
              <p:nvPr/>
            </p:nvSpPr>
            <p:spPr>
              <a:xfrm>
                <a:off x="7543800" y="525780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6095520" y="5257800"/>
              <a:ext cx="914760" cy="380880"/>
              <a:chOff x="6095520" y="5257800"/>
              <a:chExt cx="914760" cy="380880"/>
            </a:xfrm>
          </p:grpSpPr>
          <p:grpSp>
            <p:nvGrpSpPr>
              <p:cNvPr id="1433" name=""/>
              <p:cNvGrpSpPr/>
              <p:nvPr/>
            </p:nvGrpSpPr>
            <p:grpSpPr>
              <a:xfrm>
                <a:off x="6095520" y="5257800"/>
                <a:ext cx="914760" cy="380880"/>
                <a:chOff x="6095520" y="5257800"/>
                <a:chExt cx="914760" cy="3808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400800" y="5257800"/>
                  <a:ext cx="609480" cy="380880"/>
                </a:xfrm>
                <a:prstGeom prst="rect">
                  <a:avLst/>
                </a:prstGeom>
                <a:solidFill>
                  <a:srgbClr val="57ff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55308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>
                  <a:off x="6095520" y="548640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6629400" y="525780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5181120" y="5257800"/>
              <a:ext cx="914760" cy="380880"/>
              <a:chOff x="5181120" y="5257800"/>
              <a:chExt cx="914760" cy="380880"/>
            </a:xfrm>
          </p:grpSpPr>
          <p:grpSp>
            <p:nvGrpSpPr>
              <p:cNvPr id="1439" name=""/>
              <p:cNvGrpSpPr/>
              <p:nvPr/>
            </p:nvGrpSpPr>
            <p:grpSpPr>
              <a:xfrm>
                <a:off x="5181120" y="5257800"/>
                <a:ext cx="914760" cy="380880"/>
                <a:chOff x="5181120" y="5257800"/>
                <a:chExt cx="914760" cy="3808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5486400" y="5257800"/>
                  <a:ext cx="609480" cy="380880"/>
                </a:xfrm>
                <a:prstGeom prst="rect">
                  <a:avLst/>
                </a:prstGeom>
                <a:solidFill>
                  <a:srgbClr val="57ffd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63868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H="1">
                  <a:off x="5181120" y="548640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3" name=""/>
              <p:cNvSpPr/>
              <p:nvPr/>
            </p:nvSpPr>
            <p:spPr>
              <a:xfrm>
                <a:off x="5715000" y="525780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4266720" y="5257800"/>
              <a:ext cx="914760" cy="380880"/>
              <a:chOff x="4266720" y="5257800"/>
              <a:chExt cx="914760" cy="380880"/>
            </a:xfrm>
          </p:grpSpPr>
          <p:grpSp>
            <p:nvGrpSpPr>
              <p:cNvPr id="1445" name=""/>
              <p:cNvGrpSpPr/>
              <p:nvPr/>
            </p:nvGrpSpPr>
            <p:grpSpPr>
              <a:xfrm>
                <a:off x="4266720" y="5257800"/>
                <a:ext cx="914760" cy="380880"/>
                <a:chOff x="4266720" y="5257800"/>
                <a:chExt cx="914760" cy="38088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4572000" y="5257800"/>
                  <a:ext cx="609480" cy="380880"/>
                </a:xfrm>
                <a:prstGeom prst="rect">
                  <a:avLst/>
                </a:prstGeom>
                <a:solidFill>
                  <a:srgbClr val="a3ffe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472428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H="1">
                  <a:off x="4266720" y="548640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4800600" y="525780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3276360" y="5257800"/>
              <a:ext cx="914760" cy="380880"/>
              <a:chOff x="3276360" y="5257800"/>
              <a:chExt cx="914760" cy="380880"/>
            </a:xfrm>
          </p:grpSpPr>
          <p:grpSp>
            <p:nvGrpSpPr>
              <p:cNvPr id="1451" name=""/>
              <p:cNvGrpSpPr/>
              <p:nvPr/>
            </p:nvGrpSpPr>
            <p:grpSpPr>
              <a:xfrm>
                <a:off x="3276360" y="5257800"/>
                <a:ext cx="914760" cy="380880"/>
                <a:chOff x="3276360" y="5257800"/>
                <a:chExt cx="914760" cy="38088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3581640" y="5257800"/>
                  <a:ext cx="609480" cy="380880"/>
                </a:xfrm>
                <a:prstGeom prst="rect">
                  <a:avLst/>
                </a:prstGeom>
                <a:solidFill>
                  <a:srgbClr val="a3ffe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373392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>
                  <a:off x="3276360" y="548640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5" name=""/>
              <p:cNvSpPr/>
              <p:nvPr/>
            </p:nvSpPr>
            <p:spPr>
              <a:xfrm>
                <a:off x="3809880" y="525780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2361960" y="5257800"/>
              <a:ext cx="914760" cy="380880"/>
              <a:chOff x="2361960" y="5257800"/>
              <a:chExt cx="914760" cy="380880"/>
            </a:xfrm>
          </p:grpSpPr>
          <p:grpSp>
            <p:nvGrpSpPr>
              <p:cNvPr id="1457" name=""/>
              <p:cNvGrpSpPr/>
              <p:nvPr/>
            </p:nvGrpSpPr>
            <p:grpSpPr>
              <a:xfrm>
                <a:off x="2361960" y="5257800"/>
                <a:ext cx="914760" cy="380880"/>
                <a:chOff x="2361960" y="5257800"/>
                <a:chExt cx="914760" cy="38088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667240" y="5257800"/>
                  <a:ext cx="609480" cy="380880"/>
                </a:xfrm>
                <a:prstGeom prst="rect">
                  <a:avLst/>
                </a:prstGeom>
                <a:solidFill>
                  <a:srgbClr val="d1fff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281952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H="1">
                  <a:off x="2361960" y="5486400"/>
                  <a:ext cx="27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1" name=""/>
              <p:cNvSpPr/>
              <p:nvPr/>
            </p:nvSpPr>
            <p:spPr>
              <a:xfrm>
                <a:off x="2895480" y="525780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ff0066"/>
                    </a:solidFill>
                    <a:latin typeface="Times New Roman"/>
                  </a:rPr>
                  <a:t>ז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2" name=""/>
            <p:cNvSpPr/>
            <p:nvPr/>
          </p:nvSpPr>
          <p:spPr>
            <a:xfrm>
              <a:off x="1752480" y="5257800"/>
              <a:ext cx="609840" cy="380880"/>
            </a:xfrm>
            <a:prstGeom prst="rect">
              <a:avLst/>
            </a:prstGeom>
            <a:solidFill>
              <a:srgbClr val="d1ff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90512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981080" y="5257800"/>
              <a:ext cx="22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1142640" y="2438280"/>
            <a:ext cx="609840" cy="990720"/>
            <a:chOff x="1142640" y="2438280"/>
            <a:chExt cx="609840" cy="990720"/>
          </a:xfrm>
        </p:grpSpPr>
        <p:grpSp>
          <p:nvGrpSpPr>
            <p:cNvPr id="1466" name=""/>
            <p:cNvGrpSpPr/>
            <p:nvPr/>
          </p:nvGrpSpPr>
          <p:grpSpPr>
            <a:xfrm>
              <a:off x="1142640" y="2509920"/>
              <a:ext cx="228600" cy="919080"/>
              <a:chOff x="1142640" y="2509920"/>
              <a:chExt cx="228600" cy="919080"/>
            </a:xfrm>
          </p:grpSpPr>
          <p:sp>
            <p:nvSpPr>
              <p:cNvPr id="1467" name=""/>
              <p:cNvSpPr/>
              <p:nvPr/>
            </p:nvSpPr>
            <p:spPr>
              <a:xfrm flipH="1">
                <a:off x="1181880" y="2556000"/>
                <a:ext cx="132120" cy="2070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229400" y="2775240"/>
                <a:ext cx="91080" cy="30456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1146960" y="2784960"/>
                <a:ext cx="101160" cy="27360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1203840" y="3015720"/>
                <a:ext cx="110160" cy="41328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>
                <a:off x="1276920" y="3026160"/>
                <a:ext cx="91080" cy="34560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1142640" y="2516760"/>
                <a:ext cx="105120" cy="20268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1240920" y="2509920"/>
                <a:ext cx="130320" cy="3160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1384200" y="2438280"/>
              <a:ext cx="368280" cy="30168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d5ff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837720" y="2743200"/>
            <a:ext cx="609840" cy="990720"/>
            <a:chOff x="837720" y="2743200"/>
            <a:chExt cx="609840" cy="990720"/>
          </a:xfrm>
        </p:grpSpPr>
        <p:grpSp>
          <p:nvGrpSpPr>
            <p:cNvPr id="1476" name=""/>
            <p:cNvGrpSpPr/>
            <p:nvPr/>
          </p:nvGrpSpPr>
          <p:grpSpPr>
            <a:xfrm>
              <a:off x="837720" y="2814840"/>
              <a:ext cx="228600" cy="919080"/>
              <a:chOff x="837720" y="2814840"/>
              <a:chExt cx="228600" cy="919080"/>
            </a:xfrm>
          </p:grpSpPr>
          <p:sp>
            <p:nvSpPr>
              <p:cNvPr id="1477" name=""/>
              <p:cNvSpPr/>
              <p:nvPr/>
            </p:nvSpPr>
            <p:spPr>
              <a:xfrm flipH="1">
                <a:off x="876960" y="2860920"/>
                <a:ext cx="132120" cy="2070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924480" y="3080160"/>
                <a:ext cx="91080" cy="30456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842040" y="3089880"/>
                <a:ext cx="101160" cy="27360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>
                <a:off x="898920" y="3320640"/>
                <a:ext cx="110160" cy="41328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972000" y="3331080"/>
                <a:ext cx="91080" cy="34560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837720" y="2821680"/>
                <a:ext cx="105120" cy="20268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936000" y="2814840"/>
                <a:ext cx="130320" cy="31608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4" name=""/>
            <p:cNvSpPr/>
            <p:nvPr/>
          </p:nvSpPr>
          <p:spPr>
            <a:xfrm>
              <a:off x="1079280" y="2743200"/>
              <a:ext cx="368280" cy="30168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d5ff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457200" y="2639880"/>
            <a:ext cx="171360" cy="636480"/>
            <a:chOff x="457200" y="2639880"/>
            <a:chExt cx="171360" cy="636480"/>
          </a:xfrm>
        </p:grpSpPr>
        <p:sp>
          <p:nvSpPr>
            <p:cNvPr id="1486" name=""/>
            <p:cNvSpPr/>
            <p:nvPr/>
          </p:nvSpPr>
          <p:spPr>
            <a:xfrm>
              <a:off x="499680" y="2671920"/>
              <a:ext cx="99000" cy="14328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5000" y="2823840"/>
              <a:ext cx="68400" cy="2109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49360" y="2830320"/>
              <a:ext cx="75960" cy="18936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0040" y="2990160"/>
              <a:ext cx="82800" cy="28620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9360" y="2997720"/>
              <a:ext cx="68400" cy="2394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49720" y="2644560"/>
              <a:ext cx="78840" cy="14040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57200" y="2639880"/>
              <a:ext cx="97920" cy="21924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3" name=""/>
          <p:cNvSpPr/>
          <p:nvPr/>
        </p:nvSpPr>
        <p:spPr>
          <a:xfrm>
            <a:off x="638280" y="2590920"/>
            <a:ext cx="276120" cy="20952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1447920" y="5410080"/>
            <a:ext cx="272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533520" y="5791320"/>
            <a:ext cx="609480" cy="380880"/>
            <a:chOff x="533520" y="5791320"/>
            <a:chExt cx="609480" cy="380880"/>
          </a:xfrm>
        </p:grpSpPr>
        <p:sp>
          <p:nvSpPr>
            <p:cNvPr id="1496" name=""/>
            <p:cNvSpPr/>
            <p:nvPr/>
          </p:nvSpPr>
          <p:spPr>
            <a:xfrm>
              <a:off x="533520" y="5791320"/>
              <a:ext cx="60948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5800" y="5791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62120" y="5791320"/>
              <a:ext cx="228600" cy="365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9" name=""/>
          <p:cNvSpPr/>
          <p:nvPr/>
        </p:nvSpPr>
        <p:spPr>
          <a:xfrm>
            <a:off x="7696080" y="1447920"/>
            <a:ext cx="1219320" cy="761760"/>
          </a:xfrm>
          <a:prstGeom prst="wedgeEllipseCallout">
            <a:avLst>
              <a:gd name="adj1" fmla="val -4413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הריני נזי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rot="20001600">
            <a:off x="380880" y="761760"/>
            <a:ext cx="391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0066"/>
                </a:solidFill>
                <a:latin typeface="Times New Roman"/>
              </a:rPr>
              <a:t>האחרון מותר וכולם אסורי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1295280" y="5257800"/>
            <a:ext cx="152280" cy="380880"/>
            <a:chOff x="1295280" y="5257800"/>
            <a:chExt cx="152280" cy="380880"/>
          </a:xfrm>
        </p:grpSpPr>
        <p:sp>
          <p:nvSpPr>
            <p:cNvPr id="1502" name=""/>
            <p:cNvSpPr/>
            <p:nvPr/>
          </p:nvSpPr>
          <p:spPr>
            <a:xfrm>
              <a:off x="1447560" y="525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371240" y="5333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295280" y="536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714640" y="456840"/>
            <a:ext cx="2895480" cy="30492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c9935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663300"/>
                </a:solidFill>
                <a:latin typeface="Times New Roman"/>
              </a:rPr>
              <a:t>הותר אמצע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6858000" y="1676520"/>
            <a:ext cx="1974960" cy="2422440"/>
            <a:chOff x="6858000" y="1676520"/>
            <a:chExt cx="1974960" cy="2422440"/>
          </a:xfrm>
        </p:grpSpPr>
        <p:grpSp>
          <p:nvGrpSpPr>
            <p:cNvPr id="1507" name=""/>
            <p:cNvGrpSpPr/>
            <p:nvPr/>
          </p:nvGrpSpPr>
          <p:grpSpPr>
            <a:xfrm>
              <a:off x="6858000" y="1676520"/>
              <a:ext cx="1974960" cy="2422440"/>
              <a:chOff x="6858000" y="1676520"/>
              <a:chExt cx="1974960" cy="2422440"/>
            </a:xfrm>
          </p:grpSpPr>
          <p:grpSp>
            <p:nvGrpSpPr>
              <p:cNvPr id="1508" name=""/>
              <p:cNvGrpSpPr/>
              <p:nvPr/>
            </p:nvGrpSpPr>
            <p:grpSpPr>
              <a:xfrm>
                <a:off x="6858000" y="1801800"/>
                <a:ext cx="923760" cy="2297160"/>
                <a:chOff x="6858000" y="1801800"/>
                <a:chExt cx="923760" cy="2297160"/>
              </a:xfrm>
            </p:grpSpPr>
            <p:sp>
              <p:nvSpPr>
                <p:cNvPr id="1509" name=""/>
                <p:cNvSpPr/>
                <p:nvPr/>
              </p:nvSpPr>
              <p:spPr>
                <a:xfrm flipH="1">
                  <a:off x="7018200" y="1917720"/>
                  <a:ext cx="533520" cy="517680"/>
                </a:xfrm>
                <a:custGeom>
                  <a:avLst/>
                  <a:gdLst/>
                  <a:ahLst/>
                  <a:rect l="l" t="t" r="r" b="b"/>
                  <a:pathLst>
                    <a:path w="672" h="653">
                      <a:moveTo>
                        <a:pt x="205" y="276"/>
                      </a:moveTo>
                      <a:lnTo>
                        <a:pt x="264" y="189"/>
                      </a:lnTo>
                      <a:lnTo>
                        <a:pt x="330" y="123"/>
                      </a:lnTo>
                      <a:lnTo>
                        <a:pt x="395" y="44"/>
                      </a:lnTo>
                      <a:lnTo>
                        <a:pt x="475" y="7"/>
                      </a:lnTo>
                      <a:lnTo>
                        <a:pt x="541" y="0"/>
                      </a:lnTo>
                      <a:lnTo>
                        <a:pt x="606" y="23"/>
                      </a:lnTo>
                      <a:lnTo>
                        <a:pt x="644" y="73"/>
                      </a:lnTo>
                      <a:lnTo>
                        <a:pt x="672" y="167"/>
                      </a:lnTo>
                      <a:lnTo>
                        <a:pt x="665" y="269"/>
                      </a:lnTo>
                      <a:lnTo>
                        <a:pt x="636" y="356"/>
                      </a:lnTo>
                      <a:lnTo>
                        <a:pt x="563" y="457"/>
                      </a:lnTo>
                      <a:lnTo>
                        <a:pt x="483" y="529"/>
                      </a:lnTo>
                      <a:lnTo>
                        <a:pt x="395" y="595"/>
                      </a:lnTo>
                      <a:lnTo>
                        <a:pt x="300" y="638"/>
                      </a:lnTo>
                      <a:lnTo>
                        <a:pt x="219" y="653"/>
                      </a:lnTo>
                      <a:lnTo>
                        <a:pt x="183" y="630"/>
                      </a:lnTo>
                      <a:lnTo>
                        <a:pt x="154" y="543"/>
                      </a:lnTo>
                      <a:lnTo>
                        <a:pt x="162" y="427"/>
                      </a:lnTo>
                      <a:lnTo>
                        <a:pt x="22" y="435"/>
                      </a:lnTo>
                      <a:lnTo>
                        <a:pt x="0" y="413"/>
                      </a:lnTo>
                      <a:lnTo>
                        <a:pt x="22" y="370"/>
                      </a:lnTo>
                      <a:lnTo>
                        <a:pt x="169" y="363"/>
                      </a:lnTo>
                      <a:lnTo>
                        <a:pt x="205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flipH="1">
                  <a:off x="7208280" y="2465640"/>
                  <a:ext cx="368280" cy="761760"/>
                </a:xfrm>
                <a:custGeom>
                  <a:avLst/>
                  <a:gdLst/>
                  <a:ahLst/>
                  <a:rect l="l" t="t" r="r" b="b"/>
                  <a:pathLst>
                    <a:path w="465" h="962">
                      <a:moveTo>
                        <a:pt x="130" y="80"/>
                      </a:moveTo>
                      <a:lnTo>
                        <a:pt x="196" y="22"/>
                      </a:lnTo>
                      <a:lnTo>
                        <a:pt x="298" y="0"/>
                      </a:lnTo>
                      <a:lnTo>
                        <a:pt x="385" y="14"/>
                      </a:lnTo>
                      <a:lnTo>
                        <a:pt x="451" y="73"/>
                      </a:lnTo>
                      <a:lnTo>
                        <a:pt x="465" y="116"/>
                      </a:lnTo>
                      <a:lnTo>
                        <a:pt x="465" y="175"/>
                      </a:lnTo>
                      <a:lnTo>
                        <a:pt x="435" y="226"/>
                      </a:lnTo>
                      <a:lnTo>
                        <a:pt x="385" y="313"/>
                      </a:lnTo>
                      <a:lnTo>
                        <a:pt x="363" y="415"/>
                      </a:lnTo>
                      <a:lnTo>
                        <a:pt x="356" y="503"/>
                      </a:lnTo>
                      <a:lnTo>
                        <a:pt x="378" y="597"/>
                      </a:lnTo>
                      <a:lnTo>
                        <a:pt x="435" y="685"/>
                      </a:lnTo>
                      <a:lnTo>
                        <a:pt x="458" y="772"/>
                      </a:lnTo>
                      <a:lnTo>
                        <a:pt x="451" y="853"/>
                      </a:lnTo>
                      <a:lnTo>
                        <a:pt x="407" y="918"/>
                      </a:lnTo>
                      <a:lnTo>
                        <a:pt x="349" y="955"/>
                      </a:lnTo>
                      <a:lnTo>
                        <a:pt x="276" y="962"/>
                      </a:lnTo>
                      <a:lnTo>
                        <a:pt x="189" y="962"/>
                      </a:lnTo>
                      <a:lnTo>
                        <a:pt x="123" y="926"/>
                      </a:lnTo>
                      <a:lnTo>
                        <a:pt x="59" y="816"/>
                      </a:lnTo>
                      <a:lnTo>
                        <a:pt x="14" y="721"/>
                      </a:lnTo>
                      <a:lnTo>
                        <a:pt x="0" y="576"/>
                      </a:lnTo>
                      <a:lnTo>
                        <a:pt x="14" y="445"/>
                      </a:lnTo>
                      <a:lnTo>
                        <a:pt x="43" y="306"/>
                      </a:lnTo>
                      <a:lnTo>
                        <a:pt x="87" y="168"/>
                      </a:lnTo>
                      <a:lnTo>
                        <a:pt x="13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H="1">
                  <a:off x="6875280" y="2489400"/>
                  <a:ext cx="409680" cy="684000"/>
                </a:xfrm>
                <a:custGeom>
                  <a:avLst/>
                  <a:gdLst/>
                  <a:ahLst/>
                  <a:rect l="l" t="t" r="r" b="b"/>
                  <a:pathLst>
                    <a:path w="518" h="863">
                      <a:moveTo>
                        <a:pt x="0" y="43"/>
                      </a:moveTo>
                      <a:lnTo>
                        <a:pt x="9" y="7"/>
                      </a:lnTo>
                      <a:lnTo>
                        <a:pt x="88" y="0"/>
                      </a:lnTo>
                      <a:lnTo>
                        <a:pt x="132" y="36"/>
                      </a:lnTo>
                      <a:lnTo>
                        <a:pt x="198" y="130"/>
                      </a:lnTo>
                      <a:lnTo>
                        <a:pt x="286" y="253"/>
                      </a:lnTo>
                      <a:lnTo>
                        <a:pt x="365" y="341"/>
                      </a:lnTo>
                      <a:lnTo>
                        <a:pt x="511" y="500"/>
                      </a:lnTo>
                      <a:lnTo>
                        <a:pt x="518" y="537"/>
                      </a:lnTo>
                      <a:lnTo>
                        <a:pt x="490" y="558"/>
                      </a:lnTo>
                      <a:lnTo>
                        <a:pt x="417" y="587"/>
                      </a:lnTo>
                      <a:lnTo>
                        <a:pt x="315" y="609"/>
                      </a:lnTo>
                      <a:lnTo>
                        <a:pt x="191" y="617"/>
                      </a:lnTo>
                      <a:lnTo>
                        <a:pt x="147" y="624"/>
                      </a:lnTo>
                      <a:lnTo>
                        <a:pt x="132" y="653"/>
                      </a:lnTo>
                      <a:lnTo>
                        <a:pt x="161" y="703"/>
                      </a:lnTo>
                      <a:lnTo>
                        <a:pt x="263" y="790"/>
                      </a:lnTo>
                      <a:lnTo>
                        <a:pt x="336" y="812"/>
                      </a:lnTo>
                      <a:lnTo>
                        <a:pt x="351" y="841"/>
                      </a:lnTo>
                      <a:lnTo>
                        <a:pt x="322" y="863"/>
                      </a:lnTo>
                      <a:lnTo>
                        <a:pt x="256" y="863"/>
                      </a:lnTo>
                      <a:lnTo>
                        <a:pt x="168" y="812"/>
                      </a:lnTo>
                      <a:lnTo>
                        <a:pt x="96" y="740"/>
                      </a:lnTo>
                      <a:lnTo>
                        <a:pt x="52" y="674"/>
                      </a:lnTo>
                      <a:lnTo>
                        <a:pt x="52" y="624"/>
                      </a:lnTo>
                      <a:lnTo>
                        <a:pt x="81" y="587"/>
                      </a:lnTo>
                      <a:lnTo>
                        <a:pt x="125" y="573"/>
                      </a:lnTo>
                      <a:lnTo>
                        <a:pt x="191" y="565"/>
                      </a:lnTo>
                      <a:lnTo>
                        <a:pt x="263" y="565"/>
                      </a:lnTo>
                      <a:lnTo>
                        <a:pt x="351" y="551"/>
                      </a:lnTo>
                      <a:lnTo>
                        <a:pt x="395" y="537"/>
                      </a:lnTo>
                      <a:lnTo>
                        <a:pt x="417" y="514"/>
                      </a:lnTo>
                      <a:lnTo>
                        <a:pt x="409" y="493"/>
                      </a:lnTo>
                      <a:lnTo>
                        <a:pt x="343" y="435"/>
                      </a:lnTo>
                      <a:lnTo>
                        <a:pt x="241" y="334"/>
                      </a:lnTo>
                      <a:lnTo>
                        <a:pt x="147" y="246"/>
                      </a:lnTo>
                      <a:lnTo>
                        <a:pt x="45" y="152"/>
                      </a:lnTo>
                      <a:lnTo>
                        <a:pt x="9" y="8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H="1">
                  <a:off x="7103520" y="3065760"/>
                  <a:ext cx="446040" cy="1033200"/>
                </a:xfrm>
                <a:custGeom>
                  <a:avLst/>
                  <a:gdLst/>
                  <a:ahLst/>
                  <a:rect l="l" t="t" r="r" b="b"/>
                  <a:pathLst>
                    <a:path w="562" h="1302">
                      <a:moveTo>
                        <a:pt x="277" y="0"/>
                      </a:moveTo>
                      <a:lnTo>
                        <a:pt x="357" y="15"/>
                      </a:lnTo>
                      <a:lnTo>
                        <a:pt x="393" y="73"/>
                      </a:lnTo>
                      <a:lnTo>
                        <a:pt x="386" y="211"/>
                      </a:lnTo>
                      <a:lnTo>
                        <a:pt x="372" y="356"/>
                      </a:lnTo>
                      <a:lnTo>
                        <a:pt x="372" y="509"/>
                      </a:lnTo>
                      <a:lnTo>
                        <a:pt x="445" y="691"/>
                      </a:lnTo>
                      <a:lnTo>
                        <a:pt x="503" y="822"/>
                      </a:lnTo>
                      <a:lnTo>
                        <a:pt x="533" y="952"/>
                      </a:lnTo>
                      <a:lnTo>
                        <a:pt x="525" y="1068"/>
                      </a:lnTo>
                      <a:lnTo>
                        <a:pt x="525" y="1112"/>
                      </a:lnTo>
                      <a:lnTo>
                        <a:pt x="554" y="1156"/>
                      </a:lnTo>
                      <a:lnTo>
                        <a:pt x="562" y="1200"/>
                      </a:lnTo>
                      <a:lnTo>
                        <a:pt x="540" y="1221"/>
                      </a:lnTo>
                      <a:lnTo>
                        <a:pt x="481" y="1207"/>
                      </a:lnTo>
                      <a:lnTo>
                        <a:pt x="372" y="1193"/>
                      </a:lnTo>
                      <a:lnTo>
                        <a:pt x="241" y="1221"/>
                      </a:lnTo>
                      <a:lnTo>
                        <a:pt x="153" y="1273"/>
                      </a:lnTo>
                      <a:lnTo>
                        <a:pt x="109" y="1302"/>
                      </a:lnTo>
                      <a:lnTo>
                        <a:pt x="65" y="1302"/>
                      </a:lnTo>
                      <a:lnTo>
                        <a:pt x="0" y="1207"/>
                      </a:lnTo>
                      <a:lnTo>
                        <a:pt x="7" y="1193"/>
                      </a:lnTo>
                      <a:lnTo>
                        <a:pt x="139" y="1148"/>
                      </a:lnTo>
                      <a:lnTo>
                        <a:pt x="291" y="1127"/>
                      </a:lnTo>
                      <a:lnTo>
                        <a:pt x="401" y="1120"/>
                      </a:lnTo>
                      <a:lnTo>
                        <a:pt x="467" y="1120"/>
                      </a:lnTo>
                      <a:lnTo>
                        <a:pt x="481" y="1075"/>
                      </a:lnTo>
                      <a:lnTo>
                        <a:pt x="459" y="952"/>
                      </a:lnTo>
                      <a:lnTo>
                        <a:pt x="408" y="822"/>
                      </a:lnTo>
                      <a:lnTo>
                        <a:pt x="327" y="654"/>
                      </a:lnTo>
                      <a:lnTo>
                        <a:pt x="262" y="509"/>
                      </a:lnTo>
                      <a:lnTo>
                        <a:pt x="234" y="379"/>
                      </a:lnTo>
                      <a:lnTo>
                        <a:pt x="225" y="233"/>
                      </a:lnTo>
                      <a:lnTo>
                        <a:pt x="225" y="95"/>
                      </a:lnTo>
                      <a:lnTo>
                        <a:pt x="255" y="36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flipH="1">
                  <a:off x="7400520" y="3092400"/>
                  <a:ext cx="368280" cy="863640"/>
                </a:xfrm>
                <a:custGeom>
                  <a:avLst/>
                  <a:gdLst/>
                  <a:ahLst/>
                  <a:rect l="l" t="t" r="r" b="b"/>
                  <a:pathLst>
                    <a:path w="465" h="1087">
                      <a:moveTo>
                        <a:pt x="349" y="0"/>
                      </a:moveTo>
                      <a:lnTo>
                        <a:pt x="415" y="0"/>
                      </a:lnTo>
                      <a:lnTo>
                        <a:pt x="436" y="43"/>
                      </a:lnTo>
                      <a:lnTo>
                        <a:pt x="451" y="138"/>
                      </a:lnTo>
                      <a:lnTo>
                        <a:pt x="436" y="240"/>
                      </a:lnTo>
                      <a:lnTo>
                        <a:pt x="399" y="444"/>
                      </a:lnTo>
                      <a:lnTo>
                        <a:pt x="407" y="532"/>
                      </a:lnTo>
                      <a:lnTo>
                        <a:pt x="451" y="707"/>
                      </a:lnTo>
                      <a:lnTo>
                        <a:pt x="465" y="831"/>
                      </a:lnTo>
                      <a:lnTo>
                        <a:pt x="465" y="926"/>
                      </a:lnTo>
                      <a:lnTo>
                        <a:pt x="443" y="948"/>
                      </a:lnTo>
                      <a:lnTo>
                        <a:pt x="378" y="963"/>
                      </a:lnTo>
                      <a:lnTo>
                        <a:pt x="291" y="984"/>
                      </a:lnTo>
                      <a:lnTo>
                        <a:pt x="203" y="1029"/>
                      </a:lnTo>
                      <a:lnTo>
                        <a:pt x="117" y="1087"/>
                      </a:lnTo>
                      <a:lnTo>
                        <a:pt x="80" y="1087"/>
                      </a:lnTo>
                      <a:lnTo>
                        <a:pt x="0" y="1021"/>
                      </a:lnTo>
                      <a:lnTo>
                        <a:pt x="7" y="992"/>
                      </a:lnTo>
                      <a:lnTo>
                        <a:pt x="109" y="948"/>
                      </a:lnTo>
                      <a:lnTo>
                        <a:pt x="283" y="904"/>
                      </a:lnTo>
                      <a:lnTo>
                        <a:pt x="363" y="875"/>
                      </a:lnTo>
                      <a:lnTo>
                        <a:pt x="378" y="846"/>
                      </a:lnTo>
                      <a:lnTo>
                        <a:pt x="378" y="721"/>
                      </a:lnTo>
                      <a:lnTo>
                        <a:pt x="349" y="562"/>
                      </a:lnTo>
                      <a:lnTo>
                        <a:pt x="335" y="458"/>
                      </a:lnTo>
                      <a:lnTo>
                        <a:pt x="319" y="299"/>
                      </a:lnTo>
                      <a:lnTo>
                        <a:pt x="312" y="123"/>
                      </a:lnTo>
                      <a:lnTo>
                        <a:pt x="319" y="43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H="1">
                  <a:off x="6857640" y="1819440"/>
                  <a:ext cx="425160" cy="506520"/>
                </a:xfrm>
                <a:custGeom>
                  <a:avLst/>
                  <a:gdLst/>
                  <a:ahLst/>
                  <a:rect l="l" t="t" r="r" b="b"/>
                  <a:pathLst>
                    <a:path w="536" h="637">
                      <a:moveTo>
                        <a:pt x="142" y="452"/>
                      </a:moveTo>
                      <a:lnTo>
                        <a:pt x="69" y="324"/>
                      </a:lnTo>
                      <a:lnTo>
                        <a:pt x="26" y="215"/>
                      </a:lnTo>
                      <a:lnTo>
                        <a:pt x="0" y="95"/>
                      </a:lnTo>
                      <a:lnTo>
                        <a:pt x="10" y="47"/>
                      </a:lnTo>
                      <a:lnTo>
                        <a:pt x="47" y="47"/>
                      </a:lnTo>
                      <a:lnTo>
                        <a:pt x="91" y="83"/>
                      </a:lnTo>
                      <a:lnTo>
                        <a:pt x="135" y="135"/>
                      </a:lnTo>
                      <a:lnTo>
                        <a:pt x="266" y="62"/>
                      </a:lnTo>
                      <a:lnTo>
                        <a:pt x="335" y="0"/>
                      </a:lnTo>
                      <a:lnTo>
                        <a:pt x="398" y="40"/>
                      </a:lnTo>
                      <a:lnTo>
                        <a:pt x="467" y="132"/>
                      </a:lnTo>
                      <a:lnTo>
                        <a:pt x="518" y="262"/>
                      </a:lnTo>
                      <a:lnTo>
                        <a:pt x="536" y="346"/>
                      </a:lnTo>
                      <a:lnTo>
                        <a:pt x="536" y="376"/>
                      </a:lnTo>
                      <a:lnTo>
                        <a:pt x="467" y="397"/>
                      </a:lnTo>
                      <a:lnTo>
                        <a:pt x="372" y="455"/>
                      </a:lnTo>
                      <a:lnTo>
                        <a:pt x="328" y="481"/>
                      </a:lnTo>
                      <a:lnTo>
                        <a:pt x="365" y="583"/>
                      </a:lnTo>
                      <a:lnTo>
                        <a:pt x="351" y="630"/>
                      </a:lnTo>
                      <a:lnTo>
                        <a:pt x="321" y="637"/>
                      </a:lnTo>
                      <a:lnTo>
                        <a:pt x="240" y="571"/>
                      </a:lnTo>
                      <a:lnTo>
                        <a:pt x="142" y="4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H="1">
                  <a:off x="7254720" y="1801800"/>
                  <a:ext cx="527040" cy="790560"/>
                </a:xfrm>
                <a:custGeom>
                  <a:avLst/>
                  <a:gdLst/>
                  <a:ahLst/>
                  <a:rect l="l" t="t" r="r" b="b"/>
                  <a:pathLst>
                    <a:path w="664" h="996">
                      <a:moveTo>
                        <a:pt x="408" y="996"/>
                      </a:moveTo>
                      <a:lnTo>
                        <a:pt x="445" y="952"/>
                      </a:lnTo>
                      <a:lnTo>
                        <a:pt x="431" y="888"/>
                      </a:lnTo>
                      <a:lnTo>
                        <a:pt x="401" y="800"/>
                      </a:lnTo>
                      <a:lnTo>
                        <a:pt x="292" y="698"/>
                      </a:lnTo>
                      <a:lnTo>
                        <a:pt x="182" y="604"/>
                      </a:lnTo>
                      <a:lnTo>
                        <a:pt x="132" y="502"/>
                      </a:lnTo>
                      <a:lnTo>
                        <a:pt x="109" y="342"/>
                      </a:lnTo>
                      <a:lnTo>
                        <a:pt x="234" y="299"/>
                      </a:lnTo>
                      <a:lnTo>
                        <a:pt x="431" y="277"/>
                      </a:lnTo>
                      <a:lnTo>
                        <a:pt x="510" y="284"/>
                      </a:lnTo>
                      <a:lnTo>
                        <a:pt x="533" y="306"/>
                      </a:lnTo>
                      <a:lnTo>
                        <a:pt x="569" y="270"/>
                      </a:lnTo>
                      <a:lnTo>
                        <a:pt x="555" y="233"/>
                      </a:lnTo>
                      <a:lnTo>
                        <a:pt x="591" y="138"/>
                      </a:lnTo>
                      <a:lnTo>
                        <a:pt x="606" y="102"/>
                      </a:lnTo>
                      <a:lnTo>
                        <a:pt x="635" y="44"/>
                      </a:lnTo>
                      <a:lnTo>
                        <a:pt x="664" y="44"/>
                      </a:lnTo>
                      <a:lnTo>
                        <a:pt x="664" y="15"/>
                      </a:lnTo>
                      <a:lnTo>
                        <a:pt x="606" y="0"/>
                      </a:lnTo>
                      <a:lnTo>
                        <a:pt x="569" y="66"/>
                      </a:lnTo>
                      <a:lnTo>
                        <a:pt x="519" y="161"/>
                      </a:lnTo>
                      <a:lnTo>
                        <a:pt x="453" y="204"/>
                      </a:lnTo>
                      <a:lnTo>
                        <a:pt x="351" y="218"/>
                      </a:lnTo>
                      <a:lnTo>
                        <a:pt x="168" y="240"/>
                      </a:lnTo>
                      <a:lnTo>
                        <a:pt x="22" y="284"/>
                      </a:lnTo>
                      <a:lnTo>
                        <a:pt x="0" y="320"/>
                      </a:lnTo>
                      <a:lnTo>
                        <a:pt x="14" y="436"/>
                      </a:lnTo>
                      <a:lnTo>
                        <a:pt x="66" y="597"/>
                      </a:lnTo>
                      <a:lnTo>
                        <a:pt x="139" y="727"/>
                      </a:lnTo>
                      <a:lnTo>
                        <a:pt x="211" y="843"/>
                      </a:lnTo>
                      <a:lnTo>
                        <a:pt x="277" y="924"/>
                      </a:lnTo>
                      <a:lnTo>
                        <a:pt x="343" y="982"/>
                      </a:lnTo>
                      <a:lnTo>
                        <a:pt x="408" y="9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6" name=""/>
              <p:cNvSpPr/>
              <p:nvPr/>
            </p:nvSpPr>
            <p:spPr>
              <a:xfrm>
                <a:off x="7461360" y="1676520"/>
                <a:ext cx="1371600" cy="533520"/>
              </a:xfrm>
              <a:prstGeom prst="wedgeEllipseCallout">
                <a:avLst>
                  <a:gd name="adj1" fmla="val -49652"/>
                  <a:gd name="adj2" fmla="val 35712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e-IL" sz="2400" spc="-1" strike="noStrike">
                    <a:solidFill>
                      <a:srgbClr val="000000"/>
                    </a:solidFill>
                    <a:latin typeface="Times New Roman"/>
                  </a:rPr>
                  <a:t>הריני נזי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7" name=""/>
            <p:cNvSpPr/>
            <p:nvPr/>
          </p:nvSpPr>
          <p:spPr>
            <a:xfrm>
              <a:off x="7315200" y="266688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5943600" y="2895480"/>
            <a:ext cx="1371240" cy="2209320"/>
            <a:chOff x="5943600" y="2895480"/>
            <a:chExt cx="1371240" cy="2209320"/>
          </a:xfrm>
        </p:grpSpPr>
        <p:grpSp>
          <p:nvGrpSpPr>
            <p:cNvPr id="1519" name=""/>
            <p:cNvGrpSpPr/>
            <p:nvPr/>
          </p:nvGrpSpPr>
          <p:grpSpPr>
            <a:xfrm>
              <a:off x="5943600" y="3009960"/>
              <a:ext cx="830880" cy="2094840"/>
              <a:chOff x="5943600" y="3009960"/>
              <a:chExt cx="830880" cy="2094840"/>
            </a:xfrm>
          </p:grpSpPr>
          <p:sp>
            <p:nvSpPr>
              <p:cNvPr id="1520" name=""/>
              <p:cNvSpPr/>
              <p:nvPr/>
            </p:nvSpPr>
            <p:spPr>
              <a:xfrm flipH="1">
                <a:off x="6087240" y="3115440"/>
                <a:ext cx="479880" cy="47196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6258960" y="3615120"/>
                <a:ext cx="331200" cy="69444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5959080" y="3637080"/>
                <a:ext cx="368640" cy="62352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6165000" y="4162680"/>
                <a:ext cx="401040" cy="94212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6432120" y="4186800"/>
                <a:ext cx="331200" cy="78768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5943600" y="3025800"/>
                <a:ext cx="382320" cy="46188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6300000" y="3009960"/>
                <a:ext cx="474120" cy="72072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7" name=""/>
            <p:cNvSpPr/>
            <p:nvPr/>
          </p:nvSpPr>
          <p:spPr>
            <a:xfrm>
              <a:off x="6486480" y="2895480"/>
              <a:ext cx="828360" cy="48636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00f8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355080" y="3799080"/>
              <a:ext cx="205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952880" y="2666880"/>
            <a:ext cx="1218960" cy="1980720"/>
            <a:chOff x="4952880" y="2666880"/>
            <a:chExt cx="1218960" cy="1980720"/>
          </a:xfrm>
        </p:grpSpPr>
        <p:grpSp>
          <p:nvGrpSpPr>
            <p:cNvPr id="1530" name=""/>
            <p:cNvGrpSpPr/>
            <p:nvPr/>
          </p:nvGrpSpPr>
          <p:grpSpPr>
            <a:xfrm>
              <a:off x="4952880" y="2769480"/>
              <a:ext cx="738720" cy="1878120"/>
              <a:chOff x="4952880" y="2769480"/>
              <a:chExt cx="738720" cy="1878120"/>
            </a:xfrm>
          </p:grpSpPr>
          <p:sp>
            <p:nvSpPr>
              <p:cNvPr id="1531" name=""/>
              <p:cNvSpPr/>
              <p:nvPr/>
            </p:nvSpPr>
            <p:spPr>
              <a:xfrm flipH="1">
                <a:off x="5080680" y="2864160"/>
                <a:ext cx="426600" cy="423000"/>
              </a:xfrm>
              <a:custGeom>
                <a:avLst/>
                <a:gdLst/>
                <a:ahLst/>
                <a:rect l="l" t="t" r="r" b="b"/>
                <a:pathLst>
                  <a:path w="672" h="653">
                    <a:moveTo>
                      <a:pt x="205" y="276"/>
                    </a:moveTo>
                    <a:lnTo>
                      <a:pt x="264" y="189"/>
                    </a:lnTo>
                    <a:lnTo>
                      <a:pt x="330" y="123"/>
                    </a:lnTo>
                    <a:lnTo>
                      <a:pt x="395" y="44"/>
                    </a:lnTo>
                    <a:lnTo>
                      <a:pt x="475" y="7"/>
                    </a:lnTo>
                    <a:lnTo>
                      <a:pt x="541" y="0"/>
                    </a:lnTo>
                    <a:lnTo>
                      <a:pt x="606" y="23"/>
                    </a:lnTo>
                    <a:lnTo>
                      <a:pt x="644" y="73"/>
                    </a:lnTo>
                    <a:lnTo>
                      <a:pt x="672" y="167"/>
                    </a:lnTo>
                    <a:lnTo>
                      <a:pt x="665" y="269"/>
                    </a:lnTo>
                    <a:lnTo>
                      <a:pt x="636" y="356"/>
                    </a:lnTo>
                    <a:lnTo>
                      <a:pt x="563" y="457"/>
                    </a:lnTo>
                    <a:lnTo>
                      <a:pt x="483" y="529"/>
                    </a:lnTo>
                    <a:lnTo>
                      <a:pt x="395" y="595"/>
                    </a:lnTo>
                    <a:lnTo>
                      <a:pt x="300" y="638"/>
                    </a:lnTo>
                    <a:lnTo>
                      <a:pt x="219" y="653"/>
                    </a:lnTo>
                    <a:lnTo>
                      <a:pt x="183" y="630"/>
                    </a:lnTo>
                    <a:lnTo>
                      <a:pt x="154" y="543"/>
                    </a:lnTo>
                    <a:lnTo>
                      <a:pt x="162" y="427"/>
                    </a:lnTo>
                    <a:lnTo>
                      <a:pt x="22" y="435"/>
                    </a:lnTo>
                    <a:lnTo>
                      <a:pt x="0" y="413"/>
                    </a:lnTo>
                    <a:lnTo>
                      <a:pt x="22" y="370"/>
                    </a:lnTo>
                    <a:lnTo>
                      <a:pt x="169" y="363"/>
                    </a:lnTo>
                    <a:lnTo>
                      <a:pt x="2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H="1">
                <a:off x="5233320" y="3312000"/>
                <a:ext cx="294480" cy="622800"/>
              </a:xfrm>
              <a:custGeom>
                <a:avLst/>
                <a:gdLst/>
                <a:ahLst/>
                <a:rect l="l" t="t" r="r" b="b"/>
                <a:pathLst>
                  <a:path w="465" h="962">
                    <a:moveTo>
                      <a:pt x="130" y="80"/>
                    </a:moveTo>
                    <a:lnTo>
                      <a:pt x="196" y="22"/>
                    </a:lnTo>
                    <a:lnTo>
                      <a:pt x="298" y="0"/>
                    </a:lnTo>
                    <a:lnTo>
                      <a:pt x="385" y="14"/>
                    </a:lnTo>
                    <a:lnTo>
                      <a:pt x="451" y="73"/>
                    </a:lnTo>
                    <a:lnTo>
                      <a:pt x="465" y="116"/>
                    </a:lnTo>
                    <a:lnTo>
                      <a:pt x="465" y="175"/>
                    </a:lnTo>
                    <a:lnTo>
                      <a:pt x="435" y="226"/>
                    </a:lnTo>
                    <a:lnTo>
                      <a:pt x="385" y="313"/>
                    </a:lnTo>
                    <a:lnTo>
                      <a:pt x="363" y="415"/>
                    </a:lnTo>
                    <a:lnTo>
                      <a:pt x="356" y="503"/>
                    </a:lnTo>
                    <a:lnTo>
                      <a:pt x="378" y="597"/>
                    </a:lnTo>
                    <a:lnTo>
                      <a:pt x="435" y="685"/>
                    </a:lnTo>
                    <a:lnTo>
                      <a:pt x="458" y="772"/>
                    </a:lnTo>
                    <a:lnTo>
                      <a:pt x="451" y="853"/>
                    </a:lnTo>
                    <a:lnTo>
                      <a:pt x="407" y="918"/>
                    </a:lnTo>
                    <a:lnTo>
                      <a:pt x="349" y="955"/>
                    </a:lnTo>
                    <a:lnTo>
                      <a:pt x="276" y="962"/>
                    </a:lnTo>
                    <a:lnTo>
                      <a:pt x="189" y="962"/>
                    </a:lnTo>
                    <a:lnTo>
                      <a:pt x="123" y="926"/>
                    </a:lnTo>
                    <a:lnTo>
                      <a:pt x="59" y="816"/>
                    </a:lnTo>
                    <a:lnTo>
                      <a:pt x="14" y="721"/>
                    </a:lnTo>
                    <a:lnTo>
                      <a:pt x="0" y="576"/>
                    </a:lnTo>
                    <a:lnTo>
                      <a:pt x="14" y="445"/>
                    </a:lnTo>
                    <a:lnTo>
                      <a:pt x="43" y="306"/>
                    </a:lnTo>
                    <a:lnTo>
                      <a:pt x="87" y="168"/>
                    </a:lnTo>
                    <a:lnTo>
                      <a:pt x="13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>
                <a:off x="4966560" y="3331440"/>
                <a:ext cx="327600" cy="559080"/>
              </a:xfrm>
              <a:custGeom>
                <a:avLst/>
                <a:gdLst/>
                <a:ahLst/>
                <a:rect l="l" t="t" r="r" b="b"/>
                <a:pathLst>
                  <a:path w="518" h="863">
                    <a:moveTo>
                      <a:pt x="0" y="43"/>
                    </a:moveTo>
                    <a:lnTo>
                      <a:pt x="9" y="7"/>
                    </a:lnTo>
                    <a:lnTo>
                      <a:pt x="88" y="0"/>
                    </a:lnTo>
                    <a:lnTo>
                      <a:pt x="132" y="36"/>
                    </a:lnTo>
                    <a:lnTo>
                      <a:pt x="198" y="130"/>
                    </a:lnTo>
                    <a:lnTo>
                      <a:pt x="286" y="253"/>
                    </a:lnTo>
                    <a:lnTo>
                      <a:pt x="365" y="341"/>
                    </a:lnTo>
                    <a:lnTo>
                      <a:pt x="511" y="500"/>
                    </a:lnTo>
                    <a:lnTo>
                      <a:pt x="518" y="537"/>
                    </a:lnTo>
                    <a:lnTo>
                      <a:pt x="490" y="558"/>
                    </a:lnTo>
                    <a:lnTo>
                      <a:pt x="417" y="587"/>
                    </a:lnTo>
                    <a:lnTo>
                      <a:pt x="315" y="609"/>
                    </a:lnTo>
                    <a:lnTo>
                      <a:pt x="191" y="617"/>
                    </a:lnTo>
                    <a:lnTo>
                      <a:pt x="147" y="624"/>
                    </a:lnTo>
                    <a:lnTo>
                      <a:pt x="132" y="653"/>
                    </a:lnTo>
                    <a:lnTo>
                      <a:pt x="161" y="703"/>
                    </a:lnTo>
                    <a:lnTo>
                      <a:pt x="263" y="790"/>
                    </a:lnTo>
                    <a:lnTo>
                      <a:pt x="336" y="812"/>
                    </a:lnTo>
                    <a:lnTo>
                      <a:pt x="351" y="841"/>
                    </a:lnTo>
                    <a:lnTo>
                      <a:pt x="322" y="863"/>
                    </a:lnTo>
                    <a:lnTo>
                      <a:pt x="256" y="863"/>
                    </a:lnTo>
                    <a:lnTo>
                      <a:pt x="168" y="812"/>
                    </a:lnTo>
                    <a:lnTo>
                      <a:pt x="96" y="740"/>
                    </a:lnTo>
                    <a:lnTo>
                      <a:pt x="52" y="674"/>
                    </a:lnTo>
                    <a:lnTo>
                      <a:pt x="52" y="624"/>
                    </a:lnTo>
                    <a:lnTo>
                      <a:pt x="81" y="587"/>
                    </a:lnTo>
                    <a:lnTo>
                      <a:pt x="125" y="573"/>
                    </a:lnTo>
                    <a:lnTo>
                      <a:pt x="191" y="565"/>
                    </a:lnTo>
                    <a:lnTo>
                      <a:pt x="263" y="565"/>
                    </a:lnTo>
                    <a:lnTo>
                      <a:pt x="351" y="551"/>
                    </a:lnTo>
                    <a:lnTo>
                      <a:pt x="395" y="537"/>
                    </a:lnTo>
                    <a:lnTo>
                      <a:pt x="417" y="514"/>
                    </a:lnTo>
                    <a:lnTo>
                      <a:pt x="409" y="493"/>
                    </a:lnTo>
                    <a:lnTo>
                      <a:pt x="343" y="435"/>
                    </a:lnTo>
                    <a:lnTo>
                      <a:pt x="241" y="334"/>
                    </a:lnTo>
                    <a:lnTo>
                      <a:pt x="147" y="246"/>
                    </a:lnTo>
                    <a:lnTo>
                      <a:pt x="45" y="152"/>
                    </a:lnTo>
                    <a:lnTo>
                      <a:pt x="9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>
                <a:off x="5149080" y="3803040"/>
                <a:ext cx="356760" cy="844560"/>
              </a:xfrm>
              <a:custGeom>
                <a:avLst/>
                <a:gdLst/>
                <a:ahLst/>
                <a:rect l="l" t="t" r="r" b="b"/>
                <a:pathLst>
                  <a:path w="562" h="1302">
                    <a:moveTo>
                      <a:pt x="277" y="0"/>
                    </a:moveTo>
                    <a:lnTo>
                      <a:pt x="357" y="15"/>
                    </a:lnTo>
                    <a:lnTo>
                      <a:pt x="393" y="73"/>
                    </a:lnTo>
                    <a:lnTo>
                      <a:pt x="386" y="211"/>
                    </a:lnTo>
                    <a:lnTo>
                      <a:pt x="372" y="356"/>
                    </a:lnTo>
                    <a:lnTo>
                      <a:pt x="372" y="509"/>
                    </a:lnTo>
                    <a:lnTo>
                      <a:pt x="445" y="691"/>
                    </a:lnTo>
                    <a:lnTo>
                      <a:pt x="503" y="822"/>
                    </a:lnTo>
                    <a:lnTo>
                      <a:pt x="533" y="952"/>
                    </a:lnTo>
                    <a:lnTo>
                      <a:pt x="525" y="1068"/>
                    </a:lnTo>
                    <a:lnTo>
                      <a:pt x="525" y="1112"/>
                    </a:lnTo>
                    <a:lnTo>
                      <a:pt x="554" y="1156"/>
                    </a:lnTo>
                    <a:lnTo>
                      <a:pt x="562" y="1200"/>
                    </a:lnTo>
                    <a:lnTo>
                      <a:pt x="540" y="1221"/>
                    </a:lnTo>
                    <a:lnTo>
                      <a:pt x="481" y="1207"/>
                    </a:lnTo>
                    <a:lnTo>
                      <a:pt x="372" y="1193"/>
                    </a:lnTo>
                    <a:lnTo>
                      <a:pt x="241" y="1221"/>
                    </a:lnTo>
                    <a:lnTo>
                      <a:pt x="153" y="1273"/>
                    </a:lnTo>
                    <a:lnTo>
                      <a:pt x="109" y="1302"/>
                    </a:lnTo>
                    <a:lnTo>
                      <a:pt x="65" y="1302"/>
                    </a:lnTo>
                    <a:lnTo>
                      <a:pt x="0" y="1207"/>
                    </a:lnTo>
                    <a:lnTo>
                      <a:pt x="7" y="1193"/>
                    </a:lnTo>
                    <a:lnTo>
                      <a:pt x="139" y="1148"/>
                    </a:lnTo>
                    <a:lnTo>
                      <a:pt x="291" y="1127"/>
                    </a:lnTo>
                    <a:lnTo>
                      <a:pt x="401" y="1120"/>
                    </a:lnTo>
                    <a:lnTo>
                      <a:pt x="467" y="1120"/>
                    </a:lnTo>
                    <a:lnTo>
                      <a:pt x="481" y="1075"/>
                    </a:lnTo>
                    <a:lnTo>
                      <a:pt x="459" y="952"/>
                    </a:lnTo>
                    <a:lnTo>
                      <a:pt x="408" y="822"/>
                    </a:lnTo>
                    <a:lnTo>
                      <a:pt x="327" y="654"/>
                    </a:lnTo>
                    <a:lnTo>
                      <a:pt x="262" y="509"/>
                    </a:lnTo>
                    <a:lnTo>
                      <a:pt x="234" y="379"/>
                    </a:lnTo>
                    <a:lnTo>
                      <a:pt x="225" y="233"/>
                    </a:lnTo>
                    <a:lnTo>
                      <a:pt x="225" y="95"/>
                    </a:lnTo>
                    <a:lnTo>
                      <a:pt x="255" y="36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5387040" y="3824640"/>
                <a:ext cx="294480" cy="705960"/>
              </a:xfrm>
              <a:custGeom>
                <a:avLst/>
                <a:gdLst/>
                <a:ahLst/>
                <a:rect l="l" t="t" r="r" b="b"/>
                <a:pathLst>
                  <a:path w="465" h="1087">
                    <a:moveTo>
                      <a:pt x="349" y="0"/>
                    </a:moveTo>
                    <a:lnTo>
                      <a:pt x="415" y="0"/>
                    </a:lnTo>
                    <a:lnTo>
                      <a:pt x="436" y="43"/>
                    </a:lnTo>
                    <a:lnTo>
                      <a:pt x="451" y="138"/>
                    </a:lnTo>
                    <a:lnTo>
                      <a:pt x="436" y="240"/>
                    </a:lnTo>
                    <a:lnTo>
                      <a:pt x="399" y="444"/>
                    </a:lnTo>
                    <a:lnTo>
                      <a:pt x="407" y="532"/>
                    </a:lnTo>
                    <a:lnTo>
                      <a:pt x="451" y="707"/>
                    </a:lnTo>
                    <a:lnTo>
                      <a:pt x="465" y="831"/>
                    </a:lnTo>
                    <a:lnTo>
                      <a:pt x="465" y="926"/>
                    </a:lnTo>
                    <a:lnTo>
                      <a:pt x="443" y="948"/>
                    </a:lnTo>
                    <a:lnTo>
                      <a:pt x="378" y="963"/>
                    </a:lnTo>
                    <a:lnTo>
                      <a:pt x="291" y="984"/>
                    </a:lnTo>
                    <a:lnTo>
                      <a:pt x="203" y="1029"/>
                    </a:lnTo>
                    <a:lnTo>
                      <a:pt x="117" y="1087"/>
                    </a:lnTo>
                    <a:lnTo>
                      <a:pt x="80" y="1087"/>
                    </a:lnTo>
                    <a:lnTo>
                      <a:pt x="0" y="1021"/>
                    </a:lnTo>
                    <a:lnTo>
                      <a:pt x="7" y="992"/>
                    </a:lnTo>
                    <a:lnTo>
                      <a:pt x="109" y="948"/>
                    </a:lnTo>
                    <a:lnTo>
                      <a:pt x="283" y="904"/>
                    </a:lnTo>
                    <a:lnTo>
                      <a:pt x="363" y="875"/>
                    </a:lnTo>
                    <a:lnTo>
                      <a:pt x="378" y="846"/>
                    </a:lnTo>
                    <a:lnTo>
                      <a:pt x="378" y="721"/>
                    </a:lnTo>
                    <a:lnTo>
                      <a:pt x="349" y="562"/>
                    </a:lnTo>
                    <a:lnTo>
                      <a:pt x="335" y="458"/>
                    </a:lnTo>
                    <a:lnTo>
                      <a:pt x="319" y="299"/>
                    </a:lnTo>
                    <a:lnTo>
                      <a:pt x="312" y="123"/>
                    </a:lnTo>
                    <a:lnTo>
                      <a:pt x="319" y="43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>
                <a:off x="4952880" y="2783880"/>
                <a:ext cx="339840" cy="414000"/>
              </a:xfrm>
              <a:custGeom>
                <a:avLst/>
                <a:gdLst/>
                <a:ahLst/>
                <a:rect l="l" t="t" r="r" b="b"/>
                <a:pathLst>
                  <a:path w="536" h="637">
                    <a:moveTo>
                      <a:pt x="142" y="452"/>
                    </a:moveTo>
                    <a:lnTo>
                      <a:pt x="69" y="324"/>
                    </a:lnTo>
                    <a:lnTo>
                      <a:pt x="26" y="215"/>
                    </a:lnTo>
                    <a:lnTo>
                      <a:pt x="0" y="95"/>
                    </a:lnTo>
                    <a:lnTo>
                      <a:pt x="10" y="47"/>
                    </a:lnTo>
                    <a:lnTo>
                      <a:pt x="47" y="47"/>
                    </a:lnTo>
                    <a:lnTo>
                      <a:pt x="91" y="83"/>
                    </a:lnTo>
                    <a:lnTo>
                      <a:pt x="135" y="135"/>
                    </a:lnTo>
                    <a:lnTo>
                      <a:pt x="266" y="62"/>
                    </a:lnTo>
                    <a:lnTo>
                      <a:pt x="335" y="0"/>
                    </a:lnTo>
                    <a:lnTo>
                      <a:pt x="398" y="40"/>
                    </a:lnTo>
                    <a:lnTo>
                      <a:pt x="467" y="132"/>
                    </a:lnTo>
                    <a:lnTo>
                      <a:pt x="518" y="262"/>
                    </a:lnTo>
                    <a:lnTo>
                      <a:pt x="536" y="346"/>
                    </a:lnTo>
                    <a:lnTo>
                      <a:pt x="536" y="376"/>
                    </a:lnTo>
                    <a:lnTo>
                      <a:pt x="467" y="397"/>
                    </a:lnTo>
                    <a:lnTo>
                      <a:pt x="372" y="455"/>
                    </a:lnTo>
                    <a:lnTo>
                      <a:pt x="328" y="481"/>
                    </a:lnTo>
                    <a:lnTo>
                      <a:pt x="365" y="583"/>
                    </a:lnTo>
                    <a:lnTo>
                      <a:pt x="351" y="630"/>
                    </a:lnTo>
                    <a:lnTo>
                      <a:pt x="321" y="637"/>
                    </a:lnTo>
                    <a:lnTo>
                      <a:pt x="240" y="571"/>
                    </a:lnTo>
                    <a:lnTo>
                      <a:pt x="142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5269680" y="2769480"/>
                <a:ext cx="421560" cy="646200"/>
              </a:xfrm>
              <a:custGeom>
                <a:avLst/>
                <a:gdLst/>
                <a:ahLst/>
                <a:rect l="l" t="t" r="r" b="b"/>
                <a:pathLst>
                  <a:path w="664" h="996">
                    <a:moveTo>
                      <a:pt x="408" y="996"/>
                    </a:moveTo>
                    <a:lnTo>
                      <a:pt x="445" y="952"/>
                    </a:lnTo>
                    <a:lnTo>
                      <a:pt x="431" y="888"/>
                    </a:lnTo>
                    <a:lnTo>
                      <a:pt x="401" y="800"/>
                    </a:lnTo>
                    <a:lnTo>
                      <a:pt x="292" y="698"/>
                    </a:lnTo>
                    <a:lnTo>
                      <a:pt x="182" y="604"/>
                    </a:lnTo>
                    <a:lnTo>
                      <a:pt x="132" y="502"/>
                    </a:lnTo>
                    <a:lnTo>
                      <a:pt x="109" y="342"/>
                    </a:lnTo>
                    <a:lnTo>
                      <a:pt x="234" y="299"/>
                    </a:lnTo>
                    <a:lnTo>
                      <a:pt x="431" y="277"/>
                    </a:lnTo>
                    <a:lnTo>
                      <a:pt x="510" y="284"/>
                    </a:lnTo>
                    <a:lnTo>
                      <a:pt x="533" y="306"/>
                    </a:lnTo>
                    <a:lnTo>
                      <a:pt x="569" y="270"/>
                    </a:lnTo>
                    <a:lnTo>
                      <a:pt x="555" y="233"/>
                    </a:lnTo>
                    <a:lnTo>
                      <a:pt x="591" y="138"/>
                    </a:lnTo>
                    <a:lnTo>
                      <a:pt x="606" y="102"/>
                    </a:lnTo>
                    <a:lnTo>
                      <a:pt x="635" y="44"/>
                    </a:lnTo>
                    <a:lnTo>
                      <a:pt x="664" y="44"/>
                    </a:lnTo>
                    <a:lnTo>
                      <a:pt x="664" y="15"/>
                    </a:lnTo>
                    <a:lnTo>
                      <a:pt x="606" y="0"/>
                    </a:lnTo>
                    <a:lnTo>
                      <a:pt x="569" y="66"/>
                    </a:lnTo>
                    <a:lnTo>
                      <a:pt x="519" y="161"/>
                    </a:lnTo>
                    <a:lnTo>
                      <a:pt x="453" y="204"/>
                    </a:lnTo>
                    <a:lnTo>
                      <a:pt x="351" y="218"/>
                    </a:lnTo>
                    <a:lnTo>
                      <a:pt x="168" y="240"/>
                    </a:lnTo>
                    <a:lnTo>
                      <a:pt x="22" y="284"/>
                    </a:lnTo>
                    <a:lnTo>
                      <a:pt x="0" y="320"/>
                    </a:lnTo>
                    <a:lnTo>
                      <a:pt x="14" y="436"/>
                    </a:lnTo>
                    <a:lnTo>
                      <a:pt x="66" y="597"/>
                    </a:lnTo>
                    <a:lnTo>
                      <a:pt x="139" y="727"/>
                    </a:lnTo>
                    <a:lnTo>
                      <a:pt x="211" y="843"/>
                    </a:lnTo>
                    <a:lnTo>
                      <a:pt x="277" y="924"/>
                    </a:lnTo>
                    <a:lnTo>
                      <a:pt x="343" y="982"/>
                    </a:lnTo>
                    <a:lnTo>
                      <a:pt x="408" y="9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8" name=""/>
            <p:cNvSpPr/>
            <p:nvPr/>
          </p:nvSpPr>
          <p:spPr>
            <a:xfrm>
              <a:off x="5435280" y="2666880"/>
              <a:ext cx="736560" cy="435240"/>
            </a:xfrm>
            <a:prstGeom prst="wedgeEllipseCallout">
              <a:avLst>
                <a:gd name="adj1" fmla="val -47412"/>
                <a:gd name="adj2" fmla="val 57143"/>
              </a:avLst>
            </a:prstGeom>
            <a:solidFill>
              <a:srgbClr val="a3ff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גם אנ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223600" y="3486600"/>
              <a:ext cx="27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800" spc="-1" strike="noStrike">
                  <a:solidFill>
                    <a:srgbClr val="ff0066"/>
                  </a:solidFill>
                  <a:latin typeface="Times New Roman"/>
                </a:rPr>
                <a:t>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3886200" y="1600200"/>
            <a:ext cx="1385280" cy="3250440"/>
            <a:chOff x="3886200" y="1600200"/>
            <a:chExt cx="1385280" cy="3250440"/>
          </a:xfrm>
        </p:grpSpPr>
        <p:sp>
          <p:nvSpPr>
            <p:cNvPr id="1541" name=""/>
            <p:cNvSpPr/>
            <p:nvPr/>
          </p:nvSpPr>
          <p:spPr>
            <a:xfrm>
              <a:off x="4231080" y="1764000"/>
              <a:ext cx="800280" cy="7326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193280" y="2539440"/>
              <a:ext cx="552240" cy="107784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31400" y="2573280"/>
              <a:ext cx="614520" cy="96768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233960" y="3388680"/>
              <a:ext cx="668880" cy="146196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04920" y="3426480"/>
              <a:ext cx="552240" cy="12222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33920" y="1625040"/>
              <a:ext cx="637560" cy="71676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86200" y="1600200"/>
              <a:ext cx="790560" cy="111852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4267080" y="2590920"/>
            <a:ext cx="304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3353040" y="3062160"/>
            <a:ext cx="647640" cy="1661760"/>
            <a:chOff x="3353040" y="3062160"/>
            <a:chExt cx="647640" cy="1661760"/>
          </a:xfrm>
        </p:grpSpPr>
        <p:sp>
          <p:nvSpPr>
            <p:cNvPr id="1550" name=""/>
            <p:cNvSpPr/>
            <p:nvPr/>
          </p:nvSpPr>
          <p:spPr>
            <a:xfrm flipH="1">
              <a:off x="3465000" y="3145680"/>
              <a:ext cx="374040" cy="3744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3598560" y="3542400"/>
              <a:ext cx="258120" cy="5511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3364920" y="3559680"/>
              <a:ext cx="287280" cy="49464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3525120" y="3976560"/>
              <a:ext cx="312840" cy="74736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3733560" y="3996000"/>
              <a:ext cx="258120" cy="624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3353040" y="3074760"/>
              <a:ext cx="298080" cy="36648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3630600" y="3062160"/>
              <a:ext cx="369720" cy="57204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" name=""/>
          <p:cNvSpPr/>
          <p:nvPr/>
        </p:nvSpPr>
        <p:spPr>
          <a:xfrm>
            <a:off x="3774960" y="2971800"/>
            <a:ext cx="644760" cy="38592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d1f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589200" y="3697200"/>
            <a:ext cx="23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2895480" y="2673360"/>
            <a:ext cx="553680" cy="1517400"/>
            <a:chOff x="2895480" y="2673360"/>
            <a:chExt cx="553680" cy="1517400"/>
          </a:xfrm>
        </p:grpSpPr>
        <p:sp>
          <p:nvSpPr>
            <p:cNvPr id="1560" name=""/>
            <p:cNvSpPr/>
            <p:nvPr/>
          </p:nvSpPr>
          <p:spPr>
            <a:xfrm flipH="1">
              <a:off x="2990880" y="2749680"/>
              <a:ext cx="320040" cy="3420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3105360" y="3111840"/>
              <a:ext cx="220680" cy="50328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2905920" y="3127680"/>
              <a:ext cx="245520" cy="4518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3042360" y="3508200"/>
              <a:ext cx="267480" cy="68256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3220920" y="3525840"/>
              <a:ext cx="220680" cy="570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2895480" y="2684880"/>
              <a:ext cx="254880" cy="33444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3133080" y="2673360"/>
              <a:ext cx="316080" cy="52236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7" name=""/>
          <p:cNvSpPr/>
          <p:nvPr/>
        </p:nvSpPr>
        <p:spPr>
          <a:xfrm>
            <a:off x="3257640" y="2590920"/>
            <a:ext cx="552240" cy="35244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d1f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098880" y="3252960"/>
            <a:ext cx="20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2286000" y="2433600"/>
            <a:ext cx="369360" cy="1299960"/>
            <a:chOff x="2286000" y="2433600"/>
            <a:chExt cx="369360" cy="1299960"/>
          </a:xfrm>
        </p:grpSpPr>
        <p:sp>
          <p:nvSpPr>
            <p:cNvPr id="1570" name=""/>
            <p:cNvSpPr/>
            <p:nvPr/>
          </p:nvSpPr>
          <p:spPr>
            <a:xfrm flipH="1">
              <a:off x="2349720" y="2499120"/>
              <a:ext cx="213480" cy="29304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2426040" y="2809080"/>
              <a:ext cx="147240" cy="43092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2292480" y="2822760"/>
              <a:ext cx="163800" cy="3870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2384280" y="3148920"/>
              <a:ext cx="178560" cy="58464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2502720" y="3164040"/>
              <a:ext cx="147240" cy="48888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2286000" y="2443320"/>
              <a:ext cx="169920" cy="28656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2444400" y="2433600"/>
              <a:ext cx="210960" cy="44748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2527200" y="236232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d1f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421000" y="2928960"/>
            <a:ext cx="13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1752480" y="2205000"/>
            <a:ext cx="370080" cy="1299960"/>
            <a:chOff x="1752480" y="2205000"/>
            <a:chExt cx="370080" cy="1299960"/>
          </a:xfrm>
        </p:grpSpPr>
        <p:sp>
          <p:nvSpPr>
            <p:cNvPr id="1580" name=""/>
            <p:cNvSpPr/>
            <p:nvPr/>
          </p:nvSpPr>
          <p:spPr>
            <a:xfrm flipH="1">
              <a:off x="1816560" y="2270520"/>
              <a:ext cx="213840" cy="29304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1892880" y="2580480"/>
              <a:ext cx="147600" cy="43092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1759320" y="2594160"/>
              <a:ext cx="164160" cy="3870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851120" y="2920320"/>
              <a:ext cx="178560" cy="58464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1969920" y="2935440"/>
              <a:ext cx="147600" cy="48888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1752120" y="2214720"/>
              <a:ext cx="170280" cy="28656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1911600" y="2205000"/>
              <a:ext cx="210960" cy="44748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1994040" y="213372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d1f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887480" y="2700360"/>
            <a:ext cx="13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66"/>
                </a:solidFill>
                <a:latin typeface="Times New Roman"/>
              </a:rPr>
              <a:t>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1142640" y="2509920"/>
            <a:ext cx="228600" cy="919080"/>
            <a:chOff x="1142640" y="2509920"/>
            <a:chExt cx="228600" cy="919080"/>
          </a:xfrm>
        </p:grpSpPr>
        <p:sp>
          <p:nvSpPr>
            <p:cNvPr id="1590" name=""/>
            <p:cNvSpPr/>
            <p:nvPr/>
          </p:nvSpPr>
          <p:spPr>
            <a:xfrm flipH="1">
              <a:off x="1181880" y="2556000"/>
              <a:ext cx="132120" cy="2070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1229400" y="2775240"/>
              <a:ext cx="91080" cy="3045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1146960" y="2784960"/>
              <a:ext cx="101160" cy="2736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1203840" y="3015720"/>
              <a:ext cx="110160" cy="41328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1276920" y="3026160"/>
              <a:ext cx="91080" cy="345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1142640" y="2516760"/>
              <a:ext cx="105120" cy="20268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1240920" y="2509920"/>
              <a:ext cx="130320" cy="31608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1384200" y="243828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d1f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837720" y="2814480"/>
            <a:ext cx="228600" cy="919080"/>
            <a:chOff x="837720" y="2814480"/>
            <a:chExt cx="228600" cy="919080"/>
          </a:xfrm>
        </p:grpSpPr>
        <p:sp>
          <p:nvSpPr>
            <p:cNvPr id="1599" name=""/>
            <p:cNvSpPr/>
            <p:nvPr/>
          </p:nvSpPr>
          <p:spPr>
            <a:xfrm flipH="1">
              <a:off x="876960" y="2860560"/>
              <a:ext cx="132120" cy="20700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924480" y="3080160"/>
              <a:ext cx="91080" cy="30492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842040" y="3089520"/>
              <a:ext cx="101160" cy="27360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898920" y="3320280"/>
              <a:ext cx="110160" cy="41328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972000" y="3331080"/>
              <a:ext cx="91080" cy="3456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837720" y="2821320"/>
              <a:ext cx="105120" cy="20268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936000" y="2814480"/>
              <a:ext cx="130320" cy="31644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1079640" y="2743200"/>
            <a:ext cx="368280" cy="30168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d1f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457200" y="2639880"/>
            <a:ext cx="171360" cy="636480"/>
            <a:chOff x="457200" y="2639880"/>
            <a:chExt cx="171360" cy="636480"/>
          </a:xfrm>
        </p:grpSpPr>
        <p:sp>
          <p:nvSpPr>
            <p:cNvPr id="1608" name=""/>
            <p:cNvSpPr/>
            <p:nvPr/>
          </p:nvSpPr>
          <p:spPr>
            <a:xfrm flipH="1">
              <a:off x="486720" y="2671920"/>
              <a:ext cx="99000" cy="143280"/>
            </a:xfrm>
            <a:custGeom>
              <a:avLst/>
              <a:gdLst/>
              <a:ahLst/>
              <a:rect l="l" t="t" r="r" b="b"/>
              <a:pathLst>
                <a:path w="672" h="653">
                  <a:moveTo>
                    <a:pt x="205" y="276"/>
                  </a:moveTo>
                  <a:lnTo>
                    <a:pt x="264" y="189"/>
                  </a:lnTo>
                  <a:lnTo>
                    <a:pt x="330" y="123"/>
                  </a:lnTo>
                  <a:lnTo>
                    <a:pt x="395" y="44"/>
                  </a:lnTo>
                  <a:lnTo>
                    <a:pt x="475" y="7"/>
                  </a:lnTo>
                  <a:lnTo>
                    <a:pt x="541" y="0"/>
                  </a:lnTo>
                  <a:lnTo>
                    <a:pt x="606" y="23"/>
                  </a:lnTo>
                  <a:lnTo>
                    <a:pt x="644" y="73"/>
                  </a:lnTo>
                  <a:lnTo>
                    <a:pt x="672" y="167"/>
                  </a:lnTo>
                  <a:lnTo>
                    <a:pt x="665" y="269"/>
                  </a:lnTo>
                  <a:lnTo>
                    <a:pt x="636" y="356"/>
                  </a:lnTo>
                  <a:lnTo>
                    <a:pt x="563" y="457"/>
                  </a:lnTo>
                  <a:lnTo>
                    <a:pt x="483" y="529"/>
                  </a:lnTo>
                  <a:lnTo>
                    <a:pt x="395" y="595"/>
                  </a:lnTo>
                  <a:lnTo>
                    <a:pt x="300" y="638"/>
                  </a:lnTo>
                  <a:lnTo>
                    <a:pt x="219" y="653"/>
                  </a:lnTo>
                  <a:lnTo>
                    <a:pt x="183" y="630"/>
                  </a:lnTo>
                  <a:lnTo>
                    <a:pt x="154" y="543"/>
                  </a:lnTo>
                  <a:lnTo>
                    <a:pt x="162" y="427"/>
                  </a:lnTo>
                  <a:lnTo>
                    <a:pt x="22" y="435"/>
                  </a:lnTo>
                  <a:lnTo>
                    <a:pt x="0" y="413"/>
                  </a:lnTo>
                  <a:lnTo>
                    <a:pt x="22" y="370"/>
                  </a:lnTo>
                  <a:lnTo>
                    <a:pt x="169" y="363"/>
                  </a:lnTo>
                  <a:lnTo>
                    <a:pt x="205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522360" y="2823840"/>
              <a:ext cx="68400" cy="210960"/>
            </a:xfrm>
            <a:custGeom>
              <a:avLst/>
              <a:gdLst/>
              <a:ahLst/>
              <a:rect l="l" t="t" r="r" b="b"/>
              <a:pathLst>
                <a:path w="465" h="962">
                  <a:moveTo>
                    <a:pt x="130" y="80"/>
                  </a:moveTo>
                  <a:lnTo>
                    <a:pt x="196" y="22"/>
                  </a:lnTo>
                  <a:lnTo>
                    <a:pt x="298" y="0"/>
                  </a:lnTo>
                  <a:lnTo>
                    <a:pt x="385" y="14"/>
                  </a:lnTo>
                  <a:lnTo>
                    <a:pt x="451" y="73"/>
                  </a:lnTo>
                  <a:lnTo>
                    <a:pt x="465" y="116"/>
                  </a:lnTo>
                  <a:lnTo>
                    <a:pt x="465" y="175"/>
                  </a:lnTo>
                  <a:lnTo>
                    <a:pt x="435" y="226"/>
                  </a:lnTo>
                  <a:lnTo>
                    <a:pt x="385" y="313"/>
                  </a:lnTo>
                  <a:lnTo>
                    <a:pt x="363" y="415"/>
                  </a:lnTo>
                  <a:lnTo>
                    <a:pt x="356" y="503"/>
                  </a:lnTo>
                  <a:lnTo>
                    <a:pt x="378" y="597"/>
                  </a:lnTo>
                  <a:lnTo>
                    <a:pt x="435" y="685"/>
                  </a:lnTo>
                  <a:lnTo>
                    <a:pt x="458" y="772"/>
                  </a:lnTo>
                  <a:lnTo>
                    <a:pt x="451" y="853"/>
                  </a:lnTo>
                  <a:lnTo>
                    <a:pt x="407" y="918"/>
                  </a:lnTo>
                  <a:lnTo>
                    <a:pt x="349" y="955"/>
                  </a:lnTo>
                  <a:lnTo>
                    <a:pt x="276" y="962"/>
                  </a:lnTo>
                  <a:lnTo>
                    <a:pt x="189" y="962"/>
                  </a:lnTo>
                  <a:lnTo>
                    <a:pt x="123" y="926"/>
                  </a:lnTo>
                  <a:lnTo>
                    <a:pt x="59" y="816"/>
                  </a:lnTo>
                  <a:lnTo>
                    <a:pt x="14" y="721"/>
                  </a:lnTo>
                  <a:lnTo>
                    <a:pt x="0" y="576"/>
                  </a:lnTo>
                  <a:lnTo>
                    <a:pt x="14" y="445"/>
                  </a:lnTo>
                  <a:lnTo>
                    <a:pt x="43" y="306"/>
                  </a:lnTo>
                  <a:lnTo>
                    <a:pt x="87" y="168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460080" y="2830320"/>
              <a:ext cx="75960" cy="189360"/>
            </a:xfrm>
            <a:custGeom>
              <a:avLst/>
              <a:gdLst/>
              <a:ahLst/>
              <a:rect l="l" t="t" r="r" b="b"/>
              <a:pathLst>
                <a:path w="518" h="863">
                  <a:moveTo>
                    <a:pt x="0" y="43"/>
                  </a:moveTo>
                  <a:lnTo>
                    <a:pt x="9" y="7"/>
                  </a:lnTo>
                  <a:lnTo>
                    <a:pt x="88" y="0"/>
                  </a:lnTo>
                  <a:lnTo>
                    <a:pt x="132" y="36"/>
                  </a:lnTo>
                  <a:lnTo>
                    <a:pt x="198" y="130"/>
                  </a:lnTo>
                  <a:lnTo>
                    <a:pt x="286" y="253"/>
                  </a:lnTo>
                  <a:lnTo>
                    <a:pt x="365" y="341"/>
                  </a:lnTo>
                  <a:lnTo>
                    <a:pt x="511" y="500"/>
                  </a:lnTo>
                  <a:lnTo>
                    <a:pt x="518" y="537"/>
                  </a:lnTo>
                  <a:lnTo>
                    <a:pt x="490" y="558"/>
                  </a:lnTo>
                  <a:lnTo>
                    <a:pt x="417" y="587"/>
                  </a:lnTo>
                  <a:lnTo>
                    <a:pt x="315" y="609"/>
                  </a:lnTo>
                  <a:lnTo>
                    <a:pt x="191" y="617"/>
                  </a:lnTo>
                  <a:lnTo>
                    <a:pt x="147" y="624"/>
                  </a:lnTo>
                  <a:lnTo>
                    <a:pt x="132" y="653"/>
                  </a:lnTo>
                  <a:lnTo>
                    <a:pt x="161" y="703"/>
                  </a:lnTo>
                  <a:lnTo>
                    <a:pt x="263" y="790"/>
                  </a:lnTo>
                  <a:lnTo>
                    <a:pt x="336" y="812"/>
                  </a:lnTo>
                  <a:lnTo>
                    <a:pt x="351" y="841"/>
                  </a:lnTo>
                  <a:lnTo>
                    <a:pt x="322" y="863"/>
                  </a:lnTo>
                  <a:lnTo>
                    <a:pt x="256" y="863"/>
                  </a:lnTo>
                  <a:lnTo>
                    <a:pt x="168" y="812"/>
                  </a:lnTo>
                  <a:lnTo>
                    <a:pt x="96" y="740"/>
                  </a:lnTo>
                  <a:lnTo>
                    <a:pt x="52" y="674"/>
                  </a:lnTo>
                  <a:lnTo>
                    <a:pt x="52" y="624"/>
                  </a:lnTo>
                  <a:lnTo>
                    <a:pt x="81" y="587"/>
                  </a:lnTo>
                  <a:lnTo>
                    <a:pt x="125" y="573"/>
                  </a:lnTo>
                  <a:lnTo>
                    <a:pt x="191" y="565"/>
                  </a:lnTo>
                  <a:lnTo>
                    <a:pt x="263" y="565"/>
                  </a:lnTo>
                  <a:lnTo>
                    <a:pt x="351" y="551"/>
                  </a:lnTo>
                  <a:lnTo>
                    <a:pt x="395" y="537"/>
                  </a:lnTo>
                  <a:lnTo>
                    <a:pt x="417" y="514"/>
                  </a:lnTo>
                  <a:lnTo>
                    <a:pt x="409" y="493"/>
                  </a:lnTo>
                  <a:lnTo>
                    <a:pt x="343" y="435"/>
                  </a:lnTo>
                  <a:lnTo>
                    <a:pt x="241" y="334"/>
                  </a:lnTo>
                  <a:lnTo>
                    <a:pt x="147" y="246"/>
                  </a:lnTo>
                  <a:lnTo>
                    <a:pt x="45" y="152"/>
                  </a:lnTo>
                  <a:lnTo>
                    <a:pt x="9" y="8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502920" y="2990160"/>
              <a:ext cx="82800" cy="286200"/>
            </a:xfrm>
            <a:custGeom>
              <a:avLst/>
              <a:gdLst/>
              <a:ahLst/>
              <a:rect l="l" t="t" r="r" b="b"/>
              <a:pathLst>
                <a:path w="562" h="1302">
                  <a:moveTo>
                    <a:pt x="277" y="0"/>
                  </a:moveTo>
                  <a:lnTo>
                    <a:pt x="357" y="15"/>
                  </a:lnTo>
                  <a:lnTo>
                    <a:pt x="393" y="73"/>
                  </a:lnTo>
                  <a:lnTo>
                    <a:pt x="386" y="211"/>
                  </a:lnTo>
                  <a:lnTo>
                    <a:pt x="372" y="356"/>
                  </a:lnTo>
                  <a:lnTo>
                    <a:pt x="372" y="509"/>
                  </a:lnTo>
                  <a:lnTo>
                    <a:pt x="445" y="691"/>
                  </a:lnTo>
                  <a:lnTo>
                    <a:pt x="503" y="822"/>
                  </a:lnTo>
                  <a:lnTo>
                    <a:pt x="533" y="952"/>
                  </a:lnTo>
                  <a:lnTo>
                    <a:pt x="525" y="1068"/>
                  </a:lnTo>
                  <a:lnTo>
                    <a:pt x="525" y="1112"/>
                  </a:lnTo>
                  <a:lnTo>
                    <a:pt x="554" y="1156"/>
                  </a:lnTo>
                  <a:lnTo>
                    <a:pt x="562" y="1200"/>
                  </a:lnTo>
                  <a:lnTo>
                    <a:pt x="540" y="1221"/>
                  </a:lnTo>
                  <a:lnTo>
                    <a:pt x="481" y="1207"/>
                  </a:lnTo>
                  <a:lnTo>
                    <a:pt x="372" y="1193"/>
                  </a:lnTo>
                  <a:lnTo>
                    <a:pt x="241" y="1221"/>
                  </a:lnTo>
                  <a:lnTo>
                    <a:pt x="153" y="1273"/>
                  </a:lnTo>
                  <a:lnTo>
                    <a:pt x="109" y="1302"/>
                  </a:lnTo>
                  <a:lnTo>
                    <a:pt x="65" y="1302"/>
                  </a:lnTo>
                  <a:lnTo>
                    <a:pt x="0" y="1207"/>
                  </a:lnTo>
                  <a:lnTo>
                    <a:pt x="7" y="1193"/>
                  </a:lnTo>
                  <a:lnTo>
                    <a:pt x="139" y="1148"/>
                  </a:lnTo>
                  <a:lnTo>
                    <a:pt x="291" y="1127"/>
                  </a:lnTo>
                  <a:lnTo>
                    <a:pt x="401" y="1120"/>
                  </a:lnTo>
                  <a:lnTo>
                    <a:pt x="467" y="1120"/>
                  </a:lnTo>
                  <a:lnTo>
                    <a:pt x="481" y="1075"/>
                  </a:lnTo>
                  <a:lnTo>
                    <a:pt x="459" y="952"/>
                  </a:lnTo>
                  <a:lnTo>
                    <a:pt x="408" y="822"/>
                  </a:lnTo>
                  <a:lnTo>
                    <a:pt x="327" y="654"/>
                  </a:lnTo>
                  <a:lnTo>
                    <a:pt x="262" y="509"/>
                  </a:lnTo>
                  <a:lnTo>
                    <a:pt x="234" y="379"/>
                  </a:lnTo>
                  <a:lnTo>
                    <a:pt x="225" y="233"/>
                  </a:lnTo>
                  <a:lnTo>
                    <a:pt x="225" y="95"/>
                  </a:lnTo>
                  <a:lnTo>
                    <a:pt x="255" y="3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558000" y="2997720"/>
              <a:ext cx="68400" cy="239400"/>
            </a:xfrm>
            <a:custGeom>
              <a:avLst/>
              <a:gdLst/>
              <a:ahLst/>
              <a:rect l="l" t="t" r="r" b="b"/>
              <a:pathLst>
                <a:path w="465" h="1087">
                  <a:moveTo>
                    <a:pt x="349" y="0"/>
                  </a:moveTo>
                  <a:lnTo>
                    <a:pt x="415" y="0"/>
                  </a:lnTo>
                  <a:lnTo>
                    <a:pt x="436" y="43"/>
                  </a:lnTo>
                  <a:lnTo>
                    <a:pt x="451" y="138"/>
                  </a:lnTo>
                  <a:lnTo>
                    <a:pt x="436" y="240"/>
                  </a:lnTo>
                  <a:lnTo>
                    <a:pt x="399" y="444"/>
                  </a:lnTo>
                  <a:lnTo>
                    <a:pt x="407" y="532"/>
                  </a:lnTo>
                  <a:lnTo>
                    <a:pt x="451" y="707"/>
                  </a:lnTo>
                  <a:lnTo>
                    <a:pt x="465" y="831"/>
                  </a:lnTo>
                  <a:lnTo>
                    <a:pt x="465" y="926"/>
                  </a:lnTo>
                  <a:lnTo>
                    <a:pt x="443" y="948"/>
                  </a:lnTo>
                  <a:lnTo>
                    <a:pt x="378" y="963"/>
                  </a:lnTo>
                  <a:lnTo>
                    <a:pt x="291" y="984"/>
                  </a:lnTo>
                  <a:lnTo>
                    <a:pt x="203" y="1029"/>
                  </a:lnTo>
                  <a:lnTo>
                    <a:pt x="117" y="1087"/>
                  </a:lnTo>
                  <a:lnTo>
                    <a:pt x="80" y="1087"/>
                  </a:lnTo>
                  <a:lnTo>
                    <a:pt x="0" y="1021"/>
                  </a:lnTo>
                  <a:lnTo>
                    <a:pt x="7" y="992"/>
                  </a:lnTo>
                  <a:lnTo>
                    <a:pt x="109" y="948"/>
                  </a:lnTo>
                  <a:lnTo>
                    <a:pt x="283" y="904"/>
                  </a:lnTo>
                  <a:lnTo>
                    <a:pt x="363" y="875"/>
                  </a:lnTo>
                  <a:lnTo>
                    <a:pt x="378" y="846"/>
                  </a:lnTo>
                  <a:lnTo>
                    <a:pt x="378" y="721"/>
                  </a:lnTo>
                  <a:lnTo>
                    <a:pt x="349" y="562"/>
                  </a:lnTo>
                  <a:lnTo>
                    <a:pt x="335" y="458"/>
                  </a:lnTo>
                  <a:lnTo>
                    <a:pt x="319" y="299"/>
                  </a:lnTo>
                  <a:lnTo>
                    <a:pt x="312" y="123"/>
                  </a:lnTo>
                  <a:lnTo>
                    <a:pt x="319" y="43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56840" y="2644560"/>
              <a:ext cx="78840" cy="140400"/>
            </a:xfrm>
            <a:custGeom>
              <a:avLst/>
              <a:gdLst/>
              <a:ahLst/>
              <a:rect l="l" t="t" r="r" b="b"/>
              <a:pathLst>
                <a:path w="536" h="637">
                  <a:moveTo>
                    <a:pt x="142" y="452"/>
                  </a:moveTo>
                  <a:lnTo>
                    <a:pt x="69" y="324"/>
                  </a:lnTo>
                  <a:lnTo>
                    <a:pt x="26" y="215"/>
                  </a:lnTo>
                  <a:lnTo>
                    <a:pt x="0" y="95"/>
                  </a:lnTo>
                  <a:lnTo>
                    <a:pt x="10" y="47"/>
                  </a:lnTo>
                  <a:lnTo>
                    <a:pt x="47" y="47"/>
                  </a:lnTo>
                  <a:lnTo>
                    <a:pt x="91" y="83"/>
                  </a:lnTo>
                  <a:lnTo>
                    <a:pt x="135" y="135"/>
                  </a:lnTo>
                  <a:lnTo>
                    <a:pt x="266" y="62"/>
                  </a:lnTo>
                  <a:lnTo>
                    <a:pt x="335" y="0"/>
                  </a:lnTo>
                  <a:lnTo>
                    <a:pt x="398" y="40"/>
                  </a:lnTo>
                  <a:lnTo>
                    <a:pt x="467" y="132"/>
                  </a:lnTo>
                  <a:lnTo>
                    <a:pt x="518" y="262"/>
                  </a:lnTo>
                  <a:lnTo>
                    <a:pt x="536" y="346"/>
                  </a:lnTo>
                  <a:lnTo>
                    <a:pt x="536" y="376"/>
                  </a:lnTo>
                  <a:lnTo>
                    <a:pt x="467" y="397"/>
                  </a:lnTo>
                  <a:lnTo>
                    <a:pt x="372" y="455"/>
                  </a:lnTo>
                  <a:lnTo>
                    <a:pt x="328" y="481"/>
                  </a:lnTo>
                  <a:lnTo>
                    <a:pt x="365" y="583"/>
                  </a:lnTo>
                  <a:lnTo>
                    <a:pt x="351" y="630"/>
                  </a:lnTo>
                  <a:lnTo>
                    <a:pt x="321" y="637"/>
                  </a:lnTo>
                  <a:lnTo>
                    <a:pt x="240" y="571"/>
                  </a:lnTo>
                  <a:lnTo>
                    <a:pt x="142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530640" y="2639880"/>
              <a:ext cx="97920" cy="219240"/>
            </a:xfrm>
            <a:custGeom>
              <a:avLst/>
              <a:gdLst/>
              <a:ahLst/>
              <a:rect l="l" t="t" r="r" b="b"/>
              <a:pathLst>
                <a:path w="664" h="996">
                  <a:moveTo>
                    <a:pt x="408" y="996"/>
                  </a:moveTo>
                  <a:lnTo>
                    <a:pt x="445" y="952"/>
                  </a:lnTo>
                  <a:lnTo>
                    <a:pt x="431" y="888"/>
                  </a:lnTo>
                  <a:lnTo>
                    <a:pt x="401" y="800"/>
                  </a:lnTo>
                  <a:lnTo>
                    <a:pt x="292" y="698"/>
                  </a:lnTo>
                  <a:lnTo>
                    <a:pt x="182" y="604"/>
                  </a:lnTo>
                  <a:lnTo>
                    <a:pt x="132" y="502"/>
                  </a:lnTo>
                  <a:lnTo>
                    <a:pt x="109" y="342"/>
                  </a:lnTo>
                  <a:lnTo>
                    <a:pt x="234" y="299"/>
                  </a:lnTo>
                  <a:lnTo>
                    <a:pt x="431" y="277"/>
                  </a:lnTo>
                  <a:lnTo>
                    <a:pt x="510" y="284"/>
                  </a:lnTo>
                  <a:lnTo>
                    <a:pt x="533" y="306"/>
                  </a:lnTo>
                  <a:lnTo>
                    <a:pt x="569" y="270"/>
                  </a:lnTo>
                  <a:lnTo>
                    <a:pt x="555" y="233"/>
                  </a:lnTo>
                  <a:lnTo>
                    <a:pt x="591" y="138"/>
                  </a:lnTo>
                  <a:lnTo>
                    <a:pt x="606" y="102"/>
                  </a:lnTo>
                  <a:lnTo>
                    <a:pt x="635" y="44"/>
                  </a:lnTo>
                  <a:lnTo>
                    <a:pt x="664" y="44"/>
                  </a:lnTo>
                  <a:lnTo>
                    <a:pt x="664" y="15"/>
                  </a:lnTo>
                  <a:lnTo>
                    <a:pt x="606" y="0"/>
                  </a:lnTo>
                  <a:lnTo>
                    <a:pt x="569" y="66"/>
                  </a:lnTo>
                  <a:lnTo>
                    <a:pt x="519" y="161"/>
                  </a:lnTo>
                  <a:lnTo>
                    <a:pt x="453" y="204"/>
                  </a:lnTo>
                  <a:lnTo>
                    <a:pt x="351" y="218"/>
                  </a:lnTo>
                  <a:lnTo>
                    <a:pt x="168" y="240"/>
                  </a:lnTo>
                  <a:lnTo>
                    <a:pt x="22" y="284"/>
                  </a:lnTo>
                  <a:lnTo>
                    <a:pt x="0" y="320"/>
                  </a:lnTo>
                  <a:lnTo>
                    <a:pt x="14" y="436"/>
                  </a:lnTo>
                  <a:lnTo>
                    <a:pt x="66" y="597"/>
                  </a:lnTo>
                  <a:lnTo>
                    <a:pt x="139" y="727"/>
                  </a:lnTo>
                  <a:lnTo>
                    <a:pt x="211" y="843"/>
                  </a:lnTo>
                  <a:lnTo>
                    <a:pt x="277" y="924"/>
                  </a:lnTo>
                  <a:lnTo>
                    <a:pt x="343" y="982"/>
                  </a:lnTo>
                  <a:lnTo>
                    <a:pt x="408" y="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5" name=""/>
          <p:cNvSpPr/>
          <p:nvPr/>
        </p:nvSpPr>
        <p:spPr>
          <a:xfrm>
            <a:off x="638280" y="2590920"/>
            <a:ext cx="276120" cy="209520"/>
          </a:xfrm>
          <a:prstGeom prst="wedgeEllipseCallout">
            <a:avLst>
              <a:gd name="adj1" fmla="val -47412"/>
              <a:gd name="adj2" fmla="val 57143"/>
            </a:avLst>
          </a:prstGeom>
          <a:solidFill>
            <a:srgbClr val="d1ff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800600" y="1371600"/>
            <a:ext cx="1066680" cy="838080"/>
          </a:xfrm>
          <a:prstGeom prst="wedgeRoundRectCallout">
            <a:avLst>
              <a:gd name="adj1" fmla="val -43518"/>
              <a:gd name="adj2" fmla="val 75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ני ל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נזי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7695720" y="5562720"/>
            <a:ext cx="914760" cy="380880"/>
            <a:chOff x="7695720" y="5562720"/>
            <a:chExt cx="914760" cy="380880"/>
          </a:xfrm>
        </p:grpSpPr>
        <p:grpSp>
          <p:nvGrpSpPr>
            <p:cNvPr id="1618" name=""/>
            <p:cNvGrpSpPr/>
            <p:nvPr/>
          </p:nvGrpSpPr>
          <p:grpSpPr>
            <a:xfrm>
              <a:off x="7695720" y="5562720"/>
              <a:ext cx="914760" cy="380880"/>
              <a:chOff x="7695720" y="5562720"/>
              <a:chExt cx="914760" cy="380880"/>
            </a:xfrm>
          </p:grpSpPr>
          <p:sp>
            <p:nvSpPr>
              <p:cNvPr id="1619" name=""/>
              <p:cNvSpPr/>
              <p:nvPr/>
            </p:nvSpPr>
            <p:spPr>
              <a:xfrm>
                <a:off x="8001000" y="5562720"/>
                <a:ext cx="60948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815328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>
                <a:off x="769572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2" name=""/>
            <p:cNvSpPr/>
            <p:nvPr/>
          </p:nvSpPr>
          <p:spPr>
            <a:xfrm>
              <a:off x="8229600" y="5562720"/>
              <a:ext cx="22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6781320" y="5562720"/>
            <a:ext cx="914760" cy="380880"/>
            <a:chOff x="6781320" y="5562720"/>
            <a:chExt cx="914760" cy="380880"/>
          </a:xfrm>
        </p:grpSpPr>
        <p:grpSp>
          <p:nvGrpSpPr>
            <p:cNvPr id="1624" name=""/>
            <p:cNvGrpSpPr/>
            <p:nvPr/>
          </p:nvGrpSpPr>
          <p:grpSpPr>
            <a:xfrm>
              <a:off x="6781320" y="5562720"/>
              <a:ext cx="914760" cy="380880"/>
              <a:chOff x="6781320" y="5562720"/>
              <a:chExt cx="914760" cy="380880"/>
            </a:xfrm>
          </p:grpSpPr>
          <p:sp>
            <p:nvSpPr>
              <p:cNvPr id="1625" name=""/>
              <p:cNvSpPr/>
              <p:nvPr/>
            </p:nvSpPr>
            <p:spPr>
              <a:xfrm>
                <a:off x="7086600" y="5562720"/>
                <a:ext cx="609480" cy="380880"/>
              </a:xfrm>
              <a:prstGeom prst="rect">
                <a:avLst/>
              </a:prstGeom>
              <a:solidFill>
                <a:srgbClr val="00f8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23888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>
                <a:off x="678132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7315200" y="5562720"/>
              <a:ext cx="22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"/>
          <p:cNvGrpSpPr/>
          <p:nvPr/>
        </p:nvGrpSpPr>
        <p:grpSpPr>
          <a:xfrm>
            <a:off x="5866920" y="5562720"/>
            <a:ext cx="914760" cy="380880"/>
            <a:chOff x="5866920" y="5562720"/>
            <a:chExt cx="914760" cy="380880"/>
          </a:xfrm>
        </p:grpSpPr>
        <p:grpSp>
          <p:nvGrpSpPr>
            <p:cNvPr id="1630" name=""/>
            <p:cNvGrpSpPr/>
            <p:nvPr/>
          </p:nvGrpSpPr>
          <p:grpSpPr>
            <a:xfrm>
              <a:off x="5866920" y="5562720"/>
              <a:ext cx="914760" cy="380880"/>
              <a:chOff x="5866920" y="5562720"/>
              <a:chExt cx="914760" cy="380880"/>
            </a:xfrm>
          </p:grpSpPr>
          <p:sp>
            <p:nvSpPr>
              <p:cNvPr id="1631" name=""/>
              <p:cNvSpPr/>
              <p:nvPr/>
            </p:nvSpPr>
            <p:spPr>
              <a:xfrm>
                <a:off x="6172200" y="5562720"/>
                <a:ext cx="609480" cy="380880"/>
              </a:xfrm>
              <a:prstGeom prst="rect">
                <a:avLst/>
              </a:prstGeom>
              <a:solidFill>
                <a:srgbClr val="57ff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32448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>
                <a:off x="586692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6400800" y="5562720"/>
              <a:ext cx="22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4952520" y="5562720"/>
            <a:ext cx="914760" cy="380880"/>
            <a:chOff x="4952520" y="5562720"/>
            <a:chExt cx="914760" cy="380880"/>
          </a:xfrm>
        </p:grpSpPr>
        <p:grpSp>
          <p:nvGrpSpPr>
            <p:cNvPr id="1636" name=""/>
            <p:cNvGrpSpPr/>
            <p:nvPr/>
          </p:nvGrpSpPr>
          <p:grpSpPr>
            <a:xfrm>
              <a:off x="4952520" y="5562720"/>
              <a:ext cx="914760" cy="380880"/>
              <a:chOff x="4952520" y="5562720"/>
              <a:chExt cx="914760" cy="380880"/>
            </a:xfrm>
          </p:grpSpPr>
          <p:sp>
            <p:nvSpPr>
              <p:cNvPr id="1637" name=""/>
              <p:cNvSpPr/>
              <p:nvPr/>
            </p:nvSpPr>
            <p:spPr>
              <a:xfrm>
                <a:off x="5257800" y="5562720"/>
                <a:ext cx="6094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41008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>
                <a:off x="495252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5486400" y="5562720"/>
              <a:ext cx="228600" cy="366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4038120" y="5562720"/>
            <a:ext cx="914760" cy="380880"/>
            <a:chOff x="4038120" y="5562720"/>
            <a:chExt cx="914760" cy="380880"/>
          </a:xfrm>
        </p:grpSpPr>
        <p:grpSp>
          <p:nvGrpSpPr>
            <p:cNvPr id="1642" name=""/>
            <p:cNvGrpSpPr/>
            <p:nvPr/>
          </p:nvGrpSpPr>
          <p:grpSpPr>
            <a:xfrm>
              <a:off x="4038120" y="5562720"/>
              <a:ext cx="914760" cy="380880"/>
              <a:chOff x="4038120" y="5562720"/>
              <a:chExt cx="914760" cy="380880"/>
            </a:xfrm>
          </p:grpSpPr>
          <p:sp>
            <p:nvSpPr>
              <p:cNvPr id="1643" name=""/>
              <p:cNvSpPr/>
              <p:nvPr/>
            </p:nvSpPr>
            <p:spPr>
              <a:xfrm>
                <a:off x="4343400" y="5562720"/>
                <a:ext cx="609480" cy="380880"/>
              </a:xfrm>
              <a:prstGeom prst="rect">
                <a:avLst/>
              </a:prstGeom>
              <a:solidFill>
                <a:srgbClr val="a3f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449568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>
                <a:off x="403812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6" name=""/>
            <p:cNvSpPr/>
            <p:nvPr/>
          </p:nvSpPr>
          <p:spPr>
            <a:xfrm>
              <a:off x="4572000" y="5562720"/>
              <a:ext cx="22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3047760" y="5562720"/>
            <a:ext cx="914760" cy="380880"/>
            <a:chOff x="3047760" y="5562720"/>
            <a:chExt cx="914760" cy="380880"/>
          </a:xfrm>
        </p:grpSpPr>
        <p:grpSp>
          <p:nvGrpSpPr>
            <p:cNvPr id="1648" name=""/>
            <p:cNvGrpSpPr/>
            <p:nvPr/>
          </p:nvGrpSpPr>
          <p:grpSpPr>
            <a:xfrm>
              <a:off x="3047760" y="5562720"/>
              <a:ext cx="914760" cy="380880"/>
              <a:chOff x="3047760" y="5562720"/>
              <a:chExt cx="914760" cy="380880"/>
            </a:xfrm>
          </p:grpSpPr>
          <p:sp>
            <p:nvSpPr>
              <p:cNvPr id="1649" name=""/>
              <p:cNvSpPr/>
              <p:nvPr/>
            </p:nvSpPr>
            <p:spPr>
              <a:xfrm>
                <a:off x="3353040" y="5562720"/>
                <a:ext cx="609480" cy="380880"/>
              </a:xfrm>
              <a:prstGeom prst="rect">
                <a:avLst/>
              </a:prstGeom>
              <a:solidFill>
                <a:srgbClr val="a3f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50532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>
                <a:off x="304776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2" name=""/>
            <p:cNvSpPr/>
            <p:nvPr/>
          </p:nvSpPr>
          <p:spPr>
            <a:xfrm>
              <a:off x="3581280" y="5562720"/>
              <a:ext cx="22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2133360" y="5562720"/>
            <a:ext cx="914760" cy="380880"/>
            <a:chOff x="2133360" y="5562720"/>
            <a:chExt cx="914760" cy="380880"/>
          </a:xfrm>
        </p:grpSpPr>
        <p:grpSp>
          <p:nvGrpSpPr>
            <p:cNvPr id="1654" name=""/>
            <p:cNvGrpSpPr/>
            <p:nvPr/>
          </p:nvGrpSpPr>
          <p:grpSpPr>
            <a:xfrm>
              <a:off x="2133360" y="5562720"/>
              <a:ext cx="914760" cy="380880"/>
              <a:chOff x="2133360" y="5562720"/>
              <a:chExt cx="914760" cy="380880"/>
            </a:xfrm>
          </p:grpSpPr>
          <p:sp>
            <p:nvSpPr>
              <p:cNvPr id="1655" name=""/>
              <p:cNvSpPr/>
              <p:nvPr/>
            </p:nvSpPr>
            <p:spPr>
              <a:xfrm>
                <a:off x="2438640" y="5562720"/>
                <a:ext cx="609480" cy="380880"/>
              </a:xfrm>
              <a:prstGeom prst="rect">
                <a:avLst/>
              </a:prstGeom>
              <a:solidFill>
                <a:srgbClr val="d1fff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59092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>
                <a:off x="213336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8" name=""/>
            <p:cNvSpPr/>
            <p:nvPr/>
          </p:nvSpPr>
          <p:spPr>
            <a:xfrm>
              <a:off x="2666880" y="5562720"/>
              <a:ext cx="22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218960" y="5562720"/>
            <a:ext cx="914760" cy="380880"/>
            <a:chOff x="1218960" y="5562720"/>
            <a:chExt cx="914760" cy="380880"/>
          </a:xfrm>
        </p:grpSpPr>
        <p:grpSp>
          <p:nvGrpSpPr>
            <p:cNvPr id="1660" name=""/>
            <p:cNvGrpSpPr/>
            <p:nvPr/>
          </p:nvGrpSpPr>
          <p:grpSpPr>
            <a:xfrm>
              <a:off x="1218960" y="5562720"/>
              <a:ext cx="914760" cy="380880"/>
              <a:chOff x="1218960" y="5562720"/>
              <a:chExt cx="914760" cy="380880"/>
            </a:xfrm>
          </p:grpSpPr>
          <p:sp>
            <p:nvSpPr>
              <p:cNvPr id="1661" name=""/>
              <p:cNvSpPr/>
              <p:nvPr/>
            </p:nvSpPr>
            <p:spPr>
              <a:xfrm>
                <a:off x="1524240" y="5562720"/>
                <a:ext cx="609480" cy="380880"/>
              </a:xfrm>
              <a:prstGeom prst="rect">
                <a:avLst/>
              </a:prstGeom>
              <a:solidFill>
                <a:srgbClr val="d1fff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67652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>
                <a:off x="121896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1752480" y="5562720"/>
              <a:ext cx="22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304560" y="5562720"/>
            <a:ext cx="914760" cy="380880"/>
            <a:chOff x="304560" y="5562720"/>
            <a:chExt cx="914760" cy="380880"/>
          </a:xfrm>
        </p:grpSpPr>
        <p:grpSp>
          <p:nvGrpSpPr>
            <p:cNvPr id="1666" name=""/>
            <p:cNvGrpSpPr/>
            <p:nvPr/>
          </p:nvGrpSpPr>
          <p:grpSpPr>
            <a:xfrm>
              <a:off x="304560" y="5562720"/>
              <a:ext cx="914760" cy="380880"/>
              <a:chOff x="304560" y="5562720"/>
              <a:chExt cx="914760" cy="380880"/>
            </a:xfrm>
          </p:grpSpPr>
          <p:sp>
            <p:nvSpPr>
              <p:cNvPr id="1667" name=""/>
              <p:cNvSpPr/>
              <p:nvPr/>
            </p:nvSpPr>
            <p:spPr>
              <a:xfrm>
                <a:off x="609840" y="5562720"/>
                <a:ext cx="609480" cy="380880"/>
              </a:xfrm>
              <a:prstGeom prst="rect">
                <a:avLst/>
              </a:prstGeom>
              <a:solidFill>
                <a:srgbClr val="d1fff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62120" y="5562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304560" y="5791320"/>
                <a:ext cx="27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0" name=""/>
            <p:cNvSpPr/>
            <p:nvPr/>
          </p:nvSpPr>
          <p:spPr>
            <a:xfrm>
              <a:off x="838080" y="5562720"/>
              <a:ext cx="22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ff0066"/>
                  </a:solidFill>
                  <a:latin typeface="Times New Roman"/>
                </a:rPr>
                <a:t>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4:46:26Z</dcterms:created>
  <dc:creator>עמנואל אליצור</dc:creator>
  <dc:description/>
  <dc:language>en-US</dc:language>
  <cp:lastModifiedBy>קופרמן</cp:lastModifiedBy>
  <cp:lastPrinted>2001-03-04T12:32:37Z</cp:lastPrinted>
  <dcterms:modified xsi:type="dcterms:W3CDTF">2000-12-12T21:05:47Z</dcterms:modified>
  <cp:revision>105</cp:revision>
  <dc:subject/>
  <dc:title>ללא כותרת שקופית</dc:title>
</cp:coreProperties>
</file>